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0FBC-0E69-42C1-9665-2E69FE305F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893E-4E57-4EF1-8190-231FF397D5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0347-3849-4161-AC3F-E4E9DDBF4D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2A79-C7BB-4D22-AD9B-5BD01130FD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6A96-A09E-47E5-A2C5-82CC65A3EA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2D21-5BE8-48E4-9A0F-184474C9E0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5067-E8E6-4858-A1B3-583B67B821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5B5F-1B67-427D-80B3-75C4F4ECF2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D514-A6CD-4E13-8DC4-540D950A5B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7813-B731-41D6-81B0-93C4B34A55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7A58-2EF6-46D9-9EC2-370E6700AE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8DBC-5F47-44C8-87E3-A516DDE8F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DC55-E8FD-4405-96D2-9BBFE872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E1BC-60A8-4443-A7DA-4BB8262B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C0C4-63C0-44E0-BC63-92E3D76CB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93DE-8280-4CC2-A79F-130F67AB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FA52-18CF-47D3-BE9C-E7E54B9C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ED90-ACD7-4DB2-8068-81B39A59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6070-700A-4261-854D-A2EB1145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A4E6-7A66-464C-B643-8556174F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21DC-3355-49B9-A1B2-F76FBDF9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E39C-B4CB-42B2-AC1F-02F032E4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D30A-2136-4E0F-BB54-2AAD4ED9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98C8-FBD7-44B7-AF32-223A28DDFA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:\DEPT\WM\_SHARED\2011 Adviosry Resources\2011 ADVISORY CD FILES\2. EMPOWER\EMPOWER\1. Outreach Is for Everyone-WM Evangelism Manual\EVANGELISM MANUAL - EDITED\PP Slides\COVER GERAL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05520" y="1066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Palatino Linotype"/>
              </a:rPr>
              <a:t>ЕВАНГЕЛИЗМ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Palatino Linotype"/>
              </a:rPr>
              <a:t>для </a:t>
            </a:r>
            <a:r>
              <a:rPr b="1" lang="ru-RU" sz="3600" spc="-1" strike="noStrike">
                <a:solidFill>
                  <a:srgbClr val="c00000"/>
                </a:solidFill>
                <a:latin typeface="Palatino Linotype"/>
              </a:rPr>
              <a:t>КАЖД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486040" y="28191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Генеральна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Конферен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Отдел Женского служени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РУКОВОДСТВО ПО ЕВАНГЕЛЬСКОЙ РАБ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Обучающая Программа</a:t>
            </a: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WMLOGO-small"/>
          <p:cNvPicPr/>
          <p:nvPr/>
        </p:nvPicPr>
        <p:blipFill>
          <a:blip r:embed="rId2"/>
          <a:stretch/>
        </p:blipFill>
        <p:spPr>
          <a:xfrm>
            <a:off x="7238880" y="4572000"/>
            <a:ext cx="60984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1752120" y="91404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Атмосфера, в которой проводятся встречи, очень важна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орудуйте помещение соответствующим освещением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системой вентиляции, чтобы в вашем помещении было ни жарко, и ни холодно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Если возможно, рассаживайтесь в круг,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тобы видеть глаза друг друг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Постарайтесь изолировать домашних животных, телевизор и радио,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тобы ничто вам не доставляло неудобств.  Наймите няню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необходим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228240" y="281916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Назначьте руководителя группы, но и других членов поощряйте вносить предложения. Способствуйте созданию доброжелательного и поддерживающего отношения, а не духа соревнования 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              </a:t>
            </a: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и критицизма. Активизируйтесь не вокруг лидера, а вокруг Библии.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1828440" y="9140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Будьте чуткими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арайтесь избегать конфузных ситуаци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Тем, кто будет доминировать 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                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и критиковать других людей, 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 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помогите быть деликатны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 время молитвы и изучения Библии члены группы могут поделиться личной информацией.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И жизненно важно сохранять конфиденциальность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оминайте об этом каждый раз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676520" y="9907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План изучения позволит вам следовать направлению изучения </a:t>
            </a:r>
            <a:r>
              <a:rPr b="1" i="1" lang="en-US" sz="3000" spc="-1" strike="noStrike">
                <a:solidFill>
                  <a:srgbClr val="cc0000"/>
                </a:solidFill>
                <a:latin typeface="Calibri"/>
              </a:rPr>
              <a:t>        </a:t>
            </a: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и поддерживать в группе интерес</a:t>
            </a:r>
            <a:r>
              <a:rPr b="1" i="1" lang="en-US" sz="3000" spc="-1" strike="noStrike">
                <a:solidFill>
                  <a:srgbClr val="cc0000"/>
                </a:solidFill>
                <a:latin typeface="Calibri"/>
              </a:rPr>
              <a:t>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итая Слово Божь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давайте вопросы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иже приведены примеры вопросов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(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тем дайте группе возможность ответить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Ободрение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ыражайте искреннюю благодарность за то, что члены группы делятся тем, чему научились.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1752480" y="685440"/>
            <a:ext cx="6934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Удерживайте внимание на главном</a:t>
            </a:r>
            <a:r>
              <a:rPr b="1" i="1" lang="en-US" sz="2700" spc="-1" strike="noStrike">
                <a:solidFill>
                  <a:srgbClr val="cc0000"/>
                </a:solidFill>
                <a:latin typeface="Calibri"/>
              </a:rPr>
              <a:t>.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дискуссия вышла за рамки темы,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ы можете сказать: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Что дискуссия была очень интересной. Возможно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мы сможем продолжить ее в другой раз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Поощряйте внимательное слушание</a:t>
            </a:r>
            <a:r>
              <a:rPr b="1" i="1" lang="en-US" sz="2700" spc="-1" strike="noStrike">
                <a:solidFill>
                  <a:srgbClr val="cc0000"/>
                </a:solidFill>
                <a:latin typeface="Calibri"/>
              </a:rPr>
              <a:t>.</a:t>
            </a:r>
            <a:r>
              <a:rPr b="0" lang="en-US" sz="27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удьте терпеливы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едоставьте членам группы время на раздумье. Избегайте напряжения и конфликтов, указывая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 Слово Божье как высший авторитет, вместо того, чтобы заниматься традиционными или нелогичными рассуждения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1676520" y="68580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хотите найти ответ или попросить группу найти дополнительную информацию по теме,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не сомневаясь, говорите: Я не зна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Когда возможно, используйте видеоматериалы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бы дополнить яснос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Способствуйте поиску более точного ответа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давая вопросы, такие как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Что было полезным во время изучения? Или что нового вы узнал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828800" y="106668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Изучение Библии может быть завершено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еменем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молитвы, которое может включать в себя прославление, просьбу и благодарени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Побуждайте всех членов группы молитьс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оответстви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изучаемой темой или нуждами групп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P:\DEPT\WM\_SHARED\2011 Adviosry Resources\Nurture-Empower-Outreach\EMPOWER\EVANGELISM MANUAL - EDITED\PP evangelism\Chapter 07 text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2743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2f2f2"/>
                </a:solidFill>
                <a:latin typeface="Calibri"/>
              </a:rPr>
              <a:t>Молитвы могут быть краткими </a:t>
            </a:r>
            <a:r>
              <a:rPr b="1" i="1" lang="en-US" sz="3200" spc="-1" strike="noStrike">
                <a:solidFill>
                  <a:srgbClr val="f2f2f2"/>
                </a:solidFill>
                <a:latin typeface="Calibri"/>
              </a:rPr>
              <a:t>              </a:t>
            </a:r>
            <a:r>
              <a:rPr b="1" i="1" lang="ru-RU" sz="3200" spc="-1" strike="noStrike">
                <a:solidFill>
                  <a:srgbClr val="f2f2f2"/>
                </a:solidFill>
                <a:latin typeface="Calibri"/>
              </a:rPr>
              <a:t>и спонтанными</a:t>
            </a:r>
            <a:r>
              <a:rPr b="1" i="1" lang="en-US" sz="3200" spc="-1" strike="noStrike">
                <a:solidFill>
                  <a:srgbClr val="f2f2f2"/>
                </a:solidFill>
                <a:latin typeface="Calibri"/>
              </a:rPr>
              <a:t>. </a:t>
            </a:r>
            <a:r>
              <a:rPr b="1" i="1" lang="ru-RU" sz="3200" spc="-1" strike="noStrike">
                <a:solidFill>
                  <a:srgbClr val="f2f2f2"/>
                </a:solidFill>
                <a:latin typeface="Calibri"/>
              </a:rPr>
              <a:t>По мере увеличения количества членов группы составьте план создания другой групп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:\DEPT\WM\_SHARED\2011 Adviosry Resources\Nurture-Empower-Outreach\EMPOWER\EVANGELISM MANUAL - EDITED\PP evangelism\Chapter 07 cover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304920" y="581040"/>
            <a:ext cx="899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rajan Pro"/>
                <a:ea typeface="Calibri"/>
              </a:rPr>
              <a:t>ЕВАНГЕЛИЗМ </a:t>
            </a:r>
            <a:r>
              <a:rPr b="1" lang="ru-RU" sz="4000" spc="-1" strike="noStrike">
                <a:solidFill>
                  <a:srgbClr val="002060"/>
                </a:solidFill>
                <a:latin typeface="Trajan Pro"/>
                <a:ea typeface="Calibri"/>
              </a:rPr>
              <a:t>ДЛЯ КАЖД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5105520" y="1806480"/>
            <a:ext cx="419076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Calibri"/>
              </a:rPr>
              <a:t>Глава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7.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Bookman Old Style"/>
                <a:ea typeface="Calibri"/>
              </a:rPr>
              <a:t>Евангельская рабо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  <a:ea typeface="Calibri"/>
              </a:rPr>
              <a:t>с помощью малых груп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029200" y="58770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Генеральная Конферен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Отдел Женского слу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WMLOGO-small"/>
          <p:cNvPicPr/>
          <p:nvPr/>
        </p:nvPicPr>
        <p:blipFill>
          <a:blip r:embed="rId2"/>
          <a:stretch/>
        </p:blipFill>
        <p:spPr>
          <a:xfrm>
            <a:off x="6934320" y="5477040"/>
            <a:ext cx="60948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:\DEPT\WM\_SHARED\2011 Adviosry Resources\Nurture-Empower-Outreach\EMPOWER\EVANGELISM MANUAL - EDITED\PP evangelism\Chapter 07 text1.jpg"/>
          <p:cNvPicPr/>
          <p:nvPr/>
        </p:nvPicPr>
        <p:blipFill>
          <a:blip r:embed="rId1"/>
          <a:stretch/>
        </p:blipFill>
        <p:spPr>
          <a:xfrm>
            <a:off x="-77760" y="0"/>
            <a:ext cx="92217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28951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«Создание небольших групп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          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для проведения христианской работы является частью плана, который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был развернут передо мною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Тем,    Кто никогда не заблуждается». </a:t>
            </a: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Евангелизм</a:t>
            </a:r>
            <a:r>
              <a:rPr b="1" i="1" lang="en-US" sz="3600" spc="-1" strike="noStrike">
                <a:solidFill>
                  <a:srgbClr val="002060"/>
                </a:solidFill>
                <a:latin typeface="Calibri"/>
              </a:rPr>
              <a:t>,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стр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. 115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26665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«Если церковь большая, пусть ее члены сформируют небольшие группы, чтобы вместе трудиться не только для своих собратьев, но и для неверующих.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          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Если в каком-либо месте лишь двое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или трое знают истину, то они должны составить группу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работников».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–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Свидетельства для Церкви,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том 7, стр. 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:\DEPT\WM\_SHARED\2011 Adviosry Resources\Nurture-Empower-Outreach\EMPOWER\EVANGELISM MANUAL - EDITED\PP evangelism\Chapter 07 text1.jpg"/>
          <p:cNvPicPr/>
          <p:nvPr/>
        </p:nvPicPr>
        <p:blipFill>
          <a:blip r:embed="rId1"/>
          <a:stretch/>
        </p:blipFill>
        <p:spPr>
          <a:xfrm>
            <a:off x="-77760" y="0"/>
            <a:ext cx="92217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304920" y="2819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8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</a:rPr>
              <a:t>Совместное изучение Библии в малых группах прекрасный способ построения дружеских отношений и духовного возрастания. Один из самых успешных способов изучения Библии – способ малых групп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752480" y="1417680"/>
            <a:ext cx="70106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Одна из задач малых групп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по изучению Библии – создание атмосферы любви и принятия, которая будет способствовать новым открытиям и предоставит свободу выражать свое мнение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о Библии без страха осуждения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или критики. Подобная атмосфера поможет созиданию взаимоотношений между христианами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304560" y="2438280"/>
            <a:ext cx="845820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учше всего приглашать потенциальных членов малой группы лично.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Отнеситесь внимательно к тому, чтобы детально рассказать об изучении Библии, о том, 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как вы его спланировали, где будут проводиться встречи и сколько недель продлится курс.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дин из способов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 вы можете начать группу по изучению Библии – вы можете пригласить несколько соседей к вам домой для небольшого банкет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2209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Планируя проведение малой группы, важно уделить внимание пяти сферам: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37339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1. Вступление</a:t>
            </a:r>
            <a:r>
              <a:rPr b="1" i="1" lang="en-US" sz="3000" spc="-1" strike="noStrike">
                <a:solidFill>
                  <a:srgbClr val="cc3300"/>
                </a:solidFill>
                <a:latin typeface="Calibri"/>
              </a:rPr>
              <a:t>.</a:t>
            </a:r>
            <a:r>
              <a:rPr b="1" i="1" lang="en-US" sz="30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накомств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2. Изучение Библии.</a:t>
            </a:r>
            <a:r>
              <a:rPr b="0" lang="ru-RU" sz="30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учение Слова Божьег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3. Молитва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сьба к Богу о помощ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4. Социальная активность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стречи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 пределами групп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5. Служение.</a:t>
            </a:r>
            <a:r>
              <a:rPr b="0" lang="ru-RU" sz="30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лужение тому, кто не является членом групп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676160" y="808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Целью малых групп является содействие изучению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ния Иисуса Христа и обретение радости от следования за Творц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Четко и доступно расскажите о цели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гд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 приступаете к изучению или социальной деятель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Уделяйте время вступлению, просьбам </a:t>
            </a:r>
            <a:r>
              <a:rPr b="1" i="1" lang="en-US" sz="2400" spc="-1" strike="noStrike">
                <a:solidFill>
                  <a:srgbClr val="cc0000"/>
                </a:solidFill>
                <a:latin typeface="Calibri"/>
              </a:rPr>
              <a:t>              </a:t>
            </a: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о молитв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проявлению интереса к членам вашей групп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Заранее спланируйте время на молитвы</a:t>
            </a:r>
            <a:r>
              <a:rPr b="0" lang="ru-RU" sz="24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переживаниях и нуждах групп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1:18:04Z</dcterms:created>
  <dc:creator/>
  <dc:description/>
  <dc:language>en-US</dc:language>
  <cp:lastModifiedBy/>
  <dcterms:modified xsi:type="dcterms:W3CDTF">2011-08-12T08:07:48Z</dcterms:modified>
  <cp:revision>0</cp:revision>
  <dc:subject/>
  <dc:title/>
</cp:coreProperties>
</file>