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F99F7-B1DC-4C22-A74A-9A5DEB0D1C3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06757-3736-4EDA-A058-D4743CCFB1A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0CDCB-1E00-49F1-9F64-42E5D02F54A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CDA9A-E988-4B0A-9EAF-8BDBF08FA6E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13704-9D0E-41F3-A018-B58AA211AC0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BB349-37BD-46BE-B38C-706E65C637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BEE38-ADB3-41A5-B4D6-5C8DED2B371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9A9E3-3D13-4BD3-B1D8-B0A9BE6F223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76AFC-DB80-466C-9362-C1FBD9E7C7F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CAD79-4DAD-428A-9E40-D376E33322D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FC818-4C4F-4561-B0DE-0942CD61F4A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85962-BD25-458A-A75C-074BD16B6EF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168C2-0B11-48DC-978E-342EB201E8C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6427D-8B6F-490E-B093-8CE5C06B8E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C814-A0EC-4E28-A83D-6E5AA67BE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14B9-E12A-44DC-8CC9-7D5E4A7D3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4DC3-E01C-4E71-9BBE-CC157B294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6A30-6426-4E97-9FB0-E59956097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7D38-CFD6-4B91-B30D-A81298169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19EE-DB3B-4754-9B24-60FE8AC6F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F4F8-0DE0-4225-A669-3DC127069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B6D0-4220-47F6-8E87-E1E96676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186D-2AE7-4F49-86BD-B8CFDD407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702A-BBC7-478A-94EF-E32E121D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3957-ADC3-48FC-AAD3-CA2DB4EA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E0DF-0AC7-4EDC-9150-D8449B4C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2AA14-79DE-4E29-8491-02CB59A27C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P:\DEPT\WM\_SHARED\2011 Adviosry Resources\2011 ADVISORY CD FILES\2. EMPOWER\EMPOWER\1. Outreach Is for Everyone-WM Evangelism Manual\EVANGELISM MANUAL - EDITED\PP Slides\COVER GERAL.jpg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105520" y="1066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Palatino Linotype"/>
              </a:rPr>
              <a:t>ЕВАНГЕЛИЗМ</a:t>
            </a:r>
            <a:r>
              <a:rPr b="1" lang="en-US" sz="36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Palatino Linotype"/>
              </a:rPr>
              <a:t>для </a:t>
            </a:r>
            <a:r>
              <a:rPr b="1" lang="ru-RU" sz="3600" spc="-1" strike="noStrike">
                <a:solidFill>
                  <a:srgbClr val="c00000"/>
                </a:solidFill>
                <a:latin typeface="Palatino Linotype"/>
              </a:rPr>
              <a:t>КАЖДОГ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486040" y="28191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Генеральная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Конферен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Palatino Linotype"/>
              </a:rPr>
              <a:t>Отдел Женского служения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Palatino Linotype"/>
              </a:rPr>
              <a:t>РУКОВОДСТВО ПО ЕВАНГЕЛЬСКОЙ РАБО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Palatino Linotype"/>
              </a:rPr>
              <a:t>Обучающая Программа</a:t>
            </a:r>
            <a:r>
              <a:rPr b="1" i="1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WMLOGO-small"/>
          <p:cNvPicPr/>
          <p:nvPr/>
        </p:nvPicPr>
        <p:blipFill>
          <a:blip r:embed="rId2"/>
          <a:stretch/>
        </p:blipFill>
        <p:spPr>
          <a:xfrm>
            <a:off x="7238880" y="4572000"/>
            <a:ext cx="60984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1676160" y="533520"/>
            <a:ext cx="70102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70c0"/>
                </a:solidFill>
                <a:latin typeface="Calibri"/>
              </a:rPr>
              <a:t>Думайте о людях</a:t>
            </a:r>
            <a:r>
              <a:rPr b="1" i="1" lang="en-US" sz="2700" spc="-1" strike="noStrike">
                <a:solidFill>
                  <a:srgbClr val="0070c0"/>
                </a:solidFill>
                <a:latin typeface="Calibri"/>
              </a:rPr>
              <a:t>,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оторых хотите достичь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олитесь о них. Просите Господа открыть для вас возможности проявить Его любовь по отношению к людя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70c0"/>
                </a:solidFill>
                <a:latin typeface="Calibri"/>
              </a:rPr>
              <a:t>Разговаривайте с людьми.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Слушайте их. Станьте их другом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оявите свою заботу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оводите с ними большое количество времени. Обращайте внимание на то, что важно для них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70c0"/>
                </a:solidFill>
                <a:latin typeface="Calibri"/>
              </a:rPr>
              <a:t>Делайте для них добрые дела,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даже если вам приходится жертвовать собой. Станьте для них самым лучшим другом, какого         у них не было раньше. Пусть Божия любовь течет от вас к ни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1828800" y="118908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Поделитесь с ними Божьей истиной</a:t>
            </a: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мните о том,                что мы «посланники Божии                и Он проявляется в нас».            Посол говорит от имени руководителя своей страны                и обращается к оппозици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Bookman Old Style"/>
              </a:rPr>
              <a:t>Покажите людям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Bookman Old Style"/>
              </a:rPr>
              <a:t>путь Иисуса Христ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904760" y="2255760"/>
            <a:ext cx="6933960" cy="42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70c0"/>
                </a:solidFill>
                <a:latin typeface="Calibri"/>
              </a:rPr>
              <a:t>Поделитесь с людьми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воим опытом обретения Иисуса Христа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70c0"/>
                </a:solidFill>
                <a:latin typeface="Calibri"/>
              </a:rPr>
              <a:t>Покажите им,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что они могут сделать      со своей стороны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70c0"/>
                </a:solidFill>
                <a:latin typeface="Calibri"/>
              </a:rPr>
              <a:t>Когда они однажды познакомятся со Христом, вам необходимо стать для них очень близким человеком, словно для новорожденного младенца.</a:t>
            </a:r>
            <a:r>
              <a:rPr b="0" lang="ru-RU" sz="3300" spc="-1" strike="noStrike">
                <a:solidFill>
                  <a:srgbClr val="558ed5"/>
                </a:solidFill>
                <a:latin typeface="Calibri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1447920" y="7632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Помогайте им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кореняться в Слове Божье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Покажите им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кой жизненный путь приготовил Господь для Своих детей. Расскажите о примерах из своей жизн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ъясните ваш опы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Расскажите им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 новом враге – Сатане. Помогите им понять, что дьявол пытается сделать, и как он будет действовать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Calibri"/>
              </a:rPr>
              <a:t>Молитесь о них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нем и ночью. Никогда не сдавайтес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P:\DEPT\WM\_SHARED\2011 Adviosry Resources\Nurture-Empower-Outreach\EMPOWER\EVANGELISM MANUAL - EDITED\PP evangelism\Chapter 06 text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457200" y="25142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Одна из важных составляющих дружбы – уважение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можно, нам представится возможность стать другом для человека, который принадлежит другой культуре    или религии. Жизненно важно с уважением относиться к культуре и религии другого человек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P:\DEPT\WM\_SHARED\2011 Adviosry Resources\Nurture-Empower-Outreach\EMPOWER\EVANGELISM MANUAL - EDITED\PP evangelism\Chapter 06 text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609120" y="297180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70c0"/>
                </a:solidFill>
                <a:latin typeface="Calibri"/>
              </a:rPr>
              <a:t>Апостол Павел напоминает нам        в 1 послании Коринфянам 9:19-23,  что нам необходимо стать «всем для всех». Ниже предложены несколько полезных советов: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1828800" y="45720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Уделите время тому, чтобы изучить культуру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религиозные убеждения с целью лучшего понимания происхождения люд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Будьте внимательны к выбору одежды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арайтесь не совершать неуместных действий и не говорить неподобающих слов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Постарайтесь найти общие религиозные убежд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980720" y="762120"/>
            <a:ext cx="6705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Будьте кроткими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удьте готовы не только учить людей,                    но и учиться у ни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alibri"/>
              </a:rPr>
              <a:t>Постарайтесь найти то,        что вас объединяет.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 оба любите ходить в походы, заниматься садоводством, чтение или плавание? Начните с того,    что вас объединя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P:\DEPT\WM\_SHARED\2011 Adviosry Resources\Nurture-Empower-Outreach\EMPOWER\EVANGELISM MANUAL - EDITED\PP evangelism\Chapter 06 text3.jpg"/>
          <p:cNvPicPr/>
          <p:nvPr/>
        </p:nvPicPr>
        <p:blipFill>
          <a:blip r:embed="rId1"/>
          <a:stretch/>
        </p:blipFill>
        <p:spPr>
          <a:xfrm>
            <a:off x="-77760" y="0"/>
            <a:ext cx="922176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29718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2f2f2"/>
                </a:solidFill>
                <a:latin typeface="Calibri"/>
              </a:rPr>
              <a:t>Дружить – то, что может делать каждый       из нас. Дружественный евангелизм – </a:t>
            </a:r>
            <a:r>
              <a:rPr b="1" lang="en-US" sz="3000" spc="-1" strike="noStrike">
                <a:solidFill>
                  <a:srgbClr val="f2f2f2"/>
                </a:solidFill>
                <a:latin typeface="Calibri"/>
              </a:rPr>
              <a:t>            </a:t>
            </a:r>
            <a:r>
              <a:rPr b="1" lang="ru-RU" sz="3000" spc="-1" strike="noStrike">
                <a:solidFill>
                  <a:srgbClr val="f2f2f2"/>
                </a:solidFill>
                <a:latin typeface="Calibri"/>
              </a:rPr>
              <a:t>то, что может делать каждый из нас.                     Вы и я можем изменить жизни других людей.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00b0f0"/>
                </a:solidFill>
                <a:latin typeface="Calibri"/>
              </a:rPr>
              <a:t>Если каждый верующий человек станет другом для кого-нибудь и осторожно и нежно будет вести этого человека ко Христу, каким удивительным станет мир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P:\DEPT\WM\_SHARED\2011 Adviosry Resources\Nurture-Empower-Outreach\EMPOWER\EVANGELISM MANUAL - EDITED\PP evangelism\Chapter 06 cover.jpg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304920" y="685800"/>
            <a:ext cx="86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rajan Pro"/>
                <a:ea typeface="Calibri"/>
              </a:rPr>
              <a:t>ЕВАНГЕЛИЗМ</a:t>
            </a:r>
            <a:r>
              <a:rPr b="1" lang="en-US" sz="4000" spc="-1" strike="noStrike">
                <a:solidFill>
                  <a:srgbClr val="c00000"/>
                </a:solidFill>
                <a:latin typeface="Trajan Pro"/>
                <a:ea typeface="Calibri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rajan Pro"/>
                <a:ea typeface="Calibri"/>
              </a:rPr>
              <a:t>ДЛЯ КАЖДОГО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4495680" y="1752480"/>
            <a:ext cx="502920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  <a:ea typeface="Calibri"/>
              </a:rPr>
              <a:t>Глава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  <a:ea typeface="Calibri"/>
              </a:rPr>
              <a:t> 6. </a:t>
            </a:r>
            <a:br>
              <a:rPr sz="4000"/>
            </a:br>
            <a:r>
              <a:rPr b="1" lang="ru-RU" sz="3400" spc="-1" strike="noStrike">
                <a:solidFill>
                  <a:srgbClr val="ffffff"/>
                </a:solidFill>
                <a:latin typeface="Bookman Old Style"/>
                <a:ea typeface="Calibri"/>
              </a:rPr>
              <a:t>Дружественный Евангелизм</a:t>
            </a:r>
            <a:r>
              <a:rPr b="1" lang="en-US" sz="3400" spc="-1" strike="noStrike">
                <a:solidFill>
                  <a:srgbClr val="ffffff"/>
                </a:solidFill>
                <a:latin typeface="Bookman Old Style"/>
                <a:ea typeface="Calibri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Bookman Old Style"/>
                <a:ea typeface="Calibri"/>
              </a:rPr>
              <a:t>ОТ ДРУГА К ДРУГ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5181480" y="58006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Bookman Old Style"/>
                <a:ea typeface="Calibri"/>
              </a:rPr>
              <a:t>Генеральная Конференция</a:t>
            </a:r>
            <a:r>
              <a:rPr b="1" lang="en-US" sz="1400" spc="-1" strike="noStrike">
                <a:solidFill>
                  <a:srgbClr val="ffffff"/>
                </a:solidFill>
                <a:latin typeface="Bookman Old Style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Bookman Old Style"/>
                <a:ea typeface="Calibri"/>
              </a:rPr>
              <a:t>Отдел Женского слу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WMLOGO-small"/>
          <p:cNvPicPr/>
          <p:nvPr/>
        </p:nvPicPr>
        <p:blipFill>
          <a:blip r:embed="rId2"/>
          <a:stretch/>
        </p:blipFill>
        <p:spPr>
          <a:xfrm>
            <a:off x="7086600" y="5400720"/>
            <a:ext cx="60948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P:\DEPT\WM\_SHARED\2011 Adviosry Resources\Nurture-Empower-Outreach\EMPOWER\EVANGELISM MANUAL - EDITED\PP evangelism\Chapter 06 tex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57200" y="23623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Лишь метод Христа принесет подлинный успех в проповеди людям Божьей истины.      Находясь среди людей. Спаситель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общался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        с ними, желая им добра. Он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роявлял к ним сочувствие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. Он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лужил их нуждам 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завоевывал их доверие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. И только после этого Иисус говорил им: "Следуй за Мною". –    Е. Уайт, «Служение исцеления», стр.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14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P:\DEPT\WM\_SHARED\2011 Adviosry Resources\Nurture-Empower-Outreach\EMPOWER\EVANGELISM MANUAL - EDITED\PP evangelism\Chapter 06 text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304920" y="2895480"/>
            <a:ext cx="8610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558ed5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Пример Иисуса Христа являет собой основу для евангельской работы, которая получила название Дружественный евангелиз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 возникает вместе с нашей силой во Христе и Его силой в нас. Он возникает вместе             с глубокими и жизнетворными взаимоотношениями с живым Богом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P:\DEPT\WM\_SHARED\2011 Adviosry Resources\Nurture-Empower-Outreach\EMPOWER\EVANGELISM MANUAL - EDITED\PP evangelism\Chapter 06 text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533520" y="28191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Дружественным евангелизм означает заботу о людях. Самая успешная евангельская работа зиждется на взаимном доверии           и уважении, которое строится между друзьями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к мы строим дружеские отношения, будучи христианами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1904760" y="1142640"/>
            <a:ext cx="7010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удучи христианами,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нам необходимо заботиться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 людях, которых мы хотим достич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удучи христианами,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нам необходимо принимать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юдей, которых мы хотим достич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удучи христианами,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нам необходимо любить</a:t>
            </a:r>
            <a:r>
              <a:rPr b="0" lang="ru-RU" sz="32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юдей,  которых мы надеемся достич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P:\DEPT\WM\_SHARED\2011 Adviosry Resources\Nurture-Empower-Outreach\EMPOWER\EVANGELISM MANUAL - EDITED\PP evangelism\Chapter 06 tex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1980720" y="762120"/>
            <a:ext cx="6629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удучи христианами, 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нам нужно построить значимые отношения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 людьми, которых мы хотим достичь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удучи христианами, 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нам необходимо приближаться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 людям, которых мы хотим достичь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удучи христианами, </a:t>
            </a:r>
            <a:r>
              <a:rPr b="1" lang="ru-RU" sz="3000" spc="-1" strike="noStrike">
                <a:solidFill>
                  <a:srgbClr val="0070c0"/>
                </a:solidFill>
                <a:latin typeface="Calibri"/>
              </a:rPr>
              <a:t>нам необходимо помогать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людям, которых мы хотим достичь, пережить их трудные времен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P:\DEPT\WM\_SHARED\2011 Adviosry Resources\Nurture-Empower-Outreach\EMPOWER\EVANGELISM MANUAL - EDITED\PP evangelism\Chapter 06 tex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457200" y="26665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ctr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Евангельская работа наиболее эффективна, когда мы по-настоящему любим и заботимся о людях. Дружеский евангелизм заключается  в проявлении любви к людям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ctr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Не только говорите о любви,                но и проявляйте е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P:\DEPT\WM\_SHARED\2011 Adviosry Resources\Nurture-Empower-Outreach\EMPOWER\EVANGELISM MANUAL - EDITED\PP evangelism\Chapter 06 text1.jpg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456840" y="3276720"/>
            <a:ext cx="80010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70c0"/>
                </a:solidFill>
                <a:latin typeface="Calibri"/>
              </a:rPr>
              <a:t>Я могу задать себе вопрос: что я могу сделать? Как достичь людей</a:t>
            </a:r>
            <a:r>
              <a:rPr b="1" lang="en-US" sz="3700" spc="-1" strike="noStrike">
                <a:solidFill>
                  <a:srgbClr val="0070c0"/>
                </a:solidFill>
                <a:latin typeface="Calibri"/>
              </a:rPr>
              <a:t>? </a:t>
            </a:r>
            <a:r>
              <a:rPr b="1" lang="ru-RU" sz="3700" spc="-1" strike="noStrike">
                <a:solidFill>
                  <a:srgbClr val="0070c0"/>
                </a:solidFill>
                <a:latin typeface="Calibri"/>
              </a:rPr>
              <a:t>Существует множество путей</a:t>
            </a:r>
            <a:r>
              <a:rPr b="1" lang="en-US" sz="3700" spc="-1" strike="noStrike">
                <a:solidFill>
                  <a:srgbClr val="0070c0"/>
                </a:solidFill>
                <a:latin typeface="Calibri"/>
              </a:rPr>
              <a:t>. </a:t>
            </a:r>
            <a:r>
              <a:rPr b="1" lang="ru-RU" sz="3700" spc="-1" strike="noStrike">
                <a:solidFill>
                  <a:srgbClr val="0070c0"/>
                </a:solidFill>
                <a:latin typeface="Calibri"/>
              </a:rPr>
              <a:t>Ниже приведены несколько идей: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24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01:10:06Z</dcterms:created>
  <dc:creator/>
  <dc:description/>
  <dc:language>en-US</dc:language>
  <cp:lastModifiedBy>Sergei &amp; Helen</cp:lastModifiedBy>
  <dcterms:modified xsi:type="dcterms:W3CDTF">2011-09-16T16:00:00Z</dcterms:modified>
  <cp:revision>2</cp:revision>
  <dc:subject/>
  <dc:title>ЕВАНГЕЛИЗМ для КАЖДОГО</dc:title>
</cp:coreProperties>
</file>