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7D3F-F84D-447C-B625-F8454CDBC6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439B-16FC-45FE-A421-7594375C53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3219-AAC8-4ECF-8C6E-A7BD852446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9F49-A10A-4A07-A8AB-D86012B118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8AD3-F971-482E-B4BF-E99658674F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2EA6-75D5-403F-929D-2A253475E0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28C1-4ED3-4DAE-AD12-1D1433742D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FB86-7140-4E6F-AAF0-9C8DB50269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85A0-6AA2-42FC-B1D9-3EFBFFC498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5F54-F2B3-4FE9-A0A2-6EBA9FDFFD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50D8-4B02-45E7-AF8C-4BBEF9C38B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0DAF-E4B8-4818-947E-F3716BC3A0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8D0D-89C0-4F9C-AD9F-1BD610F3C0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5844-291F-413D-8329-E9A7CB29AD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2D0D-932F-4EB1-B899-D3D0FEC6F1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22CA-EEBC-438F-9F0F-B6EB7F35EC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49C-01BD-4DF8-BADF-98B79D2A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C40-E0FA-4919-87BC-1F72C9C2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E9E-E16D-42AC-B723-71046544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AC3-600D-4FEA-84B2-9DF91B4E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5DA-FC17-4847-9552-8B720120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C05-44E0-489D-BDDA-BC1FB885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61E-A887-489C-A0D0-03F9C9CB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76C-D45E-47C5-AB83-8312AC13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A6F-A0A6-4819-BA97-C7A04605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448-3ED8-496A-A7A2-5240D15C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363-50E6-4C7A-AF02-28A3E8F3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82B-448F-4310-AB1F-AC6D94E6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32DA-5495-4987-8298-3274C6715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440" y="99072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Необходимость уделять время молитв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успехе каждой встречи, а также во время вст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2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Фокусирование на Библии.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ям необходимо слышать,          что вы говорите, а не то,                    что интерпретируете (посмотрите, например, на Даниила)                     «то, что говорит Библия» - позвольте Библии объяснять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752120" y="11430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тко представьте вашей аудитории,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что целью вашего семинара является прославление Иисуса Христ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кажите о Хри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4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бъясните участникам,                что мы изучаем события последних дней не только для того, чтобы понимать, что происходит                   в последние дни, но также,         чтобы подготовиться к ним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ОМАНДА ЕВАНГЕЛИСТОВ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Не мудро пытаться проводить евангельский семинар в одиночку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ругим людям также нужно получить опыт и благословения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Мы все обладаем разными духовными дарами. Для успешной программы нужны различные таланты и личностные характерист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МАЛЕНЬКИЕ ПОДСКАЗКИ       ДЛЯ ЧЛЕНОВ КОМАНДЫ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428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могите членам команды понять,               что их попросили помочь регистрировать гостей, подготовить семинар                          или музыкальное выступление,                       но вся эта работа второстепенна.          </a:t>
            </a:r>
            <a:r>
              <a:rPr b="1" i="1" lang="ru-RU" sz="3100" spc="-1" strike="noStrike">
                <a:solidFill>
                  <a:srgbClr val="ff0000"/>
                </a:solidFill>
                <a:latin typeface="Calibri"/>
              </a:rPr>
              <a:t>Прежде всего, их попросили установить взаимоотношения  с посетителям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752480" y="83808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ле того, как вы познакомитесь                  с гостями, вы можете сесть рядом                  с ними во время семинара, запомнить         их имена и звонить им, если                       они пропускают встречу –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угайте гостей за пропуски, но проявите                к ним интерес и покажите, что вы       по-настоящему заботитесь о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говаривая с посетителями,                       не забегайте вперед и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ассказывайте им о следующих темах.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05120" y="60948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кажите поддержку гостям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и столкнуться с трудностями                 в изучении истины, новой для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жде всего,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ы принимаете участие в семинаре, чтобы подруж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огда ваши посетители придут          в церковь первый раз в субботу,     если возможно, пригласите                 их на обед к себе домой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ьте    им увидеть, как вы испытываете радость от соблюдения суб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РУКОВОДЯЩИЕ ПРИНЦИПЫ    ДЛЯ РУКОВОДИТЕЛЕЙ СЕМИН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733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руководящие принципы проведения евангельского семинара, разработанные человеком, который присоединился к церкви благодаря семинару по книге Откровение, и впоследствии проводившего семинары по книге Откров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52480" y="83808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ждый вечер используйте проектор и экран или другую видеотехнику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ую как компьютер, видеомагнитофон, большой телевизор, а также классную дос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вый вечер расскажите вашим посетителя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все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раздаточные материалы бесплатны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бедитесь, что зал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будет открыт        для вас за час до начала первой встреч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828440" y="9144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ы проводите семинар в малой группе или встречаетесь на дому,         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ы можете сесть вокруг стола             или по кругу в комнате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прихода  гостей расставьте стол и стуль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последующих встречах вы можете раскладывать на столе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только следующий урок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52480" y="13716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ожидаете большое количество посетителей,                   то пригласите помощников, назначенных в вашей церкви.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 первую встречу вам необходимо пригласить двух помощников на каждые 10-15 посет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8 cover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58104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Trajan Pro"/>
              </a:rPr>
              <a:t>ЕВАНГЕЛИЗМ </a:t>
            </a:r>
            <a:r>
              <a:rPr b="1" lang="ru-RU" sz="4000" spc="-1" strike="noStrike">
                <a:solidFill>
                  <a:srgbClr val="c00000"/>
                </a:solidFill>
                <a:latin typeface="Trajan Pro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762440" y="1959120"/>
            <a:ext cx="43815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Calibri"/>
              </a:rPr>
              <a:t>Глава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Calibri"/>
              </a:rPr>
              <a:t>8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еминар </a:t>
            </a:r>
            <a:r>
              <a:rPr b="1" lang="en-US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как вид евангельск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257800" y="5791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877080" y="5410080"/>
            <a:ext cx="6094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828440" y="837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учите одному помощнику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аписать  на бейджиках имена ваших посетителей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вечер после программы предлагай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ветить на вопросы вопросника и оставить конверты                с пожертвованиями на сто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се записи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айте своевремен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 прошествии нескольких встреч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вы можете открыть книжную лав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600200" y="6854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время первых встреч побуждайте людей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приглашать своих друзей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мните о том, что люди изучают урок         до прихода на вашу встречу, поэтому вам необходимо хорошо рассмотреть его            во время встре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ы запланировали серию евангельских встреч и не закончили уроки, расскажите участникам об этом на первой встрече           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и регулярно напоминайте о том, что ваши встречи лишь прелюдия к более детальному изучению, которое будет предложено позж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:\DEPT\WM\_SHARED\2011 Adviosry Resources\Nurture-Empower-Outreach\EMPOWER\EVANGELISM MANUAL - EDITED\PP evangelism\Chapter 08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0948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Calibri"/>
              </a:rPr>
              <a:t>Визуализация – ключ к успеху. 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По мере того, как ваши дружеские отношения будут укрепляться и у людей будет возможность открываться, вы можете поделиться евангельской вестью в более полном объеме.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(Для более подробного описания читайте главу 12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«Посещения   и принятие решений»).</a:t>
            </a:r>
            <a:r>
              <a:rPr b="0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520" y="2286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«Каждая община должна быть школой подготовки для христиан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ого члена церкви следует обучать проведению библейских занятий с другими людьми, проведению уроков субботней школы, а также как наилучшим образом помочь бедны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позаботиться о больных, как работать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необращенными. Необходимо организовывать школы здорового образа жизни, кулинарные школы, а также занятия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различным направлениям христианской благотворительной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8088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, чтобы теоретическое обучение тесно переплеталось с реальной практической деятельностью под руководством опытных наставников. Пусть учителя покажут пример работы с людьми, а другие, присоединившись     к ним, учатся на их пример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дин практический пример гораздо более ценен, чем многие теоретические предписания»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лужение исцеле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тр. 148,14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2666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минар как вид евангельской работы представляет собой скорее методичное изложение темы, чем изучение Библии        или изучение в малых группах, но вместе           с тем, он не настолько строг по своей форме, как евангельская программа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анный семинар предусматривает приглашение к диалогу       и участию, которые не может предложить обычная евангельская программ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0070c0"/>
                </a:solidFill>
                <a:latin typeface="Bookman Old Style"/>
              </a:rPr>
              <a:t>КАК ВАМ ПОДГОТОВИТЬ СЕМИНАР</a:t>
            </a:r>
            <a:r>
              <a:rPr b="1" lang="en-US" sz="4800" spc="-1" strike="noStrike">
                <a:solidFill>
                  <a:srgbClr val="0070c0"/>
                </a:solidFill>
                <a:latin typeface="Bookman Old Style"/>
              </a:rPr>
              <a:t>? 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120" y="2362320"/>
            <a:ext cx="7086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сновном подготовка к семинару напоминает подготовку к большой евангельской кампани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 лишь отличие – человек, который будет представлять тему, будет лектором или преподавателем, а не евангелистом или проповедн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овершая евангельскую работу, женщинам очень важно работать вместе.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им образом, мы сможем поддерживать друг друга                и делиться своими идеями. Мы можем молиться вместе о наших гостях и также друг  о друге, объединяя нашу команду в Господ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Когда женщины соглашаются работать вместе во имя благой цели, благодаря Божьему руководству, они могут достичь таких успехов, о которые даже не представля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2819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вангельский семинар – улучшенный вид работы, когда посвященные женщины     из церкви могут стать друзьями тем,       кто его посещает.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е всего, если каждый вечер они будут приглашать           на семинар своих друзей, членов семьи      и сосе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ЛЮЧИ К УСПЕХ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733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же предложены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тыр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очень важных ключа для успеха любой евангельской инициатив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особенно важные            для проведения семина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28:44Z</dcterms:created>
  <dc:creator/>
  <dc:description/>
  <dc:language>en-US</dc:language>
  <cp:lastModifiedBy/>
  <dcterms:modified xsi:type="dcterms:W3CDTF">2011-08-21T07:13:31Z</dcterms:modified>
  <cp:revision>0</cp:revision>
  <dc:subject/>
  <dc:title/>
</cp:coreProperties>
</file>