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C28C-5D90-478E-9CFB-616C77DBA4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CF18-60D8-492F-921F-A4A132AC31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A360-4529-4660-9D9A-CD08B64C85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2EBD-57B5-4B71-A430-64970A0FA8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A446-F9A9-436E-AB0E-D393EE5E63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1957-EDF5-4092-9ACF-3F800CB913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80CF-5A67-478F-9130-4C030B6328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53DE-5776-4737-B703-1CE48BC3D0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D369-41D0-4A90-B10B-135636C058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EBA5-447D-4A9C-AE9C-B8423C7610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6267-E0EE-4316-924F-5BCBDA6854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4F39-3031-4DEA-B7CA-D4886CAC24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2EDE-8B7F-442C-A7BA-311E5DCC41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82E4-3A99-4BDB-AFC6-A8CA386E9A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A6DE-339B-4A6A-88A2-6DA3DAE6D0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E244-2099-4FA0-8014-B745CE41DC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91DB-89C7-4EBA-946E-458BCB07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FC16-D142-47CF-A754-65C5FD5C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B18-40CE-444C-AB95-24BC97AE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035-5F53-4B02-85B7-A249E444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F69-0B2D-482F-9AB5-87A1EFD6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3142-4F9B-4F1F-949B-BAD12A28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1FE-E69D-4A5E-A85E-5683D231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22C-A98B-4E7E-9B94-189EC099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B87-EFE7-4E29-9B33-73A0B2EA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08E-C349-42F3-9836-2913FDD5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504-3BC9-40EC-B897-5224F43C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36DC-2215-435F-95F5-736DA596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D5E1-1A2E-43DE-870F-8B332EAAD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440" y="99072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1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Необходимость уделять время молитв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 успехе каждой встречи, а также во время вст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2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Фокусирование на Библии.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ям необходимо слышать,          что вы говорите, а не то,                    что интерпретируете (посмотрите, например, на Даниила)                     «то, что говорит Библия» - позвольте Библии объяснять себ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752120" y="11430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тко представьте вашей аудитории,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что целью вашего семинара является прославление Иисуса Христ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сскажите о Хрис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4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бъясните участникам,                что мы изучаем события последних дней не только для того, чтобы понимать, что происходит                   в последние дни, но также,         чтобы подготовиться к ним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ОМАНДА ЕВАНГЕЛИСТОВ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Bookman Old Style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3657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Не мудро пытаться проводить евангельский семинар в одиночку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ругим людям также нужно получить опыт и благословения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Мы все обладаем разными духовными дарами. Для успешной программы нужны различные таланты и личностные характеристи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МАЛЕНЬКИЕ ПОДСКАЗКИ       ДЛЯ ЧЛЕНОВ КОМАНДЫ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Bookman Old Style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428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могите членам команды понять,               что их попросили помочь регистрировать гостей, подготовить семинар                          или музыкальное выступление,                       но вся эта работа второстепенна.          </a:t>
            </a:r>
            <a:r>
              <a:rPr b="1" i="1" lang="ru-RU" sz="3100" spc="-1" strike="noStrike">
                <a:solidFill>
                  <a:srgbClr val="ff0000"/>
                </a:solidFill>
                <a:latin typeface="Calibri"/>
              </a:rPr>
              <a:t>Прежде всего, их попросили установить взаимоотношения  с посетителями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752480" y="838080"/>
            <a:ext cx="701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ле того, как вы познакомитесь                  с гостями, вы можете сесть рядом                  с ними во время семинара, запомнить         их имена и звонить им, если                       они пропускают встречу –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угайте гостей за пропуски, но проявите                к ним интерес и покажите, что вы       по-настоящему заботитесь о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говаривая с посетителями,                       не забегайте вперед и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ассказывайте им о следующих темах.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05120" y="60948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кажите поддержку гостям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они столкнуться с трудностями                 в изучении истины, новой для 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жде всего,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ы принимаете участие в семинаре, чтобы подруж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огда ваши посетители придут          в церковь первый раз в субботу,     если возможно, пригласите                 их на обед к себе домой.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ьте    им увидеть, как вы испытываете радость от соблюдения суб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РУКОВОДЯЩИЕ ПРИНЦИПЫ    ДЛЯ РУКОВОДИТЕЛЕЙ СЕМИН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3733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руководящие принципы проведения евангельского семинара, разработанные человеком, который присоединился к церкви благодаря семинару по книге Откровение, и впоследствии проводившего семинары по книге Открове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752480" y="838080"/>
            <a:ext cx="701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Каждый вечер используйте проектор и экран или другую видеотехнику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ую как компьютер, видеомагнитофон, большой телевизор, а также классную доск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ервый вечер расскажите вашим посетителя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все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раздаточные материалы бесплатны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8ed5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бедитесь, что зал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будет открыт        для вас за час до начала первой встреч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828440" y="9144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ы проводите семинар в малой группе или встречаетесь на дому,         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ы можете сесть вокруг стола             или по кругу в комнате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 прихода  гостей расставьте стол и стуль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последующих встречах вы можете раскладывать на столе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только следующий урок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752480" y="13716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ы ожидаете большое количество посетителей,                   то пригласите помощников, назначенных в вашей церкви.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 первую встречу вам необходимо пригласить двух помощников на каждые 10-15 посетител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8 cover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28600" y="58104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Trajan Pro"/>
              </a:rPr>
              <a:t>ЕВАНГЕЛИЗМ </a:t>
            </a:r>
            <a:r>
              <a:rPr b="1" lang="ru-RU" sz="4000" spc="-1" strike="noStrike">
                <a:solidFill>
                  <a:srgbClr val="c00000"/>
                </a:solidFill>
                <a:latin typeface="Trajan Pro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762440" y="1959120"/>
            <a:ext cx="438156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Calibri"/>
              </a:rPr>
              <a:t>Глава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  <a:ea typeface="Calibri"/>
              </a:rPr>
              <a:t>8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еминар </a:t>
            </a:r>
            <a:r>
              <a:rPr b="1" lang="en-US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  </a:t>
            </a: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как вид евангельск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257800" y="57913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877080" y="5410080"/>
            <a:ext cx="60948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828440" y="837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учите одному помощнику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написать  на бейджиках имена ваших посетителей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вечер после программы предлагайте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тветить на вопросы вопросника и оставить конверты                с пожертвованиями на стол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се записи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айте своевремен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о прошествии нескольких встреч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вы можете открыть книжную лав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600200" y="6854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 время первых встреч побуждайте людей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приглашать своих друзей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мните о том, что люди изучают урок         до прихода на вашу встречу, поэтому вам необходимо хорошо рассмотреть его            во время встреч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ы запланировали серию евангельских встреч и не закончили уроки, расскажите участникам об этом на первой встрече           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и регулярно напоминайте о том, что ваши встречи лишь прелюдия к более детальному изучению, которое будет предложено позж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P:\DEPT\WM\_SHARED\2011 Adviosry Resources\Nurture-Empower-Outreach\EMPOWER\EVANGELISM MANUAL - EDITED\PP evangelism\Chapter 08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609480" y="2971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f0"/>
                </a:solidFill>
                <a:latin typeface="Calibri"/>
              </a:rPr>
              <a:t>Визуализация – ключ к успеху. 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По мере того, как ваши дружеские отношения будут укрепляться и у людей будет возможность открываться, вы можете поделиться евангельской вестью в более полном объеме.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(Для более подробного описания читайте главу 12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«Посещения   и принятие решений»).</a:t>
            </a:r>
            <a:r>
              <a:rPr b="0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80520" y="2286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«Каждая община должна быть школой подготовки для христиан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ждого члена церкви следует обучать проведению библейских занятий с другими людьми, проведению уроков субботней школы, а также как наилучшим образом помочь бедны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позаботиться о больных, как работать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необращенными. Необходимо организовывать школы здорового образа жизни, кулинарные школы, а также занятия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различным направлениям христианской благотворительной деятельност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8088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, чтобы теоретическое обучение тесно переплеталось с реальной практической деятельностью под руководством опытных наставников. Пусть учителя покажут пример работы с людьми, а другие, присоединившись     к ним, учатся на их пример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Один практический пример гораздо более ценен, чем многие теоретические предписания»,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лужение исцеле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тр. 148,14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26665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минар как вид евангельской работы представляет собой скорее методичное изложение темы, чем изучение Библии        или изучение в малых группах, но вместе           с тем, он не настолько строг по своей форме, как евангельская программа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анный семинар предусматривает приглашение к диалогу       и участию, которые не может предложить обычная евангельская программ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0070c0"/>
                </a:solidFill>
                <a:latin typeface="Bookman Old Style"/>
              </a:rPr>
              <a:t>КАК ВАМ ПОДГОТОВИТЬ СЕМИНАР</a:t>
            </a:r>
            <a:r>
              <a:rPr b="1" lang="en-US" sz="4800" spc="-1" strike="noStrike">
                <a:solidFill>
                  <a:srgbClr val="0070c0"/>
                </a:solidFill>
                <a:latin typeface="Bookman Old Style"/>
              </a:rPr>
              <a:t>?  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52120" y="2362320"/>
            <a:ext cx="7086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основном подготовка к семинару напоминает подготовку к большой евангельской кампани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 лишь отличие – человек, который будет представлять тему, будет лектором или преподавателем, а не евангелистом или проповедн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Совершая евангельскую работу, женщинам очень важно работать вместе.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им образом, мы сможем поддерживать друг друга                и делиться своими идеями. Мы можем молиться вместе о наших гостях и также друг  о друге, объединяя нашу команду в Господ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Когда женщины соглашаются работать вместе во имя благой цели, благодаря Божьему руководству, они могут достичь таких успехов, о которые даже не представля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33520" y="2819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вангельский семинар – улучшенный вид работы, когда посвященные женщины     из церкви могут стать друзьями тем,       кто его посещает.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ше всего, если каждый вечер они будут приглашать           на семинар своих друзей, членов семьи      и сосед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ЛЮЧИ К УСПЕХ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733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же предложены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етыр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очень важных ключа для успеха любой евангельской инициатив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особенно важные            для проведения семина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28:44Z</dcterms:created>
  <dc:creator/>
  <dc:description/>
  <dc:language>en-US</dc:language>
  <cp:lastModifiedBy/>
  <dcterms:modified xsi:type="dcterms:W3CDTF">2011-08-21T07:13:31Z</dcterms:modified>
  <cp:revision>0</cp:revision>
  <dc:subject/>
  <dc:title/>
</cp:coreProperties>
</file>