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3EF7-51B7-40B7-A1A0-362B4CD420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985E-82A2-4F2A-8F6B-D28A60BE53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A115-38C5-4647-BED5-E42D1DBF03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D157-B11A-4B5C-A1D0-52C3A8AB3D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2070-EDC6-4438-8F64-6B7993B2D1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CB1E-A841-4BA6-ADF3-A717DC234C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FEF1-394C-4650-A0F2-9FCE70E7C4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060F-34AB-4DD5-AFFA-4258C16ED4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DF8C-8EFD-450B-9344-907442370A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DFAE-3AE0-44FD-B2ED-056CBB6EA6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B772-919E-4F96-B5D9-9FFA7C3891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1C06-FCAE-4C06-ADD2-BF4ADCCB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B002-5F11-4972-925A-5852EC9C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E8B4-B857-41E5-B3A1-463C31EA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0DD4-2384-4E33-A8FE-2B4DE592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87CE-44D5-496B-976A-33D93BB9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736-7BD5-49DE-A304-D911014D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62C-4E53-46F3-B8A1-919999CE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CAC-153D-4F9C-B1EC-9BFDF1C7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249D-6554-47B1-BA97-85CB7449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2C13-687C-4396-96C0-11EF1E3C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FD6-7AA4-42EF-A2F0-64374F0E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49EA-03A2-44EA-8BA1-127D3F44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3A40-000B-4BC4-9D8F-A33FA3592A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752120" y="91404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Атмосфера, в которой проводятся встречи, очень важна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борудуйте помещение соответствующим освещением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 системой вентиляции, чтобы в вашем помещении было ни жарко, и ни холод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Если возможно, рассаживайтесь в круг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видеть глаза друг друг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старайтесь изолировать домашних животных, телевизор и радио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тобы ничто вам не доставляло неудобств.  Наймите няню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необходим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228240" y="281916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Назначьте руководителя группы, но и других членов поощряйте вносить предложения. Способствуйте созданию доброжелательного и поддерживающего отношения, а не духа соревнования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и критицизма. Активизируйтесь не вокруг лидера, а вокруг Библии.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828440" y="91404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Будьте чуткими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райтесь избегать конфузных ситуаций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Тем, кто будет доминировать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             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критиковать других людей, 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 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помогите быть деликатны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 время молитвы и изучения Библии члены группы могут поделиться личной информацией.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И жизненно важно сохранять конфиденциальность</a:t>
            </a:r>
            <a:r>
              <a:rPr b="1" i="1" lang="en-US" sz="28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оминайте об этом каждый ра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676520" y="9907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План изучения позволит вам следовать направлению изучения 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       </a:t>
            </a: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и поддерживать в группе интерес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итая Слово Божь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давайте вопросы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же приведены примеры вопросо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(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тем дайте группе возможность ответить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Ободрение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ыражайте искреннюю благодарность за то, что члены группы делятся тем, чему научились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752480" y="685440"/>
            <a:ext cx="6934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Удерживайте внимание на главном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сли дискуссия вышла за рамки темы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ы можете сказать: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Что дискуссия была очень интересной. Возможно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мы сможем продолжить ее в другой раз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cc0000"/>
                </a:solidFill>
                <a:latin typeface="Calibri"/>
              </a:rPr>
              <a:t>Поощряйте внимательное слушание</a:t>
            </a:r>
            <a:r>
              <a:rPr b="1" i="1" lang="en-US" sz="2700" spc="-1" strike="noStrike">
                <a:solidFill>
                  <a:srgbClr val="cc0000"/>
                </a:solidFill>
                <a:latin typeface="Calibri"/>
              </a:rPr>
              <a:t>.</a:t>
            </a:r>
            <a:r>
              <a:rPr b="0" lang="en-US" sz="27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удьте терпеливы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доставьте членам группы время на раздумье. Избегайте напряжения и конфликтов, указывая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 Слово Божье как высший авторитет, вместо того, чтобы заниматься традиционными или нелогичными рассуждения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676520" y="68580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да хотите найти ответ или попросить группу найти дополнительную информацию по теме, </a:t>
            </a: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не сомневаясь, говорите: Я не зна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Когда возможно, используйте видеоматериалы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бы дополнить яс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Calibri"/>
              </a:rPr>
              <a:t>Способствуйте поиску более точного ответа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вая вопросы, такие как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Что было полезным во время изучения? Или что нового вы узн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10666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Изучение Библии может быть завершен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ене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молитвы, которое может включать в себя прославление, просьбу и благодаре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Calibri"/>
              </a:rPr>
              <a:t>Побуждайте всех членов группы мол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ответстви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изучаемой темой или нуждами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7 tex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2743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Молитвы могут быть краткими 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             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и спонтанными</a:t>
            </a:r>
            <a:r>
              <a:rPr b="1" i="1" lang="en-US" sz="3200" spc="-1" strike="noStrike">
                <a:solidFill>
                  <a:srgbClr val="f2f2f2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f2f2f2"/>
                </a:solidFill>
                <a:latin typeface="Calibri"/>
              </a:rPr>
              <a:t>По мере увеличения количества членов группы составьте план создания другой групп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7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581040"/>
            <a:ext cx="89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5105520" y="1806480"/>
            <a:ext cx="419076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Глава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Calibri"/>
              </a:rPr>
              <a:t>7. </a:t>
            </a:r>
            <a:br>
              <a:rPr sz="4000"/>
            </a:b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Евангельская рабо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Bookman Old Style"/>
                <a:ea typeface="Calibri"/>
              </a:rPr>
              <a:t>с помощью малых груп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029200" y="58770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Генеральная Конферен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6934320" y="547704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895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«Создание небольших групп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для проведения христианской работы является частью плана, который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был развернут передо мною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Тем,    Кто никогда не заблуждается». </a:t>
            </a:r>
            <a:r>
              <a:rPr b="1" i="1" lang="ru-RU" sz="3600" spc="-1" strike="noStrike">
                <a:solidFill>
                  <a:srgbClr val="002060"/>
                </a:solidFill>
                <a:latin typeface="Calibri"/>
              </a:rPr>
              <a:t>Евангелизм</a:t>
            </a:r>
            <a:r>
              <a:rPr b="1" i="1" lang="en-US" sz="36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стр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. 115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26665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«Если церковь большая, пусть ее члены сформируют небольшие группы, чтобы вместе трудиться не только для своих собратьев, но и для неверующих.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Если в каком-либо месте лишь двое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ли трое знают истину, то они должны составить группу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аботников».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– </a:t>
            </a: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видетельства для Церкви,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ом 7, стр. 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7 text1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304920" y="28195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8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Calibri"/>
              </a:rPr>
              <a:t>Совместное изучение Библии в малых группах прекрасный способ построения дружеских отношений и духовного возрастания. Один из самых успешных способов изучения Библии – способ малых групп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752480" y="1417680"/>
            <a:ext cx="70106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дна из задач малых групп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по изучению Библии – создание атмосферы любви и принятия, которая будет способствовать новым открытиям и предоставит свободу выражать свое мнение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о Библии без страха осуждения 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или критики. Подобная атмосфера поможет созиданию взаимоотношений между христианами</a:t>
            </a:r>
            <a:r>
              <a:rPr b="1" lang="en-US" sz="32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560" y="2438280"/>
            <a:ext cx="84582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всего приглашать потенциальных членов малой группы лично.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Отнеситесь внимательно к тому, чтобы детально рассказать об изучении Библии, о том,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i="1" lang="ru-RU" sz="3000" spc="-1" strike="noStrike">
                <a:solidFill>
                  <a:srgbClr val="0070c0"/>
                </a:solidFill>
                <a:latin typeface="Calibri"/>
              </a:rPr>
              <a:t>как вы его спланировали, где будут проводиться встречи и сколько недель продлится курс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дин из способов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вы можете начать группу по изучению Библии – вы можете пригласить несколько соседей к вам домой для небольшого банке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7 text2.jpg"/>
          <p:cNvPicPr/>
          <p:nvPr/>
        </p:nvPicPr>
        <p:blipFill>
          <a:blip r:embed="rId1"/>
          <a:stretch/>
        </p:blipFill>
        <p:spPr>
          <a:xfrm>
            <a:off x="-77760" y="0"/>
            <a:ext cx="9271080" cy="6951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2209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Планируя проведение малой группы, важно уделить внимание пяти сферам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37339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1. Вступление</a:t>
            </a:r>
            <a:r>
              <a:rPr b="1" i="1" lang="en-US" sz="3000" spc="-1" strike="noStrike">
                <a:solidFill>
                  <a:srgbClr val="cc3300"/>
                </a:solidFill>
                <a:latin typeface="Calibri"/>
              </a:rPr>
              <a:t>.</a:t>
            </a:r>
            <a:r>
              <a:rPr b="1" i="1" lang="en-US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накомств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2. Изучение Библии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учение Слова Божье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3. Молитв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осьба к Богу о помощ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0000"/>
                </a:solidFill>
                <a:latin typeface="Calibri"/>
              </a:rPr>
              <a:t>4. Социальная активность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стреч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 пределами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c3300"/>
                </a:solidFill>
                <a:latin typeface="Calibri"/>
              </a:rPr>
              <a:t>5. Служение.</a:t>
            </a:r>
            <a:r>
              <a:rPr b="0" lang="ru-RU" sz="30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ужение тому, кто не является членом групп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:\DEPT\WM\_SHARED\2011 Adviosry Resources\Nurture-Empower-Outreach\EMPOWER\EVANGELISM MANUAL - EDITED\PP evangelism\Chapter 07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1676160" y="808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Целью малых групп является содействие изучению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ния Иисуса Христа и обретение радости от следования за Творц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Четко и доступно расскажите о цели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г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 приступаете к изучению или социальной деятель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Уделяйте время вступлению, просьбам </a:t>
            </a:r>
            <a:r>
              <a:rPr b="1" i="1" lang="en-US" sz="2400" spc="-1" strike="noStrike">
                <a:solidFill>
                  <a:srgbClr val="cc0000"/>
                </a:solidFill>
                <a:latin typeface="Calibri"/>
              </a:rPr>
              <a:t>              </a:t>
            </a: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о молитв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роявлению интереса к членам вашей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Calibri"/>
              </a:rPr>
              <a:t>Заранее спланируйте время на молитвы</a:t>
            </a:r>
            <a:r>
              <a:rPr b="0" lang="ru-RU" sz="24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переживаниях и нуждах групп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8:04Z</dcterms:created>
  <dc:creator/>
  <dc:description/>
  <dc:language>en-US</dc:language>
  <cp:lastModifiedBy/>
  <dcterms:modified xsi:type="dcterms:W3CDTF">2011-08-12T08:07:48Z</dcterms:modified>
  <cp:revision>0</cp:revision>
  <dc:subject/>
  <dc:title/>
</cp:coreProperties>
</file>