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C17A-3E90-46B4-9E40-0EE157DA3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7985-D63A-4F6B-9280-1DE3939F3E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9C10-8B40-449D-8C3E-B29CF2AE28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4688-FDB9-4077-A23E-E23C471ADF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3ADB-CB7D-476A-BCB6-2C09F4F638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EA38-6B28-459E-B6D3-42D4501060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65A7-F228-407A-9C92-3EFF13CA3A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E7C9-AA7E-458D-964F-026483E3C3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EAE0-43F5-4D7F-9D79-A060AF73DA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0B19-4725-4C74-B739-6A1C4EE9D3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D488-7BF4-4E3F-BD4E-B158CC37F6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95F-C6DB-4F06-8788-ED0F4000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CAF-6602-48AA-BB73-809CF29E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E91-9FC4-45CD-914D-ECC6DB0F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745-303C-4FD1-B29C-0F254D93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51C-43C5-4A38-8680-92EB707D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F8B-4AC3-44F2-9085-D5C8A58A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020-6C5D-4B12-8521-9031BA64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6F6-C7F0-4046-8F4F-19390307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B42-A6ED-44CB-ADFB-BA070066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DE2-8BB2-4DD6-9F37-A65C5D48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9A8-5658-4869-932E-0F25F97D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F2B-1B23-4E09-913C-6A4E4A04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3700-8853-43B7-8553-E4C7E84C6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120" y="914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Атмосфера, в которой проводятся встречи, очень важн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рудуйте помещение соответствующим освещением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истемой вентиляции, чтобы в вашем помещении было ни жарко, и ни холод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Если возможно, рассаживайтесь в круг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идеть глаза друг друг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старайтесь изолировать домашних животных, телевизор и радио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ничто вам не доставляло неудобств.  Наймите нян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необходим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819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Назначьте руководителя группы, но и других членов поощряйте вносить предложения. Способствуйте созданию доброжелательного и поддерживающего отношения, а не духа соревнования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 критицизма. Активизируйтесь не вокруг лидера, а вокруг Библии.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28440" y="914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Будьте чуткими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избегать конфузных ситу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Тем, кто будет доминировать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критиковать других людей,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помогите быть деликат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молитвы и изучения Библии члены группы могут поделиться личной информацией.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жизненно важно сохранять конфиденциальность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инайте об этом каждый р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9907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План изучения позволит вам следовать направлению изучения 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и поддерживать в группе интерес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Слово Божь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вайт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примеры вопрос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ем дайте группе возможность ответ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Ободрение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ыражайте искреннюю благодарность за то, что члены группы делятся тем, чему научились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5248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Удерживайте внимание на главном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дискуссия вышла за рамки темы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 можете сказать: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дискуссия была очень интересной. Возможно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ы сможем продолжить ее в другой раз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ощряйте внимательное слушание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удьте терпеливы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оставьте членам группы время на раздумье. Избегайте напряжения и конфликтов, указыва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Слово Божье как высший авторитет, вместо того, чтобы заниматься традиционными или нелогичными рассужден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76520" y="685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хотите найти ответ или попросить группу найти дополнительную информацию по теме,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не сомневаясь, говорите: Я не зна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Когда возможно, используйте видеоматериалы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дополнить яс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Способствуйте поиску более точного ответ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вая вопросы, такие как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было полезным во время изучения? Или что нового вы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10666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зучение Библии может быть заверше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олитвы, которое может включать в себя прославление, просьбу и благодар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обуждайте всех членов группы мол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ответств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аемой темой или нуждами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7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Молитвы могут быть краткими 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и спонтанными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По мере увеличения количества членов группы составьте план создания другой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7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58104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105520" y="1806480"/>
            <a:ext cx="4190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лав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7.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Евангель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 помощью малых гру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292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934320" y="547704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Создание небольших групп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ля проведения христианской работы является частью плана, который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ыл развернут передо мною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Тем,    Кто никогда не заблуждается».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вангелизм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. 1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Если церковь большая, пусть ее члены сформируют небольшие группы, чтобы вместе трудиться не только для своих собратьев, но и для неверующих.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каком-либо месте лишь двое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и трое знают истину, то они должны составить групп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ботников»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видетельства для Церкви,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м 7, стр.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Совместное изучение Библии в малых группах прекрасный способ построения дружеских отношений и духовного возрастания. Один из самых успешных способов изучения Библии – способ малых групп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52480" y="1417680"/>
            <a:ext cx="7010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дна из задач малых групп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о изучению Библии – создание атмосферы любви и принятия, которая будет способствовать новым открытиям и предоставит свободу выражать свое мнение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 Библии без страха осуждения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или критики. Подобная атмосфера поможет созиданию взаимоотношений между христианами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560" y="24382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всего приглашать потенциальных членов малой группы лично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тнеситесь внимательно к тому, чтобы детально рассказать об изучении Библии, о том,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как вы его спланировали, где будут проводиться встречи и сколько недель продлится курс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ин из способов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 можете начать группу по изучению Библии – вы можете пригласить несколько соседей к вам домой для небольшого банк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ланируя проведение малой группы, важно уделить внимание пяти сферам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733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1. Вступление</a:t>
            </a:r>
            <a:r>
              <a:rPr b="1" i="1" lang="en-US" sz="30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2. Изучение Библии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Слова Божь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3. Молит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ьба к Богу о помощ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4. Социальная актив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стреч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ределами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5. Служение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ение тому, кто не является членом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76160" y="808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Целью малых групп является содействие изуче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я Иисуса Христа и обретение радости от следования за Творц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Четко и доступно расскажите о цел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иступаете к изучению или соци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Уделяйте время вступлению, просьбам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о молит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явлению интереса к членам вашей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Заранее спланируйте время на молитвы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ереживаниях и нуждах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8:04Z</dcterms:created>
  <dc:creator/>
  <dc:description/>
  <dc:language>en-US</dc:language>
  <cp:lastModifiedBy/>
  <dcterms:modified xsi:type="dcterms:W3CDTF">2011-08-12T08:07:48Z</dcterms:modified>
  <cp:revision>0</cp:revision>
  <dc:subject/>
  <dc:title/>
</cp:coreProperties>
</file>