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A18B-D12C-4771-AD42-286699C3AA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6465-D0E6-4E1B-83E7-CB77F0874C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544A-D146-4CE6-AE50-B51A872140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3D13-0116-4589-9801-6ED7B2BC7A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A832-9B01-4314-85E7-C82A54C1A5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7D99-1E9E-45E7-9B1D-13CB0B3627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C1F2-5048-4A5D-93B5-5BB265B2AF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E1CF-6320-41A0-8CA7-5D2E7F466B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5C99-AA4E-4D61-9179-99C6116F9C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8932-493E-4297-971C-C4A0511368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176D-228C-4F9C-BC39-C38F5AA4AB2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278C-0E99-4697-AE94-57A4C4F298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6C22-AF17-4093-BEBC-614D9985CB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D5CB-6B3A-42BD-BB58-936E63296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BEA8-90C7-4C65-84A3-BAB7F3360A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ED78-97FF-47B2-9C84-E4829C9BB32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4AC-E534-4CC3-B972-A685022A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9996-6BA3-4F0E-9965-F3241ADD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0AF8-D34E-49A4-B0CD-67E0C95E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533-8C12-4FD8-87C1-7907F899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952-299D-452E-B48F-51C9034E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E42-B2AC-4F62-9E12-6F19CBFA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8517-5A20-4083-9E89-1A22EF30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152-A7DF-47B0-AECB-747EC0F0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247-B899-45EF-8F37-8DDEA303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112-7185-4DF8-B65F-86746A8F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C2F-BCC2-4787-8997-37193D05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2590-CFC4-42A1-8359-42280410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37B6-1234-4CE1-9200-689628CC00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440" y="990720"/>
            <a:ext cx="7086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1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Необходимость уделять время молитв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 успехе каждой встречи, а также во время вст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2. </a:t>
            </a: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Фокусирование на Библии.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ям необходимо слышать,          что вы говорите, а не то,                    что интерпретируете (посмотрите, например, на Даниила)                     «то, что говорит Библия» - позвольте Библии объяснять себ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1752120" y="11430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тко представьте вашей аудитории,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что целью вашего семинара является прославление Иисуса Христ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скажите о Хри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4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бъясните участникам,                что мы изучаем события последних дней не только для того, чтобы понимать, что происходит                   в последние дни, но также,         чтобы подготовиться к ним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ОМАНДА ЕВАНГЕЛИСТОВ</a:t>
            </a:r>
            <a:br>
              <a:rPr sz="4000"/>
            </a:br>
            <a:r>
              <a:rPr b="0" lang="en-US" sz="4000" spc="-1" strike="noStrike">
                <a:solidFill>
                  <a:srgbClr val="0070c0"/>
                </a:solidFill>
                <a:latin typeface="Bookman Old Style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Не мудро пытаться проводить евангельский семинар в одиночку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ругим людям также нужно получить опыт и благословения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Мы все обладаем разными духовными дарами. Для успешной программы нужны различные таланты и личностные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МАЛЕНЬКИЕ ПОДСКАЗКИ       ДЛЯ ЧЛЕНОВ КОМАНДЫ</a:t>
            </a:r>
            <a:br>
              <a:rPr sz="4000"/>
            </a:br>
            <a:r>
              <a:rPr b="1" lang="en-US" sz="4000" spc="-1" strike="noStrike">
                <a:solidFill>
                  <a:srgbClr val="0070c0"/>
                </a:solidFill>
                <a:latin typeface="Bookman Old Style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3428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могите членам команды понять,               что их попросили помочь регистрировать гостей, подготовить семинар                          или музыкальное выступление,                       но вся эта работа второстепенна.          </a:t>
            </a:r>
            <a:r>
              <a:rPr b="1" i="1" lang="ru-RU" sz="3100" spc="-1" strike="noStrike">
                <a:solidFill>
                  <a:srgbClr val="ff0000"/>
                </a:solidFill>
                <a:latin typeface="Calibri"/>
              </a:rPr>
              <a:t>Прежде всего, их попросили установить взаимоотношения  с посетителями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752480" y="838080"/>
            <a:ext cx="701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сле того, как вы познакомитесь                  с гостями, вы можете сесть рядом                  с ними во время семинара, запомнить         их имена и звонить им, если                       они пропускают встречу –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угайте гостей за пропуски, но проявите                к ним интерес и покажите, что вы       по-настоящему заботитесь о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говаривая с посетителями,                       не забегайте вперед и </a:t>
            </a:r>
            <a:r>
              <a:rPr b="1" i="1" lang="ru-RU" sz="2700" spc="-1" strike="noStrike">
                <a:solidFill>
                  <a:srgbClr val="ff0000"/>
                </a:solidFill>
                <a:latin typeface="Calibri"/>
              </a:rPr>
              <a:t>не рассказывайте им о следующих темах.</a:t>
            </a:r>
            <a:r>
              <a:rPr b="1" i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905120" y="609480"/>
            <a:ext cx="6705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Окажите поддержку гостям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они столкнуться с трудностями                 в изучении истины, новой для них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жде всего,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вы принимаете участие в семинаре, чтобы подружить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огда ваши посетители придут          в церковь первый раз в субботу,     если возможно, пригласите                 их на обед к себе домой.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вольте    им увидеть, как вы испытываете радость от соблюдения суб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РУКОВОДЯЩИЕ ПРИНЦИПЫ    ДЛЯ РУКОВОДИТЕЛЕЙ СЕМИНА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373392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руководящие принципы проведения евангельского семинара, разработанные человеком, который присоединился к церкви благодаря семинару по книге Откровение, и впоследствии проводившего семинары по книге Откровени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752480" y="838080"/>
            <a:ext cx="701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Каждый вечер используйте проектор и экран или другую видеотехнику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ую как компьютер, видеомагнитофон, большой телевизор, а также классную доск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ый вечер расскажите вашим посетителя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все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раздаточные материалы бесплатны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8ed5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бедитесь, что зал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будет открыт        для вас за час до начала первой встреч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828440" y="9144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вы проводите семинар в малой группе или встречаетесь на дому,             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ы можете сесть вокруг стола             или по кругу в комнате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рихода  гостей расставьте стол и стуль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последующих встречах вы можете раскладывать на столе </a:t>
            </a: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только следующий урок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52480" y="13716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вы ожидаете большое количество посетителей,                   то пригласите помощников, назначенных в вашей церкви.     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 первую встречу вам необходимо пригласить двух помощников на каждые 10-15 посетител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8 cover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228600" y="581040"/>
            <a:ext cx="868680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2f2f2"/>
                </a:solidFill>
                <a:latin typeface="Trajan Pro"/>
              </a:rPr>
              <a:t>ЕВАНГЕЛИЗМ </a:t>
            </a:r>
            <a:r>
              <a:rPr b="1" lang="ru-RU" sz="4000" spc="-1" strike="noStrike">
                <a:solidFill>
                  <a:srgbClr val="c00000"/>
                </a:solidFill>
                <a:latin typeface="Trajan Pro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762440" y="1959120"/>
            <a:ext cx="438156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  <a:ea typeface="Calibri"/>
              </a:rPr>
              <a:t>Глава 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  <a:ea typeface="Calibri"/>
              </a:rPr>
              <a:t>8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еминар </a:t>
            </a:r>
            <a:r>
              <a:rPr b="1" lang="en-US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  </a:t>
            </a:r>
            <a:r>
              <a:rPr b="1" lang="ru-RU" sz="4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как вид евангельск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5257800" y="5791320"/>
            <a:ext cx="403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877080" y="5410080"/>
            <a:ext cx="60948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828440" y="837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ручите одному помощнику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написать  на бейджиках имена ваших посетителей.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ый вечер после программы предлагай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ответить на вопросы вопросника и оставить конверты                с пожертвованиями на стол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се записи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айте своевременн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о прошествии нескольких встреч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вы можете открыть книжную лав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600200" y="685440"/>
            <a:ext cx="7238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 время первых встреч побуждайте людей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приглашать своих друзей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мните о том, что люди изучают урок         до прихода на вашу встречу, поэтому вам необходимо хорошо рассмотреть его            во время встреч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вы запланировали серию евангельских встреч и не закончили уроки, расскажите участникам об этом на первой встрече            </a:t>
            </a:r>
            <a:r>
              <a:rPr b="1" lang="ru-RU" sz="2700" spc="-1" strike="noStrike">
                <a:solidFill>
                  <a:srgbClr val="0070c0"/>
                </a:solidFill>
                <a:latin typeface="Calibri"/>
              </a:rPr>
              <a:t>и регулярно напоминайте о том, что ваши встречи лишь прелюдия к более детальному изучению, которое будет предложено позж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P:\DEPT\WM\_SHARED\2011 Adviosry Resources\Nurture-Empower-Outreach\EMPOWER\EVANGELISM MANUAL - EDITED\PP evangelism\Chapter 08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609480" y="2971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b0f0"/>
                </a:solidFill>
                <a:latin typeface="Calibri"/>
              </a:rPr>
              <a:t>Визуализация – ключ к успеху. 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По мере того, как ваши дружеские отношения будут укрепляться и у людей будет возможность открываться, вы можете поделиться евангельской вестью в более полном объеме.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(Для более подробного описания читайте главу 12</a:t>
            </a:r>
            <a:r>
              <a:rPr b="1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r>
              <a:rPr b="1" i="1" lang="ru-RU" sz="3300" spc="-1" strike="noStrike">
                <a:solidFill>
                  <a:srgbClr val="f2f2f2"/>
                </a:solidFill>
                <a:latin typeface="Calibri"/>
              </a:rPr>
              <a:t>«Посещения   и принятие решений»).</a:t>
            </a:r>
            <a:r>
              <a:rPr b="0" lang="ru-RU" sz="3300" spc="-1" strike="noStrike">
                <a:solidFill>
                  <a:srgbClr val="f2f2f2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25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520" y="2286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«Каждая община должна быть школой подготовки для христиан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ого члена церкви следует обучать проведению библейских занятий с другими людьми, проведению уроков субботней школы, а также как наилучшим образом помочь бедны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позаботиться о больных, как работа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необращенными. Необходимо организовывать школы здорового образа жизни, кулинарные школы, а также занят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 различным направлениям христианской благотворитель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8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8088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еобходимо, чтобы теоретическое обучение тесно переплеталось с реальной практической деятельностью под руководством опытных наставников. Пусть учителя покажут пример работы с людьми, а другие, присоединившись     к ним, учатся на их пример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Один практический пример гораздо более ценен, чем многие теоретические предписания»,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лужение исцеления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тр. 148,14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26665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еминар как вид евангельской работы представляет собой скорее методичное изложение темы, чем изучение Библии        или изучение в малых группах, но вместе           с тем, он не настолько строг по своей форме, как евангельская программа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Данный семинар предусматривает приглашение к диалогу       и участию, которые не может предложить обычная евангельская программ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8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800" spc="-1" strike="noStrike">
                <a:solidFill>
                  <a:srgbClr val="0070c0"/>
                </a:solidFill>
                <a:latin typeface="Bookman Old Style"/>
              </a:rPr>
              <a:t>КАК ВАМ ПОДГОТОВИТЬ СЕМИНАР</a:t>
            </a:r>
            <a:r>
              <a:rPr b="1" lang="en-US" sz="4800" spc="-1" strike="noStrike">
                <a:solidFill>
                  <a:srgbClr val="0070c0"/>
                </a:solidFill>
                <a:latin typeface="Bookman Old Style"/>
              </a:rPr>
              <a:t>? 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2120" y="2362320"/>
            <a:ext cx="7086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В основном подготовка к семинару напоминает подготовку к большой евангельской кампани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 лишь отличие – человек, который будет представлять тему, будет лектором или преподавателем, а не евангелистом или проповедни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4379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Совершая евангельскую работу, женщинам очень важно работать вместе.</a:t>
            </a: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аким образом, мы сможем поддерживать друг друга                и делиться своими идеями. Мы можем молиться вместе о наших гостях и также друг  о друге, объединяя нашу команду в Господе. </a:t>
            </a:r>
            <a:r>
              <a:rPr b="1" lang="ru-RU" sz="3000" spc="-1" strike="noStrike">
                <a:solidFill>
                  <a:srgbClr val="ff0000"/>
                </a:solidFill>
                <a:latin typeface="Calibri"/>
              </a:rPr>
              <a:t>Когда женщины соглашаются работать вместе во имя благой цели, благодаря Божьему руководству, они могут достичь таких успехов, о которые даже не представля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533520" y="2819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Евангельский семинар – улучшенный вид работы, когда посвященные женщины     из церкви могут стать друзьями тем,       кто его посещает.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е всего, если каждый вечер они будут приглашать           на семинар своих друзей, членов семьи      и соседе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8 text2.jpg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34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Bookman Old Style"/>
              </a:rPr>
              <a:t>КЛЮЧИ К УСПЕХ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733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же предложены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четыре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очень важных ключа для успеха любой евангельской инициатив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 особенно важные            для проведения семина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28:44Z</dcterms:created>
  <dc:creator/>
  <dc:description/>
  <dc:language>en-US</dc:language>
  <cp:lastModifiedBy/>
  <dcterms:modified xsi:type="dcterms:W3CDTF">2011-08-21T07:13:31Z</dcterms:modified>
  <cp:revision>0</cp:revision>
  <dc:subject/>
  <dc:title/>
</cp:coreProperties>
</file>