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3173-4D1B-411B-B8CE-67C4102C1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C3F4-BC3D-4D1A-A2A5-40806B485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F4E7-3975-41C1-924C-229C9C49E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29BB-A89D-4367-96CE-DC4EC2DA4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A9F0-2256-41B8-87B5-D61D543D4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3F47-0E48-4F3A-BC56-2C7DED410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4F1A-A96A-4FF8-A4AC-10D6A0FF2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E7A8-EFF4-4B69-9E6B-D9A3997DD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B49E-E202-4D76-94E9-9E122F680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A6C5-0B91-4F85-98F6-80021DBC2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772F-F2D5-4BF0-8714-2B0338D3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9E7B-4497-4E3B-AA6E-2B6D3B41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E4475-1E62-4CCE-8564-A905713367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1d7d2b"/>
                </a:solidFill>
                <a:latin typeface="Arial"/>
              </a:rPr>
              <a:t>ЖИРЫ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НЕНАСЫЩЕННЫЙ  ЖИР</a:t>
            </a:r>
            <a:r>
              <a:rPr b="1" lang="en-US" sz="44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насыщен  водород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 как  меньшее  1  двойную  связ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дкий  при  комнатной  t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ает  стенки  клеток  гибки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 повышает  холестери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ыточное  употребление  ведёт  к  рак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збытке  причиняет  слипание  эритроци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85800" y="29718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ненасыщенный  жи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ненасыщенный  жир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380520" y="60912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Виды  ненасыщенных  жиров</a:t>
            </a:r>
            <a:r>
              <a:rPr b="1" lang="en-US" sz="48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447920" y="1981080"/>
            <a:ext cx="804600" cy="8384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2133720" y="5105520"/>
            <a:ext cx="804600" cy="8380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990720" y="5181480"/>
            <a:ext cx="804600" cy="8384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3276720" y="5105520"/>
            <a:ext cx="804600" cy="8380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4343400" y="5105520"/>
            <a:ext cx="804960" cy="8380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6"/>
          <a:stretch/>
        </p:blipFill>
        <p:spPr>
          <a:xfrm>
            <a:off x="5410080" y="5105520"/>
            <a:ext cx="804960" cy="8380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7"/>
          <a:stretch/>
        </p:blipFill>
        <p:spPr>
          <a:xfrm>
            <a:off x="6400800" y="5105520"/>
            <a:ext cx="804960" cy="8380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8"/>
          <a:stretch/>
        </p:blipFill>
        <p:spPr>
          <a:xfrm>
            <a:off x="7391520" y="5105520"/>
            <a:ext cx="8046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Мононенасыщенный  жир</a:t>
            </a:r>
            <a:r>
              <a:rPr b="1" lang="en-US" sz="48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 одну  двойную  связ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ижает «плохой»  холестерин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НП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ает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хороший»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лестерин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ВП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ее  склонен  к  окислени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44956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и: оливковое  масло, рапсовое  масло, миндал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Полиненасыщенный  жир</a:t>
            </a:r>
            <a:r>
              <a:rPr b="1" lang="en-US" sz="54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е  одной  двойной  связ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ижает  ЛНП и ЛВ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ижает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ние  тромб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онен  к  окислени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457200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и: соевое  масло, кукурузное  масло, подсолнечное  масло, грецкие  орехи и др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Гидрогенизация</a:t>
            </a:r>
            <a:r>
              <a:rPr b="1" lang="en-US" sz="66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дрогенизация полиненасыщенных жиров производится путём добавления водорода к неустойчивым двойным связям. Благодаря этому эти жиры становятся менее подверженными окислению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Гидрогенизация</a:t>
            </a:r>
            <a:r>
              <a:rPr b="1" lang="en-US" sz="66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яют свойства полиненасыщенных жиров, становясь более густым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ают риск ССЗ и подозреваются в причастности к заболеванию раком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12952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ко гидрогенизированные жиры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ПИЩЕВАРЕНИЕ  ЖИРОВ</a:t>
            </a:r>
            <a:r>
              <a:rPr b="1" lang="en-US" sz="48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т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ъязычная  слюнная  железа  выделяет  фермент липазу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 взрослых  она  играет  небольшую  роль  в  пищеварении  жиров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638680" y="3749760"/>
            <a:ext cx="4038840" cy="26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ПИЩЕВАРЕНИЕ  ЖИРОВ</a:t>
            </a:r>
            <a:r>
              <a:rPr b="1" lang="en-US" sz="48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удок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Ж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удочная  липаза  расщепляет  небольшое  кол-во  жир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ры  покидают  желудок  очень  медленно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0 гр.  или  2 ч.л. в  час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253200" y="4419720"/>
            <a:ext cx="273852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943600" y="2144880"/>
            <a:ext cx="3809880" cy="38750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ПИЩЕВАРЕНИЕ  ЖИРО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624816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нкий  кишечник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желудочная и кишечная липаза завершают расщепление жиров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есь происходит всасывание моноглицеридов, глицерина и жирных кислот.60% жира всасывается в лимфатическую систему, замедляя его поступление в кров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d7d2b"/>
                </a:solidFill>
                <a:latin typeface="Times New Roman"/>
              </a:rPr>
              <a:t>РЕКОМЕНДУЕМЫЕ НОР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ше всего употреблять жиры в их природном состоянии, т.е. в орехах, семечках, семенах и плодах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-60 грамм орехов, семечек или 3-4 ст. л. растительного масла, плюс жиры, изначально находящихся в продуктах дают рекомендуемые 20-25% калорий из жиров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09120" y="18288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ры необходимы дл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ы стенок клето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ения энерг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воения жирорастворимых витамин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ляции и защи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ижения чувства насыщ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учшения вкуса пищ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вки незаменимых жирных кислот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Жиры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228600" y="233280"/>
          <a:ext cx="8686800" cy="662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33280"/>
                    <a:ext cx="8686800" cy="662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666720" y="228600"/>
          <a:ext cx="7810560" cy="640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6720" y="228600"/>
                    <a:ext cx="781056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620640" y="457200"/>
          <a:ext cx="7904160" cy="617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0640" y="457200"/>
                    <a:ext cx="790416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380880" y="533520"/>
          <a:ext cx="8458200" cy="60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533520"/>
                    <a:ext cx="8458200" cy="60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617400" y="128520"/>
          <a:ext cx="7909200" cy="665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128520"/>
                    <a:ext cx="7909200" cy="66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623880" y="685800"/>
          <a:ext cx="7896240" cy="56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880" y="685800"/>
                    <a:ext cx="789624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380880" y="3048120"/>
            <a:ext cx="3276720" cy="33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Толстый кишечник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Прямая кишк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Простат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Молочная желез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Матк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Яичник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Лёгкие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304920" y="324000"/>
          <a:ext cx="8610480" cy="767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24000"/>
                    <a:ext cx="8610480" cy="76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12193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Жиры  включают  в  себя</a:t>
            </a:r>
            <a:r>
              <a:rPr b="1" lang="en-US" sz="3600" spc="-1" strike="noStrike">
                <a:solidFill>
                  <a:srgbClr val="1d7d2b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21337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7d2b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триглицериды (жиры и масла)</a:t>
            </a:r>
            <a:r>
              <a:rPr b="1" lang="ru-RU" sz="32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29718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фосфолипиды</a:t>
            </a:r>
            <a:r>
              <a:rPr b="1" lang="ru-RU" sz="36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39625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стерины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Триглицериды</a:t>
            </a:r>
            <a:r>
              <a:rPr b="1" lang="en-US" sz="60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810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преобладают  как  в  пище так  и  в  теле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297180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не  могут  быть  растворены  в  воде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388620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могут  быть  растворены  в  других  жирах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47242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состоят  из  трёх  жирных  кислот, присоединённых  к молекуле глицерина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62120" y="1523880"/>
            <a:ext cx="1295280" cy="3886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1523880"/>
            <a:ext cx="28191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8120" y="2971800"/>
            <a:ext cx="28191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8120" y="4419720"/>
            <a:ext cx="28191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5238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Глицери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17524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Жирная кисло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32004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Жирная кисло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464832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Жирна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кисло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57400" y="198108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057400" y="342900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057400" y="487692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248520" y="3657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бывают  насыщенными  и  ненасыщенными</a:t>
            </a:r>
            <a:r>
              <a:rPr b="0" lang="en-US" sz="2400" spc="-1" strike="noStrike">
                <a:solidFill>
                  <a:srgbClr val="1d7d2b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324480" y="2514600"/>
            <a:ext cx="2438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Жирные  кислот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838080" y="30492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НАСЫЩЕННЫЙ   ЖИР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1371600"/>
            <a:ext cx="8153640" cy="77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   H   H   H   H   H   H   H   H   O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    I    I     I     I    I     I     I    I    II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- C - C - C - C - C - C - C - C - C - C - OH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    I    I     I     I    I     I     I    I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  H   H   H    H   H   H   H   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143000" y="121932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7d2b"/>
                </a:solidFill>
                <a:latin typeface="Times New Roman"/>
              </a:rPr>
              <a:t>В</a:t>
            </a:r>
            <a:r>
              <a:rPr b="1" lang="en-US" sz="28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  нём  преобладают  насыщенные  ж.к-ты</a:t>
            </a:r>
            <a:r>
              <a:rPr b="1" lang="en-US" sz="28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НАСЫЩЕННЫЙ   ЖИР</a:t>
            </a:r>
            <a:r>
              <a:rPr b="0" lang="en-US" sz="44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насыщен  водород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твёрдый  при  комнатной  t</a:t>
            </a:r>
            <a:r>
              <a:rPr b="1" lang="en-US" sz="3200" spc="-1" strike="noStrike" baseline="30000">
                <a:solidFill>
                  <a:srgbClr val="1d7d2b"/>
                </a:solidFill>
                <a:latin typeface="Times New Roman"/>
                <a:ea typeface="Times New Roman"/>
              </a:rPr>
              <a:t>0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делает  стенки  клеток  негибки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повышает  холестери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способствует  образованию  тромб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с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окращает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коронарные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сосуды  серд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НАСЫЩЕННЫЙ   ЖИ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ы  насыщенных  жиров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 животные  жиры, за  исключением  рыбьего  жира, - сливочное масло, свиной жир и т. д. Кокосовое  и  пальмовое  масло - исключения  в  растительном  мир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НЕНАСЫЩЕННЫЙ  ЖИР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213336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   H   H    H   H   H    H   H   H   O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    I     I     I     I     I     I     I    I    II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- C - C - C = C - C - C = C - C - C - C - OH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    I                 I                I    I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  H                H               H   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8T15:35:14Z</dcterms:created>
  <dc:creator>Our Home</dc:creator>
  <dc:description/>
  <dc:language>en-US</dc:language>
  <cp:lastModifiedBy>Черевичная Вера Петровна</cp:lastModifiedBy>
  <dcterms:modified xsi:type="dcterms:W3CDTF">2007-05-15T19:01:04Z</dcterms:modified>
  <cp:revision>19</cp:revision>
  <dc:subject/>
  <dc:title>ЖИРЫ</dc:title>
</cp:coreProperties>
</file>