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FF0-56CF-47F7-834B-85E1C3D8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23CB-E5B5-4376-AA53-08629F8B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FAF-8511-4EC1-8293-D5C21183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6366-8A78-49E6-AFFE-E059AA86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D4B9-4F00-4102-B084-E56F1439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09E8-0D78-4014-86D0-A9474F2F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80B4-597C-4C25-A757-B64EF356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F179-3F8C-4B26-BD06-BBD7C066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0514-7C3B-4BA1-83F4-822A259B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9C75-D4F3-4879-99DB-CF2DB7A1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FB59-AD69-48F8-98F4-83E2C155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5D3D-E5E8-4F66-A099-037A3FB8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E1C7-0BEF-4CB9-9BB5-CC83174A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876B-B355-4474-9221-81BF0EB5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E42F-2530-4797-A67C-D0F20BC6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6B09-6B3E-40AA-9DCC-D49E5FCC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722A-3A20-4FCA-8E52-9B77BADD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578E3-5EA9-4124-AA05-FFDD17B6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0487D-FE0C-4CA7-AF8D-B6CECCBB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67B48-6058-417F-ACCF-62D83F83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8FEF3-1EE3-47A7-8E2F-F0118247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81B40-E0B6-40E9-95FA-A9D8564A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E927-0210-440E-98F0-7A6E1C10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FD028-C66C-42BA-B81F-53F49EB1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2F398-67F5-4C6F-8F4D-D2D1CE8E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B3B89-51E0-47DC-B73D-DACE36B3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AB2DC-6855-4697-B654-9C80D778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61CCF-3FFE-4795-8533-CB1F0C3B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AF215-8F75-458B-8E44-4A7A16C7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C82EC-F58F-4A61-BA6C-432B6C9D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AF73-B8E2-424E-983D-0A5446A2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683B-009F-4044-BF4B-127DAD93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A6D-AE0F-4EE3-8EF8-1C266B6A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956-4175-4BD2-93BB-13C4DBBF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F6A-31B5-4E05-BACC-D75D5B7A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2262-484D-4BE5-B819-F21405C4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6C9E-91C7-4866-AE3E-CACE0FD7A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8339-E2AE-493E-AF63-57CFA052B3F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F9BE-8B9F-458F-B55B-6CA91B77055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258920" y="2349360"/>
            <a:ext cx="597708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харный дтабе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цион пита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употребления саха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большого количества углевод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изкое содержание белка в ди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кофе и кур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сырых продуктов, в особенности лука и чесно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то эндокринно-обменное заболевание в основе которого лежит абсолютная или относительная инсулиновая недостаточ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 вида диабе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ювенильный (юношеский)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озависимый – связан с поражением поджелудочной железы инфекци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взрослый диабет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независимый – у людей старше 40 лет. Обычно связан с избыточным весом и малоподвижным образом жизни. Доля - 85% всех больных диабет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чин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следственна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еполноценность островкового аппара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врежд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джелудочной железы опухолью, инфекционными заболеваниями (паротит, краснуха, грипп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овоцирующ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фактор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едание, злоупотребление сладостью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стрые и повторные стрессовые воздействия в виде нервных перенапряж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дипсия (неестественная жажд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ур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фагия (чрезмерный аппети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еря ве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достаток энерг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положенность к инфек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абость, снижение работоспособ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уд и сухость кож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таракты, риниты, гастриты с пониженной кислотностью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имптом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слож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ипогликемия – потоотделение, ком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теросклероз коронарных и периферических сосуд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тинопатия (поражение сетчатки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фропатия – почечная недостаточность (встречается у половины больных 1-ым типом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йропатия – дистальная, симметрична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рушение белкового, жирового, минерального и витаминного обме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иабет 2-го тип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Факторы риск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следственн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жир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л (женски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болевание поджелудочной желез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цион питания с преобладанием насыщенных жир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к контролировать сахар в кров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отрубей (в них содержится хром, который помогает входить сахару в клетку и усваиваться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ключение употребления жирного мяса и животных жиров(т.к. препятствуют работе рецепторов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 переедать, не перекусы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аться от обильного ужи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нтроль за вес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меренная физическая активнос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балансированный образ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собый уход за нижними конечностя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2:30:10Z</dcterms:created>
  <dc:creator>cb</dc:creator>
  <dc:description/>
  <dc:language>en-US</dc:language>
  <cp:lastModifiedBy>cb</cp:lastModifiedBy>
  <dcterms:modified xsi:type="dcterms:W3CDTF">2006-08-02T16:59:32Z</dcterms:modified>
  <cp:revision>7</cp:revision>
  <dc:subject/>
  <dc:title>Слайд 1</dc:title>
</cp:coreProperties>
</file>