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10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168E-5BB4-44FB-8610-A30A55E56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один день в неделю для восстановления сил и отдыха. Каждый год берите отпуск, чтобы по настоящему отдохну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из нас постоянно находятся в состоянии крайнего возбуждения. Большую ценность приобретает уже не сон, а то, что щекочат нервы. В таком состоянии люди скандалят, обзывают и унижают друг друга, ищут дорогостоящих развлечений. Для них главное – быть на пределе. К несчастью, последствия такого образа жизни бывают роков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C57-1577-46FE-BA06-995F8CFD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542-B286-4B40-8B97-67CFF6FC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843-5DFD-40F0-A872-89841E14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4DB-66D5-408C-BCE4-C11F8CC0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304B-F5C3-4366-817D-12869020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058F-73DB-4F70-BED9-DBC23A7B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CA5C-A0F9-46C8-A29B-88335971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4040-1702-42E9-9010-A8CD3D24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8343-C741-40B5-8BF1-E2D1611B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28D1-B7CD-47DD-A6C0-9A9D0897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EDE2-526C-4CFB-BECD-DFF3F725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E4C-B3CC-4B47-9C02-868BFEAC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AB91-0BB7-4E5B-9067-845072DB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5CFD-D151-40FF-B28B-55DBA12D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4884-5CFD-4661-BAAB-83F9AD14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3E11-1824-4408-8CF1-235FC133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7E64-F5B1-4532-BF1F-A853C9B4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FE9-6D9C-4673-90E6-6E9A9A46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60C-1E6A-4926-A9FF-FD1C0129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F5D-A3D7-4ECB-8D9C-5C8FFDBE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FD3-4BCD-497C-A21B-0C39EF91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93D-5758-4366-8B86-F4954BF9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E4A-1A5E-4561-9F94-E0593F8B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785-FE6E-48FA-97F2-F7CC7795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69B6-23BD-4C52-A82C-91E27E87A93B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53040" y="577836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1BEB-A1EE-4AF3-8E57-B0F1287EFD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lifesavers.org.uk/IMAGES/04-training-education/SAVE-A-BABYS-LIFE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CCE-1CC9-4324-9207-857AF45D4E38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3200400"/>
            <a:ext cx="426744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дневный отдых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0" y="5181480"/>
            <a:ext cx="21312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пуск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380880"/>
            <a:ext cx="3657600" cy="26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54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52400" y="4948200"/>
            <a:ext cx="4040640" cy="143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недельны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дых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A8F-6A76-4AF7-856B-0815B2DD64C2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3048120"/>
            <a:ext cx="8001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ше сердце сокращается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10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ы произносим тысячи сл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елаем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28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дохов-выдох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прягаем основные группы мышц сотни 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ми управляют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5-2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миллиардов клеток головного мозг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1447920"/>
            <a:ext cx="4114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ankGothic Md BT"/>
              </a:rPr>
              <a:t>Только за один день </a:t>
            </a:r>
            <a:r>
              <a:rPr b="1" lang="en-US" sz="4400" spc="-1" strike="noStrike">
                <a:solidFill>
                  <a:srgbClr val="ffff00"/>
                </a:solidFill>
                <a:latin typeface="BankGothic Md BT"/>
              </a:rPr>
              <a:t>. . 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2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380880"/>
            <a:ext cx="2361960" cy="18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2C0-A320-4D68-83C5-B21CAA56FA69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4572000" cy="510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Регулярный и полноценный сон </a:t>
            </a:r>
            <a:r>
              <a:rPr b="1" lang="ru-RU" sz="4400" spc="-1" strike="noStrike">
                <a:solidFill>
                  <a:srgbClr val="cc3300"/>
                </a:solidFill>
                <a:latin typeface="Arial Narrow"/>
              </a:rPr>
              <a:t>нужен нам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для ухода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  забот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 нашем организме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765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C4F-E9FA-4543-AF88-609229E6B82B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47560" y="426708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ля всех людей различн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ё нельзя связать ни с поло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умственным развитие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физическими затратами челове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66680" y="1828800"/>
            <a:ext cx="4043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53352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ебность в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943600" y="685800"/>
            <a:ext cx="257508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493-D723-4B7A-80B2-582BECBFD8A8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239220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047760" cy="201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533520"/>
            <a:ext cx="2590920" cy="201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914400" y="3429000"/>
            <a:ext cx="2206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3505320" y="2743200"/>
            <a:ext cx="20574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895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Маленькие   дети спят                     в среднем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          по 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часов           в день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715000" y="6400800"/>
            <a:ext cx="3429000" cy="457200"/>
            <a:chOff x="5715000" y="6400800"/>
            <a:chExt cx="3429000" cy="457200"/>
          </a:xfrm>
        </p:grpSpPr>
        <p:sp>
          <p:nvSpPr>
            <p:cNvPr id="288" name=""/>
            <p:cNvSpPr/>
            <p:nvPr/>
          </p:nvSpPr>
          <p:spPr>
            <a:xfrm>
              <a:off x="57150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6D11194-0FA7-46F8-8958-6A681364EB28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5887-ACEE-4712-B309-7B8EB45853F2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3702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43000" y="52578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-летние дети спят по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10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часов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312-A10F-49C4-87CE-84BB30475F9A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343400" y="16765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12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-летние спят уже только</a:t>
            </a: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9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часов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457200"/>
            <a:ext cx="330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FBD-4B7A-4DBE-898A-7E057E5D7042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0" t="0" r="0" b="12762"/>
          <a:stretch/>
        </p:blipFill>
        <p:spPr>
          <a:xfrm>
            <a:off x="1676520" y="609480"/>
            <a:ext cx="5486400" cy="4108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54100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Взрослые должны спать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по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7-8 </a:t>
            </a: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часов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15000" y="5300640"/>
          <a:ext cx="188460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5000" y="5300640"/>
                    <a:ext cx="1884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F43-A7B7-43EB-9B89-5DB15D8EF075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0" r="0" b="8008"/>
          <a:stretch/>
        </p:blipFill>
        <p:spPr>
          <a:xfrm>
            <a:off x="2286000" y="1295280"/>
            <a:ext cx="4191120" cy="3213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ernhardMod BT"/>
              </a:rPr>
              <a:t>Специалисты полагают…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91320" y="7315200"/>
            <a:ext cx="3352680" cy="457200"/>
            <a:chOff x="5791320" y="7315200"/>
            <a:chExt cx="3352680" cy="457200"/>
          </a:xfrm>
        </p:grpSpPr>
        <p:sp>
          <p:nvSpPr>
            <p:cNvPr id="301" name=""/>
            <p:cNvSpPr/>
            <p:nvPr/>
          </p:nvSpPr>
          <p:spPr>
            <a:xfrm>
              <a:off x="5791320" y="73152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7315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4AB2D18-99A0-4446-B7A0-72EF8B0C8663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…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то ваша потребность во сне удовлетворен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сли в течение дня вам не хочется спать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весь день вас не покидает чувство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одрости и благополучи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9B6-1163-493B-B7AC-37B71A69E2F9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ормоны, которые вырабатываются во время сна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8640" y="2895480"/>
            <a:ext cx="57150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кортизол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гормон рост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97180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2541-EDF9-43BB-A5CC-2E99C677AC5C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EDF-8749-4C41-A7A7-AC751B670001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350532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казывает влия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обмен веществ в организм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артериальное давлени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силу мышц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66680" y="1523880"/>
            <a:ext cx="30481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0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29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8A2-330E-4A5E-87E9-2DB7D0229A73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38080" y="38098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могает справиться со стрессом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Уменьшает воспалительные процессы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Наибольшее его количество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вырабатывается в период между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луночью и ранним утром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219320" y="1523880"/>
            <a:ext cx="3504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6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312408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24C-F6B3-40F3-AE3A-20B2E249F337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8080" y="2362320"/>
            <a:ext cx="83059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ырабатывается в период сна                                                  до полуноч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ажен для роста организм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собствует превращения серотонина в мелатонин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беспечивает длительную способность  человека                к качественному обучени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го снижение ослабляет иммунитет организм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19320" y="609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мон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211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78C-7E50-47EE-B293-E176656C83E6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Как улучшить качество сн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76520" y="1676520"/>
            <a:ext cx="5638320" cy="3961800"/>
            <a:chOff x="1676520" y="1676520"/>
            <a:chExt cx="5638320" cy="3961800"/>
          </a:xfrm>
        </p:grpSpPr>
        <p:sp>
          <p:nvSpPr>
            <p:cNvPr id="324" name=""/>
            <p:cNvSpPr/>
            <p:nvPr/>
          </p:nvSpPr>
          <p:spPr>
            <a:xfrm>
              <a:off x="6926040" y="4119480"/>
              <a:ext cx="194400" cy="85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676520" y="1676520"/>
              <a:ext cx="5638320" cy="3961800"/>
              <a:chOff x="1676520" y="1676520"/>
              <a:chExt cx="5638320" cy="3961800"/>
            </a:xfrm>
          </p:grpSpPr>
          <p:sp>
            <p:nvSpPr>
              <p:cNvPr id="326" name=""/>
              <p:cNvSpPr/>
              <p:nvPr/>
            </p:nvSpPr>
            <p:spPr>
              <a:xfrm rot="2890200">
                <a:off x="6395400" y="4672440"/>
                <a:ext cx="828000" cy="46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676520"/>
                <a:ext cx="5638320" cy="39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4DC-D782-49E8-9AE1-CC04C78F5370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еред сно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збегайте  возбуждающих телепрограмм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волнующих вас тем и споро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EFF-9F11-46DE-BD20-D2606F72CD16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609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219320" y="41911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гулярно занимайтес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урой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743-3F5F-44F5-9247-C8CA0DE4D040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51818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лный желудок меша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койному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следний прием пищ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лжен быть лёгк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аса до отхода ко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2900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ешьте на ноч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7937" t="9090" r="41272" b="6816"/>
          <a:stretch/>
        </p:blipFill>
        <p:spPr>
          <a:xfrm>
            <a:off x="5791320" y="167652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5971" t="19563" r="46269" b="6520"/>
          <a:stretch/>
        </p:blipFill>
        <p:spPr>
          <a:xfrm>
            <a:off x="3429000" y="4419720"/>
            <a:ext cx="2227320" cy="2073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3880" y="838080"/>
            <a:ext cx="98748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7C4-57FC-403B-83E2-C1476AE4AD2E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568680" cy="3581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181120" y="167616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ёплая,      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о не горячая ванна поможет расслабиться перед сном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FA0-8CC0-47F5-8E23-6DC83F84ABAC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потребления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алкогольных напитков, кофе, ч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прочих наркотических вещест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600" y="76212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бега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800600" y="762120"/>
            <a:ext cx="3429000" cy="3200400"/>
            <a:chOff x="4800600" y="762120"/>
            <a:chExt cx="3429000" cy="320040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4800600" y="762120"/>
              <a:ext cx="170964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3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6486480" y="762120"/>
              <a:ext cx="174312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4800600" y="2401560"/>
              <a:ext cx="1600200" cy="156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477120" y="2419560"/>
              <a:ext cx="1752480" cy="1542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2C6-BFD0-4468-98C8-9E417A9D2AEE}" type="slidenum">
              <a:t>28</a:t>
            </a:fld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7228" t="24104" r="48196" b="0"/>
          <a:stretch/>
        </p:blipFill>
        <p:spPr>
          <a:xfrm>
            <a:off x="5334120" y="2286000"/>
            <a:ext cx="3044880" cy="3886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19754" t="0" r="0" b="0"/>
          <a:stretch/>
        </p:blipFill>
        <p:spPr>
          <a:xfrm>
            <a:off x="1219320" y="129528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7BB-9DBA-4BEB-83DE-60C84A92FDC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32448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A48-E4F7-49CD-8753-7A9024D4BCD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добный вид отдыха обеспечивает умственно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эмоциональное восстановление организма, способствует  развитию творческих способностей человека и укрепляет отношения в семь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3AB-0479-4969-B127-31F961074C1D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28600" y="18288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 тогда ваша жизнь наполнится 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343400" y="426708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3D9-B036-4970-89B4-4B9C09B8C449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47C-66CD-431C-98E4-5E28B0841E9A}" type="slidenum">
              <a:t>32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овая спортивная машина достанется тому,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кто сможет  дольше продержаться без сна, положив руку на машину!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34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частника вступили в соревнование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ерез 24 часа люди начали выбывать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з соревнования с признаками                      недосыпания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-4549680" y="5145120"/>
            <a:ext cx="612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2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533760" y="3963960"/>
            <a:ext cx="32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013120" y="3446640"/>
            <a:ext cx="5040" cy="288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2"/>
                </a:lnTo>
                <a:lnTo>
                  <a:pt x="2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1280" y="4267080"/>
            <a:ext cx="4192560" cy="2057400"/>
            <a:chOff x="3581280" y="4267080"/>
            <a:chExt cx="4192560" cy="2057400"/>
          </a:xfrm>
        </p:grpSpPr>
        <p:sp>
          <p:nvSpPr>
            <p:cNvPr id="103" name=""/>
            <p:cNvSpPr/>
            <p:nvPr/>
          </p:nvSpPr>
          <p:spPr>
            <a:xfrm>
              <a:off x="3581280" y="4267080"/>
              <a:ext cx="4192560" cy="2057400"/>
            </a:xfrm>
            <a:custGeom>
              <a:avLst/>
              <a:gdLst/>
              <a:ahLst/>
              <a:rect l="l" t="t" r="r" b="b"/>
              <a:pathLst>
                <a:path w="5762" h="3070">
                  <a:moveTo>
                    <a:pt x="74" y="2105"/>
                  </a:moveTo>
                  <a:lnTo>
                    <a:pt x="141" y="2058"/>
                  </a:lnTo>
                  <a:lnTo>
                    <a:pt x="213" y="2020"/>
                  </a:lnTo>
                  <a:lnTo>
                    <a:pt x="287" y="1987"/>
                  </a:lnTo>
                  <a:lnTo>
                    <a:pt x="366" y="1961"/>
                  </a:lnTo>
                  <a:lnTo>
                    <a:pt x="446" y="1938"/>
                  </a:lnTo>
                  <a:lnTo>
                    <a:pt x="527" y="1921"/>
                  </a:lnTo>
                  <a:lnTo>
                    <a:pt x="611" y="1905"/>
                  </a:lnTo>
                  <a:lnTo>
                    <a:pt x="696" y="1894"/>
                  </a:lnTo>
                  <a:lnTo>
                    <a:pt x="729" y="1857"/>
                  </a:lnTo>
                  <a:lnTo>
                    <a:pt x="770" y="1828"/>
                  </a:lnTo>
                  <a:lnTo>
                    <a:pt x="814" y="1804"/>
                  </a:lnTo>
                  <a:lnTo>
                    <a:pt x="863" y="1789"/>
                  </a:lnTo>
                  <a:lnTo>
                    <a:pt x="909" y="1777"/>
                  </a:lnTo>
                  <a:lnTo>
                    <a:pt x="960" y="1775"/>
                  </a:lnTo>
                  <a:lnTo>
                    <a:pt x="1008" y="1781"/>
                  </a:lnTo>
                  <a:lnTo>
                    <a:pt x="1059" y="1795"/>
                  </a:lnTo>
                  <a:lnTo>
                    <a:pt x="1111" y="1816"/>
                  </a:lnTo>
                  <a:lnTo>
                    <a:pt x="1152" y="1801"/>
                  </a:lnTo>
                  <a:lnTo>
                    <a:pt x="1194" y="1785"/>
                  </a:lnTo>
                  <a:lnTo>
                    <a:pt x="1237" y="1766"/>
                  </a:lnTo>
                  <a:lnTo>
                    <a:pt x="1280" y="1748"/>
                  </a:lnTo>
                  <a:lnTo>
                    <a:pt x="1321" y="1727"/>
                  </a:lnTo>
                  <a:lnTo>
                    <a:pt x="1361" y="1708"/>
                  </a:lnTo>
                  <a:lnTo>
                    <a:pt x="1402" y="1688"/>
                  </a:lnTo>
                  <a:lnTo>
                    <a:pt x="1445" y="1671"/>
                  </a:lnTo>
                  <a:lnTo>
                    <a:pt x="1509" y="1649"/>
                  </a:lnTo>
                  <a:lnTo>
                    <a:pt x="1573" y="1628"/>
                  </a:lnTo>
                  <a:lnTo>
                    <a:pt x="1637" y="1605"/>
                  </a:lnTo>
                  <a:lnTo>
                    <a:pt x="1701" y="1583"/>
                  </a:lnTo>
                  <a:lnTo>
                    <a:pt x="1763" y="1560"/>
                  </a:lnTo>
                  <a:lnTo>
                    <a:pt x="1827" y="1541"/>
                  </a:lnTo>
                  <a:lnTo>
                    <a:pt x="1891" y="1519"/>
                  </a:lnTo>
                  <a:lnTo>
                    <a:pt x="1957" y="1504"/>
                  </a:lnTo>
                  <a:lnTo>
                    <a:pt x="1995" y="1488"/>
                  </a:lnTo>
                  <a:lnTo>
                    <a:pt x="2036" y="1475"/>
                  </a:lnTo>
                  <a:lnTo>
                    <a:pt x="2077" y="1463"/>
                  </a:lnTo>
                  <a:lnTo>
                    <a:pt x="2118" y="1452"/>
                  </a:lnTo>
                  <a:lnTo>
                    <a:pt x="2158" y="1440"/>
                  </a:lnTo>
                  <a:lnTo>
                    <a:pt x="2201" y="1428"/>
                  </a:lnTo>
                  <a:lnTo>
                    <a:pt x="2242" y="1419"/>
                  </a:lnTo>
                  <a:lnTo>
                    <a:pt x="2286" y="1413"/>
                  </a:lnTo>
                  <a:lnTo>
                    <a:pt x="2286" y="1411"/>
                  </a:lnTo>
                  <a:lnTo>
                    <a:pt x="2253" y="1407"/>
                  </a:lnTo>
                  <a:lnTo>
                    <a:pt x="2220" y="1405"/>
                  </a:lnTo>
                  <a:lnTo>
                    <a:pt x="2187" y="1401"/>
                  </a:lnTo>
                  <a:lnTo>
                    <a:pt x="2154" y="1397"/>
                  </a:lnTo>
                  <a:lnTo>
                    <a:pt x="2120" y="1392"/>
                  </a:lnTo>
                  <a:lnTo>
                    <a:pt x="2087" y="1386"/>
                  </a:lnTo>
                  <a:lnTo>
                    <a:pt x="2054" y="1380"/>
                  </a:lnTo>
                  <a:lnTo>
                    <a:pt x="2023" y="1376"/>
                  </a:lnTo>
                  <a:lnTo>
                    <a:pt x="2028" y="1359"/>
                  </a:lnTo>
                  <a:lnTo>
                    <a:pt x="2040" y="1343"/>
                  </a:lnTo>
                  <a:lnTo>
                    <a:pt x="2052" y="1328"/>
                  </a:lnTo>
                  <a:lnTo>
                    <a:pt x="2059" y="1310"/>
                  </a:lnTo>
                  <a:lnTo>
                    <a:pt x="2057" y="1304"/>
                  </a:lnTo>
                  <a:lnTo>
                    <a:pt x="2061" y="1300"/>
                  </a:lnTo>
                  <a:lnTo>
                    <a:pt x="2089" y="1322"/>
                  </a:lnTo>
                  <a:lnTo>
                    <a:pt x="2121" y="1335"/>
                  </a:lnTo>
                  <a:lnTo>
                    <a:pt x="2156" y="1343"/>
                  </a:lnTo>
                  <a:lnTo>
                    <a:pt x="2195" y="1349"/>
                  </a:lnTo>
                  <a:lnTo>
                    <a:pt x="2232" y="1349"/>
                  </a:lnTo>
                  <a:lnTo>
                    <a:pt x="2273" y="1349"/>
                  </a:lnTo>
                  <a:lnTo>
                    <a:pt x="2312" y="1351"/>
                  </a:lnTo>
                  <a:lnTo>
                    <a:pt x="2350" y="1359"/>
                  </a:lnTo>
                  <a:lnTo>
                    <a:pt x="2337" y="1343"/>
                  </a:lnTo>
                  <a:lnTo>
                    <a:pt x="2325" y="1328"/>
                  </a:lnTo>
                  <a:lnTo>
                    <a:pt x="2315" y="1312"/>
                  </a:lnTo>
                  <a:lnTo>
                    <a:pt x="2313" y="1297"/>
                  </a:lnTo>
                  <a:lnTo>
                    <a:pt x="2308" y="1279"/>
                  </a:lnTo>
                  <a:lnTo>
                    <a:pt x="2308" y="1262"/>
                  </a:lnTo>
                  <a:lnTo>
                    <a:pt x="2306" y="1244"/>
                  </a:lnTo>
                  <a:lnTo>
                    <a:pt x="2310" y="1227"/>
                  </a:lnTo>
                  <a:lnTo>
                    <a:pt x="2312" y="1207"/>
                  </a:lnTo>
                  <a:lnTo>
                    <a:pt x="2319" y="1190"/>
                  </a:lnTo>
                  <a:lnTo>
                    <a:pt x="2327" y="1172"/>
                  </a:lnTo>
                  <a:lnTo>
                    <a:pt x="2341" y="1159"/>
                  </a:lnTo>
                  <a:lnTo>
                    <a:pt x="2350" y="1145"/>
                  </a:lnTo>
                  <a:lnTo>
                    <a:pt x="2362" y="1134"/>
                  </a:lnTo>
                  <a:lnTo>
                    <a:pt x="2374" y="1120"/>
                  </a:lnTo>
                  <a:lnTo>
                    <a:pt x="2385" y="1108"/>
                  </a:lnTo>
                  <a:lnTo>
                    <a:pt x="2397" y="1097"/>
                  </a:lnTo>
                  <a:lnTo>
                    <a:pt x="2412" y="1091"/>
                  </a:lnTo>
                  <a:lnTo>
                    <a:pt x="2430" y="1089"/>
                  </a:lnTo>
                  <a:lnTo>
                    <a:pt x="2449" y="1093"/>
                  </a:lnTo>
                  <a:lnTo>
                    <a:pt x="2455" y="1077"/>
                  </a:lnTo>
                  <a:lnTo>
                    <a:pt x="2459" y="1062"/>
                  </a:lnTo>
                  <a:lnTo>
                    <a:pt x="2461" y="1044"/>
                  </a:lnTo>
                  <a:lnTo>
                    <a:pt x="2474" y="1033"/>
                  </a:lnTo>
                  <a:lnTo>
                    <a:pt x="2492" y="1027"/>
                  </a:lnTo>
                  <a:lnTo>
                    <a:pt x="2511" y="1025"/>
                  </a:lnTo>
                  <a:lnTo>
                    <a:pt x="2529" y="1021"/>
                  </a:lnTo>
                  <a:lnTo>
                    <a:pt x="2546" y="1012"/>
                  </a:lnTo>
                  <a:lnTo>
                    <a:pt x="2564" y="1010"/>
                  </a:lnTo>
                  <a:lnTo>
                    <a:pt x="2581" y="1013"/>
                  </a:lnTo>
                  <a:lnTo>
                    <a:pt x="2595" y="1017"/>
                  </a:lnTo>
                  <a:lnTo>
                    <a:pt x="2610" y="1029"/>
                  </a:lnTo>
                  <a:lnTo>
                    <a:pt x="2622" y="1041"/>
                  </a:lnTo>
                  <a:lnTo>
                    <a:pt x="2635" y="1054"/>
                  </a:lnTo>
                  <a:lnTo>
                    <a:pt x="2647" y="1068"/>
                  </a:lnTo>
                  <a:lnTo>
                    <a:pt x="2661" y="1083"/>
                  </a:lnTo>
                  <a:lnTo>
                    <a:pt x="2665" y="1074"/>
                  </a:lnTo>
                  <a:lnTo>
                    <a:pt x="2666" y="1060"/>
                  </a:lnTo>
                  <a:lnTo>
                    <a:pt x="2668" y="1046"/>
                  </a:lnTo>
                  <a:lnTo>
                    <a:pt x="2678" y="1039"/>
                  </a:lnTo>
                  <a:lnTo>
                    <a:pt x="2694" y="1035"/>
                  </a:lnTo>
                  <a:lnTo>
                    <a:pt x="2709" y="1033"/>
                  </a:lnTo>
                  <a:lnTo>
                    <a:pt x="2725" y="1027"/>
                  </a:lnTo>
                  <a:lnTo>
                    <a:pt x="2740" y="1021"/>
                  </a:lnTo>
                  <a:lnTo>
                    <a:pt x="2754" y="1015"/>
                  </a:lnTo>
                  <a:lnTo>
                    <a:pt x="2769" y="1012"/>
                  </a:lnTo>
                  <a:lnTo>
                    <a:pt x="2785" y="1010"/>
                  </a:lnTo>
                  <a:lnTo>
                    <a:pt x="2804" y="1013"/>
                  </a:lnTo>
                  <a:lnTo>
                    <a:pt x="2820" y="1023"/>
                  </a:lnTo>
                  <a:lnTo>
                    <a:pt x="2831" y="1039"/>
                  </a:lnTo>
                  <a:lnTo>
                    <a:pt x="2839" y="1054"/>
                  </a:lnTo>
                  <a:lnTo>
                    <a:pt x="2847" y="1074"/>
                  </a:lnTo>
                  <a:lnTo>
                    <a:pt x="2857" y="1068"/>
                  </a:lnTo>
                  <a:lnTo>
                    <a:pt x="2866" y="1064"/>
                  </a:lnTo>
                  <a:lnTo>
                    <a:pt x="2878" y="1058"/>
                  </a:lnTo>
                  <a:lnTo>
                    <a:pt x="2889" y="1056"/>
                  </a:lnTo>
                  <a:lnTo>
                    <a:pt x="2901" y="1050"/>
                  </a:lnTo>
                  <a:lnTo>
                    <a:pt x="2913" y="1050"/>
                  </a:lnTo>
                  <a:lnTo>
                    <a:pt x="2924" y="1052"/>
                  </a:lnTo>
                  <a:lnTo>
                    <a:pt x="2938" y="1058"/>
                  </a:lnTo>
                  <a:lnTo>
                    <a:pt x="2950" y="1070"/>
                  </a:lnTo>
                  <a:lnTo>
                    <a:pt x="2961" y="1081"/>
                  </a:lnTo>
                  <a:lnTo>
                    <a:pt x="2969" y="1095"/>
                  </a:lnTo>
                  <a:lnTo>
                    <a:pt x="2973" y="1112"/>
                  </a:lnTo>
                  <a:lnTo>
                    <a:pt x="2985" y="1107"/>
                  </a:lnTo>
                  <a:lnTo>
                    <a:pt x="2998" y="1103"/>
                  </a:lnTo>
                  <a:lnTo>
                    <a:pt x="3012" y="1099"/>
                  </a:lnTo>
                  <a:lnTo>
                    <a:pt x="3027" y="1097"/>
                  </a:lnTo>
                  <a:lnTo>
                    <a:pt x="3041" y="1093"/>
                  </a:lnTo>
                  <a:lnTo>
                    <a:pt x="3056" y="1093"/>
                  </a:lnTo>
                  <a:lnTo>
                    <a:pt x="3070" y="1093"/>
                  </a:lnTo>
                  <a:lnTo>
                    <a:pt x="3087" y="1099"/>
                  </a:lnTo>
                  <a:lnTo>
                    <a:pt x="3113" y="1060"/>
                  </a:lnTo>
                  <a:lnTo>
                    <a:pt x="3140" y="1025"/>
                  </a:lnTo>
                  <a:lnTo>
                    <a:pt x="3167" y="986"/>
                  </a:lnTo>
                  <a:lnTo>
                    <a:pt x="3196" y="951"/>
                  </a:lnTo>
                  <a:lnTo>
                    <a:pt x="3223" y="913"/>
                  </a:lnTo>
                  <a:lnTo>
                    <a:pt x="3250" y="876"/>
                  </a:lnTo>
                  <a:lnTo>
                    <a:pt x="3279" y="839"/>
                  </a:lnTo>
                  <a:lnTo>
                    <a:pt x="3308" y="804"/>
                  </a:lnTo>
                  <a:lnTo>
                    <a:pt x="3332" y="769"/>
                  </a:lnTo>
                  <a:lnTo>
                    <a:pt x="3355" y="734"/>
                  </a:lnTo>
                  <a:lnTo>
                    <a:pt x="3380" y="699"/>
                  </a:lnTo>
                  <a:lnTo>
                    <a:pt x="3405" y="666"/>
                  </a:lnTo>
                  <a:lnTo>
                    <a:pt x="3429" y="632"/>
                  </a:lnTo>
                  <a:lnTo>
                    <a:pt x="3452" y="599"/>
                  </a:lnTo>
                  <a:lnTo>
                    <a:pt x="3475" y="564"/>
                  </a:lnTo>
                  <a:lnTo>
                    <a:pt x="3500" y="533"/>
                  </a:lnTo>
                  <a:lnTo>
                    <a:pt x="3512" y="527"/>
                  </a:lnTo>
                  <a:lnTo>
                    <a:pt x="3522" y="535"/>
                  </a:lnTo>
                  <a:lnTo>
                    <a:pt x="3528" y="542"/>
                  </a:lnTo>
                  <a:lnTo>
                    <a:pt x="3539" y="548"/>
                  </a:lnTo>
                  <a:lnTo>
                    <a:pt x="3559" y="560"/>
                  </a:lnTo>
                  <a:lnTo>
                    <a:pt x="3580" y="575"/>
                  </a:lnTo>
                  <a:lnTo>
                    <a:pt x="3599" y="591"/>
                  </a:lnTo>
                  <a:lnTo>
                    <a:pt x="3621" y="608"/>
                  </a:lnTo>
                  <a:lnTo>
                    <a:pt x="3638" y="626"/>
                  </a:lnTo>
                  <a:lnTo>
                    <a:pt x="3657" y="643"/>
                  </a:lnTo>
                  <a:lnTo>
                    <a:pt x="3675" y="661"/>
                  </a:lnTo>
                  <a:lnTo>
                    <a:pt x="3696" y="680"/>
                  </a:lnTo>
                  <a:lnTo>
                    <a:pt x="3720" y="699"/>
                  </a:lnTo>
                  <a:lnTo>
                    <a:pt x="3747" y="721"/>
                  </a:lnTo>
                  <a:lnTo>
                    <a:pt x="3770" y="740"/>
                  </a:lnTo>
                  <a:lnTo>
                    <a:pt x="3797" y="761"/>
                  </a:lnTo>
                  <a:lnTo>
                    <a:pt x="3822" y="781"/>
                  </a:lnTo>
                  <a:lnTo>
                    <a:pt x="3848" y="804"/>
                  </a:lnTo>
                  <a:lnTo>
                    <a:pt x="3871" y="825"/>
                  </a:lnTo>
                  <a:lnTo>
                    <a:pt x="3894" y="849"/>
                  </a:lnTo>
                  <a:lnTo>
                    <a:pt x="3890" y="856"/>
                  </a:lnTo>
                  <a:lnTo>
                    <a:pt x="3881" y="862"/>
                  </a:lnTo>
                  <a:lnTo>
                    <a:pt x="3873" y="868"/>
                  </a:lnTo>
                  <a:lnTo>
                    <a:pt x="3873" y="878"/>
                  </a:lnTo>
                  <a:lnTo>
                    <a:pt x="3851" y="891"/>
                  </a:lnTo>
                  <a:lnTo>
                    <a:pt x="3836" y="909"/>
                  </a:lnTo>
                  <a:lnTo>
                    <a:pt x="3818" y="926"/>
                  </a:lnTo>
                  <a:lnTo>
                    <a:pt x="3805" y="946"/>
                  </a:lnTo>
                  <a:lnTo>
                    <a:pt x="3787" y="963"/>
                  </a:lnTo>
                  <a:lnTo>
                    <a:pt x="3772" y="982"/>
                  </a:lnTo>
                  <a:lnTo>
                    <a:pt x="3754" y="1000"/>
                  </a:lnTo>
                  <a:lnTo>
                    <a:pt x="3739" y="1017"/>
                  </a:lnTo>
                  <a:lnTo>
                    <a:pt x="3714" y="1041"/>
                  </a:lnTo>
                  <a:lnTo>
                    <a:pt x="3690" y="1068"/>
                  </a:lnTo>
                  <a:lnTo>
                    <a:pt x="3663" y="1097"/>
                  </a:lnTo>
                  <a:lnTo>
                    <a:pt x="3638" y="1126"/>
                  </a:lnTo>
                  <a:lnTo>
                    <a:pt x="3611" y="1153"/>
                  </a:lnTo>
                  <a:lnTo>
                    <a:pt x="3586" y="1182"/>
                  </a:lnTo>
                  <a:lnTo>
                    <a:pt x="3561" y="1211"/>
                  </a:lnTo>
                  <a:lnTo>
                    <a:pt x="3537" y="1240"/>
                  </a:lnTo>
                  <a:lnTo>
                    <a:pt x="3528" y="1248"/>
                  </a:lnTo>
                  <a:lnTo>
                    <a:pt x="3516" y="1258"/>
                  </a:lnTo>
                  <a:lnTo>
                    <a:pt x="3533" y="1262"/>
                  </a:lnTo>
                  <a:lnTo>
                    <a:pt x="3551" y="1265"/>
                  </a:lnTo>
                  <a:lnTo>
                    <a:pt x="3568" y="1271"/>
                  </a:lnTo>
                  <a:lnTo>
                    <a:pt x="3586" y="1283"/>
                  </a:lnTo>
                  <a:lnTo>
                    <a:pt x="3595" y="1283"/>
                  </a:lnTo>
                  <a:lnTo>
                    <a:pt x="3607" y="1285"/>
                  </a:lnTo>
                  <a:lnTo>
                    <a:pt x="3619" y="1287"/>
                  </a:lnTo>
                  <a:lnTo>
                    <a:pt x="3632" y="1291"/>
                  </a:lnTo>
                  <a:lnTo>
                    <a:pt x="3642" y="1291"/>
                  </a:lnTo>
                  <a:lnTo>
                    <a:pt x="3654" y="1295"/>
                  </a:lnTo>
                  <a:lnTo>
                    <a:pt x="3663" y="1297"/>
                  </a:lnTo>
                  <a:lnTo>
                    <a:pt x="3675" y="1300"/>
                  </a:lnTo>
                  <a:lnTo>
                    <a:pt x="3690" y="1291"/>
                  </a:lnTo>
                  <a:lnTo>
                    <a:pt x="3706" y="1281"/>
                  </a:lnTo>
                  <a:lnTo>
                    <a:pt x="3716" y="1267"/>
                  </a:lnTo>
                  <a:lnTo>
                    <a:pt x="3725" y="1254"/>
                  </a:lnTo>
                  <a:lnTo>
                    <a:pt x="3731" y="1236"/>
                  </a:lnTo>
                  <a:lnTo>
                    <a:pt x="3739" y="1221"/>
                  </a:lnTo>
                  <a:lnTo>
                    <a:pt x="3743" y="1203"/>
                  </a:lnTo>
                  <a:lnTo>
                    <a:pt x="3749" y="1186"/>
                  </a:lnTo>
                  <a:lnTo>
                    <a:pt x="3762" y="1188"/>
                  </a:lnTo>
                  <a:lnTo>
                    <a:pt x="3774" y="1202"/>
                  </a:lnTo>
                  <a:lnTo>
                    <a:pt x="3780" y="1207"/>
                  </a:lnTo>
                  <a:lnTo>
                    <a:pt x="3785" y="1213"/>
                  </a:lnTo>
                  <a:lnTo>
                    <a:pt x="3793" y="1217"/>
                  </a:lnTo>
                  <a:lnTo>
                    <a:pt x="3805" y="1219"/>
                  </a:lnTo>
                  <a:lnTo>
                    <a:pt x="3815" y="1219"/>
                  </a:lnTo>
                  <a:lnTo>
                    <a:pt x="3820" y="1229"/>
                  </a:lnTo>
                  <a:lnTo>
                    <a:pt x="3809" y="1236"/>
                  </a:lnTo>
                  <a:lnTo>
                    <a:pt x="3803" y="1246"/>
                  </a:lnTo>
                  <a:lnTo>
                    <a:pt x="3797" y="1258"/>
                  </a:lnTo>
                  <a:lnTo>
                    <a:pt x="3791" y="1269"/>
                  </a:lnTo>
                  <a:lnTo>
                    <a:pt x="3784" y="1279"/>
                  </a:lnTo>
                  <a:lnTo>
                    <a:pt x="3778" y="1289"/>
                  </a:lnTo>
                  <a:lnTo>
                    <a:pt x="3770" y="1297"/>
                  </a:lnTo>
                  <a:lnTo>
                    <a:pt x="3760" y="1304"/>
                  </a:lnTo>
                  <a:lnTo>
                    <a:pt x="3813" y="1298"/>
                  </a:lnTo>
                  <a:lnTo>
                    <a:pt x="3869" y="1293"/>
                  </a:lnTo>
                  <a:lnTo>
                    <a:pt x="3923" y="1287"/>
                  </a:lnTo>
                  <a:lnTo>
                    <a:pt x="3981" y="1283"/>
                  </a:lnTo>
                  <a:lnTo>
                    <a:pt x="4038" y="1277"/>
                  </a:lnTo>
                  <a:lnTo>
                    <a:pt x="4094" y="1277"/>
                  </a:lnTo>
                  <a:lnTo>
                    <a:pt x="4150" y="1279"/>
                  </a:lnTo>
                  <a:lnTo>
                    <a:pt x="4206" y="1285"/>
                  </a:lnTo>
                  <a:lnTo>
                    <a:pt x="4241" y="1283"/>
                  </a:lnTo>
                  <a:lnTo>
                    <a:pt x="4237" y="1271"/>
                  </a:lnTo>
                  <a:lnTo>
                    <a:pt x="4233" y="1265"/>
                  </a:lnTo>
                  <a:lnTo>
                    <a:pt x="4228" y="1258"/>
                  </a:lnTo>
                  <a:lnTo>
                    <a:pt x="4228" y="1252"/>
                  </a:lnTo>
                  <a:lnTo>
                    <a:pt x="4222" y="1240"/>
                  </a:lnTo>
                  <a:lnTo>
                    <a:pt x="4218" y="1229"/>
                  </a:lnTo>
                  <a:lnTo>
                    <a:pt x="4214" y="1215"/>
                  </a:lnTo>
                  <a:lnTo>
                    <a:pt x="4214" y="1202"/>
                  </a:lnTo>
                  <a:lnTo>
                    <a:pt x="4212" y="1186"/>
                  </a:lnTo>
                  <a:lnTo>
                    <a:pt x="4210" y="1174"/>
                  </a:lnTo>
                  <a:lnTo>
                    <a:pt x="4210" y="1161"/>
                  </a:lnTo>
                  <a:lnTo>
                    <a:pt x="4210" y="1149"/>
                  </a:lnTo>
                  <a:lnTo>
                    <a:pt x="4206" y="1114"/>
                  </a:lnTo>
                  <a:lnTo>
                    <a:pt x="4210" y="1081"/>
                  </a:lnTo>
                  <a:lnTo>
                    <a:pt x="4216" y="1048"/>
                  </a:lnTo>
                  <a:lnTo>
                    <a:pt x="4228" y="1019"/>
                  </a:lnTo>
                  <a:lnTo>
                    <a:pt x="4241" y="990"/>
                  </a:lnTo>
                  <a:lnTo>
                    <a:pt x="4259" y="963"/>
                  </a:lnTo>
                  <a:lnTo>
                    <a:pt x="4280" y="938"/>
                  </a:lnTo>
                  <a:lnTo>
                    <a:pt x="4303" y="918"/>
                  </a:lnTo>
                  <a:lnTo>
                    <a:pt x="4299" y="895"/>
                  </a:lnTo>
                  <a:lnTo>
                    <a:pt x="4299" y="874"/>
                  </a:lnTo>
                  <a:lnTo>
                    <a:pt x="4299" y="853"/>
                  </a:lnTo>
                  <a:lnTo>
                    <a:pt x="4305" y="831"/>
                  </a:lnTo>
                  <a:lnTo>
                    <a:pt x="4311" y="810"/>
                  </a:lnTo>
                  <a:lnTo>
                    <a:pt x="4323" y="792"/>
                  </a:lnTo>
                  <a:lnTo>
                    <a:pt x="4336" y="775"/>
                  </a:lnTo>
                  <a:lnTo>
                    <a:pt x="4356" y="763"/>
                  </a:lnTo>
                  <a:lnTo>
                    <a:pt x="4365" y="758"/>
                  </a:lnTo>
                  <a:lnTo>
                    <a:pt x="4377" y="756"/>
                  </a:lnTo>
                  <a:lnTo>
                    <a:pt x="4387" y="754"/>
                  </a:lnTo>
                  <a:lnTo>
                    <a:pt x="4398" y="754"/>
                  </a:lnTo>
                  <a:lnTo>
                    <a:pt x="4408" y="750"/>
                  </a:lnTo>
                  <a:lnTo>
                    <a:pt x="4420" y="748"/>
                  </a:lnTo>
                  <a:lnTo>
                    <a:pt x="4429" y="746"/>
                  </a:lnTo>
                  <a:lnTo>
                    <a:pt x="4441" y="744"/>
                  </a:lnTo>
                  <a:lnTo>
                    <a:pt x="4447" y="746"/>
                  </a:lnTo>
                  <a:lnTo>
                    <a:pt x="4455" y="742"/>
                  </a:lnTo>
                  <a:lnTo>
                    <a:pt x="4460" y="738"/>
                  </a:lnTo>
                  <a:lnTo>
                    <a:pt x="4468" y="736"/>
                  </a:lnTo>
                  <a:lnTo>
                    <a:pt x="4474" y="721"/>
                  </a:lnTo>
                  <a:lnTo>
                    <a:pt x="4486" y="713"/>
                  </a:lnTo>
                  <a:lnTo>
                    <a:pt x="4497" y="705"/>
                  </a:lnTo>
                  <a:lnTo>
                    <a:pt x="4511" y="697"/>
                  </a:lnTo>
                  <a:lnTo>
                    <a:pt x="4555" y="694"/>
                  </a:lnTo>
                  <a:lnTo>
                    <a:pt x="4548" y="686"/>
                  </a:lnTo>
                  <a:lnTo>
                    <a:pt x="4536" y="684"/>
                  </a:lnTo>
                  <a:lnTo>
                    <a:pt x="4520" y="682"/>
                  </a:lnTo>
                  <a:lnTo>
                    <a:pt x="4509" y="680"/>
                  </a:lnTo>
                  <a:lnTo>
                    <a:pt x="4497" y="670"/>
                  </a:lnTo>
                  <a:lnTo>
                    <a:pt x="4486" y="661"/>
                  </a:lnTo>
                  <a:lnTo>
                    <a:pt x="4476" y="651"/>
                  </a:lnTo>
                  <a:lnTo>
                    <a:pt x="4470" y="643"/>
                  </a:lnTo>
                  <a:lnTo>
                    <a:pt x="4460" y="632"/>
                  </a:lnTo>
                  <a:lnTo>
                    <a:pt x="4455" y="620"/>
                  </a:lnTo>
                  <a:lnTo>
                    <a:pt x="4449" y="608"/>
                  </a:lnTo>
                  <a:lnTo>
                    <a:pt x="4447" y="597"/>
                  </a:lnTo>
                  <a:lnTo>
                    <a:pt x="4447" y="579"/>
                  </a:lnTo>
                  <a:lnTo>
                    <a:pt x="4449" y="562"/>
                  </a:lnTo>
                  <a:lnTo>
                    <a:pt x="4449" y="544"/>
                  </a:lnTo>
                  <a:lnTo>
                    <a:pt x="4456" y="529"/>
                  </a:lnTo>
                  <a:lnTo>
                    <a:pt x="4449" y="506"/>
                  </a:lnTo>
                  <a:lnTo>
                    <a:pt x="4443" y="482"/>
                  </a:lnTo>
                  <a:lnTo>
                    <a:pt x="4435" y="459"/>
                  </a:lnTo>
                  <a:lnTo>
                    <a:pt x="4431" y="438"/>
                  </a:lnTo>
                  <a:lnTo>
                    <a:pt x="4427" y="414"/>
                  </a:lnTo>
                  <a:lnTo>
                    <a:pt x="4429" y="393"/>
                  </a:lnTo>
                  <a:lnTo>
                    <a:pt x="4435" y="370"/>
                  </a:lnTo>
                  <a:lnTo>
                    <a:pt x="4447" y="348"/>
                  </a:lnTo>
                  <a:lnTo>
                    <a:pt x="4456" y="331"/>
                  </a:lnTo>
                  <a:lnTo>
                    <a:pt x="4466" y="317"/>
                  </a:lnTo>
                  <a:lnTo>
                    <a:pt x="4476" y="304"/>
                  </a:lnTo>
                  <a:lnTo>
                    <a:pt x="4489" y="292"/>
                  </a:lnTo>
                  <a:lnTo>
                    <a:pt x="4495" y="257"/>
                  </a:lnTo>
                  <a:lnTo>
                    <a:pt x="4497" y="222"/>
                  </a:lnTo>
                  <a:lnTo>
                    <a:pt x="4499" y="186"/>
                  </a:lnTo>
                  <a:lnTo>
                    <a:pt x="4505" y="153"/>
                  </a:lnTo>
                  <a:lnTo>
                    <a:pt x="4513" y="118"/>
                  </a:lnTo>
                  <a:lnTo>
                    <a:pt x="4526" y="91"/>
                  </a:lnTo>
                  <a:lnTo>
                    <a:pt x="4550" y="67"/>
                  </a:lnTo>
                  <a:lnTo>
                    <a:pt x="4584" y="52"/>
                  </a:lnTo>
                  <a:lnTo>
                    <a:pt x="4588" y="38"/>
                  </a:lnTo>
                  <a:lnTo>
                    <a:pt x="4596" y="29"/>
                  </a:lnTo>
                  <a:lnTo>
                    <a:pt x="4606" y="21"/>
                  </a:lnTo>
                  <a:lnTo>
                    <a:pt x="4617" y="17"/>
                  </a:lnTo>
                  <a:lnTo>
                    <a:pt x="4629" y="11"/>
                  </a:lnTo>
                  <a:lnTo>
                    <a:pt x="4641" y="9"/>
                  </a:lnTo>
                  <a:lnTo>
                    <a:pt x="4652" y="5"/>
                  </a:lnTo>
                  <a:lnTo>
                    <a:pt x="4666" y="1"/>
                  </a:lnTo>
                  <a:lnTo>
                    <a:pt x="4699" y="0"/>
                  </a:lnTo>
                  <a:lnTo>
                    <a:pt x="4734" y="5"/>
                  </a:lnTo>
                  <a:lnTo>
                    <a:pt x="4763" y="17"/>
                  </a:lnTo>
                  <a:lnTo>
                    <a:pt x="4794" y="34"/>
                  </a:lnTo>
                  <a:lnTo>
                    <a:pt x="4819" y="54"/>
                  </a:lnTo>
                  <a:lnTo>
                    <a:pt x="4844" y="79"/>
                  </a:lnTo>
                  <a:lnTo>
                    <a:pt x="4866" y="104"/>
                  </a:lnTo>
                  <a:lnTo>
                    <a:pt x="4885" y="131"/>
                  </a:lnTo>
                  <a:lnTo>
                    <a:pt x="4895" y="158"/>
                  </a:lnTo>
                  <a:lnTo>
                    <a:pt x="4904" y="188"/>
                  </a:lnTo>
                  <a:lnTo>
                    <a:pt x="4908" y="219"/>
                  </a:lnTo>
                  <a:lnTo>
                    <a:pt x="4910" y="250"/>
                  </a:lnTo>
                  <a:lnTo>
                    <a:pt x="4906" y="279"/>
                  </a:lnTo>
                  <a:lnTo>
                    <a:pt x="4901" y="310"/>
                  </a:lnTo>
                  <a:lnTo>
                    <a:pt x="4889" y="339"/>
                  </a:lnTo>
                  <a:lnTo>
                    <a:pt x="4873" y="370"/>
                  </a:lnTo>
                  <a:lnTo>
                    <a:pt x="4872" y="383"/>
                  </a:lnTo>
                  <a:lnTo>
                    <a:pt x="4866" y="397"/>
                  </a:lnTo>
                  <a:lnTo>
                    <a:pt x="4856" y="409"/>
                  </a:lnTo>
                  <a:lnTo>
                    <a:pt x="4846" y="420"/>
                  </a:lnTo>
                  <a:lnTo>
                    <a:pt x="4835" y="422"/>
                  </a:lnTo>
                  <a:lnTo>
                    <a:pt x="4823" y="424"/>
                  </a:lnTo>
                  <a:lnTo>
                    <a:pt x="4809" y="426"/>
                  </a:lnTo>
                  <a:lnTo>
                    <a:pt x="4800" y="432"/>
                  </a:lnTo>
                  <a:lnTo>
                    <a:pt x="4808" y="447"/>
                  </a:lnTo>
                  <a:lnTo>
                    <a:pt x="4813" y="463"/>
                  </a:lnTo>
                  <a:lnTo>
                    <a:pt x="4815" y="480"/>
                  </a:lnTo>
                  <a:lnTo>
                    <a:pt x="4813" y="498"/>
                  </a:lnTo>
                  <a:lnTo>
                    <a:pt x="4798" y="511"/>
                  </a:lnTo>
                  <a:lnTo>
                    <a:pt x="4784" y="527"/>
                  </a:lnTo>
                  <a:lnTo>
                    <a:pt x="4767" y="538"/>
                  </a:lnTo>
                  <a:lnTo>
                    <a:pt x="4749" y="548"/>
                  </a:lnTo>
                  <a:lnTo>
                    <a:pt x="4747" y="562"/>
                  </a:lnTo>
                  <a:lnTo>
                    <a:pt x="4747" y="577"/>
                  </a:lnTo>
                  <a:lnTo>
                    <a:pt x="4745" y="593"/>
                  </a:lnTo>
                  <a:lnTo>
                    <a:pt x="4745" y="608"/>
                  </a:lnTo>
                  <a:lnTo>
                    <a:pt x="4744" y="618"/>
                  </a:lnTo>
                  <a:lnTo>
                    <a:pt x="4742" y="630"/>
                  </a:lnTo>
                  <a:lnTo>
                    <a:pt x="4742" y="641"/>
                  </a:lnTo>
                  <a:lnTo>
                    <a:pt x="4742" y="653"/>
                  </a:lnTo>
                  <a:lnTo>
                    <a:pt x="4742" y="663"/>
                  </a:lnTo>
                  <a:lnTo>
                    <a:pt x="4745" y="674"/>
                  </a:lnTo>
                  <a:lnTo>
                    <a:pt x="4749" y="686"/>
                  </a:lnTo>
                  <a:lnTo>
                    <a:pt x="4757" y="697"/>
                  </a:lnTo>
                  <a:lnTo>
                    <a:pt x="4773" y="697"/>
                  </a:lnTo>
                  <a:lnTo>
                    <a:pt x="4788" y="705"/>
                  </a:lnTo>
                  <a:lnTo>
                    <a:pt x="4800" y="715"/>
                  </a:lnTo>
                  <a:lnTo>
                    <a:pt x="4813" y="727"/>
                  </a:lnTo>
                  <a:lnTo>
                    <a:pt x="4827" y="730"/>
                  </a:lnTo>
                  <a:lnTo>
                    <a:pt x="4842" y="725"/>
                  </a:lnTo>
                  <a:lnTo>
                    <a:pt x="4860" y="723"/>
                  </a:lnTo>
                  <a:lnTo>
                    <a:pt x="4879" y="721"/>
                  </a:lnTo>
                  <a:lnTo>
                    <a:pt x="4899" y="723"/>
                  </a:lnTo>
                  <a:lnTo>
                    <a:pt x="4916" y="723"/>
                  </a:lnTo>
                  <a:lnTo>
                    <a:pt x="4936" y="730"/>
                  </a:lnTo>
                  <a:lnTo>
                    <a:pt x="4953" y="736"/>
                  </a:lnTo>
                  <a:lnTo>
                    <a:pt x="4970" y="750"/>
                  </a:lnTo>
                  <a:lnTo>
                    <a:pt x="4984" y="769"/>
                  </a:lnTo>
                  <a:lnTo>
                    <a:pt x="4992" y="792"/>
                  </a:lnTo>
                  <a:lnTo>
                    <a:pt x="4994" y="816"/>
                  </a:lnTo>
                  <a:lnTo>
                    <a:pt x="4998" y="839"/>
                  </a:lnTo>
                  <a:lnTo>
                    <a:pt x="4998" y="862"/>
                  </a:lnTo>
                  <a:lnTo>
                    <a:pt x="5003" y="886"/>
                  </a:lnTo>
                  <a:lnTo>
                    <a:pt x="5011" y="907"/>
                  </a:lnTo>
                  <a:lnTo>
                    <a:pt x="5029" y="930"/>
                  </a:lnTo>
                  <a:lnTo>
                    <a:pt x="5036" y="946"/>
                  </a:lnTo>
                  <a:lnTo>
                    <a:pt x="5046" y="961"/>
                  </a:lnTo>
                  <a:lnTo>
                    <a:pt x="5054" y="979"/>
                  </a:lnTo>
                  <a:lnTo>
                    <a:pt x="5060" y="998"/>
                  </a:lnTo>
                  <a:lnTo>
                    <a:pt x="5060" y="1015"/>
                  </a:lnTo>
                  <a:lnTo>
                    <a:pt x="5065" y="1033"/>
                  </a:lnTo>
                  <a:lnTo>
                    <a:pt x="5071" y="1052"/>
                  </a:lnTo>
                  <a:lnTo>
                    <a:pt x="5079" y="1072"/>
                  </a:lnTo>
                  <a:lnTo>
                    <a:pt x="5085" y="1089"/>
                  </a:lnTo>
                  <a:lnTo>
                    <a:pt x="5091" y="1108"/>
                  </a:lnTo>
                  <a:lnTo>
                    <a:pt x="5095" y="1126"/>
                  </a:lnTo>
                  <a:lnTo>
                    <a:pt x="5096" y="1145"/>
                  </a:lnTo>
                  <a:lnTo>
                    <a:pt x="5100" y="1149"/>
                  </a:lnTo>
                  <a:lnTo>
                    <a:pt x="5098" y="1145"/>
                  </a:lnTo>
                  <a:lnTo>
                    <a:pt x="5096" y="1153"/>
                  </a:lnTo>
                  <a:lnTo>
                    <a:pt x="5100" y="1161"/>
                  </a:lnTo>
                  <a:lnTo>
                    <a:pt x="5104" y="1161"/>
                  </a:lnTo>
                  <a:lnTo>
                    <a:pt x="5096" y="1167"/>
                  </a:lnTo>
                  <a:lnTo>
                    <a:pt x="5098" y="1167"/>
                  </a:lnTo>
                  <a:lnTo>
                    <a:pt x="5102" y="1169"/>
                  </a:lnTo>
                  <a:lnTo>
                    <a:pt x="5102" y="1172"/>
                  </a:lnTo>
                  <a:lnTo>
                    <a:pt x="5100" y="1170"/>
                  </a:lnTo>
                  <a:lnTo>
                    <a:pt x="5096" y="1172"/>
                  </a:lnTo>
                  <a:lnTo>
                    <a:pt x="5098" y="1180"/>
                  </a:lnTo>
                  <a:lnTo>
                    <a:pt x="5093" y="1192"/>
                  </a:lnTo>
                  <a:lnTo>
                    <a:pt x="5087" y="1207"/>
                  </a:lnTo>
                  <a:lnTo>
                    <a:pt x="5075" y="1219"/>
                  </a:lnTo>
                  <a:lnTo>
                    <a:pt x="5064" y="1229"/>
                  </a:lnTo>
                  <a:lnTo>
                    <a:pt x="5046" y="1231"/>
                  </a:lnTo>
                  <a:lnTo>
                    <a:pt x="5032" y="1233"/>
                  </a:lnTo>
                  <a:lnTo>
                    <a:pt x="5015" y="1231"/>
                  </a:lnTo>
                  <a:lnTo>
                    <a:pt x="5001" y="1231"/>
                  </a:lnTo>
                  <a:lnTo>
                    <a:pt x="4986" y="1229"/>
                  </a:lnTo>
                  <a:lnTo>
                    <a:pt x="4970" y="1229"/>
                  </a:lnTo>
                  <a:lnTo>
                    <a:pt x="4955" y="1229"/>
                  </a:lnTo>
                  <a:lnTo>
                    <a:pt x="4941" y="1233"/>
                  </a:lnTo>
                  <a:lnTo>
                    <a:pt x="4939" y="1229"/>
                  </a:lnTo>
                  <a:lnTo>
                    <a:pt x="4937" y="1227"/>
                  </a:lnTo>
                  <a:lnTo>
                    <a:pt x="4926" y="1229"/>
                  </a:lnTo>
                  <a:lnTo>
                    <a:pt x="4916" y="1236"/>
                  </a:lnTo>
                  <a:lnTo>
                    <a:pt x="4918" y="1265"/>
                  </a:lnTo>
                  <a:lnTo>
                    <a:pt x="4978" y="1260"/>
                  </a:lnTo>
                  <a:lnTo>
                    <a:pt x="5040" y="1258"/>
                  </a:lnTo>
                  <a:lnTo>
                    <a:pt x="5102" y="1256"/>
                  </a:lnTo>
                  <a:lnTo>
                    <a:pt x="5164" y="1256"/>
                  </a:lnTo>
                  <a:lnTo>
                    <a:pt x="5224" y="1254"/>
                  </a:lnTo>
                  <a:lnTo>
                    <a:pt x="5287" y="1252"/>
                  </a:lnTo>
                  <a:lnTo>
                    <a:pt x="5347" y="1248"/>
                  </a:lnTo>
                  <a:lnTo>
                    <a:pt x="5411" y="1244"/>
                  </a:lnTo>
                  <a:lnTo>
                    <a:pt x="5422" y="1244"/>
                  </a:lnTo>
                  <a:lnTo>
                    <a:pt x="5436" y="1244"/>
                  </a:lnTo>
                  <a:lnTo>
                    <a:pt x="5448" y="1244"/>
                  </a:lnTo>
                  <a:lnTo>
                    <a:pt x="5463" y="1248"/>
                  </a:lnTo>
                  <a:lnTo>
                    <a:pt x="5475" y="1248"/>
                  </a:lnTo>
                  <a:lnTo>
                    <a:pt x="5488" y="1254"/>
                  </a:lnTo>
                  <a:lnTo>
                    <a:pt x="5498" y="1262"/>
                  </a:lnTo>
                  <a:lnTo>
                    <a:pt x="5508" y="1273"/>
                  </a:lnTo>
                  <a:lnTo>
                    <a:pt x="5510" y="1271"/>
                  </a:lnTo>
                  <a:lnTo>
                    <a:pt x="5508" y="1285"/>
                  </a:lnTo>
                  <a:lnTo>
                    <a:pt x="5506" y="1300"/>
                  </a:lnTo>
                  <a:lnTo>
                    <a:pt x="5479" y="1326"/>
                  </a:lnTo>
                  <a:lnTo>
                    <a:pt x="5451" y="1351"/>
                  </a:lnTo>
                  <a:lnTo>
                    <a:pt x="5420" y="1370"/>
                  </a:lnTo>
                  <a:lnTo>
                    <a:pt x="5391" y="1390"/>
                  </a:lnTo>
                  <a:lnTo>
                    <a:pt x="5358" y="1403"/>
                  </a:lnTo>
                  <a:lnTo>
                    <a:pt x="5325" y="1417"/>
                  </a:lnTo>
                  <a:lnTo>
                    <a:pt x="5290" y="1426"/>
                  </a:lnTo>
                  <a:lnTo>
                    <a:pt x="5256" y="1434"/>
                  </a:lnTo>
                  <a:lnTo>
                    <a:pt x="5240" y="1446"/>
                  </a:lnTo>
                  <a:lnTo>
                    <a:pt x="5228" y="1459"/>
                  </a:lnTo>
                  <a:lnTo>
                    <a:pt x="5217" y="1473"/>
                  </a:lnTo>
                  <a:lnTo>
                    <a:pt x="5207" y="1490"/>
                  </a:lnTo>
                  <a:lnTo>
                    <a:pt x="5195" y="1506"/>
                  </a:lnTo>
                  <a:lnTo>
                    <a:pt x="5186" y="1523"/>
                  </a:lnTo>
                  <a:lnTo>
                    <a:pt x="5174" y="1541"/>
                  </a:lnTo>
                  <a:lnTo>
                    <a:pt x="5162" y="1558"/>
                  </a:lnTo>
                  <a:lnTo>
                    <a:pt x="5151" y="1574"/>
                  </a:lnTo>
                  <a:lnTo>
                    <a:pt x="5145" y="1593"/>
                  </a:lnTo>
                  <a:lnTo>
                    <a:pt x="5141" y="1611"/>
                  </a:lnTo>
                  <a:lnTo>
                    <a:pt x="5145" y="1634"/>
                  </a:lnTo>
                  <a:lnTo>
                    <a:pt x="5166" y="1647"/>
                  </a:lnTo>
                  <a:lnTo>
                    <a:pt x="5193" y="1657"/>
                  </a:lnTo>
                  <a:lnTo>
                    <a:pt x="5219" y="1663"/>
                  </a:lnTo>
                  <a:lnTo>
                    <a:pt x="5248" y="1667"/>
                  </a:lnTo>
                  <a:lnTo>
                    <a:pt x="5277" y="1667"/>
                  </a:lnTo>
                  <a:lnTo>
                    <a:pt x="5306" y="1667"/>
                  </a:lnTo>
                  <a:lnTo>
                    <a:pt x="5333" y="1669"/>
                  </a:lnTo>
                  <a:lnTo>
                    <a:pt x="5362" y="1675"/>
                  </a:lnTo>
                  <a:lnTo>
                    <a:pt x="5380" y="1678"/>
                  </a:lnTo>
                  <a:lnTo>
                    <a:pt x="5399" y="1682"/>
                  </a:lnTo>
                  <a:lnTo>
                    <a:pt x="5418" y="1684"/>
                  </a:lnTo>
                  <a:lnTo>
                    <a:pt x="5438" y="1686"/>
                  </a:lnTo>
                  <a:lnTo>
                    <a:pt x="5455" y="1694"/>
                  </a:lnTo>
                  <a:lnTo>
                    <a:pt x="5475" y="1708"/>
                  </a:lnTo>
                  <a:lnTo>
                    <a:pt x="5492" y="1719"/>
                  </a:lnTo>
                  <a:lnTo>
                    <a:pt x="5510" y="1737"/>
                  </a:lnTo>
                  <a:lnTo>
                    <a:pt x="5523" y="1750"/>
                  </a:lnTo>
                  <a:lnTo>
                    <a:pt x="5537" y="1770"/>
                  </a:lnTo>
                  <a:lnTo>
                    <a:pt x="5546" y="1787"/>
                  </a:lnTo>
                  <a:lnTo>
                    <a:pt x="5556" y="1810"/>
                  </a:lnTo>
                  <a:lnTo>
                    <a:pt x="5568" y="1826"/>
                  </a:lnTo>
                  <a:lnTo>
                    <a:pt x="5583" y="1839"/>
                  </a:lnTo>
                  <a:lnTo>
                    <a:pt x="5593" y="1851"/>
                  </a:lnTo>
                  <a:lnTo>
                    <a:pt x="5603" y="1867"/>
                  </a:lnTo>
                  <a:lnTo>
                    <a:pt x="5612" y="1880"/>
                  </a:lnTo>
                  <a:lnTo>
                    <a:pt x="5622" y="1896"/>
                  </a:lnTo>
                  <a:lnTo>
                    <a:pt x="5630" y="1909"/>
                  </a:lnTo>
                  <a:lnTo>
                    <a:pt x="5640" y="1925"/>
                  </a:lnTo>
                  <a:lnTo>
                    <a:pt x="5647" y="1940"/>
                  </a:lnTo>
                  <a:lnTo>
                    <a:pt x="5659" y="1958"/>
                  </a:lnTo>
                  <a:lnTo>
                    <a:pt x="5665" y="1975"/>
                  </a:lnTo>
                  <a:lnTo>
                    <a:pt x="5671" y="1993"/>
                  </a:lnTo>
                  <a:lnTo>
                    <a:pt x="5676" y="2010"/>
                  </a:lnTo>
                  <a:lnTo>
                    <a:pt x="5682" y="2029"/>
                  </a:lnTo>
                  <a:lnTo>
                    <a:pt x="5684" y="2047"/>
                  </a:lnTo>
                  <a:lnTo>
                    <a:pt x="5686" y="2066"/>
                  </a:lnTo>
                  <a:lnTo>
                    <a:pt x="5684" y="2088"/>
                  </a:lnTo>
                  <a:lnTo>
                    <a:pt x="5684" y="2111"/>
                  </a:lnTo>
                  <a:lnTo>
                    <a:pt x="5688" y="2115"/>
                  </a:lnTo>
                  <a:lnTo>
                    <a:pt x="5682" y="2159"/>
                  </a:lnTo>
                  <a:lnTo>
                    <a:pt x="5694" y="2167"/>
                  </a:lnTo>
                  <a:lnTo>
                    <a:pt x="5707" y="2177"/>
                  </a:lnTo>
                  <a:lnTo>
                    <a:pt x="5719" y="2188"/>
                  </a:lnTo>
                  <a:lnTo>
                    <a:pt x="5731" y="2202"/>
                  </a:lnTo>
                  <a:lnTo>
                    <a:pt x="5740" y="2214"/>
                  </a:lnTo>
                  <a:lnTo>
                    <a:pt x="5748" y="2229"/>
                  </a:lnTo>
                  <a:lnTo>
                    <a:pt x="5754" y="2245"/>
                  </a:lnTo>
                  <a:lnTo>
                    <a:pt x="5762" y="2264"/>
                  </a:lnTo>
                  <a:lnTo>
                    <a:pt x="5760" y="2272"/>
                  </a:lnTo>
                  <a:lnTo>
                    <a:pt x="5758" y="2281"/>
                  </a:lnTo>
                  <a:lnTo>
                    <a:pt x="5746" y="2295"/>
                  </a:lnTo>
                  <a:lnTo>
                    <a:pt x="5736" y="2307"/>
                  </a:lnTo>
                  <a:lnTo>
                    <a:pt x="5723" y="2316"/>
                  </a:lnTo>
                  <a:lnTo>
                    <a:pt x="5709" y="2328"/>
                  </a:lnTo>
                  <a:lnTo>
                    <a:pt x="5694" y="2336"/>
                  </a:lnTo>
                  <a:lnTo>
                    <a:pt x="5680" y="2345"/>
                  </a:lnTo>
                  <a:lnTo>
                    <a:pt x="5667" y="2355"/>
                  </a:lnTo>
                  <a:lnTo>
                    <a:pt x="5655" y="2367"/>
                  </a:lnTo>
                  <a:lnTo>
                    <a:pt x="5641" y="2369"/>
                  </a:lnTo>
                  <a:lnTo>
                    <a:pt x="5630" y="2373"/>
                  </a:lnTo>
                  <a:lnTo>
                    <a:pt x="5618" y="2376"/>
                  </a:lnTo>
                  <a:lnTo>
                    <a:pt x="5607" y="2382"/>
                  </a:lnTo>
                  <a:lnTo>
                    <a:pt x="5593" y="2386"/>
                  </a:lnTo>
                  <a:lnTo>
                    <a:pt x="5581" y="2390"/>
                  </a:lnTo>
                  <a:lnTo>
                    <a:pt x="5570" y="2394"/>
                  </a:lnTo>
                  <a:lnTo>
                    <a:pt x="5558" y="2398"/>
                  </a:lnTo>
                  <a:lnTo>
                    <a:pt x="5556" y="2423"/>
                  </a:lnTo>
                  <a:lnTo>
                    <a:pt x="5556" y="2452"/>
                  </a:lnTo>
                  <a:lnTo>
                    <a:pt x="5552" y="2479"/>
                  </a:lnTo>
                  <a:lnTo>
                    <a:pt x="5550" y="2508"/>
                  </a:lnTo>
                  <a:lnTo>
                    <a:pt x="5544" y="2535"/>
                  </a:lnTo>
                  <a:lnTo>
                    <a:pt x="5541" y="2563"/>
                  </a:lnTo>
                  <a:lnTo>
                    <a:pt x="5533" y="2588"/>
                  </a:lnTo>
                  <a:lnTo>
                    <a:pt x="5527" y="2615"/>
                  </a:lnTo>
                  <a:lnTo>
                    <a:pt x="5515" y="2634"/>
                  </a:lnTo>
                  <a:lnTo>
                    <a:pt x="5506" y="2658"/>
                  </a:lnTo>
                  <a:lnTo>
                    <a:pt x="5494" y="2679"/>
                  </a:lnTo>
                  <a:lnTo>
                    <a:pt x="5484" y="2702"/>
                  </a:lnTo>
                  <a:lnTo>
                    <a:pt x="5471" y="2721"/>
                  </a:lnTo>
                  <a:lnTo>
                    <a:pt x="5457" y="2743"/>
                  </a:lnTo>
                  <a:lnTo>
                    <a:pt x="5440" y="2760"/>
                  </a:lnTo>
                  <a:lnTo>
                    <a:pt x="5424" y="2778"/>
                  </a:lnTo>
                  <a:lnTo>
                    <a:pt x="5415" y="2772"/>
                  </a:lnTo>
                  <a:lnTo>
                    <a:pt x="5405" y="2776"/>
                  </a:lnTo>
                  <a:lnTo>
                    <a:pt x="5395" y="2780"/>
                  </a:lnTo>
                  <a:lnTo>
                    <a:pt x="5387" y="2785"/>
                  </a:lnTo>
                  <a:lnTo>
                    <a:pt x="5347" y="2797"/>
                  </a:lnTo>
                  <a:lnTo>
                    <a:pt x="5308" y="2811"/>
                  </a:lnTo>
                  <a:lnTo>
                    <a:pt x="5269" y="2824"/>
                  </a:lnTo>
                  <a:lnTo>
                    <a:pt x="5230" y="2838"/>
                  </a:lnTo>
                  <a:lnTo>
                    <a:pt x="5192" y="2851"/>
                  </a:lnTo>
                  <a:lnTo>
                    <a:pt x="5155" y="2865"/>
                  </a:lnTo>
                  <a:lnTo>
                    <a:pt x="5116" y="2879"/>
                  </a:lnTo>
                  <a:lnTo>
                    <a:pt x="5079" y="2896"/>
                  </a:lnTo>
                  <a:lnTo>
                    <a:pt x="4982" y="2865"/>
                  </a:lnTo>
                  <a:lnTo>
                    <a:pt x="4953" y="2846"/>
                  </a:lnTo>
                  <a:lnTo>
                    <a:pt x="4924" y="2828"/>
                  </a:lnTo>
                  <a:lnTo>
                    <a:pt x="4895" y="2807"/>
                  </a:lnTo>
                  <a:lnTo>
                    <a:pt x="4870" y="2785"/>
                  </a:lnTo>
                  <a:lnTo>
                    <a:pt x="4842" y="2760"/>
                  </a:lnTo>
                  <a:lnTo>
                    <a:pt x="4821" y="2737"/>
                  </a:lnTo>
                  <a:lnTo>
                    <a:pt x="4802" y="2708"/>
                  </a:lnTo>
                  <a:lnTo>
                    <a:pt x="4788" y="2679"/>
                  </a:lnTo>
                  <a:lnTo>
                    <a:pt x="4792" y="2675"/>
                  </a:lnTo>
                  <a:lnTo>
                    <a:pt x="4782" y="2667"/>
                  </a:lnTo>
                  <a:lnTo>
                    <a:pt x="4775" y="2658"/>
                  </a:lnTo>
                  <a:lnTo>
                    <a:pt x="4759" y="2663"/>
                  </a:lnTo>
                  <a:lnTo>
                    <a:pt x="4744" y="2669"/>
                  </a:lnTo>
                  <a:lnTo>
                    <a:pt x="4728" y="2671"/>
                  </a:lnTo>
                  <a:lnTo>
                    <a:pt x="4714" y="2675"/>
                  </a:lnTo>
                  <a:lnTo>
                    <a:pt x="4697" y="2675"/>
                  </a:lnTo>
                  <a:lnTo>
                    <a:pt x="4681" y="2677"/>
                  </a:lnTo>
                  <a:lnTo>
                    <a:pt x="4666" y="2677"/>
                  </a:lnTo>
                  <a:lnTo>
                    <a:pt x="4652" y="2677"/>
                  </a:lnTo>
                  <a:lnTo>
                    <a:pt x="4641" y="2692"/>
                  </a:lnTo>
                  <a:lnTo>
                    <a:pt x="4631" y="2704"/>
                  </a:lnTo>
                  <a:lnTo>
                    <a:pt x="4616" y="2710"/>
                  </a:lnTo>
                  <a:lnTo>
                    <a:pt x="4602" y="2716"/>
                  </a:lnTo>
                  <a:lnTo>
                    <a:pt x="4583" y="2718"/>
                  </a:lnTo>
                  <a:lnTo>
                    <a:pt x="4565" y="2721"/>
                  </a:lnTo>
                  <a:lnTo>
                    <a:pt x="4548" y="2723"/>
                  </a:lnTo>
                  <a:lnTo>
                    <a:pt x="4534" y="2729"/>
                  </a:lnTo>
                  <a:lnTo>
                    <a:pt x="4517" y="2729"/>
                  </a:lnTo>
                  <a:lnTo>
                    <a:pt x="4499" y="2729"/>
                  </a:lnTo>
                  <a:lnTo>
                    <a:pt x="4482" y="2729"/>
                  </a:lnTo>
                  <a:lnTo>
                    <a:pt x="4464" y="2731"/>
                  </a:lnTo>
                  <a:lnTo>
                    <a:pt x="4447" y="2729"/>
                  </a:lnTo>
                  <a:lnTo>
                    <a:pt x="4429" y="2727"/>
                  </a:lnTo>
                  <a:lnTo>
                    <a:pt x="4412" y="2721"/>
                  </a:lnTo>
                  <a:lnTo>
                    <a:pt x="4400" y="2718"/>
                  </a:lnTo>
                  <a:lnTo>
                    <a:pt x="4389" y="2716"/>
                  </a:lnTo>
                  <a:lnTo>
                    <a:pt x="4377" y="2710"/>
                  </a:lnTo>
                  <a:lnTo>
                    <a:pt x="4365" y="2702"/>
                  </a:lnTo>
                  <a:lnTo>
                    <a:pt x="4360" y="2696"/>
                  </a:lnTo>
                  <a:lnTo>
                    <a:pt x="4356" y="2687"/>
                  </a:lnTo>
                  <a:lnTo>
                    <a:pt x="4356" y="2677"/>
                  </a:lnTo>
                  <a:lnTo>
                    <a:pt x="4358" y="2667"/>
                  </a:lnTo>
                  <a:lnTo>
                    <a:pt x="4361" y="2658"/>
                  </a:lnTo>
                  <a:lnTo>
                    <a:pt x="4373" y="2638"/>
                  </a:lnTo>
                  <a:lnTo>
                    <a:pt x="4391" y="2626"/>
                  </a:lnTo>
                  <a:lnTo>
                    <a:pt x="4402" y="2613"/>
                  </a:lnTo>
                  <a:lnTo>
                    <a:pt x="4404" y="2595"/>
                  </a:lnTo>
                  <a:lnTo>
                    <a:pt x="4406" y="2586"/>
                  </a:lnTo>
                  <a:lnTo>
                    <a:pt x="4387" y="2588"/>
                  </a:lnTo>
                  <a:lnTo>
                    <a:pt x="4367" y="2590"/>
                  </a:lnTo>
                  <a:lnTo>
                    <a:pt x="4348" y="2590"/>
                  </a:lnTo>
                  <a:lnTo>
                    <a:pt x="4329" y="2592"/>
                  </a:lnTo>
                  <a:lnTo>
                    <a:pt x="4307" y="2592"/>
                  </a:lnTo>
                  <a:lnTo>
                    <a:pt x="4288" y="2594"/>
                  </a:lnTo>
                  <a:lnTo>
                    <a:pt x="4270" y="2594"/>
                  </a:lnTo>
                  <a:lnTo>
                    <a:pt x="4255" y="2595"/>
                  </a:lnTo>
                  <a:lnTo>
                    <a:pt x="4249" y="2630"/>
                  </a:lnTo>
                  <a:lnTo>
                    <a:pt x="4243" y="2669"/>
                  </a:lnTo>
                  <a:lnTo>
                    <a:pt x="4235" y="2704"/>
                  </a:lnTo>
                  <a:lnTo>
                    <a:pt x="4230" y="2743"/>
                  </a:lnTo>
                  <a:lnTo>
                    <a:pt x="4218" y="2780"/>
                  </a:lnTo>
                  <a:lnTo>
                    <a:pt x="4206" y="2816"/>
                  </a:lnTo>
                  <a:lnTo>
                    <a:pt x="4191" y="2851"/>
                  </a:lnTo>
                  <a:lnTo>
                    <a:pt x="4173" y="2886"/>
                  </a:lnTo>
                  <a:lnTo>
                    <a:pt x="4164" y="2900"/>
                  </a:lnTo>
                  <a:lnTo>
                    <a:pt x="4154" y="2915"/>
                  </a:lnTo>
                  <a:lnTo>
                    <a:pt x="4144" y="2929"/>
                  </a:lnTo>
                  <a:lnTo>
                    <a:pt x="4137" y="2944"/>
                  </a:lnTo>
                  <a:lnTo>
                    <a:pt x="4125" y="2958"/>
                  </a:lnTo>
                  <a:lnTo>
                    <a:pt x="4115" y="2972"/>
                  </a:lnTo>
                  <a:lnTo>
                    <a:pt x="4102" y="2981"/>
                  </a:lnTo>
                  <a:lnTo>
                    <a:pt x="4090" y="2993"/>
                  </a:lnTo>
                  <a:lnTo>
                    <a:pt x="4071" y="2997"/>
                  </a:lnTo>
                  <a:lnTo>
                    <a:pt x="4053" y="3003"/>
                  </a:lnTo>
                  <a:lnTo>
                    <a:pt x="4036" y="3006"/>
                  </a:lnTo>
                  <a:lnTo>
                    <a:pt x="4018" y="3012"/>
                  </a:lnTo>
                  <a:lnTo>
                    <a:pt x="4001" y="3018"/>
                  </a:lnTo>
                  <a:lnTo>
                    <a:pt x="3985" y="3024"/>
                  </a:lnTo>
                  <a:lnTo>
                    <a:pt x="3968" y="3030"/>
                  </a:lnTo>
                  <a:lnTo>
                    <a:pt x="3954" y="3039"/>
                  </a:lnTo>
                  <a:lnTo>
                    <a:pt x="3935" y="3039"/>
                  </a:lnTo>
                  <a:lnTo>
                    <a:pt x="3917" y="3045"/>
                  </a:lnTo>
                  <a:lnTo>
                    <a:pt x="3902" y="3049"/>
                  </a:lnTo>
                  <a:lnTo>
                    <a:pt x="3886" y="3055"/>
                  </a:lnTo>
                  <a:lnTo>
                    <a:pt x="3871" y="3057"/>
                  </a:lnTo>
                  <a:lnTo>
                    <a:pt x="3855" y="3059"/>
                  </a:lnTo>
                  <a:lnTo>
                    <a:pt x="3840" y="3061"/>
                  </a:lnTo>
                  <a:lnTo>
                    <a:pt x="3824" y="3063"/>
                  </a:lnTo>
                  <a:lnTo>
                    <a:pt x="3809" y="3063"/>
                  </a:lnTo>
                  <a:lnTo>
                    <a:pt x="3795" y="3065"/>
                  </a:lnTo>
                  <a:lnTo>
                    <a:pt x="3780" y="3067"/>
                  </a:lnTo>
                  <a:lnTo>
                    <a:pt x="3768" y="3069"/>
                  </a:lnTo>
                  <a:lnTo>
                    <a:pt x="3764" y="3065"/>
                  </a:lnTo>
                  <a:lnTo>
                    <a:pt x="3720" y="3067"/>
                  </a:lnTo>
                  <a:lnTo>
                    <a:pt x="3675" y="3070"/>
                  </a:lnTo>
                  <a:lnTo>
                    <a:pt x="3630" y="3069"/>
                  </a:lnTo>
                  <a:lnTo>
                    <a:pt x="3590" y="3069"/>
                  </a:lnTo>
                  <a:lnTo>
                    <a:pt x="3545" y="3063"/>
                  </a:lnTo>
                  <a:lnTo>
                    <a:pt x="3504" y="3053"/>
                  </a:lnTo>
                  <a:lnTo>
                    <a:pt x="3464" y="3039"/>
                  </a:lnTo>
                  <a:lnTo>
                    <a:pt x="3427" y="3022"/>
                  </a:lnTo>
                  <a:lnTo>
                    <a:pt x="3394" y="2997"/>
                  </a:lnTo>
                  <a:lnTo>
                    <a:pt x="3365" y="2970"/>
                  </a:lnTo>
                  <a:lnTo>
                    <a:pt x="3337" y="2941"/>
                  </a:lnTo>
                  <a:lnTo>
                    <a:pt x="3314" y="2911"/>
                  </a:lnTo>
                  <a:lnTo>
                    <a:pt x="3291" y="2880"/>
                  </a:lnTo>
                  <a:lnTo>
                    <a:pt x="3270" y="2849"/>
                  </a:lnTo>
                  <a:lnTo>
                    <a:pt x="3250" y="2816"/>
                  </a:lnTo>
                  <a:lnTo>
                    <a:pt x="3233" y="2785"/>
                  </a:lnTo>
                  <a:lnTo>
                    <a:pt x="3221" y="2770"/>
                  </a:lnTo>
                  <a:lnTo>
                    <a:pt x="3213" y="2754"/>
                  </a:lnTo>
                  <a:lnTo>
                    <a:pt x="3208" y="2739"/>
                  </a:lnTo>
                  <a:lnTo>
                    <a:pt x="3202" y="2725"/>
                  </a:lnTo>
                  <a:lnTo>
                    <a:pt x="3196" y="2708"/>
                  </a:lnTo>
                  <a:lnTo>
                    <a:pt x="3190" y="2694"/>
                  </a:lnTo>
                  <a:lnTo>
                    <a:pt x="3184" y="2679"/>
                  </a:lnTo>
                  <a:lnTo>
                    <a:pt x="3180" y="2665"/>
                  </a:lnTo>
                  <a:lnTo>
                    <a:pt x="3157" y="2659"/>
                  </a:lnTo>
                  <a:lnTo>
                    <a:pt x="3136" y="2659"/>
                  </a:lnTo>
                  <a:lnTo>
                    <a:pt x="3113" y="2658"/>
                  </a:lnTo>
                  <a:lnTo>
                    <a:pt x="3091" y="2659"/>
                  </a:lnTo>
                  <a:lnTo>
                    <a:pt x="3068" y="2661"/>
                  </a:lnTo>
                  <a:lnTo>
                    <a:pt x="3045" y="2665"/>
                  </a:lnTo>
                  <a:lnTo>
                    <a:pt x="3023" y="2667"/>
                  </a:lnTo>
                  <a:lnTo>
                    <a:pt x="3004" y="2673"/>
                  </a:lnTo>
                  <a:lnTo>
                    <a:pt x="2965" y="2673"/>
                  </a:lnTo>
                  <a:lnTo>
                    <a:pt x="2928" y="2677"/>
                  </a:lnTo>
                  <a:lnTo>
                    <a:pt x="2891" y="2681"/>
                  </a:lnTo>
                  <a:lnTo>
                    <a:pt x="2857" y="2685"/>
                  </a:lnTo>
                  <a:lnTo>
                    <a:pt x="2820" y="2687"/>
                  </a:lnTo>
                  <a:lnTo>
                    <a:pt x="2785" y="2689"/>
                  </a:lnTo>
                  <a:lnTo>
                    <a:pt x="2748" y="2689"/>
                  </a:lnTo>
                  <a:lnTo>
                    <a:pt x="2711" y="2690"/>
                  </a:lnTo>
                  <a:lnTo>
                    <a:pt x="2531" y="2696"/>
                  </a:lnTo>
                  <a:lnTo>
                    <a:pt x="2517" y="2706"/>
                  </a:lnTo>
                  <a:lnTo>
                    <a:pt x="2502" y="2716"/>
                  </a:lnTo>
                  <a:lnTo>
                    <a:pt x="2484" y="2720"/>
                  </a:lnTo>
                  <a:lnTo>
                    <a:pt x="2465" y="2720"/>
                  </a:lnTo>
                  <a:lnTo>
                    <a:pt x="2451" y="2716"/>
                  </a:lnTo>
                  <a:lnTo>
                    <a:pt x="2443" y="2708"/>
                  </a:lnTo>
                  <a:lnTo>
                    <a:pt x="2436" y="2698"/>
                  </a:lnTo>
                  <a:lnTo>
                    <a:pt x="2430" y="2692"/>
                  </a:lnTo>
                  <a:lnTo>
                    <a:pt x="2377" y="2690"/>
                  </a:lnTo>
                  <a:lnTo>
                    <a:pt x="2327" y="2690"/>
                  </a:lnTo>
                  <a:lnTo>
                    <a:pt x="2277" y="2690"/>
                  </a:lnTo>
                  <a:lnTo>
                    <a:pt x="2228" y="2692"/>
                  </a:lnTo>
                  <a:lnTo>
                    <a:pt x="2180" y="2692"/>
                  </a:lnTo>
                  <a:lnTo>
                    <a:pt x="2131" y="2692"/>
                  </a:lnTo>
                  <a:lnTo>
                    <a:pt x="2083" y="2690"/>
                  </a:lnTo>
                  <a:lnTo>
                    <a:pt x="2036" y="2689"/>
                  </a:lnTo>
                  <a:lnTo>
                    <a:pt x="2025" y="2685"/>
                  </a:lnTo>
                  <a:lnTo>
                    <a:pt x="2013" y="2685"/>
                  </a:lnTo>
                  <a:lnTo>
                    <a:pt x="2001" y="2685"/>
                  </a:lnTo>
                  <a:lnTo>
                    <a:pt x="1992" y="2687"/>
                  </a:lnTo>
                  <a:lnTo>
                    <a:pt x="1980" y="2685"/>
                  </a:lnTo>
                  <a:lnTo>
                    <a:pt x="1968" y="2685"/>
                  </a:lnTo>
                  <a:lnTo>
                    <a:pt x="1957" y="2683"/>
                  </a:lnTo>
                  <a:lnTo>
                    <a:pt x="1945" y="2681"/>
                  </a:lnTo>
                  <a:lnTo>
                    <a:pt x="1935" y="2685"/>
                  </a:lnTo>
                  <a:lnTo>
                    <a:pt x="1893" y="2677"/>
                  </a:lnTo>
                  <a:lnTo>
                    <a:pt x="1850" y="2675"/>
                  </a:lnTo>
                  <a:lnTo>
                    <a:pt x="1807" y="2671"/>
                  </a:lnTo>
                  <a:lnTo>
                    <a:pt x="1767" y="2671"/>
                  </a:lnTo>
                  <a:lnTo>
                    <a:pt x="1724" y="2669"/>
                  </a:lnTo>
                  <a:lnTo>
                    <a:pt x="1683" y="2667"/>
                  </a:lnTo>
                  <a:lnTo>
                    <a:pt x="1642" y="2661"/>
                  </a:lnTo>
                  <a:lnTo>
                    <a:pt x="1604" y="2658"/>
                  </a:lnTo>
                  <a:lnTo>
                    <a:pt x="1493" y="2648"/>
                  </a:lnTo>
                  <a:lnTo>
                    <a:pt x="1487" y="2675"/>
                  </a:lnTo>
                  <a:lnTo>
                    <a:pt x="1480" y="2704"/>
                  </a:lnTo>
                  <a:lnTo>
                    <a:pt x="1468" y="2731"/>
                  </a:lnTo>
                  <a:lnTo>
                    <a:pt x="1458" y="2758"/>
                  </a:lnTo>
                  <a:lnTo>
                    <a:pt x="1441" y="2782"/>
                  </a:lnTo>
                  <a:lnTo>
                    <a:pt x="1423" y="2805"/>
                  </a:lnTo>
                  <a:lnTo>
                    <a:pt x="1404" y="2826"/>
                  </a:lnTo>
                  <a:lnTo>
                    <a:pt x="1385" y="2849"/>
                  </a:lnTo>
                  <a:lnTo>
                    <a:pt x="1355" y="2855"/>
                  </a:lnTo>
                  <a:lnTo>
                    <a:pt x="1326" y="2863"/>
                  </a:lnTo>
                  <a:lnTo>
                    <a:pt x="1297" y="2869"/>
                  </a:lnTo>
                  <a:lnTo>
                    <a:pt x="1268" y="2877"/>
                  </a:lnTo>
                  <a:lnTo>
                    <a:pt x="1239" y="2882"/>
                  </a:lnTo>
                  <a:lnTo>
                    <a:pt x="1210" y="2890"/>
                  </a:lnTo>
                  <a:lnTo>
                    <a:pt x="1181" y="2900"/>
                  </a:lnTo>
                  <a:lnTo>
                    <a:pt x="1156" y="2913"/>
                  </a:lnTo>
                  <a:lnTo>
                    <a:pt x="1088" y="2933"/>
                  </a:lnTo>
                  <a:lnTo>
                    <a:pt x="1078" y="2937"/>
                  </a:lnTo>
                  <a:lnTo>
                    <a:pt x="1068" y="2937"/>
                  </a:lnTo>
                  <a:lnTo>
                    <a:pt x="1026" y="2944"/>
                  </a:lnTo>
                  <a:lnTo>
                    <a:pt x="983" y="2946"/>
                  </a:lnTo>
                  <a:lnTo>
                    <a:pt x="942" y="2942"/>
                  </a:lnTo>
                  <a:lnTo>
                    <a:pt x="904" y="2933"/>
                  </a:lnTo>
                  <a:lnTo>
                    <a:pt x="863" y="2917"/>
                  </a:lnTo>
                  <a:lnTo>
                    <a:pt x="828" y="2900"/>
                  </a:lnTo>
                  <a:lnTo>
                    <a:pt x="791" y="2877"/>
                  </a:lnTo>
                  <a:lnTo>
                    <a:pt x="760" y="2855"/>
                  </a:lnTo>
                  <a:lnTo>
                    <a:pt x="735" y="2830"/>
                  </a:lnTo>
                  <a:lnTo>
                    <a:pt x="715" y="2803"/>
                  </a:lnTo>
                  <a:lnTo>
                    <a:pt x="696" y="2774"/>
                  </a:lnTo>
                  <a:lnTo>
                    <a:pt x="681" y="2745"/>
                  </a:lnTo>
                  <a:lnTo>
                    <a:pt x="663" y="2712"/>
                  </a:lnTo>
                  <a:lnTo>
                    <a:pt x="651" y="2683"/>
                  </a:lnTo>
                  <a:lnTo>
                    <a:pt x="638" y="2652"/>
                  </a:lnTo>
                  <a:lnTo>
                    <a:pt x="628" y="2623"/>
                  </a:lnTo>
                  <a:lnTo>
                    <a:pt x="626" y="2621"/>
                  </a:lnTo>
                  <a:lnTo>
                    <a:pt x="624" y="2625"/>
                  </a:lnTo>
                  <a:lnTo>
                    <a:pt x="624" y="2613"/>
                  </a:lnTo>
                  <a:lnTo>
                    <a:pt x="620" y="2601"/>
                  </a:lnTo>
                  <a:lnTo>
                    <a:pt x="615" y="2590"/>
                  </a:lnTo>
                  <a:lnTo>
                    <a:pt x="613" y="2578"/>
                  </a:lnTo>
                  <a:lnTo>
                    <a:pt x="601" y="2578"/>
                  </a:lnTo>
                  <a:lnTo>
                    <a:pt x="595" y="2586"/>
                  </a:lnTo>
                  <a:lnTo>
                    <a:pt x="578" y="2584"/>
                  </a:lnTo>
                  <a:lnTo>
                    <a:pt x="564" y="2582"/>
                  </a:lnTo>
                  <a:lnTo>
                    <a:pt x="553" y="2578"/>
                  </a:lnTo>
                  <a:lnTo>
                    <a:pt x="541" y="2574"/>
                  </a:lnTo>
                  <a:lnTo>
                    <a:pt x="527" y="2568"/>
                  </a:lnTo>
                  <a:lnTo>
                    <a:pt x="516" y="2564"/>
                  </a:lnTo>
                  <a:lnTo>
                    <a:pt x="502" y="2563"/>
                  </a:lnTo>
                  <a:lnTo>
                    <a:pt x="490" y="2563"/>
                  </a:lnTo>
                  <a:lnTo>
                    <a:pt x="454" y="2553"/>
                  </a:lnTo>
                  <a:lnTo>
                    <a:pt x="419" y="2545"/>
                  </a:lnTo>
                  <a:lnTo>
                    <a:pt x="384" y="2533"/>
                  </a:lnTo>
                  <a:lnTo>
                    <a:pt x="351" y="2524"/>
                  </a:lnTo>
                  <a:lnTo>
                    <a:pt x="316" y="2512"/>
                  </a:lnTo>
                  <a:lnTo>
                    <a:pt x="283" y="2500"/>
                  </a:lnTo>
                  <a:lnTo>
                    <a:pt x="250" y="2489"/>
                  </a:lnTo>
                  <a:lnTo>
                    <a:pt x="217" y="2479"/>
                  </a:lnTo>
                  <a:lnTo>
                    <a:pt x="198" y="2475"/>
                  </a:lnTo>
                  <a:lnTo>
                    <a:pt x="184" y="2468"/>
                  </a:lnTo>
                  <a:lnTo>
                    <a:pt x="167" y="2460"/>
                  </a:lnTo>
                  <a:lnTo>
                    <a:pt x="151" y="2458"/>
                  </a:lnTo>
                  <a:lnTo>
                    <a:pt x="141" y="2444"/>
                  </a:lnTo>
                  <a:lnTo>
                    <a:pt x="132" y="2436"/>
                  </a:lnTo>
                  <a:lnTo>
                    <a:pt x="124" y="2427"/>
                  </a:lnTo>
                  <a:lnTo>
                    <a:pt x="120" y="2413"/>
                  </a:lnTo>
                  <a:lnTo>
                    <a:pt x="108" y="2400"/>
                  </a:lnTo>
                  <a:lnTo>
                    <a:pt x="99" y="2386"/>
                  </a:lnTo>
                  <a:lnTo>
                    <a:pt x="87" y="2369"/>
                  </a:lnTo>
                  <a:lnTo>
                    <a:pt x="83" y="2353"/>
                  </a:lnTo>
                  <a:lnTo>
                    <a:pt x="72" y="2334"/>
                  </a:lnTo>
                  <a:lnTo>
                    <a:pt x="60" y="2316"/>
                  </a:lnTo>
                  <a:lnTo>
                    <a:pt x="50" y="2299"/>
                  </a:lnTo>
                  <a:lnTo>
                    <a:pt x="42" y="2281"/>
                  </a:lnTo>
                  <a:lnTo>
                    <a:pt x="31" y="2264"/>
                  </a:lnTo>
                  <a:lnTo>
                    <a:pt x="21" y="2246"/>
                  </a:lnTo>
                  <a:lnTo>
                    <a:pt x="11" y="2229"/>
                  </a:lnTo>
                  <a:lnTo>
                    <a:pt x="2" y="2212"/>
                  </a:lnTo>
                  <a:lnTo>
                    <a:pt x="2" y="2200"/>
                  </a:lnTo>
                  <a:lnTo>
                    <a:pt x="6" y="2190"/>
                  </a:lnTo>
                  <a:lnTo>
                    <a:pt x="4" y="2181"/>
                  </a:lnTo>
                  <a:lnTo>
                    <a:pt x="0" y="2175"/>
                  </a:lnTo>
                  <a:lnTo>
                    <a:pt x="11" y="2153"/>
                  </a:lnTo>
                  <a:lnTo>
                    <a:pt x="31" y="2136"/>
                  </a:lnTo>
                  <a:lnTo>
                    <a:pt x="41" y="2126"/>
                  </a:lnTo>
                  <a:lnTo>
                    <a:pt x="52" y="2119"/>
                  </a:lnTo>
                  <a:lnTo>
                    <a:pt x="62" y="2111"/>
                  </a:lnTo>
                  <a:lnTo>
                    <a:pt x="74" y="2105"/>
                  </a:lnTo>
                  <a:close/>
                  <a:moveTo>
                    <a:pt x="4142" y="1419"/>
                  </a:moveTo>
                  <a:lnTo>
                    <a:pt x="4142" y="1419"/>
                  </a:lnTo>
                  <a:lnTo>
                    <a:pt x="4107" y="1421"/>
                  </a:lnTo>
                  <a:lnTo>
                    <a:pt x="4074" y="1424"/>
                  </a:lnTo>
                  <a:lnTo>
                    <a:pt x="4040" y="1428"/>
                  </a:lnTo>
                  <a:lnTo>
                    <a:pt x="4009" y="1436"/>
                  </a:lnTo>
                  <a:lnTo>
                    <a:pt x="3974" y="1444"/>
                  </a:lnTo>
                  <a:lnTo>
                    <a:pt x="3945" y="1457"/>
                  </a:lnTo>
                  <a:lnTo>
                    <a:pt x="3917" y="1475"/>
                  </a:lnTo>
                  <a:lnTo>
                    <a:pt x="3894" y="1502"/>
                  </a:lnTo>
                  <a:lnTo>
                    <a:pt x="3923" y="1504"/>
                  </a:lnTo>
                  <a:lnTo>
                    <a:pt x="3954" y="1508"/>
                  </a:lnTo>
                  <a:lnTo>
                    <a:pt x="3983" y="1510"/>
                  </a:lnTo>
                  <a:lnTo>
                    <a:pt x="4014" y="1516"/>
                  </a:lnTo>
                  <a:lnTo>
                    <a:pt x="4043" y="1519"/>
                  </a:lnTo>
                  <a:lnTo>
                    <a:pt x="4073" y="1523"/>
                  </a:lnTo>
                  <a:lnTo>
                    <a:pt x="4104" y="1527"/>
                  </a:lnTo>
                  <a:lnTo>
                    <a:pt x="4135" y="1533"/>
                  </a:lnTo>
                  <a:lnTo>
                    <a:pt x="4160" y="1525"/>
                  </a:lnTo>
                  <a:lnTo>
                    <a:pt x="4185" y="1519"/>
                  </a:lnTo>
                  <a:lnTo>
                    <a:pt x="4210" y="1512"/>
                  </a:lnTo>
                  <a:lnTo>
                    <a:pt x="4237" y="1504"/>
                  </a:lnTo>
                  <a:lnTo>
                    <a:pt x="4263" y="1494"/>
                  </a:lnTo>
                  <a:lnTo>
                    <a:pt x="4288" y="1485"/>
                  </a:lnTo>
                  <a:lnTo>
                    <a:pt x="4313" y="1475"/>
                  </a:lnTo>
                  <a:lnTo>
                    <a:pt x="4338" y="1467"/>
                  </a:lnTo>
                  <a:lnTo>
                    <a:pt x="4334" y="1463"/>
                  </a:lnTo>
                  <a:lnTo>
                    <a:pt x="4334" y="1401"/>
                  </a:lnTo>
                  <a:lnTo>
                    <a:pt x="4142" y="1419"/>
                  </a:lnTo>
                  <a:close/>
                  <a:moveTo>
                    <a:pt x="4408" y="1207"/>
                  </a:moveTo>
                  <a:lnTo>
                    <a:pt x="4408" y="1207"/>
                  </a:lnTo>
                  <a:lnTo>
                    <a:pt x="4393" y="1227"/>
                  </a:lnTo>
                  <a:lnTo>
                    <a:pt x="4377" y="1248"/>
                  </a:lnTo>
                  <a:lnTo>
                    <a:pt x="4367" y="1256"/>
                  </a:lnTo>
                  <a:lnTo>
                    <a:pt x="4361" y="1265"/>
                  </a:lnTo>
                  <a:lnTo>
                    <a:pt x="4354" y="1277"/>
                  </a:lnTo>
                  <a:lnTo>
                    <a:pt x="4348" y="1289"/>
                  </a:lnTo>
                  <a:lnTo>
                    <a:pt x="4394" y="1289"/>
                  </a:lnTo>
                  <a:lnTo>
                    <a:pt x="4400" y="1279"/>
                  </a:lnTo>
                  <a:lnTo>
                    <a:pt x="4408" y="1269"/>
                  </a:lnTo>
                  <a:lnTo>
                    <a:pt x="4410" y="1260"/>
                  </a:lnTo>
                  <a:lnTo>
                    <a:pt x="4412" y="1250"/>
                  </a:lnTo>
                  <a:lnTo>
                    <a:pt x="4410" y="1238"/>
                  </a:lnTo>
                  <a:lnTo>
                    <a:pt x="4410" y="1227"/>
                  </a:lnTo>
                  <a:lnTo>
                    <a:pt x="4408" y="1215"/>
                  </a:lnTo>
                  <a:lnTo>
                    <a:pt x="4408" y="1207"/>
                  </a:lnTo>
                  <a:close/>
                  <a:moveTo>
                    <a:pt x="1303" y="1857"/>
                  </a:moveTo>
                  <a:lnTo>
                    <a:pt x="1303" y="1857"/>
                  </a:lnTo>
                  <a:lnTo>
                    <a:pt x="1295" y="1868"/>
                  </a:lnTo>
                  <a:lnTo>
                    <a:pt x="1330" y="1868"/>
                  </a:lnTo>
                  <a:lnTo>
                    <a:pt x="1357" y="1870"/>
                  </a:lnTo>
                  <a:lnTo>
                    <a:pt x="1386" y="1872"/>
                  </a:lnTo>
                  <a:lnTo>
                    <a:pt x="1414" y="1872"/>
                  </a:lnTo>
                  <a:lnTo>
                    <a:pt x="1443" y="1874"/>
                  </a:lnTo>
                  <a:lnTo>
                    <a:pt x="1470" y="1874"/>
                  </a:lnTo>
                  <a:lnTo>
                    <a:pt x="1499" y="1874"/>
                  </a:lnTo>
                  <a:lnTo>
                    <a:pt x="1528" y="1874"/>
                  </a:lnTo>
                  <a:lnTo>
                    <a:pt x="1557" y="1878"/>
                  </a:lnTo>
                  <a:lnTo>
                    <a:pt x="1578" y="1863"/>
                  </a:lnTo>
                  <a:lnTo>
                    <a:pt x="1602" y="1851"/>
                  </a:lnTo>
                  <a:lnTo>
                    <a:pt x="1627" y="1839"/>
                  </a:lnTo>
                  <a:lnTo>
                    <a:pt x="1652" y="1832"/>
                  </a:lnTo>
                  <a:lnTo>
                    <a:pt x="1677" y="1822"/>
                  </a:lnTo>
                  <a:lnTo>
                    <a:pt x="1703" y="1816"/>
                  </a:lnTo>
                  <a:lnTo>
                    <a:pt x="1728" y="1808"/>
                  </a:lnTo>
                  <a:lnTo>
                    <a:pt x="1755" y="1803"/>
                  </a:lnTo>
                  <a:lnTo>
                    <a:pt x="1827" y="1791"/>
                  </a:lnTo>
                  <a:lnTo>
                    <a:pt x="1902" y="1781"/>
                  </a:lnTo>
                  <a:lnTo>
                    <a:pt x="1980" y="1773"/>
                  </a:lnTo>
                  <a:lnTo>
                    <a:pt x="2057" y="1772"/>
                  </a:lnTo>
                  <a:lnTo>
                    <a:pt x="2133" y="1772"/>
                  </a:lnTo>
                  <a:lnTo>
                    <a:pt x="2209" y="1777"/>
                  </a:lnTo>
                  <a:lnTo>
                    <a:pt x="2281" y="1791"/>
                  </a:lnTo>
                  <a:lnTo>
                    <a:pt x="2352" y="1816"/>
                  </a:lnTo>
                  <a:lnTo>
                    <a:pt x="2360" y="1804"/>
                  </a:lnTo>
                  <a:lnTo>
                    <a:pt x="2370" y="1797"/>
                  </a:lnTo>
                  <a:lnTo>
                    <a:pt x="2379" y="1787"/>
                  </a:lnTo>
                  <a:lnTo>
                    <a:pt x="2391" y="1781"/>
                  </a:lnTo>
                  <a:lnTo>
                    <a:pt x="2401" y="1775"/>
                  </a:lnTo>
                  <a:lnTo>
                    <a:pt x="2412" y="1770"/>
                  </a:lnTo>
                  <a:lnTo>
                    <a:pt x="2426" y="1764"/>
                  </a:lnTo>
                  <a:lnTo>
                    <a:pt x="2440" y="1764"/>
                  </a:lnTo>
                  <a:lnTo>
                    <a:pt x="2463" y="1585"/>
                  </a:lnTo>
                  <a:lnTo>
                    <a:pt x="2430" y="1572"/>
                  </a:lnTo>
                  <a:lnTo>
                    <a:pt x="2395" y="1562"/>
                  </a:lnTo>
                  <a:lnTo>
                    <a:pt x="2362" y="1556"/>
                  </a:lnTo>
                  <a:lnTo>
                    <a:pt x="2327" y="1550"/>
                  </a:lnTo>
                  <a:lnTo>
                    <a:pt x="2292" y="1550"/>
                  </a:lnTo>
                  <a:lnTo>
                    <a:pt x="2257" y="1549"/>
                  </a:lnTo>
                  <a:lnTo>
                    <a:pt x="2222" y="1549"/>
                  </a:lnTo>
                  <a:lnTo>
                    <a:pt x="2187" y="1550"/>
                  </a:lnTo>
                  <a:lnTo>
                    <a:pt x="2158" y="1552"/>
                  </a:lnTo>
                  <a:lnTo>
                    <a:pt x="2137" y="1558"/>
                  </a:lnTo>
                  <a:lnTo>
                    <a:pt x="2116" y="1564"/>
                  </a:lnTo>
                  <a:lnTo>
                    <a:pt x="2094" y="1568"/>
                  </a:lnTo>
                  <a:lnTo>
                    <a:pt x="2073" y="1574"/>
                  </a:lnTo>
                  <a:lnTo>
                    <a:pt x="2050" y="1576"/>
                  </a:lnTo>
                  <a:lnTo>
                    <a:pt x="2030" y="1582"/>
                  </a:lnTo>
                  <a:lnTo>
                    <a:pt x="2009" y="1587"/>
                  </a:lnTo>
                  <a:lnTo>
                    <a:pt x="1992" y="1595"/>
                  </a:lnTo>
                  <a:lnTo>
                    <a:pt x="1900" y="1618"/>
                  </a:lnTo>
                  <a:lnTo>
                    <a:pt x="1813" y="1647"/>
                  </a:lnTo>
                  <a:lnTo>
                    <a:pt x="1726" y="1677"/>
                  </a:lnTo>
                  <a:lnTo>
                    <a:pt x="1641" y="1711"/>
                  </a:lnTo>
                  <a:lnTo>
                    <a:pt x="1553" y="1744"/>
                  </a:lnTo>
                  <a:lnTo>
                    <a:pt x="1470" y="1781"/>
                  </a:lnTo>
                  <a:lnTo>
                    <a:pt x="1385" y="1818"/>
                  </a:lnTo>
                  <a:lnTo>
                    <a:pt x="1303" y="1857"/>
                  </a:lnTo>
                  <a:close/>
                  <a:moveTo>
                    <a:pt x="3204" y="1217"/>
                  </a:moveTo>
                  <a:lnTo>
                    <a:pt x="3204" y="1217"/>
                  </a:lnTo>
                  <a:lnTo>
                    <a:pt x="3188" y="1231"/>
                  </a:lnTo>
                  <a:lnTo>
                    <a:pt x="3180" y="1252"/>
                  </a:lnTo>
                  <a:lnTo>
                    <a:pt x="3188" y="1238"/>
                  </a:lnTo>
                  <a:lnTo>
                    <a:pt x="3198" y="1233"/>
                  </a:lnTo>
                  <a:lnTo>
                    <a:pt x="3206" y="1233"/>
                  </a:lnTo>
                  <a:lnTo>
                    <a:pt x="3215" y="1238"/>
                  </a:lnTo>
                  <a:lnTo>
                    <a:pt x="3235" y="1250"/>
                  </a:lnTo>
                  <a:lnTo>
                    <a:pt x="3256" y="1258"/>
                  </a:lnTo>
                  <a:lnTo>
                    <a:pt x="3256" y="1246"/>
                  </a:lnTo>
                  <a:lnTo>
                    <a:pt x="3258" y="1236"/>
                  </a:lnTo>
                  <a:lnTo>
                    <a:pt x="3256" y="1227"/>
                  </a:lnTo>
                  <a:lnTo>
                    <a:pt x="3248" y="1221"/>
                  </a:lnTo>
                  <a:lnTo>
                    <a:pt x="3237" y="1215"/>
                  </a:lnTo>
                  <a:lnTo>
                    <a:pt x="3227" y="1213"/>
                  </a:lnTo>
                  <a:lnTo>
                    <a:pt x="3215" y="1211"/>
                  </a:lnTo>
                  <a:lnTo>
                    <a:pt x="3204" y="1217"/>
                  </a:lnTo>
                  <a:close/>
                  <a:moveTo>
                    <a:pt x="3045" y="1159"/>
                  </a:moveTo>
                  <a:lnTo>
                    <a:pt x="3045" y="1159"/>
                  </a:lnTo>
                  <a:lnTo>
                    <a:pt x="3029" y="1159"/>
                  </a:lnTo>
                  <a:lnTo>
                    <a:pt x="3016" y="1167"/>
                  </a:lnTo>
                  <a:lnTo>
                    <a:pt x="3019" y="1182"/>
                  </a:lnTo>
                  <a:lnTo>
                    <a:pt x="3021" y="1200"/>
                  </a:lnTo>
                  <a:lnTo>
                    <a:pt x="3027" y="1188"/>
                  </a:lnTo>
                  <a:lnTo>
                    <a:pt x="3033" y="1178"/>
                  </a:lnTo>
                  <a:lnTo>
                    <a:pt x="3039" y="1169"/>
                  </a:lnTo>
                  <a:lnTo>
                    <a:pt x="3045" y="1159"/>
                  </a:lnTo>
                  <a:close/>
                  <a:moveTo>
                    <a:pt x="2831" y="1258"/>
                  </a:moveTo>
                  <a:lnTo>
                    <a:pt x="2831" y="1258"/>
                  </a:lnTo>
                  <a:lnTo>
                    <a:pt x="2814" y="1265"/>
                  </a:lnTo>
                  <a:lnTo>
                    <a:pt x="2802" y="1279"/>
                  </a:lnTo>
                  <a:lnTo>
                    <a:pt x="2789" y="1295"/>
                  </a:lnTo>
                  <a:lnTo>
                    <a:pt x="2779" y="1308"/>
                  </a:lnTo>
                  <a:lnTo>
                    <a:pt x="2793" y="1310"/>
                  </a:lnTo>
                  <a:lnTo>
                    <a:pt x="2808" y="1310"/>
                  </a:lnTo>
                  <a:lnTo>
                    <a:pt x="2824" y="1304"/>
                  </a:lnTo>
                  <a:lnTo>
                    <a:pt x="2839" y="1300"/>
                  </a:lnTo>
                  <a:lnTo>
                    <a:pt x="2841" y="1289"/>
                  </a:lnTo>
                  <a:lnTo>
                    <a:pt x="2841" y="1277"/>
                  </a:lnTo>
                  <a:lnTo>
                    <a:pt x="2839" y="1265"/>
                  </a:lnTo>
                  <a:lnTo>
                    <a:pt x="2831" y="1258"/>
                  </a:lnTo>
                  <a:close/>
                  <a:moveTo>
                    <a:pt x="2946" y="1192"/>
                  </a:moveTo>
                  <a:lnTo>
                    <a:pt x="2946" y="1192"/>
                  </a:lnTo>
                  <a:lnTo>
                    <a:pt x="2934" y="1198"/>
                  </a:lnTo>
                  <a:lnTo>
                    <a:pt x="2924" y="1209"/>
                  </a:lnTo>
                  <a:lnTo>
                    <a:pt x="2913" y="1219"/>
                  </a:lnTo>
                  <a:lnTo>
                    <a:pt x="2903" y="1225"/>
                  </a:lnTo>
                  <a:lnTo>
                    <a:pt x="2919" y="1248"/>
                  </a:lnTo>
                  <a:lnTo>
                    <a:pt x="2913" y="1254"/>
                  </a:lnTo>
                  <a:lnTo>
                    <a:pt x="2911" y="1265"/>
                  </a:lnTo>
                  <a:lnTo>
                    <a:pt x="2909" y="1275"/>
                  </a:lnTo>
                  <a:lnTo>
                    <a:pt x="2907" y="1287"/>
                  </a:lnTo>
                  <a:lnTo>
                    <a:pt x="2913" y="1281"/>
                  </a:lnTo>
                  <a:lnTo>
                    <a:pt x="2917" y="1275"/>
                  </a:lnTo>
                  <a:lnTo>
                    <a:pt x="2919" y="1269"/>
                  </a:lnTo>
                  <a:lnTo>
                    <a:pt x="2928" y="1267"/>
                  </a:lnTo>
                  <a:lnTo>
                    <a:pt x="2936" y="1250"/>
                  </a:lnTo>
                  <a:lnTo>
                    <a:pt x="2946" y="1233"/>
                  </a:lnTo>
                  <a:lnTo>
                    <a:pt x="2946" y="1223"/>
                  </a:lnTo>
                  <a:lnTo>
                    <a:pt x="2948" y="1213"/>
                  </a:lnTo>
                  <a:lnTo>
                    <a:pt x="2946" y="1202"/>
                  </a:lnTo>
                  <a:lnTo>
                    <a:pt x="2946" y="1192"/>
                  </a:lnTo>
                  <a:close/>
                  <a:moveTo>
                    <a:pt x="2488" y="1223"/>
                  </a:moveTo>
                  <a:lnTo>
                    <a:pt x="2488" y="1223"/>
                  </a:lnTo>
                  <a:lnTo>
                    <a:pt x="2471" y="1233"/>
                  </a:lnTo>
                  <a:lnTo>
                    <a:pt x="2457" y="1246"/>
                  </a:lnTo>
                  <a:lnTo>
                    <a:pt x="2445" y="1262"/>
                  </a:lnTo>
                  <a:lnTo>
                    <a:pt x="2445" y="1281"/>
                  </a:lnTo>
                  <a:lnTo>
                    <a:pt x="2451" y="1295"/>
                  </a:lnTo>
                  <a:lnTo>
                    <a:pt x="2465" y="1306"/>
                  </a:lnTo>
                  <a:lnTo>
                    <a:pt x="2480" y="1312"/>
                  </a:lnTo>
                  <a:lnTo>
                    <a:pt x="2500" y="1314"/>
                  </a:lnTo>
                  <a:lnTo>
                    <a:pt x="2517" y="1310"/>
                  </a:lnTo>
                  <a:lnTo>
                    <a:pt x="2535" y="1306"/>
                  </a:lnTo>
                  <a:lnTo>
                    <a:pt x="2523" y="1297"/>
                  </a:lnTo>
                  <a:lnTo>
                    <a:pt x="2515" y="1289"/>
                  </a:lnTo>
                  <a:lnTo>
                    <a:pt x="2507" y="1279"/>
                  </a:lnTo>
                  <a:lnTo>
                    <a:pt x="2502" y="1269"/>
                  </a:lnTo>
                  <a:lnTo>
                    <a:pt x="2496" y="1258"/>
                  </a:lnTo>
                  <a:lnTo>
                    <a:pt x="2492" y="1246"/>
                  </a:lnTo>
                  <a:lnTo>
                    <a:pt x="2488" y="1234"/>
                  </a:lnTo>
                  <a:lnTo>
                    <a:pt x="2488" y="1223"/>
                  </a:lnTo>
                  <a:close/>
                  <a:moveTo>
                    <a:pt x="2554" y="1074"/>
                  </a:moveTo>
                  <a:lnTo>
                    <a:pt x="2554" y="1074"/>
                  </a:lnTo>
                  <a:lnTo>
                    <a:pt x="2544" y="1079"/>
                  </a:lnTo>
                  <a:lnTo>
                    <a:pt x="2538" y="1089"/>
                  </a:lnTo>
                  <a:lnTo>
                    <a:pt x="2535" y="1101"/>
                  </a:lnTo>
                  <a:lnTo>
                    <a:pt x="2537" y="1112"/>
                  </a:lnTo>
                  <a:lnTo>
                    <a:pt x="2554" y="1116"/>
                  </a:lnTo>
                  <a:lnTo>
                    <a:pt x="2569" y="1126"/>
                  </a:lnTo>
                  <a:lnTo>
                    <a:pt x="2581" y="1136"/>
                  </a:lnTo>
                  <a:lnTo>
                    <a:pt x="2595" y="1151"/>
                  </a:lnTo>
                  <a:lnTo>
                    <a:pt x="2602" y="1165"/>
                  </a:lnTo>
                  <a:lnTo>
                    <a:pt x="2614" y="1182"/>
                  </a:lnTo>
                  <a:lnTo>
                    <a:pt x="2624" y="1198"/>
                  </a:lnTo>
                  <a:lnTo>
                    <a:pt x="2637" y="1213"/>
                  </a:lnTo>
                  <a:lnTo>
                    <a:pt x="2632" y="1202"/>
                  </a:lnTo>
                  <a:lnTo>
                    <a:pt x="2628" y="1192"/>
                  </a:lnTo>
                  <a:lnTo>
                    <a:pt x="2626" y="1182"/>
                  </a:lnTo>
                  <a:lnTo>
                    <a:pt x="2630" y="1174"/>
                  </a:lnTo>
                  <a:lnTo>
                    <a:pt x="2620" y="1159"/>
                  </a:lnTo>
                  <a:lnTo>
                    <a:pt x="2614" y="1145"/>
                  </a:lnTo>
                  <a:lnTo>
                    <a:pt x="2606" y="1130"/>
                  </a:lnTo>
                  <a:lnTo>
                    <a:pt x="2599" y="1116"/>
                  </a:lnTo>
                  <a:lnTo>
                    <a:pt x="2589" y="1103"/>
                  </a:lnTo>
                  <a:lnTo>
                    <a:pt x="2579" y="1091"/>
                  </a:lnTo>
                  <a:lnTo>
                    <a:pt x="2568" y="1079"/>
                  </a:lnTo>
                  <a:lnTo>
                    <a:pt x="2554" y="10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00000" y="5157720"/>
              <a:ext cx="2746080" cy="986760"/>
            </a:xfrm>
            <a:custGeom>
              <a:avLst/>
              <a:gdLst/>
              <a:ahLst/>
              <a:rect l="l" t="t" r="r" b="b"/>
              <a:pathLst>
                <a:path w="3776" h="1474">
                  <a:moveTo>
                    <a:pt x="3487" y="2"/>
                  </a:moveTo>
                  <a:lnTo>
                    <a:pt x="3487" y="2"/>
                  </a:lnTo>
                  <a:lnTo>
                    <a:pt x="3475" y="0"/>
                  </a:lnTo>
                  <a:lnTo>
                    <a:pt x="3464" y="2"/>
                  </a:lnTo>
                  <a:lnTo>
                    <a:pt x="3454" y="4"/>
                  </a:lnTo>
                  <a:lnTo>
                    <a:pt x="3446" y="10"/>
                  </a:lnTo>
                  <a:lnTo>
                    <a:pt x="3429" y="20"/>
                  </a:lnTo>
                  <a:lnTo>
                    <a:pt x="3417" y="35"/>
                  </a:lnTo>
                  <a:lnTo>
                    <a:pt x="3516" y="45"/>
                  </a:lnTo>
                  <a:lnTo>
                    <a:pt x="3526" y="39"/>
                  </a:lnTo>
                  <a:lnTo>
                    <a:pt x="3536" y="39"/>
                  </a:lnTo>
                  <a:lnTo>
                    <a:pt x="3536" y="41"/>
                  </a:lnTo>
                  <a:lnTo>
                    <a:pt x="3536" y="43"/>
                  </a:lnTo>
                  <a:lnTo>
                    <a:pt x="3549" y="39"/>
                  </a:lnTo>
                  <a:lnTo>
                    <a:pt x="3565" y="37"/>
                  </a:lnTo>
                  <a:lnTo>
                    <a:pt x="3580" y="35"/>
                  </a:lnTo>
                  <a:lnTo>
                    <a:pt x="3596" y="33"/>
                  </a:lnTo>
                  <a:lnTo>
                    <a:pt x="3594" y="31"/>
                  </a:lnTo>
                  <a:lnTo>
                    <a:pt x="3594" y="30"/>
                  </a:lnTo>
                  <a:lnTo>
                    <a:pt x="3576" y="30"/>
                  </a:lnTo>
                  <a:lnTo>
                    <a:pt x="3563" y="28"/>
                  </a:lnTo>
                  <a:lnTo>
                    <a:pt x="3549" y="24"/>
                  </a:lnTo>
                  <a:lnTo>
                    <a:pt x="3537" y="20"/>
                  </a:lnTo>
                  <a:lnTo>
                    <a:pt x="3524" y="14"/>
                  </a:lnTo>
                  <a:lnTo>
                    <a:pt x="3512" y="8"/>
                  </a:lnTo>
                  <a:lnTo>
                    <a:pt x="3499" y="2"/>
                  </a:lnTo>
                  <a:lnTo>
                    <a:pt x="3487" y="2"/>
                  </a:lnTo>
                  <a:close/>
                  <a:moveTo>
                    <a:pt x="931" y="1270"/>
                  </a:moveTo>
                  <a:lnTo>
                    <a:pt x="931" y="1270"/>
                  </a:lnTo>
                  <a:lnTo>
                    <a:pt x="913" y="1282"/>
                  </a:lnTo>
                  <a:lnTo>
                    <a:pt x="902" y="1299"/>
                  </a:lnTo>
                  <a:lnTo>
                    <a:pt x="890" y="1317"/>
                  </a:lnTo>
                  <a:lnTo>
                    <a:pt x="882" y="1334"/>
                  </a:lnTo>
                  <a:lnTo>
                    <a:pt x="892" y="1346"/>
                  </a:lnTo>
                  <a:lnTo>
                    <a:pt x="904" y="1354"/>
                  </a:lnTo>
                  <a:lnTo>
                    <a:pt x="917" y="1360"/>
                  </a:lnTo>
                  <a:lnTo>
                    <a:pt x="933" y="1367"/>
                  </a:lnTo>
                  <a:lnTo>
                    <a:pt x="945" y="1365"/>
                  </a:lnTo>
                  <a:lnTo>
                    <a:pt x="960" y="1363"/>
                  </a:lnTo>
                  <a:lnTo>
                    <a:pt x="974" y="1361"/>
                  </a:lnTo>
                  <a:lnTo>
                    <a:pt x="989" y="1360"/>
                  </a:lnTo>
                  <a:lnTo>
                    <a:pt x="1001" y="1354"/>
                  </a:lnTo>
                  <a:lnTo>
                    <a:pt x="1012" y="1348"/>
                  </a:lnTo>
                  <a:lnTo>
                    <a:pt x="1022" y="1338"/>
                  </a:lnTo>
                  <a:lnTo>
                    <a:pt x="1032" y="1329"/>
                  </a:lnTo>
                  <a:lnTo>
                    <a:pt x="1036" y="1315"/>
                  </a:lnTo>
                  <a:lnTo>
                    <a:pt x="1036" y="1303"/>
                  </a:lnTo>
                  <a:lnTo>
                    <a:pt x="1030" y="1292"/>
                  </a:lnTo>
                  <a:lnTo>
                    <a:pt x="1024" y="1282"/>
                  </a:lnTo>
                  <a:lnTo>
                    <a:pt x="1007" y="1265"/>
                  </a:lnTo>
                  <a:lnTo>
                    <a:pt x="991" y="1249"/>
                  </a:lnTo>
                  <a:lnTo>
                    <a:pt x="977" y="1230"/>
                  </a:lnTo>
                  <a:lnTo>
                    <a:pt x="966" y="1212"/>
                  </a:lnTo>
                  <a:lnTo>
                    <a:pt x="956" y="1226"/>
                  </a:lnTo>
                  <a:lnTo>
                    <a:pt x="946" y="1241"/>
                  </a:lnTo>
                  <a:lnTo>
                    <a:pt x="935" y="1253"/>
                  </a:lnTo>
                  <a:lnTo>
                    <a:pt x="931" y="1270"/>
                  </a:lnTo>
                  <a:close/>
                  <a:moveTo>
                    <a:pt x="3677" y="1234"/>
                  </a:moveTo>
                  <a:lnTo>
                    <a:pt x="3677" y="1234"/>
                  </a:lnTo>
                  <a:lnTo>
                    <a:pt x="3677" y="1245"/>
                  </a:lnTo>
                  <a:lnTo>
                    <a:pt x="3683" y="1259"/>
                  </a:lnTo>
                  <a:lnTo>
                    <a:pt x="3689" y="1270"/>
                  </a:lnTo>
                  <a:lnTo>
                    <a:pt x="3696" y="1284"/>
                  </a:lnTo>
                  <a:lnTo>
                    <a:pt x="3700" y="1299"/>
                  </a:lnTo>
                  <a:lnTo>
                    <a:pt x="3710" y="1315"/>
                  </a:lnTo>
                  <a:lnTo>
                    <a:pt x="3722" y="1330"/>
                  </a:lnTo>
                  <a:lnTo>
                    <a:pt x="3735" y="1348"/>
                  </a:lnTo>
                  <a:lnTo>
                    <a:pt x="3741" y="1332"/>
                  </a:lnTo>
                  <a:lnTo>
                    <a:pt x="3743" y="1319"/>
                  </a:lnTo>
                  <a:lnTo>
                    <a:pt x="3749" y="1307"/>
                  </a:lnTo>
                  <a:lnTo>
                    <a:pt x="3755" y="1297"/>
                  </a:lnTo>
                  <a:lnTo>
                    <a:pt x="3759" y="1286"/>
                  </a:lnTo>
                  <a:lnTo>
                    <a:pt x="3762" y="1274"/>
                  </a:lnTo>
                  <a:lnTo>
                    <a:pt x="3764" y="1263"/>
                  </a:lnTo>
                  <a:lnTo>
                    <a:pt x="3768" y="1251"/>
                  </a:lnTo>
                  <a:lnTo>
                    <a:pt x="3770" y="1239"/>
                  </a:lnTo>
                  <a:lnTo>
                    <a:pt x="3774" y="1230"/>
                  </a:lnTo>
                  <a:lnTo>
                    <a:pt x="3776" y="1230"/>
                  </a:lnTo>
                  <a:lnTo>
                    <a:pt x="3774" y="1202"/>
                  </a:lnTo>
                  <a:lnTo>
                    <a:pt x="3760" y="1208"/>
                  </a:lnTo>
                  <a:lnTo>
                    <a:pt x="3749" y="1214"/>
                  </a:lnTo>
                  <a:lnTo>
                    <a:pt x="3737" y="1218"/>
                  </a:lnTo>
                  <a:lnTo>
                    <a:pt x="3726" y="1222"/>
                  </a:lnTo>
                  <a:lnTo>
                    <a:pt x="3712" y="1224"/>
                  </a:lnTo>
                  <a:lnTo>
                    <a:pt x="3700" y="1226"/>
                  </a:lnTo>
                  <a:lnTo>
                    <a:pt x="3689" y="1228"/>
                  </a:lnTo>
                  <a:lnTo>
                    <a:pt x="3677" y="1234"/>
                  </a:lnTo>
                  <a:close/>
                  <a:moveTo>
                    <a:pt x="3442" y="1371"/>
                  </a:moveTo>
                  <a:lnTo>
                    <a:pt x="3442" y="1371"/>
                  </a:lnTo>
                  <a:lnTo>
                    <a:pt x="3444" y="1383"/>
                  </a:lnTo>
                  <a:lnTo>
                    <a:pt x="3454" y="1396"/>
                  </a:lnTo>
                  <a:lnTo>
                    <a:pt x="3464" y="1410"/>
                  </a:lnTo>
                  <a:lnTo>
                    <a:pt x="3475" y="1423"/>
                  </a:lnTo>
                  <a:lnTo>
                    <a:pt x="3485" y="1433"/>
                  </a:lnTo>
                  <a:lnTo>
                    <a:pt x="3497" y="1443"/>
                  </a:lnTo>
                  <a:lnTo>
                    <a:pt x="3510" y="1451"/>
                  </a:lnTo>
                  <a:lnTo>
                    <a:pt x="3526" y="1458"/>
                  </a:lnTo>
                  <a:lnTo>
                    <a:pt x="3541" y="1462"/>
                  </a:lnTo>
                  <a:lnTo>
                    <a:pt x="3557" y="1468"/>
                  </a:lnTo>
                  <a:lnTo>
                    <a:pt x="3572" y="1470"/>
                  </a:lnTo>
                  <a:lnTo>
                    <a:pt x="3590" y="1474"/>
                  </a:lnTo>
                  <a:lnTo>
                    <a:pt x="3594" y="1456"/>
                  </a:lnTo>
                  <a:lnTo>
                    <a:pt x="3592" y="1453"/>
                  </a:lnTo>
                  <a:lnTo>
                    <a:pt x="3590" y="1451"/>
                  </a:lnTo>
                  <a:lnTo>
                    <a:pt x="3588" y="1449"/>
                  </a:lnTo>
                  <a:lnTo>
                    <a:pt x="3594" y="1447"/>
                  </a:lnTo>
                  <a:lnTo>
                    <a:pt x="3586" y="1427"/>
                  </a:lnTo>
                  <a:lnTo>
                    <a:pt x="3584" y="1408"/>
                  </a:lnTo>
                  <a:lnTo>
                    <a:pt x="3582" y="1389"/>
                  </a:lnTo>
                  <a:lnTo>
                    <a:pt x="3582" y="1371"/>
                  </a:lnTo>
                  <a:lnTo>
                    <a:pt x="3578" y="1360"/>
                  </a:lnTo>
                  <a:lnTo>
                    <a:pt x="3576" y="1348"/>
                  </a:lnTo>
                  <a:lnTo>
                    <a:pt x="3576" y="1336"/>
                  </a:lnTo>
                  <a:lnTo>
                    <a:pt x="3576" y="1325"/>
                  </a:lnTo>
                  <a:lnTo>
                    <a:pt x="3574" y="1311"/>
                  </a:lnTo>
                  <a:lnTo>
                    <a:pt x="3574" y="1301"/>
                  </a:lnTo>
                  <a:lnTo>
                    <a:pt x="3570" y="1290"/>
                  </a:lnTo>
                  <a:lnTo>
                    <a:pt x="3567" y="1284"/>
                  </a:lnTo>
                  <a:lnTo>
                    <a:pt x="3553" y="1280"/>
                  </a:lnTo>
                  <a:lnTo>
                    <a:pt x="3539" y="1282"/>
                  </a:lnTo>
                  <a:lnTo>
                    <a:pt x="3526" y="1292"/>
                  </a:lnTo>
                  <a:lnTo>
                    <a:pt x="3514" y="1303"/>
                  </a:lnTo>
                  <a:lnTo>
                    <a:pt x="3503" y="1315"/>
                  </a:lnTo>
                  <a:lnTo>
                    <a:pt x="3491" y="1327"/>
                  </a:lnTo>
                  <a:lnTo>
                    <a:pt x="3477" y="1336"/>
                  </a:lnTo>
                  <a:lnTo>
                    <a:pt x="3464" y="1348"/>
                  </a:lnTo>
                  <a:lnTo>
                    <a:pt x="3452" y="1360"/>
                  </a:lnTo>
                  <a:lnTo>
                    <a:pt x="3442" y="1371"/>
                  </a:lnTo>
                  <a:close/>
                  <a:moveTo>
                    <a:pt x="47" y="801"/>
                  </a:moveTo>
                  <a:lnTo>
                    <a:pt x="52" y="790"/>
                  </a:lnTo>
                  <a:lnTo>
                    <a:pt x="64" y="786"/>
                  </a:lnTo>
                  <a:lnTo>
                    <a:pt x="78" y="782"/>
                  </a:lnTo>
                  <a:lnTo>
                    <a:pt x="93" y="784"/>
                  </a:lnTo>
                  <a:lnTo>
                    <a:pt x="140" y="755"/>
                  </a:lnTo>
                  <a:lnTo>
                    <a:pt x="190" y="729"/>
                  </a:lnTo>
                  <a:lnTo>
                    <a:pt x="242" y="704"/>
                  </a:lnTo>
                  <a:lnTo>
                    <a:pt x="295" y="685"/>
                  </a:lnTo>
                  <a:lnTo>
                    <a:pt x="347" y="664"/>
                  </a:lnTo>
                  <a:lnTo>
                    <a:pt x="400" y="648"/>
                  </a:lnTo>
                  <a:lnTo>
                    <a:pt x="454" y="632"/>
                  </a:lnTo>
                  <a:lnTo>
                    <a:pt x="512" y="621"/>
                  </a:lnTo>
                  <a:lnTo>
                    <a:pt x="524" y="615"/>
                  </a:lnTo>
                  <a:lnTo>
                    <a:pt x="539" y="613"/>
                  </a:lnTo>
                  <a:lnTo>
                    <a:pt x="553" y="609"/>
                  </a:lnTo>
                  <a:lnTo>
                    <a:pt x="568" y="609"/>
                  </a:lnTo>
                  <a:lnTo>
                    <a:pt x="582" y="607"/>
                  </a:lnTo>
                  <a:lnTo>
                    <a:pt x="597" y="605"/>
                  </a:lnTo>
                  <a:lnTo>
                    <a:pt x="611" y="603"/>
                  </a:lnTo>
                  <a:lnTo>
                    <a:pt x="626" y="603"/>
                  </a:lnTo>
                  <a:lnTo>
                    <a:pt x="607" y="623"/>
                  </a:lnTo>
                  <a:lnTo>
                    <a:pt x="590" y="644"/>
                  </a:lnTo>
                  <a:lnTo>
                    <a:pt x="574" y="667"/>
                  </a:lnTo>
                  <a:lnTo>
                    <a:pt x="561" y="691"/>
                  </a:lnTo>
                  <a:lnTo>
                    <a:pt x="543" y="712"/>
                  </a:lnTo>
                  <a:lnTo>
                    <a:pt x="528" y="735"/>
                  </a:lnTo>
                  <a:lnTo>
                    <a:pt x="510" y="757"/>
                  </a:lnTo>
                  <a:lnTo>
                    <a:pt x="495" y="780"/>
                  </a:lnTo>
                  <a:lnTo>
                    <a:pt x="487" y="795"/>
                  </a:lnTo>
                  <a:lnTo>
                    <a:pt x="481" y="811"/>
                  </a:lnTo>
                  <a:lnTo>
                    <a:pt x="469" y="826"/>
                  </a:lnTo>
                  <a:lnTo>
                    <a:pt x="460" y="842"/>
                  </a:lnTo>
                  <a:lnTo>
                    <a:pt x="444" y="854"/>
                  </a:lnTo>
                  <a:lnTo>
                    <a:pt x="431" y="865"/>
                  </a:lnTo>
                  <a:lnTo>
                    <a:pt x="415" y="875"/>
                  </a:lnTo>
                  <a:lnTo>
                    <a:pt x="401" y="883"/>
                  </a:lnTo>
                  <a:lnTo>
                    <a:pt x="401" y="894"/>
                  </a:lnTo>
                  <a:lnTo>
                    <a:pt x="411" y="904"/>
                  </a:lnTo>
                  <a:lnTo>
                    <a:pt x="417" y="902"/>
                  </a:lnTo>
                  <a:lnTo>
                    <a:pt x="421" y="898"/>
                  </a:lnTo>
                  <a:lnTo>
                    <a:pt x="423" y="892"/>
                  </a:lnTo>
                  <a:lnTo>
                    <a:pt x="429" y="892"/>
                  </a:lnTo>
                  <a:lnTo>
                    <a:pt x="462" y="877"/>
                  </a:lnTo>
                  <a:lnTo>
                    <a:pt x="489" y="855"/>
                  </a:lnTo>
                  <a:lnTo>
                    <a:pt x="506" y="828"/>
                  </a:lnTo>
                  <a:lnTo>
                    <a:pt x="522" y="801"/>
                  </a:lnTo>
                  <a:lnTo>
                    <a:pt x="533" y="770"/>
                  </a:lnTo>
                  <a:lnTo>
                    <a:pt x="547" y="741"/>
                  </a:lnTo>
                  <a:lnTo>
                    <a:pt x="566" y="710"/>
                  </a:lnTo>
                  <a:lnTo>
                    <a:pt x="592" y="687"/>
                  </a:lnTo>
                  <a:lnTo>
                    <a:pt x="625" y="640"/>
                  </a:lnTo>
                  <a:lnTo>
                    <a:pt x="665" y="601"/>
                  </a:lnTo>
                  <a:lnTo>
                    <a:pt x="708" y="565"/>
                  </a:lnTo>
                  <a:lnTo>
                    <a:pt x="756" y="536"/>
                  </a:lnTo>
                  <a:lnTo>
                    <a:pt x="805" y="510"/>
                  </a:lnTo>
                  <a:lnTo>
                    <a:pt x="859" y="495"/>
                  </a:lnTo>
                  <a:lnTo>
                    <a:pt x="913" y="489"/>
                  </a:lnTo>
                  <a:lnTo>
                    <a:pt x="974" y="497"/>
                  </a:lnTo>
                  <a:lnTo>
                    <a:pt x="985" y="499"/>
                  </a:lnTo>
                  <a:lnTo>
                    <a:pt x="999" y="503"/>
                  </a:lnTo>
                  <a:lnTo>
                    <a:pt x="1010" y="508"/>
                  </a:lnTo>
                  <a:lnTo>
                    <a:pt x="1024" y="514"/>
                  </a:lnTo>
                  <a:lnTo>
                    <a:pt x="1036" y="518"/>
                  </a:lnTo>
                  <a:lnTo>
                    <a:pt x="1049" y="524"/>
                  </a:lnTo>
                  <a:lnTo>
                    <a:pt x="1063" y="530"/>
                  </a:lnTo>
                  <a:lnTo>
                    <a:pt x="1078" y="536"/>
                  </a:lnTo>
                  <a:lnTo>
                    <a:pt x="1107" y="553"/>
                  </a:lnTo>
                  <a:lnTo>
                    <a:pt x="1138" y="574"/>
                  </a:lnTo>
                  <a:lnTo>
                    <a:pt x="1166" y="598"/>
                  </a:lnTo>
                  <a:lnTo>
                    <a:pt x="1193" y="621"/>
                  </a:lnTo>
                  <a:lnTo>
                    <a:pt x="1220" y="642"/>
                  </a:lnTo>
                  <a:lnTo>
                    <a:pt x="1247" y="665"/>
                  </a:lnTo>
                  <a:lnTo>
                    <a:pt x="1276" y="687"/>
                  </a:lnTo>
                  <a:lnTo>
                    <a:pt x="1309" y="710"/>
                  </a:lnTo>
                  <a:lnTo>
                    <a:pt x="1383" y="739"/>
                  </a:lnTo>
                  <a:lnTo>
                    <a:pt x="1458" y="768"/>
                  </a:lnTo>
                  <a:lnTo>
                    <a:pt x="1536" y="791"/>
                  </a:lnTo>
                  <a:lnTo>
                    <a:pt x="1616" y="815"/>
                  </a:lnTo>
                  <a:lnTo>
                    <a:pt x="1695" y="830"/>
                  </a:lnTo>
                  <a:lnTo>
                    <a:pt x="1778" y="846"/>
                  </a:lnTo>
                  <a:lnTo>
                    <a:pt x="1860" y="857"/>
                  </a:lnTo>
                  <a:lnTo>
                    <a:pt x="1947" y="867"/>
                  </a:lnTo>
                  <a:lnTo>
                    <a:pt x="1959" y="867"/>
                  </a:lnTo>
                  <a:lnTo>
                    <a:pt x="1970" y="869"/>
                  </a:lnTo>
                  <a:lnTo>
                    <a:pt x="1980" y="871"/>
                  </a:lnTo>
                  <a:lnTo>
                    <a:pt x="1992" y="875"/>
                  </a:lnTo>
                  <a:lnTo>
                    <a:pt x="2001" y="877"/>
                  </a:lnTo>
                  <a:lnTo>
                    <a:pt x="2013" y="879"/>
                  </a:lnTo>
                  <a:lnTo>
                    <a:pt x="2025" y="881"/>
                  </a:lnTo>
                  <a:lnTo>
                    <a:pt x="2038" y="883"/>
                  </a:lnTo>
                  <a:lnTo>
                    <a:pt x="2056" y="886"/>
                  </a:lnTo>
                  <a:lnTo>
                    <a:pt x="2071" y="892"/>
                  </a:lnTo>
                  <a:lnTo>
                    <a:pt x="2085" y="898"/>
                  </a:lnTo>
                  <a:lnTo>
                    <a:pt x="2102" y="912"/>
                  </a:lnTo>
                  <a:lnTo>
                    <a:pt x="2122" y="917"/>
                  </a:lnTo>
                  <a:lnTo>
                    <a:pt x="2143" y="929"/>
                  </a:lnTo>
                  <a:lnTo>
                    <a:pt x="2160" y="943"/>
                  </a:lnTo>
                  <a:lnTo>
                    <a:pt x="2180" y="960"/>
                  </a:lnTo>
                  <a:lnTo>
                    <a:pt x="2195" y="978"/>
                  </a:lnTo>
                  <a:lnTo>
                    <a:pt x="2211" y="997"/>
                  </a:lnTo>
                  <a:lnTo>
                    <a:pt x="2223" y="1016"/>
                  </a:lnTo>
                  <a:lnTo>
                    <a:pt x="2236" y="1038"/>
                  </a:lnTo>
                  <a:lnTo>
                    <a:pt x="2236" y="1047"/>
                  </a:lnTo>
                  <a:lnTo>
                    <a:pt x="2238" y="1059"/>
                  </a:lnTo>
                  <a:lnTo>
                    <a:pt x="2238" y="1071"/>
                  </a:lnTo>
                  <a:lnTo>
                    <a:pt x="2238" y="1082"/>
                  </a:lnTo>
                  <a:lnTo>
                    <a:pt x="2236" y="1092"/>
                  </a:lnTo>
                  <a:lnTo>
                    <a:pt x="2232" y="1104"/>
                  </a:lnTo>
                  <a:lnTo>
                    <a:pt x="2226" y="1113"/>
                  </a:lnTo>
                  <a:lnTo>
                    <a:pt x="2221" y="1123"/>
                  </a:lnTo>
                  <a:lnTo>
                    <a:pt x="2207" y="1133"/>
                  </a:lnTo>
                  <a:lnTo>
                    <a:pt x="2193" y="1140"/>
                  </a:lnTo>
                  <a:lnTo>
                    <a:pt x="2176" y="1146"/>
                  </a:lnTo>
                  <a:lnTo>
                    <a:pt x="2160" y="1152"/>
                  </a:lnTo>
                  <a:lnTo>
                    <a:pt x="2118" y="1160"/>
                  </a:lnTo>
                  <a:lnTo>
                    <a:pt x="2075" y="1168"/>
                  </a:lnTo>
                  <a:lnTo>
                    <a:pt x="2032" y="1173"/>
                  </a:lnTo>
                  <a:lnTo>
                    <a:pt x="1992" y="1179"/>
                  </a:lnTo>
                  <a:lnTo>
                    <a:pt x="1947" y="1183"/>
                  </a:lnTo>
                  <a:lnTo>
                    <a:pt x="1904" y="1189"/>
                  </a:lnTo>
                  <a:lnTo>
                    <a:pt x="1860" y="1193"/>
                  </a:lnTo>
                  <a:lnTo>
                    <a:pt x="1819" y="1199"/>
                  </a:lnTo>
                  <a:lnTo>
                    <a:pt x="1778" y="1199"/>
                  </a:lnTo>
                  <a:lnTo>
                    <a:pt x="1738" y="1199"/>
                  </a:lnTo>
                  <a:lnTo>
                    <a:pt x="1697" y="1199"/>
                  </a:lnTo>
                  <a:lnTo>
                    <a:pt x="1658" y="1201"/>
                  </a:lnTo>
                  <a:lnTo>
                    <a:pt x="1617" y="1199"/>
                  </a:lnTo>
                  <a:lnTo>
                    <a:pt x="1577" y="1199"/>
                  </a:lnTo>
                  <a:lnTo>
                    <a:pt x="1538" y="1199"/>
                  </a:lnTo>
                  <a:lnTo>
                    <a:pt x="1501" y="1199"/>
                  </a:lnTo>
                  <a:lnTo>
                    <a:pt x="1480" y="1197"/>
                  </a:lnTo>
                  <a:lnTo>
                    <a:pt x="1460" y="1195"/>
                  </a:lnTo>
                  <a:lnTo>
                    <a:pt x="1439" y="1195"/>
                  </a:lnTo>
                  <a:lnTo>
                    <a:pt x="1420" y="1195"/>
                  </a:lnTo>
                  <a:lnTo>
                    <a:pt x="1398" y="1193"/>
                  </a:lnTo>
                  <a:lnTo>
                    <a:pt x="1379" y="1193"/>
                  </a:lnTo>
                  <a:lnTo>
                    <a:pt x="1358" y="1193"/>
                  </a:lnTo>
                  <a:lnTo>
                    <a:pt x="1338" y="1193"/>
                  </a:lnTo>
                  <a:lnTo>
                    <a:pt x="1340" y="1166"/>
                  </a:lnTo>
                  <a:lnTo>
                    <a:pt x="1340" y="1139"/>
                  </a:lnTo>
                  <a:lnTo>
                    <a:pt x="1338" y="1109"/>
                  </a:lnTo>
                  <a:lnTo>
                    <a:pt x="1338" y="1082"/>
                  </a:lnTo>
                  <a:lnTo>
                    <a:pt x="1332" y="1053"/>
                  </a:lnTo>
                  <a:lnTo>
                    <a:pt x="1329" y="1026"/>
                  </a:lnTo>
                  <a:lnTo>
                    <a:pt x="1323" y="997"/>
                  </a:lnTo>
                  <a:lnTo>
                    <a:pt x="1319" y="972"/>
                  </a:lnTo>
                  <a:lnTo>
                    <a:pt x="1309" y="952"/>
                  </a:lnTo>
                  <a:lnTo>
                    <a:pt x="1303" y="935"/>
                  </a:lnTo>
                  <a:lnTo>
                    <a:pt x="1296" y="916"/>
                  </a:lnTo>
                  <a:lnTo>
                    <a:pt x="1290" y="898"/>
                  </a:lnTo>
                  <a:lnTo>
                    <a:pt x="1282" y="881"/>
                  </a:lnTo>
                  <a:lnTo>
                    <a:pt x="1276" y="863"/>
                  </a:lnTo>
                  <a:lnTo>
                    <a:pt x="1266" y="846"/>
                  </a:lnTo>
                  <a:lnTo>
                    <a:pt x="1257" y="832"/>
                  </a:lnTo>
                  <a:lnTo>
                    <a:pt x="1243" y="809"/>
                  </a:lnTo>
                  <a:lnTo>
                    <a:pt x="1230" y="788"/>
                  </a:lnTo>
                  <a:lnTo>
                    <a:pt x="1214" y="766"/>
                  </a:lnTo>
                  <a:lnTo>
                    <a:pt x="1199" y="749"/>
                  </a:lnTo>
                  <a:lnTo>
                    <a:pt x="1179" y="731"/>
                  </a:lnTo>
                  <a:lnTo>
                    <a:pt x="1162" y="714"/>
                  </a:lnTo>
                  <a:lnTo>
                    <a:pt x="1142" y="698"/>
                  </a:lnTo>
                  <a:lnTo>
                    <a:pt x="1125" y="685"/>
                  </a:lnTo>
                  <a:lnTo>
                    <a:pt x="1111" y="677"/>
                  </a:lnTo>
                  <a:lnTo>
                    <a:pt x="1098" y="669"/>
                  </a:lnTo>
                  <a:lnTo>
                    <a:pt x="1084" y="660"/>
                  </a:lnTo>
                  <a:lnTo>
                    <a:pt x="1073" y="654"/>
                  </a:lnTo>
                  <a:lnTo>
                    <a:pt x="1034" y="638"/>
                  </a:lnTo>
                  <a:lnTo>
                    <a:pt x="995" y="629"/>
                  </a:lnTo>
                  <a:lnTo>
                    <a:pt x="954" y="621"/>
                  </a:lnTo>
                  <a:lnTo>
                    <a:pt x="913" y="621"/>
                  </a:lnTo>
                  <a:lnTo>
                    <a:pt x="873" y="621"/>
                  </a:lnTo>
                  <a:lnTo>
                    <a:pt x="832" y="629"/>
                  </a:lnTo>
                  <a:lnTo>
                    <a:pt x="793" y="640"/>
                  </a:lnTo>
                  <a:lnTo>
                    <a:pt x="758" y="660"/>
                  </a:lnTo>
                  <a:lnTo>
                    <a:pt x="747" y="665"/>
                  </a:lnTo>
                  <a:lnTo>
                    <a:pt x="737" y="677"/>
                  </a:lnTo>
                  <a:lnTo>
                    <a:pt x="727" y="687"/>
                  </a:lnTo>
                  <a:lnTo>
                    <a:pt x="718" y="698"/>
                  </a:lnTo>
                  <a:lnTo>
                    <a:pt x="706" y="708"/>
                  </a:lnTo>
                  <a:lnTo>
                    <a:pt x="696" y="720"/>
                  </a:lnTo>
                  <a:lnTo>
                    <a:pt x="687" y="727"/>
                  </a:lnTo>
                  <a:lnTo>
                    <a:pt x="677" y="737"/>
                  </a:lnTo>
                  <a:lnTo>
                    <a:pt x="657" y="764"/>
                  </a:lnTo>
                  <a:lnTo>
                    <a:pt x="640" y="793"/>
                  </a:lnTo>
                  <a:lnTo>
                    <a:pt x="621" y="822"/>
                  </a:lnTo>
                  <a:lnTo>
                    <a:pt x="605" y="852"/>
                  </a:lnTo>
                  <a:lnTo>
                    <a:pt x="588" y="881"/>
                  </a:lnTo>
                  <a:lnTo>
                    <a:pt x="572" y="912"/>
                  </a:lnTo>
                  <a:lnTo>
                    <a:pt x="561" y="943"/>
                  </a:lnTo>
                  <a:lnTo>
                    <a:pt x="553" y="978"/>
                  </a:lnTo>
                  <a:lnTo>
                    <a:pt x="547" y="991"/>
                  </a:lnTo>
                  <a:lnTo>
                    <a:pt x="541" y="1007"/>
                  </a:lnTo>
                  <a:lnTo>
                    <a:pt x="531" y="1020"/>
                  </a:lnTo>
                  <a:lnTo>
                    <a:pt x="524" y="1034"/>
                  </a:lnTo>
                  <a:lnTo>
                    <a:pt x="510" y="1045"/>
                  </a:lnTo>
                  <a:lnTo>
                    <a:pt x="497" y="1057"/>
                  </a:lnTo>
                  <a:lnTo>
                    <a:pt x="483" y="1069"/>
                  </a:lnTo>
                  <a:lnTo>
                    <a:pt x="471" y="1082"/>
                  </a:lnTo>
                  <a:lnTo>
                    <a:pt x="434" y="1096"/>
                  </a:lnTo>
                  <a:lnTo>
                    <a:pt x="400" y="1104"/>
                  </a:lnTo>
                  <a:lnTo>
                    <a:pt x="363" y="1106"/>
                  </a:lnTo>
                  <a:lnTo>
                    <a:pt x="326" y="1106"/>
                  </a:lnTo>
                  <a:lnTo>
                    <a:pt x="287" y="1102"/>
                  </a:lnTo>
                  <a:lnTo>
                    <a:pt x="248" y="1098"/>
                  </a:lnTo>
                  <a:lnTo>
                    <a:pt x="209" y="1096"/>
                  </a:lnTo>
                  <a:lnTo>
                    <a:pt x="171" y="1098"/>
                  </a:lnTo>
                  <a:lnTo>
                    <a:pt x="161" y="1094"/>
                  </a:lnTo>
                  <a:lnTo>
                    <a:pt x="153" y="1092"/>
                  </a:lnTo>
                  <a:lnTo>
                    <a:pt x="145" y="1090"/>
                  </a:lnTo>
                  <a:lnTo>
                    <a:pt x="145" y="1082"/>
                  </a:lnTo>
                  <a:lnTo>
                    <a:pt x="128" y="1071"/>
                  </a:lnTo>
                  <a:lnTo>
                    <a:pt x="116" y="1057"/>
                  </a:lnTo>
                  <a:lnTo>
                    <a:pt x="105" y="1042"/>
                  </a:lnTo>
                  <a:lnTo>
                    <a:pt x="97" y="1026"/>
                  </a:lnTo>
                  <a:lnTo>
                    <a:pt x="87" y="1009"/>
                  </a:lnTo>
                  <a:lnTo>
                    <a:pt x="80" y="991"/>
                  </a:lnTo>
                  <a:lnTo>
                    <a:pt x="70" y="974"/>
                  </a:lnTo>
                  <a:lnTo>
                    <a:pt x="62" y="960"/>
                  </a:lnTo>
                  <a:lnTo>
                    <a:pt x="50" y="947"/>
                  </a:lnTo>
                  <a:lnTo>
                    <a:pt x="41" y="935"/>
                  </a:lnTo>
                  <a:lnTo>
                    <a:pt x="29" y="923"/>
                  </a:lnTo>
                  <a:lnTo>
                    <a:pt x="19" y="912"/>
                  </a:lnTo>
                  <a:lnTo>
                    <a:pt x="8" y="896"/>
                  </a:lnTo>
                  <a:lnTo>
                    <a:pt x="4" y="883"/>
                  </a:lnTo>
                  <a:lnTo>
                    <a:pt x="0" y="867"/>
                  </a:lnTo>
                  <a:lnTo>
                    <a:pt x="2" y="852"/>
                  </a:lnTo>
                  <a:lnTo>
                    <a:pt x="14" y="838"/>
                  </a:lnTo>
                  <a:lnTo>
                    <a:pt x="27" y="826"/>
                  </a:lnTo>
                  <a:lnTo>
                    <a:pt x="39" y="813"/>
                  </a:lnTo>
                  <a:lnTo>
                    <a:pt x="47" y="80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3400" y="5738760"/>
              <a:ext cx="1080" cy="93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2" y="6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8760" y="5899680"/>
              <a:ext cx="215280" cy="62640"/>
            </a:xfrm>
            <a:custGeom>
              <a:avLst/>
              <a:gdLst/>
              <a:ahLst/>
              <a:rect l="l" t="t" r="r" b="b"/>
              <a:pathLst>
                <a:path w="297" h="95">
                  <a:moveTo>
                    <a:pt x="250" y="0"/>
                  </a:moveTo>
                  <a:lnTo>
                    <a:pt x="258" y="0"/>
                  </a:lnTo>
                  <a:lnTo>
                    <a:pt x="268" y="2"/>
                  </a:lnTo>
                  <a:lnTo>
                    <a:pt x="272" y="6"/>
                  </a:lnTo>
                  <a:lnTo>
                    <a:pt x="276" y="18"/>
                  </a:lnTo>
                  <a:lnTo>
                    <a:pt x="274" y="35"/>
                  </a:lnTo>
                  <a:lnTo>
                    <a:pt x="279" y="57"/>
                  </a:lnTo>
                  <a:lnTo>
                    <a:pt x="285" y="74"/>
                  </a:lnTo>
                  <a:lnTo>
                    <a:pt x="297" y="95"/>
                  </a:lnTo>
                  <a:lnTo>
                    <a:pt x="256" y="90"/>
                  </a:lnTo>
                  <a:lnTo>
                    <a:pt x="219" y="84"/>
                  </a:lnTo>
                  <a:lnTo>
                    <a:pt x="181" y="74"/>
                  </a:lnTo>
                  <a:lnTo>
                    <a:pt x="146" y="64"/>
                  </a:lnTo>
                  <a:lnTo>
                    <a:pt x="109" y="53"/>
                  </a:lnTo>
                  <a:lnTo>
                    <a:pt x="72" y="41"/>
                  </a:lnTo>
                  <a:lnTo>
                    <a:pt x="35" y="30"/>
                  </a:lnTo>
                  <a:lnTo>
                    <a:pt x="0" y="18"/>
                  </a:lnTo>
                  <a:lnTo>
                    <a:pt x="29" y="20"/>
                  </a:lnTo>
                  <a:lnTo>
                    <a:pt x="58" y="22"/>
                  </a:lnTo>
                  <a:lnTo>
                    <a:pt x="89" y="22"/>
                  </a:lnTo>
                  <a:lnTo>
                    <a:pt x="122" y="22"/>
                  </a:lnTo>
                  <a:lnTo>
                    <a:pt x="153" y="18"/>
                  </a:lnTo>
                  <a:lnTo>
                    <a:pt x="186" y="14"/>
                  </a:lnTo>
                  <a:lnTo>
                    <a:pt x="217" y="8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1160" y="5856840"/>
              <a:ext cx="47520" cy="11880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41" y="0"/>
                  </a:moveTo>
                  <a:lnTo>
                    <a:pt x="51" y="3"/>
                  </a:lnTo>
                  <a:lnTo>
                    <a:pt x="47" y="23"/>
                  </a:lnTo>
                  <a:lnTo>
                    <a:pt x="45" y="46"/>
                  </a:lnTo>
                  <a:lnTo>
                    <a:pt x="45" y="65"/>
                  </a:lnTo>
                  <a:lnTo>
                    <a:pt x="47" y="89"/>
                  </a:lnTo>
                  <a:lnTo>
                    <a:pt x="47" y="108"/>
                  </a:lnTo>
                  <a:lnTo>
                    <a:pt x="52" y="131"/>
                  </a:lnTo>
                  <a:lnTo>
                    <a:pt x="58" y="151"/>
                  </a:lnTo>
                  <a:lnTo>
                    <a:pt x="68" y="174"/>
                  </a:lnTo>
                  <a:lnTo>
                    <a:pt x="54" y="178"/>
                  </a:lnTo>
                  <a:lnTo>
                    <a:pt x="41" y="174"/>
                  </a:lnTo>
                  <a:lnTo>
                    <a:pt x="33" y="162"/>
                  </a:lnTo>
                  <a:lnTo>
                    <a:pt x="25" y="151"/>
                  </a:lnTo>
                  <a:lnTo>
                    <a:pt x="19" y="139"/>
                  </a:lnTo>
                  <a:lnTo>
                    <a:pt x="16" y="127"/>
                  </a:lnTo>
                  <a:lnTo>
                    <a:pt x="10" y="114"/>
                  </a:lnTo>
                  <a:lnTo>
                    <a:pt x="6" y="100"/>
                  </a:lnTo>
                  <a:lnTo>
                    <a:pt x="2" y="89"/>
                  </a:lnTo>
                  <a:lnTo>
                    <a:pt x="2" y="77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8" y="42"/>
                  </a:lnTo>
                  <a:lnTo>
                    <a:pt x="14" y="34"/>
                  </a:lnTo>
                  <a:lnTo>
                    <a:pt x="27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28040" y="5603760"/>
              <a:ext cx="478440" cy="612000"/>
            </a:xfrm>
            <a:custGeom>
              <a:avLst/>
              <a:gdLst/>
              <a:ahLst/>
              <a:rect l="l" t="t" r="r" b="b"/>
              <a:pathLst>
                <a:path w="657" h="916">
                  <a:moveTo>
                    <a:pt x="87" y="140"/>
                  </a:moveTo>
                  <a:lnTo>
                    <a:pt x="106" y="113"/>
                  </a:lnTo>
                  <a:lnTo>
                    <a:pt x="130" y="88"/>
                  </a:lnTo>
                  <a:lnTo>
                    <a:pt x="153" y="64"/>
                  </a:lnTo>
                  <a:lnTo>
                    <a:pt x="180" y="43"/>
                  </a:lnTo>
                  <a:lnTo>
                    <a:pt x="205" y="24"/>
                  </a:lnTo>
                  <a:lnTo>
                    <a:pt x="236" y="12"/>
                  </a:lnTo>
                  <a:lnTo>
                    <a:pt x="267" y="2"/>
                  </a:lnTo>
                  <a:lnTo>
                    <a:pt x="304" y="0"/>
                  </a:lnTo>
                  <a:lnTo>
                    <a:pt x="335" y="0"/>
                  </a:lnTo>
                  <a:lnTo>
                    <a:pt x="368" y="6"/>
                  </a:lnTo>
                  <a:lnTo>
                    <a:pt x="399" y="14"/>
                  </a:lnTo>
                  <a:lnTo>
                    <a:pt x="430" y="28"/>
                  </a:lnTo>
                  <a:lnTo>
                    <a:pt x="457" y="43"/>
                  </a:lnTo>
                  <a:lnTo>
                    <a:pt x="484" y="62"/>
                  </a:lnTo>
                  <a:lnTo>
                    <a:pt x="508" y="86"/>
                  </a:lnTo>
                  <a:lnTo>
                    <a:pt x="531" y="117"/>
                  </a:lnTo>
                  <a:lnTo>
                    <a:pt x="545" y="138"/>
                  </a:lnTo>
                  <a:lnTo>
                    <a:pt x="562" y="161"/>
                  </a:lnTo>
                  <a:lnTo>
                    <a:pt x="578" y="183"/>
                  </a:lnTo>
                  <a:lnTo>
                    <a:pt x="593" y="204"/>
                  </a:lnTo>
                  <a:lnTo>
                    <a:pt x="607" y="225"/>
                  </a:lnTo>
                  <a:lnTo>
                    <a:pt x="620" y="249"/>
                  </a:lnTo>
                  <a:lnTo>
                    <a:pt x="632" y="272"/>
                  </a:lnTo>
                  <a:lnTo>
                    <a:pt x="642" y="301"/>
                  </a:lnTo>
                  <a:lnTo>
                    <a:pt x="643" y="324"/>
                  </a:lnTo>
                  <a:lnTo>
                    <a:pt x="645" y="349"/>
                  </a:lnTo>
                  <a:lnTo>
                    <a:pt x="647" y="375"/>
                  </a:lnTo>
                  <a:lnTo>
                    <a:pt x="651" y="402"/>
                  </a:lnTo>
                  <a:lnTo>
                    <a:pt x="651" y="427"/>
                  </a:lnTo>
                  <a:lnTo>
                    <a:pt x="653" y="454"/>
                  </a:lnTo>
                  <a:lnTo>
                    <a:pt x="655" y="481"/>
                  </a:lnTo>
                  <a:lnTo>
                    <a:pt x="657" y="508"/>
                  </a:lnTo>
                  <a:lnTo>
                    <a:pt x="649" y="524"/>
                  </a:lnTo>
                  <a:lnTo>
                    <a:pt x="649" y="545"/>
                  </a:lnTo>
                  <a:lnTo>
                    <a:pt x="647" y="565"/>
                  </a:lnTo>
                  <a:lnTo>
                    <a:pt x="647" y="584"/>
                  </a:lnTo>
                  <a:lnTo>
                    <a:pt x="640" y="611"/>
                  </a:lnTo>
                  <a:lnTo>
                    <a:pt x="632" y="640"/>
                  </a:lnTo>
                  <a:lnTo>
                    <a:pt x="624" y="667"/>
                  </a:lnTo>
                  <a:lnTo>
                    <a:pt x="616" y="695"/>
                  </a:lnTo>
                  <a:lnTo>
                    <a:pt x="607" y="720"/>
                  </a:lnTo>
                  <a:lnTo>
                    <a:pt x="597" y="747"/>
                  </a:lnTo>
                  <a:lnTo>
                    <a:pt x="585" y="774"/>
                  </a:lnTo>
                  <a:lnTo>
                    <a:pt x="574" y="801"/>
                  </a:lnTo>
                  <a:lnTo>
                    <a:pt x="560" y="819"/>
                  </a:lnTo>
                  <a:lnTo>
                    <a:pt x="548" y="836"/>
                  </a:lnTo>
                  <a:lnTo>
                    <a:pt x="533" y="850"/>
                  </a:lnTo>
                  <a:lnTo>
                    <a:pt x="517" y="863"/>
                  </a:lnTo>
                  <a:lnTo>
                    <a:pt x="498" y="873"/>
                  </a:lnTo>
                  <a:lnTo>
                    <a:pt x="481" y="885"/>
                  </a:lnTo>
                  <a:lnTo>
                    <a:pt x="463" y="894"/>
                  </a:lnTo>
                  <a:lnTo>
                    <a:pt x="448" y="906"/>
                  </a:lnTo>
                  <a:lnTo>
                    <a:pt x="434" y="908"/>
                  </a:lnTo>
                  <a:lnTo>
                    <a:pt x="420" y="910"/>
                  </a:lnTo>
                  <a:lnTo>
                    <a:pt x="407" y="910"/>
                  </a:lnTo>
                  <a:lnTo>
                    <a:pt x="401" y="916"/>
                  </a:lnTo>
                  <a:lnTo>
                    <a:pt x="374" y="912"/>
                  </a:lnTo>
                  <a:lnTo>
                    <a:pt x="347" y="910"/>
                  </a:lnTo>
                  <a:lnTo>
                    <a:pt x="320" y="906"/>
                  </a:lnTo>
                  <a:lnTo>
                    <a:pt x="292" y="902"/>
                  </a:lnTo>
                  <a:lnTo>
                    <a:pt x="265" y="894"/>
                  </a:lnTo>
                  <a:lnTo>
                    <a:pt x="242" y="883"/>
                  </a:lnTo>
                  <a:lnTo>
                    <a:pt x="217" y="869"/>
                  </a:lnTo>
                  <a:lnTo>
                    <a:pt x="197" y="853"/>
                  </a:lnTo>
                  <a:lnTo>
                    <a:pt x="178" y="840"/>
                  </a:lnTo>
                  <a:lnTo>
                    <a:pt x="163" y="828"/>
                  </a:lnTo>
                  <a:lnTo>
                    <a:pt x="147" y="813"/>
                  </a:lnTo>
                  <a:lnTo>
                    <a:pt x="135" y="799"/>
                  </a:lnTo>
                  <a:lnTo>
                    <a:pt x="124" y="782"/>
                  </a:lnTo>
                  <a:lnTo>
                    <a:pt x="112" y="764"/>
                  </a:lnTo>
                  <a:lnTo>
                    <a:pt x="102" y="747"/>
                  </a:lnTo>
                  <a:lnTo>
                    <a:pt x="93" y="731"/>
                  </a:lnTo>
                  <a:lnTo>
                    <a:pt x="75" y="706"/>
                  </a:lnTo>
                  <a:lnTo>
                    <a:pt x="62" y="683"/>
                  </a:lnTo>
                  <a:lnTo>
                    <a:pt x="50" y="658"/>
                  </a:lnTo>
                  <a:lnTo>
                    <a:pt x="40" y="632"/>
                  </a:lnTo>
                  <a:lnTo>
                    <a:pt x="31" y="605"/>
                  </a:lnTo>
                  <a:lnTo>
                    <a:pt x="23" y="580"/>
                  </a:lnTo>
                  <a:lnTo>
                    <a:pt x="15" y="553"/>
                  </a:lnTo>
                  <a:lnTo>
                    <a:pt x="9" y="530"/>
                  </a:lnTo>
                  <a:lnTo>
                    <a:pt x="3" y="495"/>
                  </a:lnTo>
                  <a:lnTo>
                    <a:pt x="2" y="460"/>
                  </a:lnTo>
                  <a:lnTo>
                    <a:pt x="0" y="425"/>
                  </a:lnTo>
                  <a:lnTo>
                    <a:pt x="2" y="390"/>
                  </a:lnTo>
                  <a:lnTo>
                    <a:pt x="2" y="355"/>
                  </a:lnTo>
                  <a:lnTo>
                    <a:pt x="5" y="320"/>
                  </a:lnTo>
                  <a:lnTo>
                    <a:pt x="11" y="285"/>
                  </a:lnTo>
                  <a:lnTo>
                    <a:pt x="23" y="252"/>
                  </a:lnTo>
                  <a:lnTo>
                    <a:pt x="27" y="235"/>
                  </a:lnTo>
                  <a:lnTo>
                    <a:pt x="33" y="221"/>
                  </a:lnTo>
                  <a:lnTo>
                    <a:pt x="40" y="206"/>
                  </a:lnTo>
                  <a:lnTo>
                    <a:pt x="50" y="194"/>
                  </a:lnTo>
                  <a:lnTo>
                    <a:pt x="58" y="181"/>
                  </a:lnTo>
                  <a:lnTo>
                    <a:pt x="67" y="167"/>
                  </a:lnTo>
                  <a:lnTo>
                    <a:pt x="77" y="154"/>
                  </a:lnTo>
                  <a:lnTo>
                    <a:pt x="87" y="14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2680" y="5653080"/>
              <a:ext cx="356400" cy="482040"/>
            </a:xfrm>
            <a:custGeom>
              <a:avLst/>
              <a:gdLst/>
              <a:ahLst/>
              <a:rect l="l" t="t" r="r" b="b"/>
              <a:pathLst>
                <a:path w="488" h="721">
                  <a:moveTo>
                    <a:pt x="91" y="54"/>
                  </a:moveTo>
                  <a:lnTo>
                    <a:pt x="106" y="41"/>
                  </a:lnTo>
                  <a:lnTo>
                    <a:pt x="126" y="33"/>
                  </a:lnTo>
                  <a:lnTo>
                    <a:pt x="145" y="25"/>
                  </a:lnTo>
                  <a:lnTo>
                    <a:pt x="165" y="18"/>
                  </a:lnTo>
                  <a:lnTo>
                    <a:pt x="163" y="10"/>
                  </a:lnTo>
                  <a:lnTo>
                    <a:pt x="170" y="8"/>
                  </a:lnTo>
                  <a:lnTo>
                    <a:pt x="178" y="8"/>
                  </a:lnTo>
                  <a:lnTo>
                    <a:pt x="186" y="6"/>
                  </a:lnTo>
                  <a:lnTo>
                    <a:pt x="215" y="0"/>
                  </a:lnTo>
                  <a:lnTo>
                    <a:pt x="244" y="0"/>
                  </a:lnTo>
                  <a:lnTo>
                    <a:pt x="271" y="6"/>
                  </a:lnTo>
                  <a:lnTo>
                    <a:pt x="300" y="18"/>
                  </a:lnTo>
                  <a:lnTo>
                    <a:pt x="325" y="29"/>
                  </a:lnTo>
                  <a:lnTo>
                    <a:pt x="351" y="49"/>
                  </a:lnTo>
                  <a:lnTo>
                    <a:pt x="372" y="68"/>
                  </a:lnTo>
                  <a:lnTo>
                    <a:pt x="393" y="93"/>
                  </a:lnTo>
                  <a:lnTo>
                    <a:pt x="405" y="109"/>
                  </a:lnTo>
                  <a:lnTo>
                    <a:pt x="419" y="124"/>
                  </a:lnTo>
                  <a:lnTo>
                    <a:pt x="428" y="142"/>
                  </a:lnTo>
                  <a:lnTo>
                    <a:pt x="438" y="161"/>
                  </a:lnTo>
                  <a:lnTo>
                    <a:pt x="444" y="178"/>
                  </a:lnTo>
                  <a:lnTo>
                    <a:pt x="452" y="198"/>
                  </a:lnTo>
                  <a:lnTo>
                    <a:pt x="459" y="217"/>
                  </a:lnTo>
                  <a:lnTo>
                    <a:pt x="467" y="241"/>
                  </a:lnTo>
                  <a:lnTo>
                    <a:pt x="475" y="281"/>
                  </a:lnTo>
                  <a:lnTo>
                    <a:pt x="483" y="322"/>
                  </a:lnTo>
                  <a:lnTo>
                    <a:pt x="486" y="365"/>
                  </a:lnTo>
                  <a:lnTo>
                    <a:pt x="488" y="407"/>
                  </a:lnTo>
                  <a:lnTo>
                    <a:pt x="486" y="448"/>
                  </a:lnTo>
                  <a:lnTo>
                    <a:pt x="483" y="491"/>
                  </a:lnTo>
                  <a:lnTo>
                    <a:pt x="477" y="531"/>
                  </a:lnTo>
                  <a:lnTo>
                    <a:pt x="471" y="572"/>
                  </a:lnTo>
                  <a:lnTo>
                    <a:pt x="461" y="591"/>
                  </a:lnTo>
                  <a:lnTo>
                    <a:pt x="452" y="611"/>
                  </a:lnTo>
                  <a:lnTo>
                    <a:pt x="440" y="630"/>
                  </a:lnTo>
                  <a:lnTo>
                    <a:pt x="428" y="652"/>
                  </a:lnTo>
                  <a:lnTo>
                    <a:pt x="413" y="667"/>
                  </a:lnTo>
                  <a:lnTo>
                    <a:pt x="397" y="684"/>
                  </a:lnTo>
                  <a:lnTo>
                    <a:pt x="380" y="698"/>
                  </a:lnTo>
                  <a:lnTo>
                    <a:pt x="362" y="712"/>
                  </a:lnTo>
                  <a:lnTo>
                    <a:pt x="331" y="716"/>
                  </a:lnTo>
                  <a:lnTo>
                    <a:pt x="302" y="721"/>
                  </a:lnTo>
                  <a:lnTo>
                    <a:pt x="271" y="719"/>
                  </a:lnTo>
                  <a:lnTo>
                    <a:pt x="242" y="719"/>
                  </a:lnTo>
                  <a:lnTo>
                    <a:pt x="213" y="712"/>
                  </a:lnTo>
                  <a:lnTo>
                    <a:pt x="184" y="704"/>
                  </a:lnTo>
                  <a:lnTo>
                    <a:pt x="159" y="688"/>
                  </a:lnTo>
                  <a:lnTo>
                    <a:pt x="139" y="671"/>
                  </a:lnTo>
                  <a:lnTo>
                    <a:pt x="124" y="657"/>
                  </a:lnTo>
                  <a:lnTo>
                    <a:pt x="112" y="644"/>
                  </a:lnTo>
                  <a:lnTo>
                    <a:pt x="102" y="628"/>
                  </a:lnTo>
                  <a:lnTo>
                    <a:pt x="93" y="613"/>
                  </a:lnTo>
                  <a:lnTo>
                    <a:pt x="81" y="595"/>
                  </a:lnTo>
                  <a:lnTo>
                    <a:pt x="73" y="580"/>
                  </a:lnTo>
                  <a:lnTo>
                    <a:pt x="62" y="564"/>
                  </a:lnTo>
                  <a:lnTo>
                    <a:pt x="54" y="551"/>
                  </a:lnTo>
                  <a:lnTo>
                    <a:pt x="42" y="526"/>
                  </a:lnTo>
                  <a:lnTo>
                    <a:pt x="35" y="500"/>
                  </a:lnTo>
                  <a:lnTo>
                    <a:pt x="27" y="475"/>
                  </a:lnTo>
                  <a:lnTo>
                    <a:pt x="21" y="452"/>
                  </a:lnTo>
                  <a:lnTo>
                    <a:pt x="15" y="427"/>
                  </a:lnTo>
                  <a:lnTo>
                    <a:pt x="9" y="403"/>
                  </a:lnTo>
                  <a:lnTo>
                    <a:pt x="5" y="378"/>
                  </a:lnTo>
                  <a:lnTo>
                    <a:pt x="2" y="355"/>
                  </a:lnTo>
                  <a:lnTo>
                    <a:pt x="0" y="324"/>
                  </a:lnTo>
                  <a:lnTo>
                    <a:pt x="0" y="293"/>
                  </a:lnTo>
                  <a:lnTo>
                    <a:pt x="4" y="262"/>
                  </a:lnTo>
                  <a:lnTo>
                    <a:pt x="9" y="231"/>
                  </a:lnTo>
                  <a:lnTo>
                    <a:pt x="15" y="200"/>
                  </a:lnTo>
                  <a:lnTo>
                    <a:pt x="27" y="171"/>
                  </a:lnTo>
                  <a:lnTo>
                    <a:pt x="38" y="142"/>
                  </a:lnTo>
                  <a:lnTo>
                    <a:pt x="56" y="116"/>
                  </a:lnTo>
                  <a:lnTo>
                    <a:pt x="9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6000" y="5666400"/>
              <a:ext cx="325800" cy="453960"/>
            </a:xfrm>
            <a:custGeom>
              <a:avLst/>
              <a:gdLst/>
              <a:ahLst/>
              <a:rect l="l" t="t" r="r" b="b"/>
              <a:pathLst>
                <a:path w="448" h="677">
                  <a:moveTo>
                    <a:pt x="39" y="130"/>
                  </a:moveTo>
                  <a:lnTo>
                    <a:pt x="47" y="109"/>
                  </a:lnTo>
                  <a:lnTo>
                    <a:pt x="58" y="90"/>
                  </a:lnTo>
                  <a:lnTo>
                    <a:pt x="68" y="70"/>
                  </a:lnTo>
                  <a:lnTo>
                    <a:pt x="84" y="55"/>
                  </a:lnTo>
                  <a:lnTo>
                    <a:pt x="97" y="37"/>
                  </a:lnTo>
                  <a:lnTo>
                    <a:pt x="116" y="26"/>
                  </a:lnTo>
                  <a:lnTo>
                    <a:pt x="136" y="14"/>
                  </a:lnTo>
                  <a:lnTo>
                    <a:pt x="159" y="10"/>
                  </a:lnTo>
                  <a:lnTo>
                    <a:pt x="182" y="2"/>
                  </a:lnTo>
                  <a:lnTo>
                    <a:pt x="210" y="0"/>
                  </a:lnTo>
                  <a:lnTo>
                    <a:pt x="233" y="2"/>
                  </a:lnTo>
                  <a:lnTo>
                    <a:pt x="260" y="10"/>
                  </a:lnTo>
                  <a:lnTo>
                    <a:pt x="281" y="18"/>
                  </a:lnTo>
                  <a:lnTo>
                    <a:pt x="305" y="30"/>
                  </a:lnTo>
                  <a:lnTo>
                    <a:pt x="326" y="43"/>
                  </a:lnTo>
                  <a:lnTo>
                    <a:pt x="345" y="61"/>
                  </a:lnTo>
                  <a:lnTo>
                    <a:pt x="357" y="78"/>
                  </a:lnTo>
                  <a:lnTo>
                    <a:pt x="371" y="95"/>
                  </a:lnTo>
                  <a:lnTo>
                    <a:pt x="382" y="113"/>
                  </a:lnTo>
                  <a:lnTo>
                    <a:pt x="398" y="134"/>
                  </a:lnTo>
                  <a:lnTo>
                    <a:pt x="407" y="152"/>
                  </a:lnTo>
                  <a:lnTo>
                    <a:pt x="417" y="173"/>
                  </a:lnTo>
                  <a:lnTo>
                    <a:pt x="425" y="194"/>
                  </a:lnTo>
                  <a:lnTo>
                    <a:pt x="433" y="220"/>
                  </a:lnTo>
                  <a:lnTo>
                    <a:pt x="415" y="227"/>
                  </a:lnTo>
                  <a:lnTo>
                    <a:pt x="404" y="241"/>
                  </a:lnTo>
                  <a:lnTo>
                    <a:pt x="390" y="251"/>
                  </a:lnTo>
                  <a:lnTo>
                    <a:pt x="376" y="258"/>
                  </a:lnTo>
                  <a:lnTo>
                    <a:pt x="355" y="276"/>
                  </a:lnTo>
                  <a:lnTo>
                    <a:pt x="338" y="262"/>
                  </a:lnTo>
                  <a:lnTo>
                    <a:pt x="326" y="249"/>
                  </a:lnTo>
                  <a:lnTo>
                    <a:pt x="310" y="233"/>
                  </a:lnTo>
                  <a:lnTo>
                    <a:pt x="297" y="225"/>
                  </a:lnTo>
                  <a:lnTo>
                    <a:pt x="299" y="216"/>
                  </a:lnTo>
                  <a:lnTo>
                    <a:pt x="307" y="204"/>
                  </a:lnTo>
                  <a:lnTo>
                    <a:pt x="316" y="192"/>
                  </a:lnTo>
                  <a:lnTo>
                    <a:pt x="324" y="183"/>
                  </a:lnTo>
                  <a:lnTo>
                    <a:pt x="336" y="173"/>
                  </a:lnTo>
                  <a:lnTo>
                    <a:pt x="355" y="154"/>
                  </a:lnTo>
                  <a:lnTo>
                    <a:pt x="376" y="140"/>
                  </a:lnTo>
                  <a:lnTo>
                    <a:pt x="378" y="128"/>
                  </a:lnTo>
                  <a:lnTo>
                    <a:pt x="386" y="123"/>
                  </a:lnTo>
                  <a:lnTo>
                    <a:pt x="374" y="111"/>
                  </a:lnTo>
                  <a:lnTo>
                    <a:pt x="365" y="101"/>
                  </a:lnTo>
                  <a:lnTo>
                    <a:pt x="355" y="92"/>
                  </a:lnTo>
                  <a:lnTo>
                    <a:pt x="345" y="84"/>
                  </a:lnTo>
                  <a:lnTo>
                    <a:pt x="334" y="76"/>
                  </a:lnTo>
                  <a:lnTo>
                    <a:pt x="322" y="70"/>
                  </a:lnTo>
                  <a:lnTo>
                    <a:pt x="310" y="64"/>
                  </a:lnTo>
                  <a:lnTo>
                    <a:pt x="299" y="64"/>
                  </a:lnTo>
                  <a:lnTo>
                    <a:pt x="293" y="55"/>
                  </a:lnTo>
                  <a:lnTo>
                    <a:pt x="287" y="55"/>
                  </a:lnTo>
                  <a:lnTo>
                    <a:pt x="279" y="57"/>
                  </a:lnTo>
                  <a:lnTo>
                    <a:pt x="277" y="68"/>
                  </a:lnTo>
                  <a:lnTo>
                    <a:pt x="277" y="134"/>
                  </a:lnTo>
                  <a:lnTo>
                    <a:pt x="276" y="142"/>
                  </a:lnTo>
                  <a:lnTo>
                    <a:pt x="276" y="154"/>
                  </a:lnTo>
                  <a:lnTo>
                    <a:pt x="276" y="163"/>
                  </a:lnTo>
                  <a:lnTo>
                    <a:pt x="277" y="175"/>
                  </a:lnTo>
                  <a:lnTo>
                    <a:pt x="276" y="187"/>
                  </a:lnTo>
                  <a:lnTo>
                    <a:pt x="274" y="204"/>
                  </a:lnTo>
                  <a:lnTo>
                    <a:pt x="270" y="210"/>
                  </a:lnTo>
                  <a:lnTo>
                    <a:pt x="266" y="218"/>
                  </a:lnTo>
                  <a:lnTo>
                    <a:pt x="256" y="220"/>
                  </a:lnTo>
                  <a:lnTo>
                    <a:pt x="246" y="220"/>
                  </a:lnTo>
                  <a:lnTo>
                    <a:pt x="237" y="225"/>
                  </a:lnTo>
                  <a:lnTo>
                    <a:pt x="227" y="231"/>
                  </a:lnTo>
                  <a:lnTo>
                    <a:pt x="217" y="239"/>
                  </a:lnTo>
                  <a:lnTo>
                    <a:pt x="212" y="251"/>
                  </a:lnTo>
                  <a:lnTo>
                    <a:pt x="206" y="229"/>
                  </a:lnTo>
                  <a:lnTo>
                    <a:pt x="202" y="210"/>
                  </a:lnTo>
                  <a:lnTo>
                    <a:pt x="196" y="189"/>
                  </a:lnTo>
                  <a:lnTo>
                    <a:pt x="192" y="167"/>
                  </a:lnTo>
                  <a:lnTo>
                    <a:pt x="188" y="144"/>
                  </a:lnTo>
                  <a:lnTo>
                    <a:pt x="188" y="121"/>
                  </a:lnTo>
                  <a:lnTo>
                    <a:pt x="188" y="99"/>
                  </a:lnTo>
                  <a:lnTo>
                    <a:pt x="192" y="80"/>
                  </a:lnTo>
                  <a:lnTo>
                    <a:pt x="186" y="72"/>
                  </a:lnTo>
                  <a:lnTo>
                    <a:pt x="186" y="62"/>
                  </a:lnTo>
                  <a:lnTo>
                    <a:pt x="182" y="55"/>
                  </a:lnTo>
                  <a:lnTo>
                    <a:pt x="177" y="53"/>
                  </a:lnTo>
                  <a:lnTo>
                    <a:pt x="169" y="53"/>
                  </a:lnTo>
                  <a:lnTo>
                    <a:pt x="163" y="59"/>
                  </a:lnTo>
                  <a:lnTo>
                    <a:pt x="159" y="74"/>
                  </a:lnTo>
                  <a:lnTo>
                    <a:pt x="151" y="88"/>
                  </a:lnTo>
                  <a:lnTo>
                    <a:pt x="138" y="101"/>
                  </a:lnTo>
                  <a:lnTo>
                    <a:pt x="128" y="115"/>
                  </a:lnTo>
                  <a:lnTo>
                    <a:pt x="113" y="125"/>
                  </a:lnTo>
                  <a:lnTo>
                    <a:pt x="103" y="138"/>
                  </a:lnTo>
                  <a:lnTo>
                    <a:pt x="93" y="152"/>
                  </a:lnTo>
                  <a:lnTo>
                    <a:pt x="87" y="169"/>
                  </a:lnTo>
                  <a:lnTo>
                    <a:pt x="82" y="185"/>
                  </a:lnTo>
                  <a:lnTo>
                    <a:pt x="82" y="202"/>
                  </a:lnTo>
                  <a:lnTo>
                    <a:pt x="80" y="220"/>
                  </a:lnTo>
                  <a:lnTo>
                    <a:pt x="84" y="237"/>
                  </a:lnTo>
                  <a:lnTo>
                    <a:pt x="95" y="247"/>
                  </a:lnTo>
                  <a:lnTo>
                    <a:pt x="109" y="258"/>
                  </a:lnTo>
                  <a:lnTo>
                    <a:pt x="122" y="266"/>
                  </a:lnTo>
                  <a:lnTo>
                    <a:pt x="138" y="276"/>
                  </a:lnTo>
                  <a:lnTo>
                    <a:pt x="151" y="282"/>
                  </a:lnTo>
                  <a:lnTo>
                    <a:pt x="167" y="289"/>
                  </a:lnTo>
                  <a:lnTo>
                    <a:pt x="180" y="295"/>
                  </a:lnTo>
                  <a:lnTo>
                    <a:pt x="198" y="303"/>
                  </a:lnTo>
                  <a:lnTo>
                    <a:pt x="196" y="320"/>
                  </a:lnTo>
                  <a:lnTo>
                    <a:pt x="198" y="340"/>
                  </a:lnTo>
                  <a:lnTo>
                    <a:pt x="200" y="359"/>
                  </a:lnTo>
                  <a:lnTo>
                    <a:pt x="208" y="379"/>
                  </a:lnTo>
                  <a:lnTo>
                    <a:pt x="194" y="375"/>
                  </a:lnTo>
                  <a:lnTo>
                    <a:pt x="182" y="373"/>
                  </a:lnTo>
                  <a:lnTo>
                    <a:pt x="171" y="371"/>
                  </a:lnTo>
                  <a:lnTo>
                    <a:pt x="159" y="369"/>
                  </a:lnTo>
                  <a:lnTo>
                    <a:pt x="148" y="365"/>
                  </a:lnTo>
                  <a:lnTo>
                    <a:pt x="136" y="361"/>
                  </a:lnTo>
                  <a:lnTo>
                    <a:pt x="124" y="353"/>
                  </a:lnTo>
                  <a:lnTo>
                    <a:pt x="116" y="347"/>
                  </a:lnTo>
                  <a:lnTo>
                    <a:pt x="107" y="346"/>
                  </a:lnTo>
                  <a:lnTo>
                    <a:pt x="101" y="349"/>
                  </a:lnTo>
                  <a:lnTo>
                    <a:pt x="91" y="359"/>
                  </a:lnTo>
                  <a:lnTo>
                    <a:pt x="84" y="371"/>
                  </a:lnTo>
                  <a:lnTo>
                    <a:pt x="80" y="382"/>
                  </a:lnTo>
                  <a:lnTo>
                    <a:pt x="80" y="396"/>
                  </a:lnTo>
                  <a:lnTo>
                    <a:pt x="80" y="408"/>
                  </a:lnTo>
                  <a:lnTo>
                    <a:pt x="82" y="421"/>
                  </a:lnTo>
                  <a:lnTo>
                    <a:pt x="84" y="433"/>
                  </a:lnTo>
                  <a:lnTo>
                    <a:pt x="89" y="446"/>
                  </a:lnTo>
                  <a:lnTo>
                    <a:pt x="95" y="458"/>
                  </a:lnTo>
                  <a:lnTo>
                    <a:pt x="103" y="472"/>
                  </a:lnTo>
                  <a:lnTo>
                    <a:pt x="107" y="481"/>
                  </a:lnTo>
                  <a:lnTo>
                    <a:pt x="116" y="493"/>
                  </a:lnTo>
                  <a:lnTo>
                    <a:pt x="126" y="503"/>
                  </a:lnTo>
                  <a:lnTo>
                    <a:pt x="136" y="514"/>
                  </a:lnTo>
                  <a:lnTo>
                    <a:pt x="146" y="514"/>
                  </a:lnTo>
                  <a:lnTo>
                    <a:pt x="155" y="516"/>
                  </a:lnTo>
                  <a:lnTo>
                    <a:pt x="163" y="512"/>
                  </a:lnTo>
                  <a:lnTo>
                    <a:pt x="169" y="505"/>
                  </a:lnTo>
                  <a:lnTo>
                    <a:pt x="173" y="489"/>
                  </a:lnTo>
                  <a:lnTo>
                    <a:pt x="182" y="477"/>
                  </a:lnTo>
                  <a:lnTo>
                    <a:pt x="196" y="466"/>
                  </a:lnTo>
                  <a:lnTo>
                    <a:pt x="208" y="456"/>
                  </a:lnTo>
                  <a:lnTo>
                    <a:pt x="223" y="441"/>
                  </a:lnTo>
                  <a:lnTo>
                    <a:pt x="239" y="423"/>
                  </a:lnTo>
                  <a:lnTo>
                    <a:pt x="246" y="427"/>
                  </a:lnTo>
                  <a:lnTo>
                    <a:pt x="258" y="433"/>
                  </a:lnTo>
                  <a:lnTo>
                    <a:pt x="268" y="435"/>
                  </a:lnTo>
                  <a:lnTo>
                    <a:pt x="281" y="439"/>
                  </a:lnTo>
                  <a:lnTo>
                    <a:pt x="268" y="456"/>
                  </a:lnTo>
                  <a:lnTo>
                    <a:pt x="256" y="474"/>
                  </a:lnTo>
                  <a:lnTo>
                    <a:pt x="244" y="489"/>
                  </a:lnTo>
                  <a:lnTo>
                    <a:pt x="233" y="506"/>
                  </a:lnTo>
                  <a:lnTo>
                    <a:pt x="219" y="522"/>
                  </a:lnTo>
                  <a:lnTo>
                    <a:pt x="206" y="539"/>
                  </a:lnTo>
                  <a:lnTo>
                    <a:pt x="194" y="557"/>
                  </a:lnTo>
                  <a:lnTo>
                    <a:pt x="184" y="574"/>
                  </a:lnTo>
                  <a:lnTo>
                    <a:pt x="190" y="584"/>
                  </a:lnTo>
                  <a:lnTo>
                    <a:pt x="200" y="594"/>
                  </a:lnTo>
                  <a:lnTo>
                    <a:pt x="212" y="601"/>
                  </a:lnTo>
                  <a:lnTo>
                    <a:pt x="223" y="611"/>
                  </a:lnTo>
                  <a:lnTo>
                    <a:pt x="235" y="617"/>
                  </a:lnTo>
                  <a:lnTo>
                    <a:pt x="246" y="623"/>
                  </a:lnTo>
                  <a:lnTo>
                    <a:pt x="260" y="627"/>
                  </a:lnTo>
                  <a:lnTo>
                    <a:pt x="277" y="629"/>
                  </a:lnTo>
                  <a:lnTo>
                    <a:pt x="289" y="627"/>
                  </a:lnTo>
                  <a:lnTo>
                    <a:pt x="303" y="625"/>
                  </a:lnTo>
                  <a:lnTo>
                    <a:pt x="314" y="621"/>
                  </a:lnTo>
                  <a:lnTo>
                    <a:pt x="328" y="619"/>
                  </a:lnTo>
                  <a:lnTo>
                    <a:pt x="338" y="613"/>
                  </a:lnTo>
                  <a:lnTo>
                    <a:pt x="349" y="607"/>
                  </a:lnTo>
                  <a:lnTo>
                    <a:pt x="361" y="600"/>
                  </a:lnTo>
                  <a:lnTo>
                    <a:pt x="372" y="594"/>
                  </a:lnTo>
                  <a:lnTo>
                    <a:pt x="380" y="580"/>
                  </a:lnTo>
                  <a:lnTo>
                    <a:pt x="386" y="567"/>
                  </a:lnTo>
                  <a:lnTo>
                    <a:pt x="390" y="553"/>
                  </a:lnTo>
                  <a:lnTo>
                    <a:pt x="394" y="541"/>
                  </a:lnTo>
                  <a:lnTo>
                    <a:pt x="392" y="541"/>
                  </a:lnTo>
                  <a:lnTo>
                    <a:pt x="400" y="534"/>
                  </a:lnTo>
                  <a:lnTo>
                    <a:pt x="392" y="526"/>
                  </a:lnTo>
                  <a:lnTo>
                    <a:pt x="384" y="524"/>
                  </a:lnTo>
                  <a:lnTo>
                    <a:pt x="372" y="510"/>
                  </a:lnTo>
                  <a:lnTo>
                    <a:pt x="363" y="497"/>
                  </a:lnTo>
                  <a:lnTo>
                    <a:pt x="353" y="483"/>
                  </a:lnTo>
                  <a:lnTo>
                    <a:pt x="343" y="472"/>
                  </a:lnTo>
                  <a:lnTo>
                    <a:pt x="334" y="458"/>
                  </a:lnTo>
                  <a:lnTo>
                    <a:pt x="326" y="446"/>
                  </a:lnTo>
                  <a:lnTo>
                    <a:pt x="320" y="435"/>
                  </a:lnTo>
                  <a:lnTo>
                    <a:pt x="316" y="423"/>
                  </a:lnTo>
                  <a:lnTo>
                    <a:pt x="330" y="402"/>
                  </a:lnTo>
                  <a:lnTo>
                    <a:pt x="343" y="382"/>
                  </a:lnTo>
                  <a:lnTo>
                    <a:pt x="347" y="371"/>
                  </a:lnTo>
                  <a:lnTo>
                    <a:pt x="351" y="359"/>
                  </a:lnTo>
                  <a:lnTo>
                    <a:pt x="353" y="347"/>
                  </a:lnTo>
                  <a:lnTo>
                    <a:pt x="355" y="338"/>
                  </a:lnTo>
                  <a:lnTo>
                    <a:pt x="365" y="342"/>
                  </a:lnTo>
                  <a:lnTo>
                    <a:pt x="372" y="353"/>
                  </a:lnTo>
                  <a:lnTo>
                    <a:pt x="384" y="365"/>
                  </a:lnTo>
                  <a:lnTo>
                    <a:pt x="394" y="375"/>
                  </a:lnTo>
                  <a:lnTo>
                    <a:pt x="405" y="384"/>
                  </a:lnTo>
                  <a:lnTo>
                    <a:pt x="413" y="394"/>
                  </a:lnTo>
                  <a:lnTo>
                    <a:pt x="423" y="404"/>
                  </a:lnTo>
                  <a:lnTo>
                    <a:pt x="429" y="415"/>
                  </a:lnTo>
                  <a:lnTo>
                    <a:pt x="436" y="429"/>
                  </a:lnTo>
                  <a:lnTo>
                    <a:pt x="440" y="435"/>
                  </a:lnTo>
                  <a:lnTo>
                    <a:pt x="444" y="446"/>
                  </a:lnTo>
                  <a:lnTo>
                    <a:pt x="446" y="458"/>
                  </a:lnTo>
                  <a:lnTo>
                    <a:pt x="448" y="470"/>
                  </a:lnTo>
                  <a:lnTo>
                    <a:pt x="446" y="489"/>
                  </a:lnTo>
                  <a:lnTo>
                    <a:pt x="444" y="508"/>
                  </a:lnTo>
                  <a:lnTo>
                    <a:pt x="438" y="526"/>
                  </a:lnTo>
                  <a:lnTo>
                    <a:pt x="435" y="545"/>
                  </a:lnTo>
                  <a:lnTo>
                    <a:pt x="427" y="563"/>
                  </a:lnTo>
                  <a:lnTo>
                    <a:pt x="419" y="580"/>
                  </a:lnTo>
                  <a:lnTo>
                    <a:pt x="409" y="598"/>
                  </a:lnTo>
                  <a:lnTo>
                    <a:pt x="400" y="615"/>
                  </a:lnTo>
                  <a:lnTo>
                    <a:pt x="382" y="636"/>
                  </a:lnTo>
                  <a:lnTo>
                    <a:pt x="365" y="652"/>
                  </a:lnTo>
                  <a:lnTo>
                    <a:pt x="341" y="663"/>
                  </a:lnTo>
                  <a:lnTo>
                    <a:pt x="318" y="673"/>
                  </a:lnTo>
                  <a:lnTo>
                    <a:pt x="291" y="675"/>
                  </a:lnTo>
                  <a:lnTo>
                    <a:pt x="266" y="677"/>
                  </a:lnTo>
                  <a:lnTo>
                    <a:pt x="239" y="677"/>
                  </a:lnTo>
                  <a:lnTo>
                    <a:pt x="215" y="677"/>
                  </a:lnTo>
                  <a:lnTo>
                    <a:pt x="200" y="673"/>
                  </a:lnTo>
                  <a:lnTo>
                    <a:pt x="186" y="669"/>
                  </a:lnTo>
                  <a:lnTo>
                    <a:pt x="169" y="663"/>
                  </a:lnTo>
                  <a:lnTo>
                    <a:pt x="157" y="658"/>
                  </a:lnTo>
                  <a:lnTo>
                    <a:pt x="146" y="646"/>
                  </a:lnTo>
                  <a:lnTo>
                    <a:pt x="136" y="636"/>
                  </a:lnTo>
                  <a:lnTo>
                    <a:pt x="126" y="627"/>
                  </a:lnTo>
                  <a:lnTo>
                    <a:pt x="116" y="619"/>
                  </a:lnTo>
                  <a:lnTo>
                    <a:pt x="105" y="609"/>
                  </a:lnTo>
                  <a:lnTo>
                    <a:pt x="99" y="600"/>
                  </a:lnTo>
                  <a:lnTo>
                    <a:pt x="91" y="588"/>
                  </a:lnTo>
                  <a:lnTo>
                    <a:pt x="87" y="576"/>
                  </a:lnTo>
                  <a:lnTo>
                    <a:pt x="72" y="557"/>
                  </a:lnTo>
                  <a:lnTo>
                    <a:pt x="62" y="539"/>
                  </a:lnTo>
                  <a:lnTo>
                    <a:pt x="51" y="520"/>
                  </a:lnTo>
                  <a:lnTo>
                    <a:pt x="45" y="501"/>
                  </a:lnTo>
                  <a:lnTo>
                    <a:pt x="37" y="477"/>
                  </a:lnTo>
                  <a:lnTo>
                    <a:pt x="31" y="456"/>
                  </a:lnTo>
                  <a:lnTo>
                    <a:pt x="27" y="435"/>
                  </a:lnTo>
                  <a:lnTo>
                    <a:pt x="23" y="413"/>
                  </a:lnTo>
                  <a:lnTo>
                    <a:pt x="12" y="380"/>
                  </a:lnTo>
                  <a:lnTo>
                    <a:pt x="6" y="347"/>
                  </a:lnTo>
                  <a:lnTo>
                    <a:pt x="0" y="315"/>
                  </a:lnTo>
                  <a:lnTo>
                    <a:pt x="2" y="282"/>
                  </a:lnTo>
                  <a:lnTo>
                    <a:pt x="2" y="249"/>
                  </a:lnTo>
                  <a:lnTo>
                    <a:pt x="8" y="216"/>
                  </a:lnTo>
                  <a:lnTo>
                    <a:pt x="16" y="183"/>
                  </a:lnTo>
                  <a:lnTo>
                    <a:pt x="27" y="152"/>
                  </a:lnTo>
                  <a:lnTo>
                    <a:pt x="39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59080" y="5916960"/>
              <a:ext cx="94320" cy="7740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8" y="4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17" y="7"/>
                  </a:lnTo>
                  <a:lnTo>
                    <a:pt x="29" y="9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4" y="15"/>
                  </a:lnTo>
                  <a:lnTo>
                    <a:pt x="76" y="15"/>
                  </a:lnTo>
                  <a:lnTo>
                    <a:pt x="87" y="19"/>
                  </a:lnTo>
                  <a:lnTo>
                    <a:pt x="99" y="23"/>
                  </a:lnTo>
                  <a:lnTo>
                    <a:pt x="111" y="29"/>
                  </a:lnTo>
                  <a:lnTo>
                    <a:pt x="113" y="25"/>
                  </a:lnTo>
                  <a:lnTo>
                    <a:pt x="114" y="23"/>
                  </a:lnTo>
                  <a:lnTo>
                    <a:pt x="122" y="29"/>
                  </a:lnTo>
                  <a:lnTo>
                    <a:pt x="132" y="38"/>
                  </a:lnTo>
                  <a:lnTo>
                    <a:pt x="116" y="42"/>
                  </a:lnTo>
                  <a:lnTo>
                    <a:pt x="105" y="52"/>
                  </a:lnTo>
                  <a:lnTo>
                    <a:pt x="93" y="62"/>
                  </a:lnTo>
                  <a:lnTo>
                    <a:pt x="83" y="73"/>
                  </a:lnTo>
                  <a:lnTo>
                    <a:pt x="72" y="83"/>
                  </a:lnTo>
                  <a:lnTo>
                    <a:pt x="62" y="95"/>
                  </a:lnTo>
                  <a:lnTo>
                    <a:pt x="50" y="104"/>
                  </a:lnTo>
                  <a:lnTo>
                    <a:pt x="39" y="114"/>
                  </a:lnTo>
                  <a:lnTo>
                    <a:pt x="27" y="100"/>
                  </a:lnTo>
                  <a:lnTo>
                    <a:pt x="19" y="89"/>
                  </a:lnTo>
                  <a:lnTo>
                    <a:pt x="12" y="75"/>
                  </a:lnTo>
                  <a:lnTo>
                    <a:pt x="6" y="62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9080" y="5738760"/>
              <a:ext cx="59400" cy="112680"/>
            </a:xfrm>
            <a:custGeom>
              <a:avLst/>
              <a:gdLst/>
              <a:ahLst/>
              <a:rect l="l" t="t" r="r" b="b"/>
              <a:pathLst>
                <a:path w="81" h="169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31"/>
                  </a:lnTo>
                  <a:lnTo>
                    <a:pt x="68" y="43"/>
                  </a:lnTo>
                  <a:lnTo>
                    <a:pt x="68" y="54"/>
                  </a:lnTo>
                  <a:lnTo>
                    <a:pt x="70" y="68"/>
                  </a:lnTo>
                  <a:lnTo>
                    <a:pt x="70" y="80"/>
                  </a:lnTo>
                  <a:lnTo>
                    <a:pt x="72" y="93"/>
                  </a:lnTo>
                  <a:lnTo>
                    <a:pt x="78" y="157"/>
                  </a:lnTo>
                  <a:lnTo>
                    <a:pt x="79" y="161"/>
                  </a:lnTo>
                  <a:lnTo>
                    <a:pt x="81" y="169"/>
                  </a:lnTo>
                  <a:lnTo>
                    <a:pt x="70" y="161"/>
                  </a:lnTo>
                  <a:lnTo>
                    <a:pt x="60" y="155"/>
                  </a:lnTo>
                  <a:lnTo>
                    <a:pt x="48" y="149"/>
                  </a:lnTo>
                  <a:lnTo>
                    <a:pt x="39" y="145"/>
                  </a:lnTo>
                  <a:lnTo>
                    <a:pt x="27" y="140"/>
                  </a:lnTo>
                  <a:lnTo>
                    <a:pt x="17" y="134"/>
                  </a:lnTo>
                  <a:lnTo>
                    <a:pt x="8" y="126"/>
                  </a:lnTo>
                  <a:lnTo>
                    <a:pt x="2" y="120"/>
                  </a:lnTo>
                  <a:lnTo>
                    <a:pt x="0" y="103"/>
                  </a:lnTo>
                  <a:lnTo>
                    <a:pt x="4" y="85"/>
                  </a:lnTo>
                  <a:lnTo>
                    <a:pt x="8" y="68"/>
                  </a:lnTo>
                  <a:lnTo>
                    <a:pt x="15" y="52"/>
                  </a:lnTo>
                  <a:lnTo>
                    <a:pt x="21" y="35"/>
                  </a:lnTo>
                  <a:lnTo>
                    <a:pt x="33" y="23"/>
                  </a:lnTo>
                  <a:lnTo>
                    <a:pt x="45" y="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42960" y="5828760"/>
              <a:ext cx="84240" cy="11628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7" y="8"/>
                  </a:moveTo>
                  <a:lnTo>
                    <a:pt x="47" y="0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8" y="15"/>
                  </a:lnTo>
                  <a:lnTo>
                    <a:pt x="93" y="31"/>
                  </a:lnTo>
                  <a:lnTo>
                    <a:pt x="105" y="50"/>
                  </a:lnTo>
                  <a:lnTo>
                    <a:pt x="109" y="60"/>
                  </a:lnTo>
                  <a:lnTo>
                    <a:pt x="113" y="72"/>
                  </a:lnTo>
                  <a:lnTo>
                    <a:pt x="115" y="83"/>
                  </a:lnTo>
                  <a:lnTo>
                    <a:pt x="117" y="95"/>
                  </a:lnTo>
                  <a:lnTo>
                    <a:pt x="113" y="104"/>
                  </a:lnTo>
                  <a:lnTo>
                    <a:pt x="109" y="116"/>
                  </a:lnTo>
                  <a:lnTo>
                    <a:pt x="105" y="128"/>
                  </a:lnTo>
                  <a:lnTo>
                    <a:pt x="103" y="139"/>
                  </a:lnTo>
                  <a:lnTo>
                    <a:pt x="97" y="149"/>
                  </a:lnTo>
                  <a:lnTo>
                    <a:pt x="92" y="159"/>
                  </a:lnTo>
                  <a:lnTo>
                    <a:pt x="84" y="165"/>
                  </a:lnTo>
                  <a:lnTo>
                    <a:pt x="74" y="172"/>
                  </a:lnTo>
                  <a:lnTo>
                    <a:pt x="64" y="168"/>
                  </a:lnTo>
                  <a:lnTo>
                    <a:pt x="55" y="167"/>
                  </a:lnTo>
                  <a:lnTo>
                    <a:pt x="43" y="163"/>
                  </a:lnTo>
                  <a:lnTo>
                    <a:pt x="35" y="161"/>
                  </a:lnTo>
                  <a:lnTo>
                    <a:pt x="20" y="149"/>
                  </a:lnTo>
                  <a:lnTo>
                    <a:pt x="10" y="132"/>
                  </a:lnTo>
                  <a:lnTo>
                    <a:pt x="8" y="120"/>
                  </a:lnTo>
                  <a:lnTo>
                    <a:pt x="6" y="108"/>
                  </a:lnTo>
                  <a:lnTo>
                    <a:pt x="2" y="99"/>
                  </a:lnTo>
                  <a:lnTo>
                    <a:pt x="2" y="89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16" y="23"/>
                  </a:lnTo>
                  <a:lnTo>
                    <a:pt x="26" y="15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1640" y="5727960"/>
              <a:ext cx="4644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2" y="0"/>
                  </a:moveTo>
                  <a:lnTo>
                    <a:pt x="17" y="2"/>
                  </a:lnTo>
                  <a:lnTo>
                    <a:pt x="35" y="11"/>
                  </a:lnTo>
                  <a:lnTo>
                    <a:pt x="48" y="21"/>
                  </a:lnTo>
                  <a:lnTo>
                    <a:pt x="64" y="34"/>
                  </a:lnTo>
                  <a:lnTo>
                    <a:pt x="46" y="46"/>
                  </a:lnTo>
                  <a:lnTo>
                    <a:pt x="29" y="6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8080" y="5836680"/>
              <a:ext cx="59400" cy="92520"/>
            </a:xfrm>
            <a:custGeom>
              <a:avLst/>
              <a:gdLst/>
              <a:ahLst/>
              <a:rect l="l" t="t" r="r" b="b"/>
              <a:pathLst>
                <a:path w="81" h="138">
                  <a:moveTo>
                    <a:pt x="58" y="0"/>
                  </a:moveTo>
                  <a:lnTo>
                    <a:pt x="70" y="8"/>
                  </a:lnTo>
                  <a:lnTo>
                    <a:pt x="75" y="22"/>
                  </a:lnTo>
                  <a:lnTo>
                    <a:pt x="75" y="33"/>
                  </a:lnTo>
                  <a:lnTo>
                    <a:pt x="77" y="49"/>
                  </a:lnTo>
                  <a:lnTo>
                    <a:pt x="79" y="64"/>
                  </a:lnTo>
                  <a:lnTo>
                    <a:pt x="81" y="80"/>
                  </a:lnTo>
                  <a:lnTo>
                    <a:pt x="79" y="93"/>
                  </a:lnTo>
                  <a:lnTo>
                    <a:pt x="79" y="109"/>
                  </a:lnTo>
                  <a:lnTo>
                    <a:pt x="77" y="123"/>
                  </a:lnTo>
                  <a:lnTo>
                    <a:pt x="77" y="138"/>
                  </a:lnTo>
                  <a:lnTo>
                    <a:pt x="68" y="128"/>
                  </a:lnTo>
                  <a:lnTo>
                    <a:pt x="62" y="119"/>
                  </a:lnTo>
                  <a:lnTo>
                    <a:pt x="43" y="101"/>
                  </a:lnTo>
                  <a:lnTo>
                    <a:pt x="29" y="84"/>
                  </a:lnTo>
                  <a:lnTo>
                    <a:pt x="13" y="66"/>
                  </a:lnTo>
                  <a:lnTo>
                    <a:pt x="0" y="53"/>
                  </a:lnTo>
                  <a:lnTo>
                    <a:pt x="10" y="33"/>
                  </a:lnTo>
                  <a:lnTo>
                    <a:pt x="25" y="22"/>
                  </a:lnTo>
                  <a:lnTo>
                    <a:pt x="41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3680" y="5789880"/>
              <a:ext cx="127800" cy="397800"/>
            </a:xfrm>
            <a:custGeom>
              <a:avLst/>
              <a:gdLst/>
              <a:ahLst/>
              <a:rect l="l" t="t" r="r" b="b"/>
              <a:pathLst>
                <a:path w="176" h="593">
                  <a:moveTo>
                    <a:pt x="124" y="308"/>
                  </a:moveTo>
                  <a:lnTo>
                    <a:pt x="124" y="289"/>
                  </a:lnTo>
                  <a:lnTo>
                    <a:pt x="124" y="271"/>
                  </a:lnTo>
                  <a:lnTo>
                    <a:pt x="126" y="254"/>
                  </a:lnTo>
                  <a:lnTo>
                    <a:pt x="128" y="236"/>
                  </a:lnTo>
                  <a:lnTo>
                    <a:pt x="128" y="217"/>
                  </a:lnTo>
                  <a:lnTo>
                    <a:pt x="130" y="199"/>
                  </a:lnTo>
                  <a:lnTo>
                    <a:pt x="128" y="180"/>
                  </a:lnTo>
                  <a:lnTo>
                    <a:pt x="128" y="161"/>
                  </a:lnTo>
                  <a:lnTo>
                    <a:pt x="126" y="139"/>
                  </a:lnTo>
                  <a:lnTo>
                    <a:pt x="126" y="120"/>
                  </a:lnTo>
                  <a:lnTo>
                    <a:pt x="124" y="99"/>
                  </a:lnTo>
                  <a:lnTo>
                    <a:pt x="124" y="79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4" y="19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3" y="2"/>
                  </a:lnTo>
                  <a:lnTo>
                    <a:pt x="151" y="9"/>
                  </a:lnTo>
                  <a:lnTo>
                    <a:pt x="164" y="40"/>
                  </a:lnTo>
                  <a:lnTo>
                    <a:pt x="172" y="75"/>
                  </a:lnTo>
                  <a:lnTo>
                    <a:pt x="174" y="112"/>
                  </a:lnTo>
                  <a:lnTo>
                    <a:pt x="176" y="153"/>
                  </a:lnTo>
                  <a:lnTo>
                    <a:pt x="174" y="190"/>
                  </a:lnTo>
                  <a:lnTo>
                    <a:pt x="172" y="230"/>
                  </a:lnTo>
                  <a:lnTo>
                    <a:pt x="170" y="269"/>
                  </a:lnTo>
                  <a:lnTo>
                    <a:pt x="172" y="308"/>
                  </a:lnTo>
                  <a:lnTo>
                    <a:pt x="163" y="310"/>
                  </a:lnTo>
                  <a:lnTo>
                    <a:pt x="161" y="318"/>
                  </a:lnTo>
                  <a:lnTo>
                    <a:pt x="163" y="325"/>
                  </a:lnTo>
                  <a:lnTo>
                    <a:pt x="163" y="335"/>
                  </a:lnTo>
                  <a:lnTo>
                    <a:pt x="149" y="368"/>
                  </a:lnTo>
                  <a:lnTo>
                    <a:pt x="135" y="401"/>
                  </a:lnTo>
                  <a:lnTo>
                    <a:pt x="118" y="432"/>
                  </a:lnTo>
                  <a:lnTo>
                    <a:pt x="102" y="465"/>
                  </a:lnTo>
                  <a:lnTo>
                    <a:pt x="83" y="494"/>
                  </a:lnTo>
                  <a:lnTo>
                    <a:pt x="66" y="525"/>
                  </a:lnTo>
                  <a:lnTo>
                    <a:pt x="46" y="554"/>
                  </a:lnTo>
                  <a:lnTo>
                    <a:pt x="29" y="585"/>
                  </a:lnTo>
                  <a:lnTo>
                    <a:pt x="13" y="589"/>
                  </a:lnTo>
                  <a:lnTo>
                    <a:pt x="0" y="593"/>
                  </a:lnTo>
                  <a:lnTo>
                    <a:pt x="23" y="560"/>
                  </a:lnTo>
                  <a:lnTo>
                    <a:pt x="44" y="527"/>
                  </a:lnTo>
                  <a:lnTo>
                    <a:pt x="62" y="492"/>
                  </a:lnTo>
                  <a:lnTo>
                    <a:pt x="79" y="459"/>
                  </a:lnTo>
                  <a:lnTo>
                    <a:pt x="91" y="420"/>
                  </a:lnTo>
                  <a:lnTo>
                    <a:pt x="104" y="384"/>
                  </a:lnTo>
                  <a:lnTo>
                    <a:pt x="114" y="345"/>
                  </a:lnTo>
                  <a:lnTo>
                    <a:pt x="124" y="30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3680" y="5215320"/>
              <a:ext cx="972000" cy="299880"/>
            </a:xfrm>
            <a:custGeom>
              <a:avLst/>
              <a:gdLst/>
              <a:ahLst/>
              <a:rect l="l" t="t" r="r" b="b"/>
              <a:pathLst>
                <a:path w="1336" h="448">
                  <a:moveTo>
                    <a:pt x="271" y="312"/>
                  </a:moveTo>
                  <a:lnTo>
                    <a:pt x="312" y="293"/>
                  </a:lnTo>
                  <a:lnTo>
                    <a:pt x="353" y="275"/>
                  </a:lnTo>
                  <a:lnTo>
                    <a:pt x="395" y="258"/>
                  </a:lnTo>
                  <a:lnTo>
                    <a:pt x="440" y="242"/>
                  </a:lnTo>
                  <a:lnTo>
                    <a:pt x="483" y="227"/>
                  </a:lnTo>
                  <a:lnTo>
                    <a:pt x="527" y="213"/>
                  </a:lnTo>
                  <a:lnTo>
                    <a:pt x="570" y="198"/>
                  </a:lnTo>
                  <a:lnTo>
                    <a:pt x="616" y="186"/>
                  </a:lnTo>
                  <a:lnTo>
                    <a:pt x="626" y="176"/>
                  </a:lnTo>
                  <a:lnTo>
                    <a:pt x="638" y="172"/>
                  </a:lnTo>
                  <a:lnTo>
                    <a:pt x="651" y="167"/>
                  </a:lnTo>
                  <a:lnTo>
                    <a:pt x="667" y="165"/>
                  </a:lnTo>
                  <a:lnTo>
                    <a:pt x="678" y="159"/>
                  </a:lnTo>
                  <a:lnTo>
                    <a:pt x="692" y="155"/>
                  </a:lnTo>
                  <a:lnTo>
                    <a:pt x="706" y="149"/>
                  </a:lnTo>
                  <a:lnTo>
                    <a:pt x="719" y="145"/>
                  </a:lnTo>
                  <a:lnTo>
                    <a:pt x="758" y="132"/>
                  </a:lnTo>
                  <a:lnTo>
                    <a:pt x="797" y="120"/>
                  </a:lnTo>
                  <a:lnTo>
                    <a:pt x="835" y="108"/>
                  </a:lnTo>
                  <a:lnTo>
                    <a:pt x="876" y="97"/>
                  </a:lnTo>
                  <a:lnTo>
                    <a:pt x="915" y="85"/>
                  </a:lnTo>
                  <a:lnTo>
                    <a:pt x="956" y="73"/>
                  </a:lnTo>
                  <a:lnTo>
                    <a:pt x="996" y="64"/>
                  </a:lnTo>
                  <a:lnTo>
                    <a:pt x="1037" y="56"/>
                  </a:lnTo>
                  <a:lnTo>
                    <a:pt x="1070" y="42"/>
                  </a:lnTo>
                  <a:lnTo>
                    <a:pt x="1105" y="35"/>
                  </a:lnTo>
                  <a:lnTo>
                    <a:pt x="1142" y="27"/>
                  </a:lnTo>
                  <a:lnTo>
                    <a:pt x="1181" y="21"/>
                  </a:lnTo>
                  <a:lnTo>
                    <a:pt x="1218" y="15"/>
                  </a:lnTo>
                  <a:lnTo>
                    <a:pt x="1256" y="9"/>
                  </a:lnTo>
                  <a:lnTo>
                    <a:pt x="1295" y="4"/>
                  </a:lnTo>
                  <a:lnTo>
                    <a:pt x="1336" y="0"/>
                  </a:lnTo>
                  <a:lnTo>
                    <a:pt x="1316" y="73"/>
                  </a:lnTo>
                  <a:lnTo>
                    <a:pt x="1219" y="75"/>
                  </a:lnTo>
                  <a:lnTo>
                    <a:pt x="1126" y="85"/>
                  </a:lnTo>
                  <a:lnTo>
                    <a:pt x="1033" y="101"/>
                  </a:lnTo>
                  <a:lnTo>
                    <a:pt x="944" y="122"/>
                  </a:lnTo>
                  <a:lnTo>
                    <a:pt x="853" y="143"/>
                  </a:lnTo>
                  <a:lnTo>
                    <a:pt x="764" y="170"/>
                  </a:lnTo>
                  <a:lnTo>
                    <a:pt x="675" y="199"/>
                  </a:lnTo>
                  <a:lnTo>
                    <a:pt x="587" y="229"/>
                  </a:lnTo>
                  <a:lnTo>
                    <a:pt x="525" y="254"/>
                  </a:lnTo>
                  <a:lnTo>
                    <a:pt x="465" y="279"/>
                  </a:lnTo>
                  <a:lnTo>
                    <a:pt x="401" y="304"/>
                  </a:lnTo>
                  <a:lnTo>
                    <a:pt x="339" y="331"/>
                  </a:lnTo>
                  <a:lnTo>
                    <a:pt x="275" y="357"/>
                  </a:lnTo>
                  <a:lnTo>
                    <a:pt x="213" y="386"/>
                  </a:lnTo>
                  <a:lnTo>
                    <a:pt x="151" y="415"/>
                  </a:lnTo>
                  <a:lnTo>
                    <a:pt x="93" y="448"/>
                  </a:lnTo>
                  <a:lnTo>
                    <a:pt x="81" y="448"/>
                  </a:lnTo>
                  <a:lnTo>
                    <a:pt x="69" y="448"/>
                  </a:lnTo>
                  <a:lnTo>
                    <a:pt x="56" y="448"/>
                  </a:lnTo>
                  <a:lnTo>
                    <a:pt x="42" y="448"/>
                  </a:lnTo>
                  <a:lnTo>
                    <a:pt x="29" y="444"/>
                  </a:lnTo>
                  <a:lnTo>
                    <a:pt x="17" y="440"/>
                  </a:lnTo>
                  <a:lnTo>
                    <a:pt x="5" y="432"/>
                  </a:lnTo>
                  <a:lnTo>
                    <a:pt x="0" y="420"/>
                  </a:lnTo>
                  <a:lnTo>
                    <a:pt x="33" y="407"/>
                  </a:lnTo>
                  <a:lnTo>
                    <a:pt x="68" y="393"/>
                  </a:lnTo>
                  <a:lnTo>
                    <a:pt x="100" y="380"/>
                  </a:lnTo>
                  <a:lnTo>
                    <a:pt x="135" y="368"/>
                  </a:lnTo>
                  <a:lnTo>
                    <a:pt x="168" y="353"/>
                  </a:lnTo>
                  <a:lnTo>
                    <a:pt x="203" y="339"/>
                  </a:lnTo>
                  <a:lnTo>
                    <a:pt x="236" y="325"/>
                  </a:lnTo>
                  <a:lnTo>
                    <a:pt x="271" y="312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7240" y="5529960"/>
              <a:ext cx="49320" cy="19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64" y="2"/>
                  </a:moveTo>
                  <a:lnTo>
                    <a:pt x="64" y="4"/>
                  </a:lnTo>
                  <a:lnTo>
                    <a:pt x="68" y="6"/>
                  </a:lnTo>
                  <a:lnTo>
                    <a:pt x="46" y="15"/>
                  </a:lnTo>
                  <a:lnTo>
                    <a:pt x="31" y="29"/>
                  </a:lnTo>
                  <a:lnTo>
                    <a:pt x="0" y="2"/>
                  </a:lnTo>
                  <a:lnTo>
                    <a:pt x="13" y="0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73000" y="6004080"/>
              <a:ext cx="102960" cy="169920"/>
            </a:xfrm>
            <a:custGeom>
              <a:avLst/>
              <a:gdLst/>
              <a:ahLst/>
              <a:rect l="l" t="t" r="r" b="b"/>
              <a:pathLst>
                <a:path w="141" h="253">
                  <a:moveTo>
                    <a:pt x="0" y="248"/>
                  </a:moveTo>
                  <a:lnTo>
                    <a:pt x="17" y="217"/>
                  </a:lnTo>
                  <a:lnTo>
                    <a:pt x="34" y="186"/>
                  </a:lnTo>
                  <a:lnTo>
                    <a:pt x="52" y="155"/>
                  </a:lnTo>
                  <a:lnTo>
                    <a:pt x="69" y="126"/>
                  </a:lnTo>
                  <a:lnTo>
                    <a:pt x="83" y="93"/>
                  </a:lnTo>
                  <a:lnTo>
                    <a:pt x="96" y="62"/>
                  </a:lnTo>
                  <a:lnTo>
                    <a:pt x="108" y="31"/>
                  </a:lnTo>
                  <a:lnTo>
                    <a:pt x="118" y="0"/>
                  </a:lnTo>
                  <a:lnTo>
                    <a:pt x="122" y="13"/>
                  </a:lnTo>
                  <a:lnTo>
                    <a:pt x="131" y="23"/>
                  </a:lnTo>
                  <a:lnTo>
                    <a:pt x="141" y="31"/>
                  </a:lnTo>
                  <a:lnTo>
                    <a:pt x="141" y="46"/>
                  </a:lnTo>
                  <a:lnTo>
                    <a:pt x="129" y="69"/>
                  </a:lnTo>
                  <a:lnTo>
                    <a:pt x="120" y="96"/>
                  </a:lnTo>
                  <a:lnTo>
                    <a:pt x="108" y="124"/>
                  </a:lnTo>
                  <a:lnTo>
                    <a:pt x="96" y="153"/>
                  </a:lnTo>
                  <a:lnTo>
                    <a:pt x="81" y="178"/>
                  </a:lnTo>
                  <a:lnTo>
                    <a:pt x="65" y="203"/>
                  </a:lnTo>
                  <a:lnTo>
                    <a:pt x="46" y="226"/>
                  </a:lnTo>
                  <a:lnTo>
                    <a:pt x="29" y="250"/>
                  </a:lnTo>
                  <a:lnTo>
                    <a:pt x="0" y="253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2160" y="5536800"/>
              <a:ext cx="234000" cy="82800"/>
            </a:xfrm>
            <a:custGeom>
              <a:avLst/>
              <a:gdLst/>
              <a:ahLst/>
              <a:rect l="l" t="t" r="r" b="b"/>
              <a:pathLst>
                <a:path w="322" h="124">
                  <a:moveTo>
                    <a:pt x="20" y="13"/>
                  </a:moveTo>
                  <a:lnTo>
                    <a:pt x="55" y="5"/>
                  </a:lnTo>
                  <a:lnTo>
                    <a:pt x="91" y="2"/>
                  </a:lnTo>
                  <a:lnTo>
                    <a:pt x="128" y="0"/>
                  </a:lnTo>
                  <a:lnTo>
                    <a:pt x="169" y="0"/>
                  </a:lnTo>
                  <a:lnTo>
                    <a:pt x="208" y="0"/>
                  </a:lnTo>
                  <a:lnTo>
                    <a:pt x="247" y="2"/>
                  </a:lnTo>
                  <a:lnTo>
                    <a:pt x="283" y="5"/>
                  </a:lnTo>
                  <a:lnTo>
                    <a:pt x="322" y="11"/>
                  </a:lnTo>
                  <a:lnTo>
                    <a:pt x="320" y="15"/>
                  </a:lnTo>
                  <a:lnTo>
                    <a:pt x="322" y="19"/>
                  </a:lnTo>
                  <a:lnTo>
                    <a:pt x="303" y="38"/>
                  </a:lnTo>
                  <a:lnTo>
                    <a:pt x="281" y="60"/>
                  </a:lnTo>
                  <a:lnTo>
                    <a:pt x="258" y="77"/>
                  </a:lnTo>
                  <a:lnTo>
                    <a:pt x="235" y="95"/>
                  </a:lnTo>
                  <a:lnTo>
                    <a:pt x="206" y="104"/>
                  </a:lnTo>
                  <a:lnTo>
                    <a:pt x="179" y="114"/>
                  </a:lnTo>
                  <a:lnTo>
                    <a:pt x="148" y="120"/>
                  </a:lnTo>
                  <a:lnTo>
                    <a:pt x="119" y="124"/>
                  </a:lnTo>
                  <a:lnTo>
                    <a:pt x="101" y="114"/>
                  </a:lnTo>
                  <a:lnTo>
                    <a:pt x="88" y="104"/>
                  </a:lnTo>
                  <a:lnTo>
                    <a:pt x="72" y="95"/>
                  </a:lnTo>
                  <a:lnTo>
                    <a:pt x="58" y="85"/>
                  </a:lnTo>
                  <a:lnTo>
                    <a:pt x="43" y="73"/>
                  </a:lnTo>
                  <a:lnTo>
                    <a:pt x="29" y="62"/>
                  </a:lnTo>
                  <a:lnTo>
                    <a:pt x="14" y="50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21240" y="6029280"/>
              <a:ext cx="90000" cy="135360"/>
            </a:xfrm>
            <a:custGeom>
              <a:avLst/>
              <a:gdLst/>
              <a:ahLst/>
              <a:rect l="l" t="t" r="r" b="b"/>
              <a:pathLst>
                <a:path w="125" h="204">
                  <a:moveTo>
                    <a:pt x="30" y="159"/>
                  </a:moveTo>
                  <a:lnTo>
                    <a:pt x="39" y="138"/>
                  </a:lnTo>
                  <a:lnTo>
                    <a:pt x="51" y="121"/>
                  </a:lnTo>
                  <a:lnTo>
                    <a:pt x="59" y="99"/>
                  </a:lnTo>
                  <a:lnTo>
                    <a:pt x="72" y="82"/>
                  </a:lnTo>
                  <a:lnTo>
                    <a:pt x="78" y="62"/>
                  </a:lnTo>
                  <a:lnTo>
                    <a:pt x="86" y="45"/>
                  </a:lnTo>
                  <a:lnTo>
                    <a:pt x="92" y="26"/>
                  </a:lnTo>
                  <a:lnTo>
                    <a:pt x="99" y="8"/>
                  </a:lnTo>
                  <a:lnTo>
                    <a:pt x="103" y="0"/>
                  </a:lnTo>
                  <a:lnTo>
                    <a:pt x="117" y="2"/>
                  </a:lnTo>
                  <a:lnTo>
                    <a:pt x="125" y="12"/>
                  </a:lnTo>
                  <a:lnTo>
                    <a:pt x="119" y="33"/>
                  </a:lnTo>
                  <a:lnTo>
                    <a:pt x="115" y="55"/>
                  </a:lnTo>
                  <a:lnTo>
                    <a:pt x="107" y="76"/>
                  </a:lnTo>
                  <a:lnTo>
                    <a:pt x="101" y="97"/>
                  </a:lnTo>
                  <a:lnTo>
                    <a:pt x="92" y="117"/>
                  </a:lnTo>
                  <a:lnTo>
                    <a:pt x="82" y="138"/>
                  </a:lnTo>
                  <a:lnTo>
                    <a:pt x="72" y="157"/>
                  </a:lnTo>
                  <a:lnTo>
                    <a:pt x="63" y="177"/>
                  </a:lnTo>
                  <a:lnTo>
                    <a:pt x="49" y="188"/>
                  </a:lnTo>
                  <a:lnTo>
                    <a:pt x="33" y="196"/>
                  </a:lnTo>
                  <a:lnTo>
                    <a:pt x="16" y="200"/>
                  </a:lnTo>
                  <a:lnTo>
                    <a:pt x="0" y="204"/>
                  </a:lnTo>
                  <a:lnTo>
                    <a:pt x="4" y="192"/>
                  </a:lnTo>
                  <a:lnTo>
                    <a:pt x="14" y="181"/>
                  </a:lnTo>
                  <a:lnTo>
                    <a:pt x="22" y="169"/>
                  </a:lnTo>
                  <a:lnTo>
                    <a:pt x="30" y="159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3440" y="5972040"/>
              <a:ext cx="775800" cy="75960"/>
            </a:xfrm>
            <a:custGeom>
              <a:avLst/>
              <a:gdLst/>
              <a:ahLst/>
              <a:rect l="l" t="t" r="r" b="b"/>
              <a:pathLst>
                <a:path w="1067" h="114">
                  <a:moveTo>
                    <a:pt x="0" y="0"/>
                  </a:moveTo>
                  <a:lnTo>
                    <a:pt x="91" y="0"/>
                  </a:lnTo>
                  <a:lnTo>
                    <a:pt x="184" y="4"/>
                  </a:lnTo>
                  <a:lnTo>
                    <a:pt x="276" y="8"/>
                  </a:lnTo>
                  <a:lnTo>
                    <a:pt x="369" y="14"/>
                  </a:lnTo>
                  <a:lnTo>
                    <a:pt x="460" y="18"/>
                  </a:lnTo>
                  <a:lnTo>
                    <a:pt x="553" y="23"/>
                  </a:lnTo>
                  <a:lnTo>
                    <a:pt x="644" y="27"/>
                  </a:lnTo>
                  <a:lnTo>
                    <a:pt x="737" y="29"/>
                  </a:lnTo>
                  <a:lnTo>
                    <a:pt x="776" y="33"/>
                  </a:lnTo>
                  <a:lnTo>
                    <a:pt x="817" y="39"/>
                  </a:lnTo>
                  <a:lnTo>
                    <a:pt x="857" y="43"/>
                  </a:lnTo>
                  <a:lnTo>
                    <a:pt x="898" y="49"/>
                  </a:lnTo>
                  <a:lnTo>
                    <a:pt x="937" y="50"/>
                  </a:lnTo>
                  <a:lnTo>
                    <a:pt x="978" y="54"/>
                  </a:lnTo>
                  <a:lnTo>
                    <a:pt x="1018" y="56"/>
                  </a:lnTo>
                  <a:lnTo>
                    <a:pt x="1061" y="60"/>
                  </a:lnTo>
                  <a:lnTo>
                    <a:pt x="1063" y="74"/>
                  </a:lnTo>
                  <a:lnTo>
                    <a:pt x="1065" y="87"/>
                  </a:lnTo>
                  <a:lnTo>
                    <a:pt x="1065" y="101"/>
                  </a:lnTo>
                  <a:lnTo>
                    <a:pt x="1067" y="114"/>
                  </a:lnTo>
                  <a:lnTo>
                    <a:pt x="983" y="113"/>
                  </a:lnTo>
                  <a:lnTo>
                    <a:pt x="900" y="113"/>
                  </a:lnTo>
                  <a:lnTo>
                    <a:pt x="815" y="111"/>
                  </a:lnTo>
                  <a:lnTo>
                    <a:pt x="729" y="111"/>
                  </a:lnTo>
                  <a:lnTo>
                    <a:pt x="644" y="107"/>
                  </a:lnTo>
                  <a:lnTo>
                    <a:pt x="561" y="105"/>
                  </a:lnTo>
                  <a:lnTo>
                    <a:pt x="479" y="99"/>
                  </a:lnTo>
                  <a:lnTo>
                    <a:pt x="406" y="93"/>
                  </a:lnTo>
                  <a:lnTo>
                    <a:pt x="361" y="91"/>
                  </a:lnTo>
                  <a:lnTo>
                    <a:pt x="316" y="89"/>
                  </a:lnTo>
                  <a:lnTo>
                    <a:pt x="272" y="87"/>
                  </a:lnTo>
                  <a:lnTo>
                    <a:pt x="227" y="85"/>
                  </a:lnTo>
                  <a:lnTo>
                    <a:pt x="181" y="81"/>
                  </a:lnTo>
                  <a:lnTo>
                    <a:pt x="138" y="78"/>
                  </a:lnTo>
                  <a:lnTo>
                    <a:pt x="93" y="72"/>
                  </a:lnTo>
                  <a:lnTo>
                    <a:pt x="53" y="66"/>
                  </a:lnTo>
                  <a:lnTo>
                    <a:pt x="35" y="50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8120" y="6035040"/>
              <a:ext cx="60840" cy="116280"/>
            </a:xfrm>
            <a:custGeom>
              <a:avLst/>
              <a:gdLst/>
              <a:ahLst/>
              <a:rect l="l" t="t" r="r" b="b"/>
              <a:pathLst>
                <a:path w="83" h="175">
                  <a:moveTo>
                    <a:pt x="70" y="14"/>
                  </a:moveTo>
                  <a:lnTo>
                    <a:pt x="68" y="6"/>
                  </a:lnTo>
                  <a:lnTo>
                    <a:pt x="68" y="0"/>
                  </a:lnTo>
                  <a:lnTo>
                    <a:pt x="83" y="4"/>
                  </a:lnTo>
                  <a:lnTo>
                    <a:pt x="79" y="21"/>
                  </a:lnTo>
                  <a:lnTo>
                    <a:pt x="79" y="41"/>
                  </a:lnTo>
                  <a:lnTo>
                    <a:pt x="74" y="56"/>
                  </a:lnTo>
                  <a:lnTo>
                    <a:pt x="70" y="74"/>
                  </a:lnTo>
                  <a:lnTo>
                    <a:pt x="64" y="89"/>
                  </a:lnTo>
                  <a:lnTo>
                    <a:pt x="58" y="107"/>
                  </a:lnTo>
                  <a:lnTo>
                    <a:pt x="48" y="120"/>
                  </a:lnTo>
                  <a:lnTo>
                    <a:pt x="41" y="136"/>
                  </a:lnTo>
                  <a:lnTo>
                    <a:pt x="29" y="151"/>
                  </a:lnTo>
                  <a:lnTo>
                    <a:pt x="19" y="167"/>
                  </a:lnTo>
                  <a:lnTo>
                    <a:pt x="0" y="175"/>
                  </a:lnTo>
                  <a:lnTo>
                    <a:pt x="10" y="153"/>
                  </a:lnTo>
                  <a:lnTo>
                    <a:pt x="21" y="136"/>
                  </a:lnTo>
                  <a:lnTo>
                    <a:pt x="31" y="114"/>
                  </a:lnTo>
                  <a:lnTo>
                    <a:pt x="41" y="97"/>
                  </a:lnTo>
                  <a:lnTo>
                    <a:pt x="48" y="76"/>
                  </a:lnTo>
                  <a:lnTo>
                    <a:pt x="58" y="54"/>
                  </a:lnTo>
                  <a:lnTo>
                    <a:pt x="64" y="33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5560" y="5497920"/>
              <a:ext cx="736560" cy="250200"/>
            </a:xfrm>
            <a:custGeom>
              <a:avLst/>
              <a:gdLst/>
              <a:ahLst/>
              <a:rect l="l" t="t" r="r" b="b"/>
              <a:pathLst>
                <a:path w="1013" h="375">
                  <a:moveTo>
                    <a:pt x="181" y="88"/>
                  </a:moveTo>
                  <a:lnTo>
                    <a:pt x="177" y="61"/>
                  </a:lnTo>
                  <a:lnTo>
                    <a:pt x="233" y="59"/>
                  </a:lnTo>
                  <a:lnTo>
                    <a:pt x="291" y="57"/>
                  </a:lnTo>
                  <a:lnTo>
                    <a:pt x="349" y="55"/>
                  </a:lnTo>
                  <a:lnTo>
                    <a:pt x="410" y="53"/>
                  </a:lnTo>
                  <a:lnTo>
                    <a:pt x="468" y="51"/>
                  </a:lnTo>
                  <a:lnTo>
                    <a:pt x="526" y="51"/>
                  </a:lnTo>
                  <a:lnTo>
                    <a:pt x="584" y="51"/>
                  </a:lnTo>
                  <a:lnTo>
                    <a:pt x="642" y="53"/>
                  </a:lnTo>
                  <a:lnTo>
                    <a:pt x="668" y="47"/>
                  </a:lnTo>
                  <a:lnTo>
                    <a:pt x="695" y="45"/>
                  </a:lnTo>
                  <a:lnTo>
                    <a:pt x="720" y="43"/>
                  </a:lnTo>
                  <a:lnTo>
                    <a:pt x="749" y="41"/>
                  </a:lnTo>
                  <a:lnTo>
                    <a:pt x="774" y="37"/>
                  </a:lnTo>
                  <a:lnTo>
                    <a:pt x="801" y="35"/>
                  </a:lnTo>
                  <a:lnTo>
                    <a:pt x="827" y="30"/>
                  </a:lnTo>
                  <a:lnTo>
                    <a:pt x="854" y="26"/>
                  </a:lnTo>
                  <a:lnTo>
                    <a:pt x="871" y="22"/>
                  </a:lnTo>
                  <a:lnTo>
                    <a:pt x="891" y="20"/>
                  </a:lnTo>
                  <a:lnTo>
                    <a:pt x="910" y="16"/>
                  </a:lnTo>
                  <a:lnTo>
                    <a:pt x="931" y="14"/>
                  </a:lnTo>
                  <a:lnTo>
                    <a:pt x="951" y="8"/>
                  </a:lnTo>
                  <a:lnTo>
                    <a:pt x="972" y="6"/>
                  </a:lnTo>
                  <a:lnTo>
                    <a:pt x="991" y="2"/>
                  </a:lnTo>
                  <a:lnTo>
                    <a:pt x="1013" y="0"/>
                  </a:lnTo>
                  <a:lnTo>
                    <a:pt x="1009" y="24"/>
                  </a:lnTo>
                  <a:lnTo>
                    <a:pt x="1007" y="49"/>
                  </a:lnTo>
                  <a:lnTo>
                    <a:pt x="1003" y="74"/>
                  </a:lnTo>
                  <a:lnTo>
                    <a:pt x="1001" y="99"/>
                  </a:lnTo>
                  <a:lnTo>
                    <a:pt x="999" y="123"/>
                  </a:lnTo>
                  <a:lnTo>
                    <a:pt x="997" y="146"/>
                  </a:lnTo>
                  <a:lnTo>
                    <a:pt x="997" y="169"/>
                  </a:lnTo>
                  <a:lnTo>
                    <a:pt x="997" y="194"/>
                  </a:lnTo>
                  <a:lnTo>
                    <a:pt x="991" y="206"/>
                  </a:lnTo>
                  <a:lnTo>
                    <a:pt x="989" y="221"/>
                  </a:lnTo>
                  <a:lnTo>
                    <a:pt x="989" y="235"/>
                  </a:lnTo>
                  <a:lnTo>
                    <a:pt x="995" y="251"/>
                  </a:lnTo>
                  <a:lnTo>
                    <a:pt x="988" y="258"/>
                  </a:lnTo>
                  <a:lnTo>
                    <a:pt x="988" y="270"/>
                  </a:lnTo>
                  <a:lnTo>
                    <a:pt x="988" y="285"/>
                  </a:lnTo>
                  <a:lnTo>
                    <a:pt x="988" y="301"/>
                  </a:lnTo>
                  <a:lnTo>
                    <a:pt x="988" y="318"/>
                  </a:lnTo>
                  <a:lnTo>
                    <a:pt x="988" y="332"/>
                  </a:lnTo>
                  <a:lnTo>
                    <a:pt x="988" y="347"/>
                  </a:lnTo>
                  <a:lnTo>
                    <a:pt x="988" y="361"/>
                  </a:lnTo>
                  <a:lnTo>
                    <a:pt x="989" y="375"/>
                  </a:lnTo>
                  <a:lnTo>
                    <a:pt x="914" y="365"/>
                  </a:lnTo>
                  <a:lnTo>
                    <a:pt x="840" y="359"/>
                  </a:lnTo>
                  <a:lnTo>
                    <a:pt x="766" y="353"/>
                  </a:lnTo>
                  <a:lnTo>
                    <a:pt x="693" y="347"/>
                  </a:lnTo>
                  <a:lnTo>
                    <a:pt x="617" y="340"/>
                  </a:lnTo>
                  <a:lnTo>
                    <a:pt x="541" y="334"/>
                  </a:lnTo>
                  <a:lnTo>
                    <a:pt x="466" y="326"/>
                  </a:lnTo>
                  <a:lnTo>
                    <a:pt x="392" y="318"/>
                  </a:lnTo>
                  <a:lnTo>
                    <a:pt x="357" y="311"/>
                  </a:lnTo>
                  <a:lnTo>
                    <a:pt x="322" y="303"/>
                  </a:lnTo>
                  <a:lnTo>
                    <a:pt x="289" y="295"/>
                  </a:lnTo>
                  <a:lnTo>
                    <a:pt x="256" y="287"/>
                  </a:lnTo>
                  <a:lnTo>
                    <a:pt x="221" y="278"/>
                  </a:lnTo>
                  <a:lnTo>
                    <a:pt x="190" y="268"/>
                  </a:lnTo>
                  <a:lnTo>
                    <a:pt x="156" y="258"/>
                  </a:lnTo>
                  <a:lnTo>
                    <a:pt x="124" y="252"/>
                  </a:lnTo>
                  <a:lnTo>
                    <a:pt x="109" y="243"/>
                  </a:lnTo>
                  <a:lnTo>
                    <a:pt x="95" y="239"/>
                  </a:lnTo>
                  <a:lnTo>
                    <a:pt x="80" y="235"/>
                  </a:lnTo>
                  <a:lnTo>
                    <a:pt x="68" y="229"/>
                  </a:lnTo>
                  <a:lnTo>
                    <a:pt x="0" y="202"/>
                  </a:lnTo>
                  <a:lnTo>
                    <a:pt x="26" y="194"/>
                  </a:lnTo>
                  <a:lnTo>
                    <a:pt x="51" y="187"/>
                  </a:lnTo>
                  <a:lnTo>
                    <a:pt x="76" y="175"/>
                  </a:lnTo>
                  <a:lnTo>
                    <a:pt x="103" y="163"/>
                  </a:lnTo>
                  <a:lnTo>
                    <a:pt x="124" y="148"/>
                  </a:lnTo>
                  <a:lnTo>
                    <a:pt x="146" y="130"/>
                  </a:lnTo>
                  <a:lnTo>
                    <a:pt x="163" y="109"/>
                  </a:lnTo>
                  <a:lnTo>
                    <a:pt x="181" y="8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48040" y="5466960"/>
              <a:ext cx="535320" cy="57600"/>
            </a:xfrm>
            <a:custGeom>
              <a:avLst/>
              <a:gdLst/>
              <a:ahLst/>
              <a:rect l="l" t="t" r="r" b="b"/>
              <a:pathLst>
                <a:path w="737" h="85">
                  <a:moveTo>
                    <a:pt x="203" y="23"/>
                  </a:moveTo>
                  <a:lnTo>
                    <a:pt x="267" y="13"/>
                  </a:lnTo>
                  <a:lnTo>
                    <a:pt x="333" y="6"/>
                  </a:lnTo>
                  <a:lnTo>
                    <a:pt x="401" y="0"/>
                  </a:lnTo>
                  <a:lnTo>
                    <a:pt x="471" y="0"/>
                  </a:lnTo>
                  <a:lnTo>
                    <a:pt x="539" y="0"/>
                  </a:lnTo>
                  <a:lnTo>
                    <a:pt x="607" y="8"/>
                  </a:lnTo>
                  <a:lnTo>
                    <a:pt x="671" y="19"/>
                  </a:lnTo>
                  <a:lnTo>
                    <a:pt x="737" y="39"/>
                  </a:lnTo>
                  <a:lnTo>
                    <a:pt x="727" y="44"/>
                  </a:lnTo>
                  <a:lnTo>
                    <a:pt x="663" y="52"/>
                  </a:lnTo>
                  <a:lnTo>
                    <a:pt x="599" y="60"/>
                  </a:lnTo>
                  <a:lnTo>
                    <a:pt x="535" y="66"/>
                  </a:lnTo>
                  <a:lnTo>
                    <a:pt x="473" y="72"/>
                  </a:lnTo>
                  <a:lnTo>
                    <a:pt x="409" y="74"/>
                  </a:lnTo>
                  <a:lnTo>
                    <a:pt x="345" y="76"/>
                  </a:lnTo>
                  <a:lnTo>
                    <a:pt x="281" y="76"/>
                  </a:lnTo>
                  <a:lnTo>
                    <a:pt x="217" y="77"/>
                  </a:lnTo>
                  <a:lnTo>
                    <a:pt x="0" y="85"/>
                  </a:lnTo>
                  <a:lnTo>
                    <a:pt x="23" y="74"/>
                  </a:lnTo>
                  <a:lnTo>
                    <a:pt x="46" y="64"/>
                  </a:lnTo>
                  <a:lnTo>
                    <a:pt x="71" y="54"/>
                  </a:lnTo>
                  <a:lnTo>
                    <a:pt x="99" y="48"/>
                  </a:lnTo>
                  <a:lnTo>
                    <a:pt x="122" y="39"/>
                  </a:lnTo>
                  <a:lnTo>
                    <a:pt x="149" y="33"/>
                  </a:lnTo>
                  <a:lnTo>
                    <a:pt x="174" y="27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1640" y="5933160"/>
              <a:ext cx="408600" cy="65520"/>
            </a:xfrm>
            <a:custGeom>
              <a:avLst/>
              <a:gdLst/>
              <a:ahLst/>
              <a:rect l="l" t="t" r="r" b="b"/>
              <a:pathLst>
                <a:path w="562" h="99">
                  <a:moveTo>
                    <a:pt x="401" y="31"/>
                  </a:moveTo>
                  <a:lnTo>
                    <a:pt x="419" y="25"/>
                  </a:lnTo>
                  <a:lnTo>
                    <a:pt x="440" y="21"/>
                  </a:lnTo>
                  <a:lnTo>
                    <a:pt x="459" y="19"/>
                  </a:lnTo>
                  <a:lnTo>
                    <a:pt x="481" y="17"/>
                  </a:lnTo>
                  <a:lnTo>
                    <a:pt x="498" y="13"/>
                  </a:lnTo>
                  <a:lnTo>
                    <a:pt x="518" y="10"/>
                  </a:lnTo>
                  <a:lnTo>
                    <a:pt x="535" y="4"/>
                  </a:lnTo>
                  <a:lnTo>
                    <a:pt x="554" y="0"/>
                  </a:lnTo>
                  <a:lnTo>
                    <a:pt x="554" y="17"/>
                  </a:lnTo>
                  <a:lnTo>
                    <a:pt x="556" y="37"/>
                  </a:lnTo>
                  <a:lnTo>
                    <a:pt x="556" y="56"/>
                  </a:lnTo>
                  <a:lnTo>
                    <a:pt x="558" y="76"/>
                  </a:lnTo>
                  <a:lnTo>
                    <a:pt x="560" y="85"/>
                  </a:lnTo>
                  <a:lnTo>
                    <a:pt x="562" y="99"/>
                  </a:lnTo>
                  <a:lnTo>
                    <a:pt x="496" y="93"/>
                  </a:lnTo>
                  <a:lnTo>
                    <a:pt x="432" y="87"/>
                  </a:lnTo>
                  <a:lnTo>
                    <a:pt x="370" y="81"/>
                  </a:lnTo>
                  <a:lnTo>
                    <a:pt x="308" y="76"/>
                  </a:lnTo>
                  <a:lnTo>
                    <a:pt x="244" y="68"/>
                  </a:lnTo>
                  <a:lnTo>
                    <a:pt x="182" y="64"/>
                  </a:lnTo>
                  <a:lnTo>
                    <a:pt x="118" y="62"/>
                  </a:lnTo>
                  <a:lnTo>
                    <a:pt x="56" y="64"/>
                  </a:lnTo>
                  <a:lnTo>
                    <a:pt x="0" y="60"/>
                  </a:lnTo>
                  <a:lnTo>
                    <a:pt x="46" y="54"/>
                  </a:lnTo>
                  <a:lnTo>
                    <a:pt x="95" y="48"/>
                  </a:lnTo>
                  <a:lnTo>
                    <a:pt x="143" y="43"/>
                  </a:lnTo>
                  <a:lnTo>
                    <a:pt x="196" y="39"/>
                  </a:lnTo>
                  <a:lnTo>
                    <a:pt x="244" y="33"/>
                  </a:lnTo>
                  <a:lnTo>
                    <a:pt x="297" y="31"/>
                  </a:lnTo>
                  <a:lnTo>
                    <a:pt x="349" y="29"/>
                  </a:lnTo>
                  <a:lnTo>
                    <a:pt x="401" y="31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7000" y="5152320"/>
              <a:ext cx="273240" cy="48240"/>
            </a:xfrm>
            <a:custGeom>
              <a:avLst/>
              <a:gdLst/>
              <a:ahLst/>
              <a:rect l="l" t="t" r="r" b="b"/>
              <a:pathLst>
                <a:path w="376" h="71">
                  <a:moveTo>
                    <a:pt x="25" y="0"/>
                  </a:moveTo>
                  <a:lnTo>
                    <a:pt x="43" y="7"/>
                  </a:lnTo>
                  <a:lnTo>
                    <a:pt x="64" y="19"/>
                  </a:lnTo>
                  <a:lnTo>
                    <a:pt x="74" y="23"/>
                  </a:lnTo>
                  <a:lnTo>
                    <a:pt x="85" y="29"/>
                  </a:lnTo>
                  <a:lnTo>
                    <a:pt x="97" y="35"/>
                  </a:lnTo>
                  <a:lnTo>
                    <a:pt x="109" y="40"/>
                  </a:lnTo>
                  <a:lnTo>
                    <a:pt x="140" y="44"/>
                  </a:lnTo>
                  <a:lnTo>
                    <a:pt x="175" y="46"/>
                  </a:lnTo>
                  <a:lnTo>
                    <a:pt x="206" y="46"/>
                  </a:lnTo>
                  <a:lnTo>
                    <a:pt x="240" y="48"/>
                  </a:lnTo>
                  <a:lnTo>
                    <a:pt x="273" y="48"/>
                  </a:lnTo>
                  <a:lnTo>
                    <a:pt x="306" y="52"/>
                  </a:lnTo>
                  <a:lnTo>
                    <a:pt x="341" y="56"/>
                  </a:lnTo>
                  <a:lnTo>
                    <a:pt x="376" y="68"/>
                  </a:lnTo>
                  <a:lnTo>
                    <a:pt x="334" y="70"/>
                  </a:lnTo>
                  <a:lnTo>
                    <a:pt x="289" y="71"/>
                  </a:lnTo>
                  <a:lnTo>
                    <a:pt x="244" y="71"/>
                  </a:lnTo>
                  <a:lnTo>
                    <a:pt x="200" y="71"/>
                  </a:lnTo>
                  <a:lnTo>
                    <a:pt x="153" y="66"/>
                  </a:lnTo>
                  <a:lnTo>
                    <a:pt x="111" y="60"/>
                  </a:lnTo>
                  <a:lnTo>
                    <a:pt x="68" y="50"/>
                  </a:lnTo>
                  <a:lnTo>
                    <a:pt x="29" y="40"/>
                  </a:lnTo>
                  <a:lnTo>
                    <a:pt x="0" y="42"/>
                  </a:lnTo>
                  <a:lnTo>
                    <a:pt x="6" y="31"/>
                  </a:lnTo>
                  <a:lnTo>
                    <a:pt x="15" y="21"/>
                  </a:lnTo>
                  <a:lnTo>
                    <a:pt x="1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26760" y="5748120"/>
              <a:ext cx="208080" cy="1926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0" y="85"/>
                  </a:moveTo>
                  <a:lnTo>
                    <a:pt x="286" y="93"/>
                  </a:lnTo>
                  <a:lnTo>
                    <a:pt x="287" y="256"/>
                  </a:lnTo>
                  <a:lnTo>
                    <a:pt x="260" y="259"/>
                  </a:lnTo>
                  <a:lnTo>
                    <a:pt x="233" y="265"/>
                  </a:lnTo>
                  <a:lnTo>
                    <a:pt x="206" y="271"/>
                  </a:lnTo>
                  <a:lnTo>
                    <a:pt x="179" y="277"/>
                  </a:lnTo>
                  <a:lnTo>
                    <a:pt x="150" y="281"/>
                  </a:lnTo>
                  <a:lnTo>
                    <a:pt x="125" y="285"/>
                  </a:lnTo>
                  <a:lnTo>
                    <a:pt x="97" y="285"/>
                  </a:lnTo>
                  <a:lnTo>
                    <a:pt x="74" y="287"/>
                  </a:lnTo>
                  <a:lnTo>
                    <a:pt x="86" y="279"/>
                  </a:lnTo>
                  <a:lnTo>
                    <a:pt x="101" y="275"/>
                  </a:lnTo>
                  <a:lnTo>
                    <a:pt x="115" y="269"/>
                  </a:lnTo>
                  <a:lnTo>
                    <a:pt x="130" y="263"/>
                  </a:lnTo>
                  <a:lnTo>
                    <a:pt x="142" y="256"/>
                  </a:lnTo>
                  <a:lnTo>
                    <a:pt x="156" y="246"/>
                  </a:lnTo>
                  <a:lnTo>
                    <a:pt x="165" y="232"/>
                  </a:lnTo>
                  <a:lnTo>
                    <a:pt x="175" y="219"/>
                  </a:lnTo>
                  <a:lnTo>
                    <a:pt x="175" y="203"/>
                  </a:lnTo>
                  <a:lnTo>
                    <a:pt x="175" y="190"/>
                  </a:lnTo>
                  <a:lnTo>
                    <a:pt x="171" y="174"/>
                  </a:lnTo>
                  <a:lnTo>
                    <a:pt x="169" y="161"/>
                  </a:lnTo>
                  <a:lnTo>
                    <a:pt x="163" y="147"/>
                  </a:lnTo>
                  <a:lnTo>
                    <a:pt x="158" y="133"/>
                  </a:lnTo>
                  <a:lnTo>
                    <a:pt x="152" y="120"/>
                  </a:lnTo>
                  <a:lnTo>
                    <a:pt x="146" y="108"/>
                  </a:lnTo>
                  <a:lnTo>
                    <a:pt x="128" y="91"/>
                  </a:lnTo>
                  <a:lnTo>
                    <a:pt x="111" y="73"/>
                  </a:lnTo>
                  <a:lnTo>
                    <a:pt x="94" y="58"/>
                  </a:lnTo>
                  <a:lnTo>
                    <a:pt x="76" y="46"/>
                  </a:lnTo>
                  <a:lnTo>
                    <a:pt x="57" y="31"/>
                  </a:lnTo>
                  <a:lnTo>
                    <a:pt x="39" y="19"/>
                  </a:lnTo>
                  <a:lnTo>
                    <a:pt x="20" y="7"/>
                  </a:lnTo>
                  <a:lnTo>
                    <a:pt x="0" y="0"/>
                  </a:lnTo>
                  <a:lnTo>
                    <a:pt x="35" y="2"/>
                  </a:lnTo>
                  <a:lnTo>
                    <a:pt x="72" y="7"/>
                  </a:lnTo>
                  <a:lnTo>
                    <a:pt x="107" y="17"/>
                  </a:lnTo>
                  <a:lnTo>
                    <a:pt x="144" y="29"/>
                  </a:lnTo>
                  <a:lnTo>
                    <a:pt x="177" y="40"/>
                  </a:lnTo>
                  <a:lnTo>
                    <a:pt x="212" y="54"/>
                  </a:lnTo>
                  <a:lnTo>
                    <a:pt x="245" y="69"/>
                  </a:lnTo>
                  <a:lnTo>
                    <a:pt x="280" y="85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9640" y="5749560"/>
              <a:ext cx="114840" cy="3456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159" y="19"/>
                  </a:moveTo>
                  <a:lnTo>
                    <a:pt x="158" y="52"/>
                  </a:lnTo>
                  <a:lnTo>
                    <a:pt x="136" y="44"/>
                  </a:lnTo>
                  <a:lnTo>
                    <a:pt x="119" y="38"/>
                  </a:lnTo>
                  <a:lnTo>
                    <a:pt x="97" y="32"/>
                  </a:lnTo>
                  <a:lnTo>
                    <a:pt x="80" y="27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20" y="7"/>
                  </a:lnTo>
                  <a:lnTo>
                    <a:pt x="0" y="1"/>
                  </a:lnTo>
                  <a:lnTo>
                    <a:pt x="18" y="0"/>
                  </a:lnTo>
                  <a:lnTo>
                    <a:pt x="37" y="1"/>
                  </a:lnTo>
                  <a:lnTo>
                    <a:pt x="57" y="3"/>
                  </a:lnTo>
                  <a:lnTo>
                    <a:pt x="78" y="7"/>
                  </a:lnTo>
                  <a:lnTo>
                    <a:pt x="97" y="11"/>
                  </a:lnTo>
                  <a:lnTo>
                    <a:pt x="119" y="15"/>
                  </a:lnTo>
                  <a:lnTo>
                    <a:pt x="138" y="17"/>
                  </a:lnTo>
                  <a:lnTo>
                    <a:pt x="159" y="19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9320" y="5279400"/>
              <a:ext cx="111960" cy="3492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155" y="0"/>
                  </a:moveTo>
                  <a:lnTo>
                    <a:pt x="152" y="11"/>
                  </a:lnTo>
                  <a:lnTo>
                    <a:pt x="148" y="21"/>
                  </a:lnTo>
                  <a:lnTo>
                    <a:pt x="148" y="50"/>
                  </a:lnTo>
                  <a:lnTo>
                    <a:pt x="128" y="42"/>
                  </a:lnTo>
                  <a:lnTo>
                    <a:pt x="111" y="37"/>
                  </a:lnTo>
                  <a:lnTo>
                    <a:pt x="93" y="31"/>
                  </a:lnTo>
                  <a:lnTo>
                    <a:pt x="76" y="27"/>
                  </a:lnTo>
                  <a:lnTo>
                    <a:pt x="57" y="21"/>
                  </a:lnTo>
                  <a:lnTo>
                    <a:pt x="37" y="19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18" y="13"/>
                  </a:lnTo>
                  <a:lnTo>
                    <a:pt x="37" y="11"/>
                  </a:lnTo>
                  <a:lnTo>
                    <a:pt x="57" y="7"/>
                  </a:lnTo>
                  <a:lnTo>
                    <a:pt x="76" y="6"/>
                  </a:lnTo>
                  <a:lnTo>
                    <a:pt x="95" y="4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9320" y="5020920"/>
              <a:ext cx="95760" cy="168840"/>
            </a:xfrm>
            <a:custGeom>
              <a:avLst/>
              <a:gdLst/>
              <a:ahLst/>
              <a:rect l="l" t="t" r="r" b="b"/>
              <a:pathLst>
                <a:path w="132" h="250">
                  <a:moveTo>
                    <a:pt x="72" y="10"/>
                  </a:moveTo>
                  <a:lnTo>
                    <a:pt x="78" y="10"/>
                  </a:lnTo>
                  <a:lnTo>
                    <a:pt x="84" y="6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28" y="0"/>
                  </a:lnTo>
                  <a:lnTo>
                    <a:pt x="107" y="10"/>
                  </a:lnTo>
                  <a:lnTo>
                    <a:pt x="91" y="25"/>
                  </a:lnTo>
                  <a:lnTo>
                    <a:pt x="76" y="41"/>
                  </a:lnTo>
                  <a:lnTo>
                    <a:pt x="66" y="60"/>
                  </a:lnTo>
                  <a:lnTo>
                    <a:pt x="57" y="77"/>
                  </a:lnTo>
                  <a:lnTo>
                    <a:pt x="51" y="99"/>
                  </a:lnTo>
                  <a:lnTo>
                    <a:pt x="45" y="120"/>
                  </a:lnTo>
                  <a:lnTo>
                    <a:pt x="45" y="141"/>
                  </a:lnTo>
                  <a:lnTo>
                    <a:pt x="41" y="157"/>
                  </a:lnTo>
                  <a:lnTo>
                    <a:pt x="45" y="174"/>
                  </a:lnTo>
                  <a:lnTo>
                    <a:pt x="51" y="188"/>
                  </a:lnTo>
                  <a:lnTo>
                    <a:pt x="62" y="202"/>
                  </a:lnTo>
                  <a:lnTo>
                    <a:pt x="72" y="211"/>
                  </a:lnTo>
                  <a:lnTo>
                    <a:pt x="86" y="223"/>
                  </a:lnTo>
                  <a:lnTo>
                    <a:pt x="99" y="233"/>
                  </a:lnTo>
                  <a:lnTo>
                    <a:pt x="115" y="244"/>
                  </a:lnTo>
                  <a:lnTo>
                    <a:pt x="132" y="250"/>
                  </a:lnTo>
                  <a:lnTo>
                    <a:pt x="111" y="250"/>
                  </a:lnTo>
                  <a:lnTo>
                    <a:pt x="93" y="248"/>
                  </a:lnTo>
                  <a:lnTo>
                    <a:pt x="78" y="240"/>
                  </a:lnTo>
                  <a:lnTo>
                    <a:pt x="66" y="231"/>
                  </a:lnTo>
                  <a:lnTo>
                    <a:pt x="51" y="217"/>
                  </a:lnTo>
                  <a:lnTo>
                    <a:pt x="39" y="205"/>
                  </a:lnTo>
                  <a:lnTo>
                    <a:pt x="26" y="192"/>
                  </a:lnTo>
                  <a:lnTo>
                    <a:pt x="12" y="182"/>
                  </a:lnTo>
                  <a:lnTo>
                    <a:pt x="2" y="155"/>
                  </a:lnTo>
                  <a:lnTo>
                    <a:pt x="0" y="132"/>
                  </a:lnTo>
                  <a:lnTo>
                    <a:pt x="4" y="108"/>
                  </a:lnTo>
                  <a:lnTo>
                    <a:pt x="12" y="87"/>
                  </a:lnTo>
                  <a:lnTo>
                    <a:pt x="22" y="64"/>
                  </a:lnTo>
                  <a:lnTo>
                    <a:pt x="37" y="44"/>
                  </a:lnTo>
                  <a:lnTo>
                    <a:pt x="55" y="25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08560" y="5463000"/>
              <a:ext cx="47880" cy="266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0"/>
                  </a:moveTo>
                  <a:lnTo>
                    <a:pt x="66" y="16"/>
                  </a:lnTo>
                  <a:lnTo>
                    <a:pt x="60" y="33"/>
                  </a:lnTo>
                  <a:lnTo>
                    <a:pt x="0" y="41"/>
                  </a:lnTo>
                  <a:lnTo>
                    <a:pt x="9" y="23"/>
                  </a:lnTo>
                  <a:lnTo>
                    <a:pt x="27" y="14"/>
                  </a:lnTo>
                  <a:lnTo>
                    <a:pt x="44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12880" y="5031720"/>
              <a:ext cx="151200" cy="14976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80" y="0"/>
                  </a:moveTo>
                  <a:lnTo>
                    <a:pt x="90" y="2"/>
                  </a:lnTo>
                  <a:lnTo>
                    <a:pt x="97" y="10"/>
                  </a:lnTo>
                  <a:lnTo>
                    <a:pt x="97" y="20"/>
                  </a:lnTo>
                  <a:lnTo>
                    <a:pt x="92" y="29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2" y="51"/>
                  </a:lnTo>
                  <a:lnTo>
                    <a:pt x="51" y="61"/>
                  </a:lnTo>
                  <a:lnTo>
                    <a:pt x="41" y="72"/>
                  </a:lnTo>
                  <a:lnTo>
                    <a:pt x="33" y="86"/>
                  </a:lnTo>
                  <a:lnTo>
                    <a:pt x="24" y="97"/>
                  </a:lnTo>
                  <a:lnTo>
                    <a:pt x="20" y="111"/>
                  </a:lnTo>
                  <a:lnTo>
                    <a:pt x="18" y="126"/>
                  </a:lnTo>
                  <a:lnTo>
                    <a:pt x="20" y="144"/>
                  </a:lnTo>
                  <a:lnTo>
                    <a:pt x="26" y="157"/>
                  </a:lnTo>
                  <a:lnTo>
                    <a:pt x="39" y="173"/>
                  </a:lnTo>
                  <a:lnTo>
                    <a:pt x="57" y="185"/>
                  </a:lnTo>
                  <a:lnTo>
                    <a:pt x="76" y="192"/>
                  </a:lnTo>
                  <a:lnTo>
                    <a:pt x="92" y="192"/>
                  </a:lnTo>
                  <a:lnTo>
                    <a:pt x="109" y="196"/>
                  </a:lnTo>
                  <a:lnTo>
                    <a:pt x="125" y="198"/>
                  </a:lnTo>
                  <a:lnTo>
                    <a:pt x="142" y="202"/>
                  </a:lnTo>
                  <a:lnTo>
                    <a:pt x="158" y="204"/>
                  </a:lnTo>
                  <a:lnTo>
                    <a:pt x="175" y="206"/>
                  </a:lnTo>
                  <a:lnTo>
                    <a:pt x="192" y="204"/>
                  </a:lnTo>
                  <a:lnTo>
                    <a:pt x="210" y="204"/>
                  </a:lnTo>
                  <a:lnTo>
                    <a:pt x="196" y="204"/>
                  </a:lnTo>
                  <a:lnTo>
                    <a:pt x="183" y="206"/>
                  </a:lnTo>
                  <a:lnTo>
                    <a:pt x="169" y="210"/>
                  </a:lnTo>
                  <a:lnTo>
                    <a:pt x="156" y="216"/>
                  </a:lnTo>
                  <a:lnTo>
                    <a:pt x="140" y="219"/>
                  </a:lnTo>
                  <a:lnTo>
                    <a:pt x="126" y="223"/>
                  </a:lnTo>
                  <a:lnTo>
                    <a:pt x="111" y="223"/>
                  </a:lnTo>
                  <a:lnTo>
                    <a:pt x="97" y="223"/>
                  </a:lnTo>
                  <a:lnTo>
                    <a:pt x="80" y="219"/>
                  </a:lnTo>
                  <a:lnTo>
                    <a:pt x="61" y="216"/>
                  </a:lnTo>
                  <a:lnTo>
                    <a:pt x="47" y="206"/>
                  </a:lnTo>
                  <a:lnTo>
                    <a:pt x="35" y="198"/>
                  </a:lnTo>
                  <a:lnTo>
                    <a:pt x="24" y="188"/>
                  </a:lnTo>
                  <a:lnTo>
                    <a:pt x="16" y="181"/>
                  </a:lnTo>
                  <a:lnTo>
                    <a:pt x="8" y="167"/>
                  </a:lnTo>
                  <a:lnTo>
                    <a:pt x="4" y="156"/>
                  </a:lnTo>
                  <a:lnTo>
                    <a:pt x="0" y="142"/>
                  </a:lnTo>
                  <a:lnTo>
                    <a:pt x="2" y="130"/>
                  </a:lnTo>
                  <a:lnTo>
                    <a:pt x="0" y="109"/>
                  </a:lnTo>
                  <a:lnTo>
                    <a:pt x="4" y="92"/>
                  </a:lnTo>
                  <a:lnTo>
                    <a:pt x="10" y="72"/>
                  </a:lnTo>
                  <a:lnTo>
                    <a:pt x="20" y="55"/>
                  </a:lnTo>
                  <a:lnTo>
                    <a:pt x="30" y="37"/>
                  </a:lnTo>
                  <a:lnTo>
                    <a:pt x="45" y="22"/>
                  </a:lnTo>
                  <a:lnTo>
                    <a:pt x="61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6280" y="5065200"/>
              <a:ext cx="49320" cy="84240"/>
            </a:xfrm>
            <a:custGeom>
              <a:avLst/>
              <a:gdLst/>
              <a:ahLst/>
              <a:rect l="l" t="t" r="r" b="b"/>
              <a:pathLst>
                <a:path w="68" h="126">
                  <a:moveTo>
                    <a:pt x="31" y="19"/>
                  </a:moveTo>
                  <a:lnTo>
                    <a:pt x="49" y="8"/>
                  </a:lnTo>
                  <a:lnTo>
                    <a:pt x="68" y="0"/>
                  </a:lnTo>
                  <a:lnTo>
                    <a:pt x="64" y="10"/>
                  </a:lnTo>
                  <a:lnTo>
                    <a:pt x="61" y="17"/>
                  </a:lnTo>
                  <a:lnTo>
                    <a:pt x="53" y="23"/>
                  </a:lnTo>
                  <a:lnTo>
                    <a:pt x="47" y="31"/>
                  </a:lnTo>
                  <a:lnTo>
                    <a:pt x="37" y="35"/>
                  </a:lnTo>
                  <a:lnTo>
                    <a:pt x="29" y="42"/>
                  </a:lnTo>
                  <a:lnTo>
                    <a:pt x="24" y="48"/>
                  </a:lnTo>
                  <a:lnTo>
                    <a:pt x="22" y="60"/>
                  </a:lnTo>
                  <a:lnTo>
                    <a:pt x="20" y="77"/>
                  </a:lnTo>
                  <a:lnTo>
                    <a:pt x="24" y="97"/>
                  </a:lnTo>
                  <a:lnTo>
                    <a:pt x="33" y="110"/>
                  </a:lnTo>
                  <a:lnTo>
                    <a:pt x="45" y="126"/>
                  </a:lnTo>
                  <a:lnTo>
                    <a:pt x="35" y="120"/>
                  </a:lnTo>
                  <a:lnTo>
                    <a:pt x="24" y="116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8" y="35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6360" y="5184360"/>
              <a:ext cx="113400" cy="886320"/>
            </a:xfrm>
            <a:custGeom>
              <a:avLst/>
              <a:gdLst/>
              <a:ahLst/>
              <a:rect l="l" t="t" r="r" b="b"/>
              <a:pathLst>
                <a:path w="155" h="1324">
                  <a:moveTo>
                    <a:pt x="10" y="1123"/>
                  </a:moveTo>
                  <a:lnTo>
                    <a:pt x="8" y="1034"/>
                  </a:lnTo>
                  <a:lnTo>
                    <a:pt x="6" y="946"/>
                  </a:lnTo>
                  <a:lnTo>
                    <a:pt x="6" y="857"/>
                  </a:lnTo>
                  <a:lnTo>
                    <a:pt x="10" y="770"/>
                  </a:lnTo>
                  <a:lnTo>
                    <a:pt x="10" y="679"/>
                  </a:lnTo>
                  <a:lnTo>
                    <a:pt x="17" y="590"/>
                  </a:lnTo>
                  <a:lnTo>
                    <a:pt x="23" y="499"/>
                  </a:lnTo>
                  <a:lnTo>
                    <a:pt x="37" y="411"/>
                  </a:lnTo>
                  <a:lnTo>
                    <a:pt x="43" y="359"/>
                  </a:lnTo>
                  <a:lnTo>
                    <a:pt x="47" y="309"/>
                  </a:lnTo>
                  <a:lnTo>
                    <a:pt x="48" y="256"/>
                  </a:lnTo>
                  <a:lnTo>
                    <a:pt x="54" y="206"/>
                  </a:lnTo>
                  <a:lnTo>
                    <a:pt x="60" y="153"/>
                  </a:lnTo>
                  <a:lnTo>
                    <a:pt x="72" y="105"/>
                  </a:lnTo>
                  <a:lnTo>
                    <a:pt x="87" y="56"/>
                  </a:lnTo>
                  <a:lnTo>
                    <a:pt x="112" y="12"/>
                  </a:lnTo>
                  <a:lnTo>
                    <a:pt x="122" y="8"/>
                  </a:lnTo>
                  <a:lnTo>
                    <a:pt x="132" y="4"/>
                  </a:lnTo>
                  <a:lnTo>
                    <a:pt x="143" y="0"/>
                  </a:lnTo>
                  <a:lnTo>
                    <a:pt x="155" y="0"/>
                  </a:lnTo>
                  <a:lnTo>
                    <a:pt x="149" y="20"/>
                  </a:lnTo>
                  <a:lnTo>
                    <a:pt x="145" y="39"/>
                  </a:lnTo>
                  <a:lnTo>
                    <a:pt x="142" y="49"/>
                  </a:lnTo>
                  <a:lnTo>
                    <a:pt x="140" y="58"/>
                  </a:lnTo>
                  <a:lnTo>
                    <a:pt x="136" y="70"/>
                  </a:lnTo>
                  <a:lnTo>
                    <a:pt x="134" y="82"/>
                  </a:lnTo>
                  <a:lnTo>
                    <a:pt x="122" y="132"/>
                  </a:lnTo>
                  <a:lnTo>
                    <a:pt x="111" y="184"/>
                  </a:lnTo>
                  <a:lnTo>
                    <a:pt x="101" y="235"/>
                  </a:lnTo>
                  <a:lnTo>
                    <a:pt x="95" y="287"/>
                  </a:lnTo>
                  <a:lnTo>
                    <a:pt x="85" y="340"/>
                  </a:lnTo>
                  <a:lnTo>
                    <a:pt x="79" y="392"/>
                  </a:lnTo>
                  <a:lnTo>
                    <a:pt x="74" y="444"/>
                  </a:lnTo>
                  <a:lnTo>
                    <a:pt x="74" y="500"/>
                  </a:lnTo>
                  <a:lnTo>
                    <a:pt x="66" y="572"/>
                  </a:lnTo>
                  <a:lnTo>
                    <a:pt x="62" y="644"/>
                  </a:lnTo>
                  <a:lnTo>
                    <a:pt x="58" y="716"/>
                  </a:lnTo>
                  <a:lnTo>
                    <a:pt x="58" y="789"/>
                  </a:lnTo>
                  <a:lnTo>
                    <a:pt x="58" y="859"/>
                  </a:lnTo>
                  <a:lnTo>
                    <a:pt x="58" y="933"/>
                  </a:lnTo>
                  <a:lnTo>
                    <a:pt x="58" y="1005"/>
                  </a:lnTo>
                  <a:lnTo>
                    <a:pt x="60" y="1080"/>
                  </a:lnTo>
                  <a:lnTo>
                    <a:pt x="62" y="1103"/>
                  </a:lnTo>
                  <a:lnTo>
                    <a:pt x="66" y="1129"/>
                  </a:lnTo>
                  <a:lnTo>
                    <a:pt x="68" y="1154"/>
                  </a:lnTo>
                  <a:lnTo>
                    <a:pt x="72" y="1179"/>
                  </a:lnTo>
                  <a:lnTo>
                    <a:pt x="74" y="1202"/>
                  </a:lnTo>
                  <a:lnTo>
                    <a:pt x="78" y="1227"/>
                  </a:lnTo>
                  <a:lnTo>
                    <a:pt x="79" y="1253"/>
                  </a:lnTo>
                  <a:lnTo>
                    <a:pt x="85" y="1280"/>
                  </a:lnTo>
                  <a:lnTo>
                    <a:pt x="87" y="1290"/>
                  </a:lnTo>
                  <a:lnTo>
                    <a:pt x="87" y="1299"/>
                  </a:lnTo>
                  <a:lnTo>
                    <a:pt x="83" y="1309"/>
                  </a:lnTo>
                  <a:lnTo>
                    <a:pt x="81" y="1321"/>
                  </a:lnTo>
                  <a:lnTo>
                    <a:pt x="72" y="1322"/>
                  </a:lnTo>
                  <a:lnTo>
                    <a:pt x="62" y="1324"/>
                  </a:lnTo>
                  <a:lnTo>
                    <a:pt x="50" y="1324"/>
                  </a:lnTo>
                  <a:lnTo>
                    <a:pt x="41" y="1324"/>
                  </a:lnTo>
                  <a:lnTo>
                    <a:pt x="35" y="1299"/>
                  </a:lnTo>
                  <a:lnTo>
                    <a:pt x="29" y="1276"/>
                  </a:lnTo>
                  <a:lnTo>
                    <a:pt x="23" y="1251"/>
                  </a:lnTo>
                  <a:lnTo>
                    <a:pt x="17" y="1227"/>
                  </a:lnTo>
                  <a:lnTo>
                    <a:pt x="12" y="1200"/>
                  </a:lnTo>
                  <a:lnTo>
                    <a:pt x="10" y="1177"/>
                  </a:lnTo>
                  <a:lnTo>
                    <a:pt x="6" y="1152"/>
                  </a:lnTo>
                  <a:lnTo>
                    <a:pt x="8" y="1131"/>
                  </a:lnTo>
                  <a:lnTo>
                    <a:pt x="8" y="1132"/>
                  </a:lnTo>
                  <a:lnTo>
                    <a:pt x="0" y="1132"/>
                  </a:lnTo>
                  <a:lnTo>
                    <a:pt x="0" y="1131"/>
                  </a:lnTo>
                  <a:lnTo>
                    <a:pt x="8" y="1129"/>
                  </a:lnTo>
                  <a:lnTo>
                    <a:pt x="10" y="11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5520" y="4975560"/>
              <a:ext cx="47880" cy="3600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9" y="47"/>
                  </a:moveTo>
                  <a:lnTo>
                    <a:pt x="9" y="35"/>
                  </a:lnTo>
                  <a:lnTo>
                    <a:pt x="11" y="23"/>
                  </a:lnTo>
                  <a:lnTo>
                    <a:pt x="15" y="12"/>
                  </a:lnTo>
                  <a:lnTo>
                    <a:pt x="23" y="0"/>
                  </a:lnTo>
                  <a:lnTo>
                    <a:pt x="33" y="4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6"/>
                  </a:lnTo>
                  <a:lnTo>
                    <a:pt x="54" y="21"/>
                  </a:lnTo>
                  <a:lnTo>
                    <a:pt x="52" y="43"/>
                  </a:lnTo>
                  <a:lnTo>
                    <a:pt x="58" y="54"/>
                  </a:lnTo>
                  <a:lnTo>
                    <a:pt x="40" y="52"/>
                  </a:lnTo>
                  <a:lnTo>
                    <a:pt x="25" y="52"/>
                  </a:lnTo>
                  <a:lnTo>
                    <a:pt x="9" y="49"/>
                  </a:lnTo>
                  <a:lnTo>
                    <a:pt x="0" y="45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1720" y="5031720"/>
              <a:ext cx="102960" cy="128160"/>
            </a:xfrm>
            <a:custGeom>
              <a:avLst/>
              <a:gdLst/>
              <a:ahLst/>
              <a:rect l="l" t="t" r="r" b="b"/>
              <a:pathLst>
                <a:path w="142" h="192">
                  <a:moveTo>
                    <a:pt x="0" y="0"/>
                  </a:moveTo>
                  <a:lnTo>
                    <a:pt x="17" y="8"/>
                  </a:lnTo>
                  <a:lnTo>
                    <a:pt x="29" y="24"/>
                  </a:lnTo>
                  <a:lnTo>
                    <a:pt x="29" y="49"/>
                  </a:lnTo>
                  <a:lnTo>
                    <a:pt x="37" y="74"/>
                  </a:lnTo>
                  <a:lnTo>
                    <a:pt x="43" y="97"/>
                  </a:lnTo>
                  <a:lnTo>
                    <a:pt x="56" y="123"/>
                  </a:lnTo>
                  <a:lnTo>
                    <a:pt x="70" y="142"/>
                  </a:lnTo>
                  <a:lnTo>
                    <a:pt x="87" y="161"/>
                  </a:lnTo>
                  <a:lnTo>
                    <a:pt x="109" y="177"/>
                  </a:lnTo>
                  <a:lnTo>
                    <a:pt x="134" y="188"/>
                  </a:lnTo>
                  <a:lnTo>
                    <a:pt x="138" y="187"/>
                  </a:lnTo>
                  <a:lnTo>
                    <a:pt x="142" y="190"/>
                  </a:lnTo>
                  <a:lnTo>
                    <a:pt x="142" y="192"/>
                  </a:lnTo>
                  <a:lnTo>
                    <a:pt x="122" y="190"/>
                  </a:lnTo>
                  <a:lnTo>
                    <a:pt x="107" y="188"/>
                  </a:lnTo>
                  <a:lnTo>
                    <a:pt x="89" y="181"/>
                  </a:lnTo>
                  <a:lnTo>
                    <a:pt x="78" y="173"/>
                  </a:lnTo>
                  <a:lnTo>
                    <a:pt x="64" y="159"/>
                  </a:lnTo>
                  <a:lnTo>
                    <a:pt x="52" y="148"/>
                  </a:lnTo>
                  <a:lnTo>
                    <a:pt x="41" y="132"/>
                  </a:lnTo>
                  <a:lnTo>
                    <a:pt x="33" y="119"/>
                  </a:lnTo>
                  <a:lnTo>
                    <a:pt x="23" y="103"/>
                  </a:lnTo>
                  <a:lnTo>
                    <a:pt x="19" y="90"/>
                  </a:lnTo>
                  <a:lnTo>
                    <a:pt x="14" y="74"/>
                  </a:lnTo>
                  <a:lnTo>
                    <a:pt x="12" y="59"/>
                  </a:lnTo>
                  <a:lnTo>
                    <a:pt x="8" y="43"/>
                  </a:lnTo>
                  <a:lnTo>
                    <a:pt x="6" y="28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1440" y="5777640"/>
              <a:ext cx="325800" cy="240840"/>
            </a:xfrm>
            <a:custGeom>
              <a:avLst/>
              <a:gdLst/>
              <a:ahLst/>
              <a:rect l="l" t="t" r="r" b="b"/>
              <a:pathLst>
                <a:path w="448" h="361">
                  <a:moveTo>
                    <a:pt x="0" y="0"/>
                  </a:moveTo>
                  <a:lnTo>
                    <a:pt x="15" y="4"/>
                  </a:lnTo>
                  <a:lnTo>
                    <a:pt x="31" y="8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81" y="24"/>
                  </a:lnTo>
                  <a:lnTo>
                    <a:pt x="99" y="29"/>
                  </a:lnTo>
                  <a:lnTo>
                    <a:pt x="114" y="37"/>
                  </a:lnTo>
                  <a:lnTo>
                    <a:pt x="131" y="49"/>
                  </a:lnTo>
                  <a:lnTo>
                    <a:pt x="149" y="53"/>
                  </a:lnTo>
                  <a:lnTo>
                    <a:pt x="168" y="64"/>
                  </a:lnTo>
                  <a:lnTo>
                    <a:pt x="176" y="68"/>
                  </a:lnTo>
                  <a:lnTo>
                    <a:pt x="186" y="72"/>
                  </a:lnTo>
                  <a:lnTo>
                    <a:pt x="197" y="76"/>
                  </a:lnTo>
                  <a:lnTo>
                    <a:pt x="209" y="82"/>
                  </a:lnTo>
                  <a:lnTo>
                    <a:pt x="225" y="91"/>
                  </a:lnTo>
                  <a:lnTo>
                    <a:pt x="240" y="103"/>
                  </a:lnTo>
                  <a:lnTo>
                    <a:pt x="256" y="115"/>
                  </a:lnTo>
                  <a:lnTo>
                    <a:pt x="273" y="126"/>
                  </a:lnTo>
                  <a:lnTo>
                    <a:pt x="289" y="138"/>
                  </a:lnTo>
                  <a:lnTo>
                    <a:pt x="304" y="150"/>
                  </a:lnTo>
                  <a:lnTo>
                    <a:pt x="320" y="163"/>
                  </a:lnTo>
                  <a:lnTo>
                    <a:pt x="337" y="177"/>
                  </a:lnTo>
                  <a:lnTo>
                    <a:pt x="351" y="194"/>
                  </a:lnTo>
                  <a:lnTo>
                    <a:pt x="366" y="215"/>
                  </a:lnTo>
                  <a:lnTo>
                    <a:pt x="380" y="237"/>
                  </a:lnTo>
                  <a:lnTo>
                    <a:pt x="393" y="260"/>
                  </a:lnTo>
                  <a:lnTo>
                    <a:pt x="405" y="281"/>
                  </a:lnTo>
                  <a:lnTo>
                    <a:pt x="419" y="303"/>
                  </a:lnTo>
                  <a:lnTo>
                    <a:pt x="432" y="324"/>
                  </a:lnTo>
                  <a:lnTo>
                    <a:pt x="446" y="345"/>
                  </a:lnTo>
                  <a:lnTo>
                    <a:pt x="448" y="347"/>
                  </a:lnTo>
                  <a:lnTo>
                    <a:pt x="393" y="355"/>
                  </a:lnTo>
                  <a:lnTo>
                    <a:pt x="341" y="361"/>
                  </a:lnTo>
                  <a:lnTo>
                    <a:pt x="287" y="361"/>
                  </a:lnTo>
                  <a:lnTo>
                    <a:pt x="232" y="361"/>
                  </a:lnTo>
                  <a:lnTo>
                    <a:pt x="176" y="355"/>
                  </a:lnTo>
                  <a:lnTo>
                    <a:pt x="122" y="351"/>
                  </a:lnTo>
                  <a:lnTo>
                    <a:pt x="67" y="345"/>
                  </a:lnTo>
                  <a:lnTo>
                    <a:pt x="17" y="341"/>
                  </a:lnTo>
                  <a:lnTo>
                    <a:pt x="13" y="320"/>
                  </a:lnTo>
                  <a:lnTo>
                    <a:pt x="11" y="301"/>
                  </a:lnTo>
                  <a:lnTo>
                    <a:pt x="9" y="277"/>
                  </a:lnTo>
                  <a:lnTo>
                    <a:pt x="9" y="256"/>
                  </a:lnTo>
                  <a:lnTo>
                    <a:pt x="7" y="233"/>
                  </a:lnTo>
                  <a:lnTo>
                    <a:pt x="5" y="212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11" y="155"/>
                  </a:lnTo>
                  <a:lnTo>
                    <a:pt x="17" y="140"/>
                  </a:lnTo>
                  <a:lnTo>
                    <a:pt x="17" y="122"/>
                  </a:lnTo>
                  <a:lnTo>
                    <a:pt x="19" y="107"/>
                  </a:lnTo>
                  <a:lnTo>
                    <a:pt x="11" y="8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1440" y="5020920"/>
              <a:ext cx="138240" cy="117720"/>
            </a:xfrm>
            <a:custGeom>
              <a:avLst/>
              <a:gdLst/>
              <a:ahLst/>
              <a:rect l="l" t="t" r="r" b="b"/>
              <a:pathLst>
                <a:path w="190" h="174">
                  <a:moveTo>
                    <a:pt x="163" y="130"/>
                  </a:moveTo>
                  <a:lnTo>
                    <a:pt x="166" y="141"/>
                  </a:lnTo>
                  <a:lnTo>
                    <a:pt x="172" y="153"/>
                  </a:lnTo>
                  <a:lnTo>
                    <a:pt x="180" y="163"/>
                  </a:lnTo>
                  <a:lnTo>
                    <a:pt x="190" y="174"/>
                  </a:lnTo>
                  <a:lnTo>
                    <a:pt x="163" y="163"/>
                  </a:lnTo>
                  <a:lnTo>
                    <a:pt x="141" y="151"/>
                  </a:lnTo>
                  <a:lnTo>
                    <a:pt x="120" y="136"/>
                  </a:lnTo>
                  <a:lnTo>
                    <a:pt x="102" y="118"/>
                  </a:lnTo>
                  <a:lnTo>
                    <a:pt x="83" y="97"/>
                  </a:lnTo>
                  <a:lnTo>
                    <a:pt x="67" y="76"/>
                  </a:lnTo>
                  <a:lnTo>
                    <a:pt x="52" y="54"/>
                  </a:lnTo>
                  <a:lnTo>
                    <a:pt x="38" y="33"/>
                  </a:lnTo>
                  <a:lnTo>
                    <a:pt x="29" y="23"/>
                  </a:lnTo>
                  <a:lnTo>
                    <a:pt x="21" y="13"/>
                  </a:lnTo>
                  <a:lnTo>
                    <a:pt x="9" y="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2" y="12"/>
                  </a:lnTo>
                  <a:lnTo>
                    <a:pt x="71" y="29"/>
                  </a:lnTo>
                  <a:lnTo>
                    <a:pt x="89" y="52"/>
                  </a:lnTo>
                  <a:lnTo>
                    <a:pt x="102" y="74"/>
                  </a:lnTo>
                  <a:lnTo>
                    <a:pt x="118" y="97"/>
                  </a:lnTo>
                  <a:lnTo>
                    <a:pt x="137" y="116"/>
                  </a:lnTo>
                  <a:lnTo>
                    <a:pt x="163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1440" y="5424120"/>
              <a:ext cx="2350080" cy="601200"/>
            </a:xfrm>
            <a:custGeom>
              <a:avLst/>
              <a:gdLst/>
              <a:ahLst/>
              <a:rect l="l" t="t" r="r" b="b"/>
              <a:pathLst>
                <a:path w="3231" h="898">
                  <a:moveTo>
                    <a:pt x="13" y="211"/>
                  </a:moveTo>
                  <a:lnTo>
                    <a:pt x="13" y="196"/>
                  </a:lnTo>
                  <a:lnTo>
                    <a:pt x="17" y="182"/>
                  </a:lnTo>
                  <a:lnTo>
                    <a:pt x="19" y="167"/>
                  </a:lnTo>
                  <a:lnTo>
                    <a:pt x="25" y="155"/>
                  </a:lnTo>
                  <a:lnTo>
                    <a:pt x="27" y="140"/>
                  </a:lnTo>
                  <a:lnTo>
                    <a:pt x="31" y="126"/>
                  </a:lnTo>
                  <a:lnTo>
                    <a:pt x="35" y="114"/>
                  </a:lnTo>
                  <a:lnTo>
                    <a:pt x="38" y="105"/>
                  </a:lnTo>
                  <a:lnTo>
                    <a:pt x="46" y="99"/>
                  </a:lnTo>
                  <a:lnTo>
                    <a:pt x="56" y="97"/>
                  </a:lnTo>
                  <a:lnTo>
                    <a:pt x="67" y="95"/>
                  </a:lnTo>
                  <a:lnTo>
                    <a:pt x="79" y="95"/>
                  </a:lnTo>
                  <a:lnTo>
                    <a:pt x="99" y="91"/>
                  </a:lnTo>
                  <a:lnTo>
                    <a:pt x="120" y="91"/>
                  </a:lnTo>
                  <a:lnTo>
                    <a:pt x="159" y="81"/>
                  </a:lnTo>
                  <a:lnTo>
                    <a:pt x="197" y="72"/>
                  </a:lnTo>
                  <a:lnTo>
                    <a:pt x="236" y="60"/>
                  </a:lnTo>
                  <a:lnTo>
                    <a:pt x="277" y="50"/>
                  </a:lnTo>
                  <a:lnTo>
                    <a:pt x="316" y="39"/>
                  </a:lnTo>
                  <a:lnTo>
                    <a:pt x="356" y="29"/>
                  </a:lnTo>
                  <a:lnTo>
                    <a:pt x="397" y="19"/>
                  </a:lnTo>
                  <a:lnTo>
                    <a:pt x="440" y="15"/>
                  </a:lnTo>
                  <a:lnTo>
                    <a:pt x="475" y="12"/>
                  </a:lnTo>
                  <a:lnTo>
                    <a:pt x="510" y="10"/>
                  </a:lnTo>
                  <a:lnTo>
                    <a:pt x="545" y="6"/>
                  </a:lnTo>
                  <a:lnTo>
                    <a:pt x="579" y="4"/>
                  </a:lnTo>
                  <a:lnTo>
                    <a:pt x="614" y="0"/>
                  </a:lnTo>
                  <a:lnTo>
                    <a:pt x="651" y="0"/>
                  </a:lnTo>
                  <a:lnTo>
                    <a:pt x="688" y="0"/>
                  </a:lnTo>
                  <a:lnTo>
                    <a:pt x="725" y="4"/>
                  </a:lnTo>
                  <a:lnTo>
                    <a:pt x="781" y="4"/>
                  </a:lnTo>
                  <a:lnTo>
                    <a:pt x="839" y="4"/>
                  </a:lnTo>
                  <a:lnTo>
                    <a:pt x="898" y="4"/>
                  </a:lnTo>
                  <a:lnTo>
                    <a:pt x="956" y="6"/>
                  </a:lnTo>
                  <a:lnTo>
                    <a:pt x="1012" y="8"/>
                  </a:lnTo>
                  <a:lnTo>
                    <a:pt x="1070" y="12"/>
                  </a:lnTo>
                  <a:lnTo>
                    <a:pt x="1128" y="17"/>
                  </a:lnTo>
                  <a:lnTo>
                    <a:pt x="1187" y="25"/>
                  </a:lnTo>
                  <a:lnTo>
                    <a:pt x="1218" y="31"/>
                  </a:lnTo>
                  <a:lnTo>
                    <a:pt x="1249" y="41"/>
                  </a:lnTo>
                  <a:lnTo>
                    <a:pt x="1280" y="50"/>
                  </a:lnTo>
                  <a:lnTo>
                    <a:pt x="1311" y="62"/>
                  </a:lnTo>
                  <a:lnTo>
                    <a:pt x="1340" y="72"/>
                  </a:lnTo>
                  <a:lnTo>
                    <a:pt x="1373" y="79"/>
                  </a:lnTo>
                  <a:lnTo>
                    <a:pt x="1408" y="85"/>
                  </a:lnTo>
                  <a:lnTo>
                    <a:pt x="1444" y="87"/>
                  </a:lnTo>
                  <a:lnTo>
                    <a:pt x="1477" y="93"/>
                  </a:lnTo>
                  <a:lnTo>
                    <a:pt x="1512" y="99"/>
                  </a:lnTo>
                  <a:lnTo>
                    <a:pt x="1545" y="105"/>
                  </a:lnTo>
                  <a:lnTo>
                    <a:pt x="1580" y="112"/>
                  </a:lnTo>
                  <a:lnTo>
                    <a:pt x="1613" y="118"/>
                  </a:lnTo>
                  <a:lnTo>
                    <a:pt x="1648" y="126"/>
                  </a:lnTo>
                  <a:lnTo>
                    <a:pt x="1683" y="132"/>
                  </a:lnTo>
                  <a:lnTo>
                    <a:pt x="1720" y="138"/>
                  </a:lnTo>
                  <a:lnTo>
                    <a:pt x="1683" y="155"/>
                  </a:lnTo>
                  <a:lnTo>
                    <a:pt x="1654" y="182"/>
                  </a:lnTo>
                  <a:lnTo>
                    <a:pt x="1631" y="213"/>
                  </a:lnTo>
                  <a:lnTo>
                    <a:pt x="1615" y="250"/>
                  </a:lnTo>
                  <a:lnTo>
                    <a:pt x="1602" y="287"/>
                  </a:lnTo>
                  <a:lnTo>
                    <a:pt x="1596" y="328"/>
                  </a:lnTo>
                  <a:lnTo>
                    <a:pt x="1592" y="366"/>
                  </a:lnTo>
                  <a:lnTo>
                    <a:pt x="1592" y="407"/>
                  </a:lnTo>
                  <a:lnTo>
                    <a:pt x="1592" y="421"/>
                  </a:lnTo>
                  <a:lnTo>
                    <a:pt x="1594" y="434"/>
                  </a:lnTo>
                  <a:lnTo>
                    <a:pt x="1596" y="448"/>
                  </a:lnTo>
                  <a:lnTo>
                    <a:pt x="1598" y="461"/>
                  </a:lnTo>
                  <a:lnTo>
                    <a:pt x="1600" y="473"/>
                  </a:lnTo>
                  <a:lnTo>
                    <a:pt x="1602" y="487"/>
                  </a:lnTo>
                  <a:lnTo>
                    <a:pt x="1603" y="500"/>
                  </a:lnTo>
                  <a:lnTo>
                    <a:pt x="1607" y="514"/>
                  </a:lnTo>
                  <a:lnTo>
                    <a:pt x="1609" y="521"/>
                  </a:lnTo>
                  <a:lnTo>
                    <a:pt x="1609" y="531"/>
                  </a:lnTo>
                  <a:lnTo>
                    <a:pt x="1598" y="535"/>
                  </a:lnTo>
                  <a:lnTo>
                    <a:pt x="1586" y="539"/>
                  </a:lnTo>
                  <a:lnTo>
                    <a:pt x="1574" y="545"/>
                  </a:lnTo>
                  <a:lnTo>
                    <a:pt x="1565" y="551"/>
                  </a:lnTo>
                  <a:lnTo>
                    <a:pt x="1553" y="556"/>
                  </a:lnTo>
                  <a:lnTo>
                    <a:pt x="1547" y="566"/>
                  </a:lnTo>
                  <a:lnTo>
                    <a:pt x="1541" y="576"/>
                  </a:lnTo>
                  <a:lnTo>
                    <a:pt x="1539" y="589"/>
                  </a:lnTo>
                  <a:lnTo>
                    <a:pt x="1547" y="587"/>
                  </a:lnTo>
                  <a:lnTo>
                    <a:pt x="1557" y="582"/>
                  </a:lnTo>
                  <a:lnTo>
                    <a:pt x="1565" y="572"/>
                  </a:lnTo>
                  <a:lnTo>
                    <a:pt x="1576" y="568"/>
                  </a:lnTo>
                  <a:lnTo>
                    <a:pt x="1596" y="554"/>
                  </a:lnTo>
                  <a:lnTo>
                    <a:pt x="1617" y="549"/>
                  </a:lnTo>
                  <a:lnTo>
                    <a:pt x="1640" y="543"/>
                  </a:lnTo>
                  <a:lnTo>
                    <a:pt x="1666" y="541"/>
                  </a:lnTo>
                  <a:lnTo>
                    <a:pt x="1689" y="539"/>
                  </a:lnTo>
                  <a:lnTo>
                    <a:pt x="1714" y="539"/>
                  </a:lnTo>
                  <a:lnTo>
                    <a:pt x="1737" y="537"/>
                  </a:lnTo>
                  <a:lnTo>
                    <a:pt x="1764" y="537"/>
                  </a:lnTo>
                  <a:lnTo>
                    <a:pt x="1782" y="531"/>
                  </a:lnTo>
                  <a:lnTo>
                    <a:pt x="1801" y="529"/>
                  </a:lnTo>
                  <a:lnTo>
                    <a:pt x="1821" y="525"/>
                  </a:lnTo>
                  <a:lnTo>
                    <a:pt x="1844" y="525"/>
                  </a:lnTo>
                  <a:lnTo>
                    <a:pt x="1863" y="523"/>
                  </a:lnTo>
                  <a:lnTo>
                    <a:pt x="1883" y="523"/>
                  </a:lnTo>
                  <a:lnTo>
                    <a:pt x="1902" y="521"/>
                  </a:lnTo>
                  <a:lnTo>
                    <a:pt x="1923" y="521"/>
                  </a:lnTo>
                  <a:lnTo>
                    <a:pt x="1923" y="523"/>
                  </a:lnTo>
                  <a:lnTo>
                    <a:pt x="1964" y="518"/>
                  </a:lnTo>
                  <a:lnTo>
                    <a:pt x="2007" y="512"/>
                  </a:lnTo>
                  <a:lnTo>
                    <a:pt x="2050" y="506"/>
                  </a:lnTo>
                  <a:lnTo>
                    <a:pt x="2094" y="502"/>
                  </a:lnTo>
                  <a:lnTo>
                    <a:pt x="2137" y="496"/>
                  </a:lnTo>
                  <a:lnTo>
                    <a:pt x="2181" y="490"/>
                  </a:lnTo>
                  <a:lnTo>
                    <a:pt x="2226" y="487"/>
                  </a:lnTo>
                  <a:lnTo>
                    <a:pt x="2271" y="483"/>
                  </a:lnTo>
                  <a:lnTo>
                    <a:pt x="2292" y="481"/>
                  </a:lnTo>
                  <a:lnTo>
                    <a:pt x="2313" y="479"/>
                  </a:lnTo>
                  <a:lnTo>
                    <a:pt x="2335" y="475"/>
                  </a:lnTo>
                  <a:lnTo>
                    <a:pt x="2356" y="473"/>
                  </a:lnTo>
                  <a:lnTo>
                    <a:pt x="2375" y="469"/>
                  </a:lnTo>
                  <a:lnTo>
                    <a:pt x="2397" y="465"/>
                  </a:lnTo>
                  <a:lnTo>
                    <a:pt x="2416" y="461"/>
                  </a:lnTo>
                  <a:lnTo>
                    <a:pt x="2439" y="461"/>
                  </a:lnTo>
                  <a:lnTo>
                    <a:pt x="2478" y="457"/>
                  </a:lnTo>
                  <a:lnTo>
                    <a:pt x="2519" y="456"/>
                  </a:lnTo>
                  <a:lnTo>
                    <a:pt x="2558" y="454"/>
                  </a:lnTo>
                  <a:lnTo>
                    <a:pt x="2598" y="452"/>
                  </a:lnTo>
                  <a:lnTo>
                    <a:pt x="2637" y="448"/>
                  </a:lnTo>
                  <a:lnTo>
                    <a:pt x="2676" y="446"/>
                  </a:lnTo>
                  <a:lnTo>
                    <a:pt x="2717" y="444"/>
                  </a:lnTo>
                  <a:lnTo>
                    <a:pt x="2757" y="442"/>
                  </a:lnTo>
                  <a:lnTo>
                    <a:pt x="2771" y="444"/>
                  </a:lnTo>
                  <a:lnTo>
                    <a:pt x="2786" y="442"/>
                  </a:lnTo>
                  <a:lnTo>
                    <a:pt x="2800" y="438"/>
                  </a:lnTo>
                  <a:lnTo>
                    <a:pt x="2818" y="438"/>
                  </a:lnTo>
                  <a:lnTo>
                    <a:pt x="2841" y="436"/>
                  </a:lnTo>
                  <a:lnTo>
                    <a:pt x="2864" y="434"/>
                  </a:lnTo>
                  <a:lnTo>
                    <a:pt x="2889" y="430"/>
                  </a:lnTo>
                  <a:lnTo>
                    <a:pt x="2914" y="428"/>
                  </a:lnTo>
                  <a:lnTo>
                    <a:pt x="2938" y="424"/>
                  </a:lnTo>
                  <a:lnTo>
                    <a:pt x="2963" y="421"/>
                  </a:lnTo>
                  <a:lnTo>
                    <a:pt x="2988" y="417"/>
                  </a:lnTo>
                  <a:lnTo>
                    <a:pt x="3013" y="417"/>
                  </a:lnTo>
                  <a:lnTo>
                    <a:pt x="3025" y="413"/>
                  </a:lnTo>
                  <a:lnTo>
                    <a:pt x="3041" y="413"/>
                  </a:lnTo>
                  <a:lnTo>
                    <a:pt x="3052" y="411"/>
                  </a:lnTo>
                  <a:lnTo>
                    <a:pt x="3068" y="411"/>
                  </a:lnTo>
                  <a:lnTo>
                    <a:pt x="3081" y="409"/>
                  </a:lnTo>
                  <a:lnTo>
                    <a:pt x="3095" y="411"/>
                  </a:lnTo>
                  <a:lnTo>
                    <a:pt x="3108" y="413"/>
                  </a:lnTo>
                  <a:lnTo>
                    <a:pt x="3122" y="419"/>
                  </a:lnTo>
                  <a:lnTo>
                    <a:pt x="3120" y="421"/>
                  </a:lnTo>
                  <a:lnTo>
                    <a:pt x="3134" y="426"/>
                  </a:lnTo>
                  <a:lnTo>
                    <a:pt x="3149" y="438"/>
                  </a:lnTo>
                  <a:lnTo>
                    <a:pt x="3163" y="448"/>
                  </a:lnTo>
                  <a:lnTo>
                    <a:pt x="3178" y="461"/>
                  </a:lnTo>
                  <a:lnTo>
                    <a:pt x="3190" y="473"/>
                  </a:lnTo>
                  <a:lnTo>
                    <a:pt x="3203" y="488"/>
                  </a:lnTo>
                  <a:lnTo>
                    <a:pt x="3213" y="504"/>
                  </a:lnTo>
                  <a:lnTo>
                    <a:pt x="3221" y="521"/>
                  </a:lnTo>
                  <a:lnTo>
                    <a:pt x="3134" y="558"/>
                  </a:lnTo>
                  <a:lnTo>
                    <a:pt x="3046" y="589"/>
                  </a:lnTo>
                  <a:lnTo>
                    <a:pt x="2953" y="614"/>
                  </a:lnTo>
                  <a:lnTo>
                    <a:pt x="2862" y="636"/>
                  </a:lnTo>
                  <a:lnTo>
                    <a:pt x="2765" y="651"/>
                  </a:lnTo>
                  <a:lnTo>
                    <a:pt x="2670" y="667"/>
                  </a:lnTo>
                  <a:lnTo>
                    <a:pt x="2575" y="678"/>
                  </a:lnTo>
                  <a:lnTo>
                    <a:pt x="2480" y="692"/>
                  </a:lnTo>
                  <a:lnTo>
                    <a:pt x="2393" y="696"/>
                  </a:lnTo>
                  <a:lnTo>
                    <a:pt x="2307" y="706"/>
                  </a:lnTo>
                  <a:lnTo>
                    <a:pt x="2224" y="717"/>
                  </a:lnTo>
                  <a:lnTo>
                    <a:pt x="2141" y="729"/>
                  </a:lnTo>
                  <a:lnTo>
                    <a:pt x="2055" y="739"/>
                  </a:lnTo>
                  <a:lnTo>
                    <a:pt x="1970" y="748"/>
                  </a:lnTo>
                  <a:lnTo>
                    <a:pt x="1883" y="754"/>
                  </a:lnTo>
                  <a:lnTo>
                    <a:pt x="1797" y="760"/>
                  </a:lnTo>
                  <a:lnTo>
                    <a:pt x="1759" y="760"/>
                  </a:lnTo>
                  <a:lnTo>
                    <a:pt x="1724" y="760"/>
                  </a:lnTo>
                  <a:lnTo>
                    <a:pt x="1687" y="756"/>
                  </a:lnTo>
                  <a:lnTo>
                    <a:pt x="1652" y="754"/>
                  </a:lnTo>
                  <a:lnTo>
                    <a:pt x="1617" y="746"/>
                  </a:lnTo>
                  <a:lnTo>
                    <a:pt x="1582" y="739"/>
                  </a:lnTo>
                  <a:lnTo>
                    <a:pt x="1547" y="729"/>
                  </a:lnTo>
                  <a:lnTo>
                    <a:pt x="1518" y="719"/>
                  </a:lnTo>
                  <a:lnTo>
                    <a:pt x="1508" y="723"/>
                  </a:lnTo>
                  <a:lnTo>
                    <a:pt x="1507" y="733"/>
                  </a:lnTo>
                  <a:lnTo>
                    <a:pt x="1539" y="748"/>
                  </a:lnTo>
                  <a:lnTo>
                    <a:pt x="1578" y="760"/>
                  </a:lnTo>
                  <a:lnTo>
                    <a:pt x="1615" y="768"/>
                  </a:lnTo>
                  <a:lnTo>
                    <a:pt x="1656" y="775"/>
                  </a:lnTo>
                  <a:lnTo>
                    <a:pt x="1697" y="775"/>
                  </a:lnTo>
                  <a:lnTo>
                    <a:pt x="1737" y="777"/>
                  </a:lnTo>
                  <a:lnTo>
                    <a:pt x="1780" y="777"/>
                  </a:lnTo>
                  <a:lnTo>
                    <a:pt x="1823" y="777"/>
                  </a:lnTo>
                  <a:lnTo>
                    <a:pt x="1828" y="773"/>
                  </a:lnTo>
                  <a:lnTo>
                    <a:pt x="1836" y="773"/>
                  </a:lnTo>
                  <a:lnTo>
                    <a:pt x="1900" y="770"/>
                  </a:lnTo>
                  <a:lnTo>
                    <a:pt x="1964" y="766"/>
                  </a:lnTo>
                  <a:lnTo>
                    <a:pt x="2028" y="758"/>
                  </a:lnTo>
                  <a:lnTo>
                    <a:pt x="2092" y="752"/>
                  </a:lnTo>
                  <a:lnTo>
                    <a:pt x="2156" y="742"/>
                  </a:lnTo>
                  <a:lnTo>
                    <a:pt x="2220" y="737"/>
                  </a:lnTo>
                  <a:lnTo>
                    <a:pt x="2286" y="729"/>
                  </a:lnTo>
                  <a:lnTo>
                    <a:pt x="2354" y="727"/>
                  </a:lnTo>
                  <a:lnTo>
                    <a:pt x="2362" y="723"/>
                  </a:lnTo>
                  <a:lnTo>
                    <a:pt x="2370" y="723"/>
                  </a:lnTo>
                  <a:lnTo>
                    <a:pt x="2379" y="723"/>
                  </a:lnTo>
                  <a:lnTo>
                    <a:pt x="2391" y="723"/>
                  </a:lnTo>
                  <a:lnTo>
                    <a:pt x="2410" y="717"/>
                  </a:lnTo>
                  <a:lnTo>
                    <a:pt x="2430" y="715"/>
                  </a:lnTo>
                  <a:lnTo>
                    <a:pt x="2449" y="711"/>
                  </a:lnTo>
                  <a:lnTo>
                    <a:pt x="2470" y="709"/>
                  </a:lnTo>
                  <a:lnTo>
                    <a:pt x="2490" y="708"/>
                  </a:lnTo>
                  <a:lnTo>
                    <a:pt x="2511" y="706"/>
                  </a:lnTo>
                  <a:lnTo>
                    <a:pt x="2530" y="704"/>
                  </a:lnTo>
                  <a:lnTo>
                    <a:pt x="2554" y="702"/>
                  </a:lnTo>
                  <a:lnTo>
                    <a:pt x="2560" y="698"/>
                  </a:lnTo>
                  <a:lnTo>
                    <a:pt x="2573" y="698"/>
                  </a:lnTo>
                  <a:lnTo>
                    <a:pt x="2587" y="698"/>
                  </a:lnTo>
                  <a:lnTo>
                    <a:pt x="2600" y="696"/>
                  </a:lnTo>
                  <a:lnTo>
                    <a:pt x="2618" y="688"/>
                  </a:lnTo>
                  <a:lnTo>
                    <a:pt x="2637" y="686"/>
                  </a:lnTo>
                  <a:lnTo>
                    <a:pt x="2658" y="684"/>
                  </a:lnTo>
                  <a:lnTo>
                    <a:pt x="2682" y="684"/>
                  </a:lnTo>
                  <a:lnTo>
                    <a:pt x="2703" y="682"/>
                  </a:lnTo>
                  <a:lnTo>
                    <a:pt x="2724" y="680"/>
                  </a:lnTo>
                  <a:lnTo>
                    <a:pt x="2744" y="677"/>
                  </a:lnTo>
                  <a:lnTo>
                    <a:pt x="2765" y="671"/>
                  </a:lnTo>
                  <a:lnTo>
                    <a:pt x="2794" y="665"/>
                  </a:lnTo>
                  <a:lnTo>
                    <a:pt x="2823" y="659"/>
                  </a:lnTo>
                  <a:lnTo>
                    <a:pt x="2854" y="653"/>
                  </a:lnTo>
                  <a:lnTo>
                    <a:pt x="2885" y="647"/>
                  </a:lnTo>
                  <a:lnTo>
                    <a:pt x="2916" y="642"/>
                  </a:lnTo>
                  <a:lnTo>
                    <a:pt x="2947" y="636"/>
                  </a:lnTo>
                  <a:lnTo>
                    <a:pt x="2978" y="630"/>
                  </a:lnTo>
                  <a:lnTo>
                    <a:pt x="3011" y="624"/>
                  </a:lnTo>
                  <a:lnTo>
                    <a:pt x="3019" y="626"/>
                  </a:lnTo>
                  <a:lnTo>
                    <a:pt x="3029" y="626"/>
                  </a:lnTo>
                  <a:lnTo>
                    <a:pt x="3027" y="622"/>
                  </a:lnTo>
                  <a:lnTo>
                    <a:pt x="3025" y="620"/>
                  </a:lnTo>
                  <a:lnTo>
                    <a:pt x="3041" y="614"/>
                  </a:lnTo>
                  <a:lnTo>
                    <a:pt x="3058" y="609"/>
                  </a:lnTo>
                  <a:lnTo>
                    <a:pt x="3077" y="601"/>
                  </a:lnTo>
                  <a:lnTo>
                    <a:pt x="3097" y="595"/>
                  </a:lnTo>
                  <a:lnTo>
                    <a:pt x="3116" y="587"/>
                  </a:lnTo>
                  <a:lnTo>
                    <a:pt x="3136" y="580"/>
                  </a:lnTo>
                  <a:lnTo>
                    <a:pt x="3155" y="574"/>
                  </a:lnTo>
                  <a:lnTo>
                    <a:pt x="3176" y="568"/>
                  </a:lnTo>
                  <a:lnTo>
                    <a:pt x="3231" y="545"/>
                  </a:lnTo>
                  <a:lnTo>
                    <a:pt x="3221" y="554"/>
                  </a:lnTo>
                  <a:lnTo>
                    <a:pt x="3215" y="566"/>
                  </a:lnTo>
                  <a:lnTo>
                    <a:pt x="3203" y="572"/>
                  </a:lnTo>
                  <a:lnTo>
                    <a:pt x="3194" y="582"/>
                  </a:lnTo>
                  <a:lnTo>
                    <a:pt x="3182" y="589"/>
                  </a:lnTo>
                  <a:lnTo>
                    <a:pt x="3169" y="595"/>
                  </a:lnTo>
                  <a:lnTo>
                    <a:pt x="3169" y="601"/>
                  </a:lnTo>
                  <a:lnTo>
                    <a:pt x="3163" y="609"/>
                  </a:lnTo>
                  <a:lnTo>
                    <a:pt x="3153" y="614"/>
                  </a:lnTo>
                  <a:lnTo>
                    <a:pt x="3145" y="620"/>
                  </a:lnTo>
                  <a:lnTo>
                    <a:pt x="3095" y="636"/>
                  </a:lnTo>
                  <a:lnTo>
                    <a:pt x="3046" y="651"/>
                  </a:lnTo>
                  <a:lnTo>
                    <a:pt x="2996" y="665"/>
                  </a:lnTo>
                  <a:lnTo>
                    <a:pt x="2947" y="680"/>
                  </a:lnTo>
                  <a:lnTo>
                    <a:pt x="2897" y="692"/>
                  </a:lnTo>
                  <a:lnTo>
                    <a:pt x="2847" y="704"/>
                  </a:lnTo>
                  <a:lnTo>
                    <a:pt x="2796" y="715"/>
                  </a:lnTo>
                  <a:lnTo>
                    <a:pt x="2746" y="729"/>
                  </a:lnTo>
                  <a:lnTo>
                    <a:pt x="2732" y="729"/>
                  </a:lnTo>
                  <a:lnTo>
                    <a:pt x="2721" y="727"/>
                  </a:lnTo>
                  <a:lnTo>
                    <a:pt x="2707" y="727"/>
                  </a:lnTo>
                  <a:lnTo>
                    <a:pt x="2701" y="739"/>
                  </a:lnTo>
                  <a:lnTo>
                    <a:pt x="2643" y="744"/>
                  </a:lnTo>
                  <a:lnTo>
                    <a:pt x="2589" y="754"/>
                  </a:lnTo>
                  <a:lnTo>
                    <a:pt x="2532" y="762"/>
                  </a:lnTo>
                  <a:lnTo>
                    <a:pt x="2478" y="772"/>
                  </a:lnTo>
                  <a:lnTo>
                    <a:pt x="2420" y="779"/>
                  </a:lnTo>
                  <a:lnTo>
                    <a:pt x="2364" y="787"/>
                  </a:lnTo>
                  <a:lnTo>
                    <a:pt x="2307" y="795"/>
                  </a:lnTo>
                  <a:lnTo>
                    <a:pt x="2251" y="804"/>
                  </a:lnTo>
                  <a:lnTo>
                    <a:pt x="2245" y="801"/>
                  </a:lnTo>
                  <a:lnTo>
                    <a:pt x="2240" y="801"/>
                  </a:lnTo>
                  <a:lnTo>
                    <a:pt x="2236" y="808"/>
                  </a:lnTo>
                  <a:lnTo>
                    <a:pt x="2148" y="814"/>
                  </a:lnTo>
                  <a:lnTo>
                    <a:pt x="2061" y="822"/>
                  </a:lnTo>
                  <a:lnTo>
                    <a:pt x="1974" y="828"/>
                  </a:lnTo>
                  <a:lnTo>
                    <a:pt x="1887" y="836"/>
                  </a:lnTo>
                  <a:lnTo>
                    <a:pt x="1797" y="837"/>
                  </a:lnTo>
                  <a:lnTo>
                    <a:pt x="1710" y="839"/>
                  </a:lnTo>
                  <a:lnTo>
                    <a:pt x="1623" y="839"/>
                  </a:lnTo>
                  <a:lnTo>
                    <a:pt x="1539" y="837"/>
                  </a:lnTo>
                  <a:lnTo>
                    <a:pt x="1520" y="830"/>
                  </a:lnTo>
                  <a:lnTo>
                    <a:pt x="1503" y="826"/>
                  </a:lnTo>
                  <a:lnTo>
                    <a:pt x="1485" y="818"/>
                  </a:lnTo>
                  <a:lnTo>
                    <a:pt x="1474" y="804"/>
                  </a:lnTo>
                  <a:lnTo>
                    <a:pt x="1477" y="768"/>
                  </a:lnTo>
                  <a:lnTo>
                    <a:pt x="1481" y="733"/>
                  </a:lnTo>
                  <a:lnTo>
                    <a:pt x="1485" y="696"/>
                  </a:lnTo>
                  <a:lnTo>
                    <a:pt x="1489" y="661"/>
                  </a:lnTo>
                  <a:lnTo>
                    <a:pt x="1491" y="624"/>
                  </a:lnTo>
                  <a:lnTo>
                    <a:pt x="1493" y="589"/>
                  </a:lnTo>
                  <a:lnTo>
                    <a:pt x="1491" y="554"/>
                  </a:lnTo>
                  <a:lnTo>
                    <a:pt x="1491" y="523"/>
                  </a:lnTo>
                  <a:lnTo>
                    <a:pt x="1485" y="492"/>
                  </a:lnTo>
                  <a:lnTo>
                    <a:pt x="1479" y="461"/>
                  </a:lnTo>
                  <a:lnTo>
                    <a:pt x="1470" y="432"/>
                  </a:lnTo>
                  <a:lnTo>
                    <a:pt x="1460" y="405"/>
                  </a:lnTo>
                  <a:lnTo>
                    <a:pt x="1446" y="378"/>
                  </a:lnTo>
                  <a:lnTo>
                    <a:pt x="1435" y="353"/>
                  </a:lnTo>
                  <a:lnTo>
                    <a:pt x="1419" y="328"/>
                  </a:lnTo>
                  <a:lnTo>
                    <a:pt x="1406" y="306"/>
                  </a:lnTo>
                  <a:lnTo>
                    <a:pt x="1384" y="275"/>
                  </a:lnTo>
                  <a:lnTo>
                    <a:pt x="1361" y="252"/>
                  </a:lnTo>
                  <a:lnTo>
                    <a:pt x="1336" y="233"/>
                  </a:lnTo>
                  <a:lnTo>
                    <a:pt x="1311" y="217"/>
                  </a:lnTo>
                  <a:lnTo>
                    <a:pt x="1282" y="202"/>
                  </a:lnTo>
                  <a:lnTo>
                    <a:pt x="1254" y="190"/>
                  </a:lnTo>
                  <a:lnTo>
                    <a:pt x="1225" y="178"/>
                  </a:lnTo>
                  <a:lnTo>
                    <a:pt x="1198" y="171"/>
                  </a:lnTo>
                  <a:lnTo>
                    <a:pt x="1163" y="155"/>
                  </a:lnTo>
                  <a:lnTo>
                    <a:pt x="1128" y="147"/>
                  </a:lnTo>
                  <a:lnTo>
                    <a:pt x="1093" y="141"/>
                  </a:lnTo>
                  <a:lnTo>
                    <a:pt x="1060" y="143"/>
                  </a:lnTo>
                  <a:lnTo>
                    <a:pt x="1026" y="145"/>
                  </a:lnTo>
                  <a:lnTo>
                    <a:pt x="991" y="153"/>
                  </a:lnTo>
                  <a:lnTo>
                    <a:pt x="956" y="163"/>
                  </a:lnTo>
                  <a:lnTo>
                    <a:pt x="925" y="178"/>
                  </a:lnTo>
                  <a:lnTo>
                    <a:pt x="884" y="196"/>
                  </a:lnTo>
                  <a:lnTo>
                    <a:pt x="849" y="221"/>
                  </a:lnTo>
                  <a:lnTo>
                    <a:pt x="816" y="248"/>
                  </a:lnTo>
                  <a:lnTo>
                    <a:pt x="789" y="283"/>
                  </a:lnTo>
                  <a:lnTo>
                    <a:pt x="760" y="318"/>
                  </a:lnTo>
                  <a:lnTo>
                    <a:pt x="735" y="355"/>
                  </a:lnTo>
                  <a:lnTo>
                    <a:pt x="711" y="392"/>
                  </a:lnTo>
                  <a:lnTo>
                    <a:pt x="688" y="428"/>
                  </a:lnTo>
                  <a:lnTo>
                    <a:pt x="663" y="479"/>
                  </a:lnTo>
                  <a:lnTo>
                    <a:pt x="645" y="535"/>
                  </a:lnTo>
                  <a:lnTo>
                    <a:pt x="634" y="591"/>
                  </a:lnTo>
                  <a:lnTo>
                    <a:pt x="628" y="651"/>
                  </a:lnTo>
                  <a:lnTo>
                    <a:pt x="622" y="709"/>
                  </a:lnTo>
                  <a:lnTo>
                    <a:pt x="622" y="768"/>
                  </a:lnTo>
                  <a:lnTo>
                    <a:pt x="620" y="826"/>
                  </a:lnTo>
                  <a:lnTo>
                    <a:pt x="620" y="886"/>
                  </a:lnTo>
                  <a:lnTo>
                    <a:pt x="611" y="894"/>
                  </a:lnTo>
                  <a:lnTo>
                    <a:pt x="595" y="898"/>
                  </a:lnTo>
                  <a:lnTo>
                    <a:pt x="576" y="896"/>
                  </a:lnTo>
                  <a:lnTo>
                    <a:pt x="560" y="896"/>
                  </a:lnTo>
                  <a:lnTo>
                    <a:pt x="539" y="888"/>
                  </a:lnTo>
                  <a:lnTo>
                    <a:pt x="517" y="880"/>
                  </a:lnTo>
                  <a:lnTo>
                    <a:pt x="496" y="870"/>
                  </a:lnTo>
                  <a:lnTo>
                    <a:pt x="479" y="863"/>
                  </a:lnTo>
                  <a:lnTo>
                    <a:pt x="459" y="849"/>
                  </a:lnTo>
                  <a:lnTo>
                    <a:pt x="446" y="834"/>
                  </a:lnTo>
                  <a:lnTo>
                    <a:pt x="432" y="814"/>
                  </a:lnTo>
                  <a:lnTo>
                    <a:pt x="426" y="795"/>
                  </a:lnTo>
                  <a:lnTo>
                    <a:pt x="415" y="777"/>
                  </a:lnTo>
                  <a:lnTo>
                    <a:pt x="403" y="762"/>
                  </a:lnTo>
                  <a:lnTo>
                    <a:pt x="391" y="744"/>
                  </a:lnTo>
                  <a:lnTo>
                    <a:pt x="382" y="729"/>
                  </a:lnTo>
                  <a:lnTo>
                    <a:pt x="368" y="711"/>
                  </a:lnTo>
                  <a:lnTo>
                    <a:pt x="356" y="698"/>
                  </a:lnTo>
                  <a:lnTo>
                    <a:pt x="343" y="682"/>
                  </a:lnTo>
                  <a:lnTo>
                    <a:pt x="331" y="669"/>
                  </a:lnTo>
                  <a:lnTo>
                    <a:pt x="292" y="638"/>
                  </a:lnTo>
                  <a:lnTo>
                    <a:pt x="254" y="613"/>
                  </a:lnTo>
                  <a:lnTo>
                    <a:pt x="213" y="587"/>
                  </a:lnTo>
                  <a:lnTo>
                    <a:pt x="174" y="568"/>
                  </a:lnTo>
                  <a:lnTo>
                    <a:pt x="130" y="549"/>
                  </a:lnTo>
                  <a:lnTo>
                    <a:pt x="87" y="531"/>
                  </a:lnTo>
                  <a:lnTo>
                    <a:pt x="44" y="518"/>
                  </a:lnTo>
                  <a:lnTo>
                    <a:pt x="2" y="506"/>
                  </a:lnTo>
                  <a:lnTo>
                    <a:pt x="0" y="467"/>
                  </a:lnTo>
                  <a:lnTo>
                    <a:pt x="2" y="430"/>
                  </a:lnTo>
                  <a:lnTo>
                    <a:pt x="2" y="393"/>
                  </a:lnTo>
                  <a:lnTo>
                    <a:pt x="5" y="357"/>
                  </a:lnTo>
                  <a:lnTo>
                    <a:pt x="7" y="320"/>
                  </a:lnTo>
                  <a:lnTo>
                    <a:pt x="9" y="283"/>
                  </a:lnTo>
                  <a:lnTo>
                    <a:pt x="11" y="246"/>
                  </a:lnTo>
                  <a:lnTo>
                    <a:pt x="13" y="21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6120" y="5150880"/>
              <a:ext cx="39240" cy="64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37" y="0"/>
                  </a:moveTo>
                  <a:lnTo>
                    <a:pt x="55" y="6"/>
                  </a:lnTo>
                  <a:lnTo>
                    <a:pt x="39" y="8"/>
                  </a:lnTo>
                  <a:lnTo>
                    <a:pt x="28" y="9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6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6200" y="4958280"/>
              <a:ext cx="142560" cy="14184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76" y="6"/>
                  </a:moveTo>
                  <a:lnTo>
                    <a:pt x="95" y="23"/>
                  </a:lnTo>
                  <a:lnTo>
                    <a:pt x="114" y="46"/>
                  </a:lnTo>
                  <a:lnTo>
                    <a:pt x="130" y="70"/>
                  </a:lnTo>
                  <a:lnTo>
                    <a:pt x="145" y="95"/>
                  </a:lnTo>
                  <a:lnTo>
                    <a:pt x="157" y="118"/>
                  </a:lnTo>
                  <a:lnTo>
                    <a:pt x="169" y="145"/>
                  </a:lnTo>
                  <a:lnTo>
                    <a:pt x="176" y="169"/>
                  </a:lnTo>
                  <a:lnTo>
                    <a:pt x="186" y="196"/>
                  </a:lnTo>
                  <a:lnTo>
                    <a:pt x="198" y="211"/>
                  </a:lnTo>
                  <a:lnTo>
                    <a:pt x="180" y="198"/>
                  </a:lnTo>
                  <a:lnTo>
                    <a:pt x="165" y="186"/>
                  </a:lnTo>
                  <a:lnTo>
                    <a:pt x="149" y="172"/>
                  </a:lnTo>
                  <a:lnTo>
                    <a:pt x="136" y="159"/>
                  </a:lnTo>
                  <a:lnTo>
                    <a:pt x="122" y="143"/>
                  </a:lnTo>
                  <a:lnTo>
                    <a:pt x="114" y="128"/>
                  </a:lnTo>
                  <a:lnTo>
                    <a:pt x="107" y="110"/>
                  </a:lnTo>
                  <a:lnTo>
                    <a:pt x="105" y="93"/>
                  </a:lnTo>
                  <a:lnTo>
                    <a:pt x="91" y="72"/>
                  </a:lnTo>
                  <a:lnTo>
                    <a:pt x="80" y="54"/>
                  </a:lnTo>
                  <a:lnTo>
                    <a:pt x="66" y="37"/>
                  </a:lnTo>
                  <a:lnTo>
                    <a:pt x="50" y="25"/>
                  </a:lnTo>
                  <a:lnTo>
                    <a:pt x="0" y="13"/>
                  </a:lnTo>
                  <a:lnTo>
                    <a:pt x="16" y="4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9080" y="5441760"/>
              <a:ext cx="127800" cy="30600"/>
            </a:xfrm>
            <a:custGeom>
              <a:avLst/>
              <a:gdLst/>
              <a:ahLst/>
              <a:rect l="l" t="t" r="r" b="b"/>
              <a:pathLst>
                <a:path w="174" h="47">
                  <a:moveTo>
                    <a:pt x="35" y="8"/>
                  </a:moveTo>
                  <a:lnTo>
                    <a:pt x="44" y="8"/>
                  </a:lnTo>
                  <a:lnTo>
                    <a:pt x="58" y="4"/>
                  </a:lnTo>
                  <a:lnTo>
                    <a:pt x="70" y="2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5" y="0"/>
                  </a:lnTo>
                  <a:lnTo>
                    <a:pt x="159" y="2"/>
                  </a:lnTo>
                  <a:lnTo>
                    <a:pt x="174" y="8"/>
                  </a:lnTo>
                  <a:lnTo>
                    <a:pt x="2" y="47"/>
                  </a:lnTo>
                  <a:lnTo>
                    <a:pt x="0" y="27"/>
                  </a:lnTo>
                  <a:lnTo>
                    <a:pt x="4" y="1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20520" y="6021360"/>
              <a:ext cx="404280" cy="26640"/>
            </a:xfrm>
            <a:custGeom>
              <a:avLst/>
              <a:gdLst/>
              <a:ahLst/>
              <a:rect l="l" t="t" r="r" b="b"/>
              <a:pathLst>
                <a:path w="554" h="40">
                  <a:moveTo>
                    <a:pt x="0" y="0"/>
                  </a:moveTo>
                  <a:lnTo>
                    <a:pt x="52" y="2"/>
                  </a:lnTo>
                  <a:lnTo>
                    <a:pt x="108" y="7"/>
                  </a:lnTo>
                  <a:lnTo>
                    <a:pt x="161" y="11"/>
                  </a:lnTo>
                  <a:lnTo>
                    <a:pt x="217" y="15"/>
                  </a:lnTo>
                  <a:lnTo>
                    <a:pt x="271" y="15"/>
                  </a:lnTo>
                  <a:lnTo>
                    <a:pt x="326" y="15"/>
                  </a:lnTo>
                  <a:lnTo>
                    <a:pt x="380" y="9"/>
                  </a:lnTo>
                  <a:lnTo>
                    <a:pt x="436" y="2"/>
                  </a:lnTo>
                  <a:lnTo>
                    <a:pt x="450" y="4"/>
                  </a:lnTo>
                  <a:lnTo>
                    <a:pt x="463" y="7"/>
                  </a:lnTo>
                  <a:lnTo>
                    <a:pt x="477" y="9"/>
                  </a:lnTo>
                  <a:lnTo>
                    <a:pt x="492" y="13"/>
                  </a:lnTo>
                  <a:lnTo>
                    <a:pt x="506" y="15"/>
                  </a:lnTo>
                  <a:lnTo>
                    <a:pt x="521" y="17"/>
                  </a:lnTo>
                  <a:lnTo>
                    <a:pt x="537" y="19"/>
                  </a:lnTo>
                  <a:lnTo>
                    <a:pt x="554" y="23"/>
                  </a:lnTo>
                  <a:lnTo>
                    <a:pt x="506" y="25"/>
                  </a:lnTo>
                  <a:lnTo>
                    <a:pt x="459" y="27"/>
                  </a:lnTo>
                  <a:lnTo>
                    <a:pt x="413" y="27"/>
                  </a:lnTo>
                  <a:lnTo>
                    <a:pt x="366" y="29"/>
                  </a:lnTo>
                  <a:lnTo>
                    <a:pt x="320" y="29"/>
                  </a:lnTo>
                  <a:lnTo>
                    <a:pt x="273" y="31"/>
                  </a:lnTo>
                  <a:lnTo>
                    <a:pt x="227" y="33"/>
                  </a:lnTo>
                  <a:lnTo>
                    <a:pt x="180" y="37"/>
                  </a:lnTo>
                  <a:lnTo>
                    <a:pt x="161" y="37"/>
                  </a:lnTo>
                  <a:lnTo>
                    <a:pt x="141" y="37"/>
                  </a:lnTo>
                  <a:lnTo>
                    <a:pt x="122" y="39"/>
                  </a:lnTo>
                  <a:lnTo>
                    <a:pt x="103" y="40"/>
                  </a:lnTo>
                  <a:lnTo>
                    <a:pt x="81" y="40"/>
                  </a:lnTo>
                  <a:lnTo>
                    <a:pt x="62" y="40"/>
                  </a:lnTo>
                  <a:lnTo>
                    <a:pt x="40" y="40"/>
                  </a:lnTo>
                  <a:lnTo>
                    <a:pt x="21" y="40"/>
                  </a:lnTo>
                  <a:lnTo>
                    <a:pt x="15" y="29"/>
                  </a:lnTo>
                  <a:lnTo>
                    <a:pt x="9" y="19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3760" y="5375880"/>
              <a:ext cx="24480" cy="5760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5" y="66"/>
                  </a:moveTo>
                  <a:lnTo>
                    <a:pt x="4" y="49"/>
                  </a:lnTo>
                  <a:lnTo>
                    <a:pt x="4" y="33"/>
                  </a:lnTo>
                  <a:lnTo>
                    <a:pt x="4" y="16"/>
                  </a:lnTo>
                  <a:lnTo>
                    <a:pt x="5" y="0"/>
                  </a:lnTo>
                  <a:lnTo>
                    <a:pt x="13" y="6"/>
                  </a:lnTo>
                  <a:lnTo>
                    <a:pt x="21" y="20"/>
                  </a:lnTo>
                  <a:lnTo>
                    <a:pt x="23" y="33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33" y="74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23760" y="5067720"/>
              <a:ext cx="34560" cy="360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33" y="31"/>
                  </a:moveTo>
                  <a:lnTo>
                    <a:pt x="46" y="52"/>
                  </a:lnTo>
                  <a:lnTo>
                    <a:pt x="33" y="38"/>
                  </a:lnTo>
                  <a:lnTo>
                    <a:pt x="17" y="31"/>
                  </a:lnTo>
                  <a:lnTo>
                    <a:pt x="7" y="25"/>
                  </a:lnTo>
                  <a:lnTo>
                    <a:pt x="4" y="19"/>
                  </a:lnTo>
                  <a:lnTo>
                    <a:pt x="0" y="9"/>
                  </a:lnTo>
                  <a:lnTo>
                    <a:pt x="4" y="0"/>
                  </a:lnTo>
                  <a:lnTo>
                    <a:pt x="11" y="2"/>
                  </a:lnTo>
                  <a:lnTo>
                    <a:pt x="19" y="11"/>
                  </a:lnTo>
                  <a:lnTo>
                    <a:pt x="23" y="2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3480" y="5278320"/>
              <a:ext cx="212400" cy="152280"/>
            </a:xfrm>
            <a:custGeom>
              <a:avLst/>
              <a:gdLst/>
              <a:ahLst/>
              <a:rect l="l" t="t" r="r" b="b"/>
              <a:pathLst>
                <a:path w="291" h="227">
                  <a:moveTo>
                    <a:pt x="23" y="4"/>
                  </a:moveTo>
                  <a:lnTo>
                    <a:pt x="51" y="0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38" y="9"/>
                  </a:lnTo>
                  <a:lnTo>
                    <a:pt x="163" y="15"/>
                  </a:lnTo>
                  <a:lnTo>
                    <a:pt x="190" y="25"/>
                  </a:lnTo>
                  <a:lnTo>
                    <a:pt x="215" y="37"/>
                  </a:lnTo>
                  <a:lnTo>
                    <a:pt x="243" y="50"/>
                  </a:lnTo>
                  <a:lnTo>
                    <a:pt x="245" y="58"/>
                  </a:lnTo>
                  <a:lnTo>
                    <a:pt x="250" y="64"/>
                  </a:lnTo>
                  <a:lnTo>
                    <a:pt x="256" y="66"/>
                  </a:lnTo>
                  <a:lnTo>
                    <a:pt x="262" y="73"/>
                  </a:lnTo>
                  <a:lnTo>
                    <a:pt x="274" y="91"/>
                  </a:lnTo>
                  <a:lnTo>
                    <a:pt x="281" y="110"/>
                  </a:lnTo>
                  <a:lnTo>
                    <a:pt x="283" y="120"/>
                  </a:lnTo>
                  <a:lnTo>
                    <a:pt x="285" y="130"/>
                  </a:lnTo>
                  <a:lnTo>
                    <a:pt x="287" y="141"/>
                  </a:lnTo>
                  <a:lnTo>
                    <a:pt x="291" y="153"/>
                  </a:lnTo>
                  <a:lnTo>
                    <a:pt x="285" y="167"/>
                  </a:lnTo>
                  <a:lnTo>
                    <a:pt x="279" y="182"/>
                  </a:lnTo>
                  <a:lnTo>
                    <a:pt x="270" y="194"/>
                  </a:lnTo>
                  <a:lnTo>
                    <a:pt x="258" y="207"/>
                  </a:lnTo>
                  <a:lnTo>
                    <a:pt x="231" y="219"/>
                  </a:lnTo>
                  <a:lnTo>
                    <a:pt x="206" y="225"/>
                  </a:lnTo>
                  <a:lnTo>
                    <a:pt x="179" y="225"/>
                  </a:lnTo>
                  <a:lnTo>
                    <a:pt x="153" y="227"/>
                  </a:lnTo>
                  <a:lnTo>
                    <a:pt x="124" y="223"/>
                  </a:lnTo>
                  <a:lnTo>
                    <a:pt x="97" y="223"/>
                  </a:lnTo>
                  <a:lnTo>
                    <a:pt x="70" y="221"/>
                  </a:lnTo>
                  <a:lnTo>
                    <a:pt x="43" y="227"/>
                  </a:lnTo>
                  <a:lnTo>
                    <a:pt x="37" y="213"/>
                  </a:lnTo>
                  <a:lnTo>
                    <a:pt x="35" y="199"/>
                  </a:lnTo>
                  <a:lnTo>
                    <a:pt x="33" y="186"/>
                  </a:lnTo>
                  <a:lnTo>
                    <a:pt x="33" y="172"/>
                  </a:lnTo>
                  <a:lnTo>
                    <a:pt x="29" y="159"/>
                  </a:lnTo>
                  <a:lnTo>
                    <a:pt x="27" y="145"/>
                  </a:lnTo>
                  <a:lnTo>
                    <a:pt x="20" y="134"/>
                  </a:lnTo>
                  <a:lnTo>
                    <a:pt x="14" y="122"/>
                  </a:lnTo>
                  <a:lnTo>
                    <a:pt x="2" y="110"/>
                  </a:lnTo>
                  <a:lnTo>
                    <a:pt x="0" y="95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2" y="54"/>
                  </a:lnTo>
                  <a:lnTo>
                    <a:pt x="16" y="40"/>
                  </a:lnTo>
                  <a:lnTo>
                    <a:pt x="20" y="29"/>
                  </a:lnTo>
                  <a:lnTo>
                    <a:pt x="22" y="15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8160" y="5105520"/>
              <a:ext cx="23040" cy="17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25"/>
                  </a:moveTo>
                  <a:lnTo>
                    <a:pt x="19" y="25"/>
                  </a:lnTo>
                  <a:lnTo>
                    <a:pt x="12" y="17"/>
                  </a:lnTo>
                  <a:lnTo>
                    <a:pt x="6" y="8"/>
                  </a:lnTo>
                  <a:lnTo>
                    <a:pt x="0" y="0"/>
                  </a:lnTo>
                  <a:lnTo>
                    <a:pt x="31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3000" y="5132160"/>
              <a:ext cx="28800" cy="1584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39" y="2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3000" y="5196600"/>
              <a:ext cx="685440" cy="216720"/>
            </a:xfrm>
            <a:custGeom>
              <a:avLst/>
              <a:gdLst/>
              <a:ahLst/>
              <a:rect l="l" t="t" r="r" b="b"/>
              <a:pathLst>
                <a:path w="941" h="323">
                  <a:moveTo>
                    <a:pt x="8" y="19"/>
                  </a:moveTo>
                  <a:lnTo>
                    <a:pt x="6" y="13"/>
                  </a:lnTo>
                  <a:lnTo>
                    <a:pt x="99" y="7"/>
                  </a:lnTo>
                  <a:lnTo>
                    <a:pt x="192" y="4"/>
                  </a:lnTo>
                  <a:lnTo>
                    <a:pt x="285" y="0"/>
                  </a:lnTo>
                  <a:lnTo>
                    <a:pt x="378" y="0"/>
                  </a:lnTo>
                  <a:lnTo>
                    <a:pt x="471" y="0"/>
                  </a:lnTo>
                  <a:lnTo>
                    <a:pt x="564" y="2"/>
                  </a:lnTo>
                  <a:lnTo>
                    <a:pt x="659" y="4"/>
                  </a:lnTo>
                  <a:lnTo>
                    <a:pt x="758" y="9"/>
                  </a:lnTo>
                  <a:lnTo>
                    <a:pt x="780" y="11"/>
                  </a:lnTo>
                  <a:lnTo>
                    <a:pt x="803" y="13"/>
                  </a:lnTo>
                  <a:lnTo>
                    <a:pt x="826" y="15"/>
                  </a:lnTo>
                  <a:lnTo>
                    <a:pt x="849" y="17"/>
                  </a:lnTo>
                  <a:lnTo>
                    <a:pt x="871" y="17"/>
                  </a:lnTo>
                  <a:lnTo>
                    <a:pt x="894" y="19"/>
                  </a:lnTo>
                  <a:lnTo>
                    <a:pt x="917" y="21"/>
                  </a:lnTo>
                  <a:lnTo>
                    <a:pt x="941" y="27"/>
                  </a:lnTo>
                  <a:lnTo>
                    <a:pt x="937" y="27"/>
                  </a:lnTo>
                  <a:lnTo>
                    <a:pt x="929" y="35"/>
                  </a:lnTo>
                  <a:lnTo>
                    <a:pt x="915" y="38"/>
                  </a:lnTo>
                  <a:lnTo>
                    <a:pt x="898" y="40"/>
                  </a:lnTo>
                  <a:lnTo>
                    <a:pt x="886" y="50"/>
                  </a:lnTo>
                  <a:lnTo>
                    <a:pt x="838" y="42"/>
                  </a:lnTo>
                  <a:lnTo>
                    <a:pt x="791" y="38"/>
                  </a:lnTo>
                  <a:lnTo>
                    <a:pt x="745" y="35"/>
                  </a:lnTo>
                  <a:lnTo>
                    <a:pt x="698" y="35"/>
                  </a:lnTo>
                  <a:lnTo>
                    <a:pt x="652" y="33"/>
                  </a:lnTo>
                  <a:lnTo>
                    <a:pt x="605" y="35"/>
                  </a:lnTo>
                  <a:lnTo>
                    <a:pt x="558" y="38"/>
                  </a:lnTo>
                  <a:lnTo>
                    <a:pt x="514" y="44"/>
                  </a:lnTo>
                  <a:lnTo>
                    <a:pt x="491" y="46"/>
                  </a:lnTo>
                  <a:lnTo>
                    <a:pt x="471" y="48"/>
                  </a:lnTo>
                  <a:lnTo>
                    <a:pt x="450" y="50"/>
                  </a:lnTo>
                  <a:lnTo>
                    <a:pt x="430" y="56"/>
                  </a:lnTo>
                  <a:lnTo>
                    <a:pt x="409" y="58"/>
                  </a:lnTo>
                  <a:lnTo>
                    <a:pt x="392" y="64"/>
                  </a:lnTo>
                  <a:lnTo>
                    <a:pt x="374" y="69"/>
                  </a:lnTo>
                  <a:lnTo>
                    <a:pt x="359" y="81"/>
                  </a:lnTo>
                  <a:lnTo>
                    <a:pt x="351" y="89"/>
                  </a:lnTo>
                  <a:lnTo>
                    <a:pt x="349" y="99"/>
                  </a:lnTo>
                  <a:lnTo>
                    <a:pt x="349" y="110"/>
                  </a:lnTo>
                  <a:lnTo>
                    <a:pt x="349" y="124"/>
                  </a:lnTo>
                  <a:lnTo>
                    <a:pt x="355" y="139"/>
                  </a:lnTo>
                  <a:lnTo>
                    <a:pt x="366" y="155"/>
                  </a:lnTo>
                  <a:lnTo>
                    <a:pt x="378" y="170"/>
                  </a:lnTo>
                  <a:lnTo>
                    <a:pt x="390" y="186"/>
                  </a:lnTo>
                  <a:lnTo>
                    <a:pt x="401" y="201"/>
                  </a:lnTo>
                  <a:lnTo>
                    <a:pt x="413" y="219"/>
                  </a:lnTo>
                  <a:lnTo>
                    <a:pt x="423" y="236"/>
                  </a:lnTo>
                  <a:lnTo>
                    <a:pt x="434" y="256"/>
                  </a:lnTo>
                  <a:lnTo>
                    <a:pt x="409" y="263"/>
                  </a:lnTo>
                  <a:lnTo>
                    <a:pt x="386" y="273"/>
                  </a:lnTo>
                  <a:lnTo>
                    <a:pt x="363" y="283"/>
                  </a:lnTo>
                  <a:lnTo>
                    <a:pt x="339" y="292"/>
                  </a:lnTo>
                  <a:lnTo>
                    <a:pt x="314" y="300"/>
                  </a:lnTo>
                  <a:lnTo>
                    <a:pt x="291" y="308"/>
                  </a:lnTo>
                  <a:lnTo>
                    <a:pt x="268" y="316"/>
                  </a:lnTo>
                  <a:lnTo>
                    <a:pt x="244" y="323"/>
                  </a:lnTo>
                  <a:lnTo>
                    <a:pt x="250" y="314"/>
                  </a:lnTo>
                  <a:lnTo>
                    <a:pt x="258" y="304"/>
                  </a:lnTo>
                  <a:lnTo>
                    <a:pt x="264" y="294"/>
                  </a:lnTo>
                  <a:lnTo>
                    <a:pt x="271" y="285"/>
                  </a:lnTo>
                  <a:lnTo>
                    <a:pt x="275" y="273"/>
                  </a:lnTo>
                  <a:lnTo>
                    <a:pt x="277" y="261"/>
                  </a:lnTo>
                  <a:lnTo>
                    <a:pt x="277" y="250"/>
                  </a:lnTo>
                  <a:lnTo>
                    <a:pt x="275" y="240"/>
                  </a:lnTo>
                  <a:lnTo>
                    <a:pt x="270" y="215"/>
                  </a:lnTo>
                  <a:lnTo>
                    <a:pt x="262" y="195"/>
                  </a:lnTo>
                  <a:lnTo>
                    <a:pt x="248" y="176"/>
                  </a:lnTo>
                  <a:lnTo>
                    <a:pt x="235" y="162"/>
                  </a:lnTo>
                  <a:lnTo>
                    <a:pt x="215" y="147"/>
                  </a:lnTo>
                  <a:lnTo>
                    <a:pt x="196" y="137"/>
                  </a:lnTo>
                  <a:lnTo>
                    <a:pt x="176" y="126"/>
                  </a:lnTo>
                  <a:lnTo>
                    <a:pt x="157" y="120"/>
                  </a:lnTo>
                  <a:lnTo>
                    <a:pt x="138" y="116"/>
                  </a:lnTo>
                  <a:lnTo>
                    <a:pt x="120" y="112"/>
                  </a:lnTo>
                  <a:lnTo>
                    <a:pt x="103" y="108"/>
                  </a:lnTo>
                  <a:lnTo>
                    <a:pt x="85" y="104"/>
                  </a:lnTo>
                  <a:lnTo>
                    <a:pt x="66" y="100"/>
                  </a:lnTo>
                  <a:lnTo>
                    <a:pt x="48" y="99"/>
                  </a:lnTo>
                  <a:lnTo>
                    <a:pt x="31" y="99"/>
                  </a:lnTo>
                  <a:lnTo>
                    <a:pt x="14" y="100"/>
                  </a:lnTo>
                  <a:lnTo>
                    <a:pt x="8" y="91"/>
                  </a:lnTo>
                  <a:lnTo>
                    <a:pt x="6" y="81"/>
                  </a:lnTo>
                  <a:lnTo>
                    <a:pt x="2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1720" y="5125680"/>
              <a:ext cx="84240" cy="3600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7" y="50"/>
                  </a:moveTo>
                  <a:lnTo>
                    <a:pt x="105" y="54"/>
                  </a:lnTo>
                  <a:lnTo>
                    <a:pt x="93" y="54"/>
                  </a:lnTo>
                  <a:lnTo>
                    <a:pt x="78" y="50"/>
                  </a:lnTo>
                  <a:lnTo>
                    <a:pt x="66" y="50"/>
                  </a:lnTo>
                  <a:lnTo>
                    <a:pt x="58" y="43"/>
                  </a:lnTo>
                  <a:lnTo>
                    <a:pt x="51" y="39"/>
                  </a:lnTo>
                  <a:lnTo>
                    <a:pt x="41" y="35"/>
                  </a:lnTo>
                  <a:lnTo>
                    <a:pt x="33" y="31"/>
                  </a:lnTo>
                  <a:lnTo>
                    <a:pt x="23" y="23"/>
                  </a:lnTo>
                  <a:lnTo>
                    <a:pt x="14" y="17"/>
                  </a:lnTo>
                  <a:lnTo>
                    <a:pt x="4" y="1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5" y="12"/>
                  </a:lnTo>
                  <a:lnTo>
                    <a:pt x="39" y="17"/>
                  </a:lnTo>
                  <a:lnTo>
                    <a:pt x="54" y="25"/>
                  </a:lnTo>
                  <a:lnTo>
                    <a:pt x="70" y="31"/>
                  </a:lnTo>
                  <a:lnTo>
                    <a:pt x="85" y="37"/>
                  </a:lnTo>
                  <a:lnTo>
                    <a:pt x="101" y="43"/>
                  </a:lnTo>
                  <a:lnTo>
                    <a:pt x="117" y="5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3240" y="5162760"/>
              <a:ext cx="145440" cy="18720"/>
            </a:xfrm>
            <a:custGeom>
              <a:avLst/>
              <a:gdLst/>
              <a:ahLst/>
              <a:rect l="l" t="t" r="r" b="b"/>
              <a:pathLst>
                <a:path w="199" h="27">
                  <a:moveTo>
                    <a:pt x="54" y="8"/>
                  </a:moveTo>
                  <a:lnTo>
                    <a:pt x="71" y="14"/>
                  </a:lnTo>
                  <a:lnTo>
                    <a:pt x="91" y="16"/>
                  </a:lnTo>
                  <a:lnTo>
                    <a:pt x="110" y="12"/>
                  </a:lnTo>
                  <a:lnTo>
                    <a:pt x="130" y="8"/>
                  </a:lnTo>
                  <a:lnTo>
                    <a:pt x="147" y="2"/>
                  </a:lnTo>
                  <a:lnTo>
                    <a:pt x="165" y="0"/>
                  </a:lnTo>
                  <a:lnTo>
                    <a:pt x="182" y="2"/>
                  </a:lnTo>
                  <a:lnTo>
                    <a:pt x="199" y="16"/>
                  </a:lnTo>
                  <a:lnTo>
                    <a:pt x="184" y="16"/>
                  </a:lnTo>
                  <a:lnTo>
                    <a:pt x="170" y="18"/>
                  </a:lnTo>
                  <a:lnTo>
                    <a:pt x="155" y="20"/>
                  </a:lnTo>
                  <a:lnTo>
                    <a:pt x="143" y="22"/>
                  </a:lnTo>
                  <a:lnTo>
                    <a:pt x="128" y="22"/>
                  </a:lnTo>
                  <a:lnTo>
                    <a:pt x="114" y="22"/>
                  </a:lnTo>
                  <a:lnTo>
                    <a:pt x="101" y="22"/>
                  </a:lnTo>
                  <a:lnTo>
                    <a:pt x="89" y="22"/>
                  </a:lnTo>
                  <a:lnTo>
                    <a:pt x="77" y="23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46" y="27"/>
                  </a:lnTo>
                  <a:lnTo>
                    <a:pt x="37" y="25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13" y="8"/>
                  </a:lnTo>
                  <a:lnTo>
                    <a:pt x="27" y="6"/>
                  </a:lnTo>
                  <a:lnTo>
                    <a:pt x="38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03320" y="5065200"/>
              <a:ext cx="33480" cy="309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44"/>
                  </a:moveTo>
                  <a:lnTo>
                    <a:pt x="31" y="44"/>
                  </a:lnTo>
                  <a:lnTo>
                    <a:pt x="18" y="44"/>
                  </a:lnTo>
                  <a:lnTo>
                    <a:pt x="12" y="33"/>
                  </a:lnTo>
                  <a:lnTo>
                    <a:pt x="8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7080" y="5104080"/>
              <a:ext cx="63720" cy="46800"/>
            </a:xfrm>
            <a:custGeom>
              <a:avLst/>
              <a:gdLst/>
              <a:ahLst/>
              <a:rect l="l" t="t" r="r" b="b"/>
              <a:pathLst>
                <a:path w="87" h="72">
                  <a:moveTo>
                    <a:pt x="18" y="0"/>
                  </a:moveTo>
                  <a:lnTo>
                    <a:pt x="29" y="2"/>
                  </a:lnTo>
                  <a:lnTo>
                    <a:pt x="37" y="8"/>
                  </a:lnTo>
                  <a:lnTo>
                    <a:pt x="43" y="16"/>
                  </a:lnTo>
                  <a:lnTo>
                    <a:pt x="56" y="23"/>
                  </a:lnTo>
                  <a:lnTo>
                    <a:pt x="87" y="72"/>
                  </a:lnTo>
                  <a:lnTo>
                    <a:pt x="66" y="68"/>
                  </a:lnTo>
                  <a:lnTo>
                    <a:pt x="49" y="64"/>
                  </a:lnTo>
                  <a:lnTo>
                    <a:pt x="33" y="49"/>
                  </a:lnTo>
                  <a:lnTo>
                    <a:pt x="22" y="33"/>
                  </a:lnTo>
                  <a:lnTo>
                    <a:pt x="8" y="17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7080" y="4976640"/>
              <a:ext cx="25920" cy="374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4" y="4"/>
                  </a:moveTo>
                  <a:lnTo>
                    <a:pt x="16" y="0"/>
                  </a:lnTo>
                  <a:lnTo>
                    <a:pt x="35" y="2"/>
                  </a:lnTo>
                  <a:lnTo>
                    <a:pt x="29" y="12"/>
                  </a:lnTo>
                  <a:lnTo>
                    <a:pt x="25" y="27"/>
                  </a:lnTo>
                  <a:lnTo>
                    <a:pt x="22" y="41"/>
                  </a:lnTo>
                  <a:lnTo>
                    <a:pt x="22" y="54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2" y="19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35360" y="5019480"/>
              <a:ext cx="20160" cy="442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0" y="2"/>
                  </a:moveTo>
                  <a:lnTo>
                    <a:pt x="8" y="0"/>
                  </a:lnTo>
                  <a:lnTo>
                    <a:pt x="15" y="6"/>
                  </a:lnTo>
                  <a:lnTo>
                    <a:pt x="21" y="14"/>
                  </a:lnTo>
                  <a:lnTo>
                    <a:pt x="27" y="21"/>
                  </a:lnTo>
                  <a:lnTo>
                    <a:pt x="27" y="31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29" y="66"/>
                  </a:lnTo>
                  <a:lnTo>
                    <a:pt x="21" y="48"/>
                  </a:lnTo>
                  <a:lnTo>
                    <a:pt x="13" y="33"/>
                  </a:lnTo>
                  <a:lnTo>
                    <a:pt x="6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55880" y="4958280"/>
              <a:ext cx="43560" cy="114840"/>
            </a:xfrm>
            <a:custGeom>
              <a:avLst/>
              <a:gdLst/>
              <a:ahLst/>
              <a:rect l="l" t="t" r="r" b="b"/>
              <a:pathLst>
                <a:path w="60" h="172">
                  <a:moveTo>
                    <a:pt x="54" y="2"/>
                  </a:moveTo>
                  <a:lnTo>
                    <a:pt x="60" y="2"/>
                  </a:lnTo>
                  <a:lnTo>
                    <a:pt x="47" y="19"/>
                  </a:lnTo>
                  <a:lnTo>
                    <a:pt x="39" y="39"/>
                  </a:lnTo>
                  <a:lnTo>
                    <a:pt x="33" y="60"/>
                  </a:lnTo>
                  <a:lnTo>
                    <a:pt x="33" y="83"/>
                  </a:lnTo>
                  <a:lnTo>
                    <a:pt x="31" y="105"/>
                  </a:lnTo>
                  <a:lnTo>
                    <a:pt x="29" y="126"/>
                  </a:lnTo>
                  <a:lnTo>
                    <a:pt x="27" y="147"/>
                  </a:lnTo>
                  <a:lnTo>
                    <a:pt x="25" y="171"/>
                  </a:lnTo>
                  <a:lnTo>
                    <a:pt x="23" y="172"/>
                  </a:lnTo>
                  <a:lnTo>
                    <a:pt x="23" y="157"/>
                  </a:lnTo>
                  <a:lnTo>
                    <a:pt x="19" y="143"/>
                  </a:lnTo>
                  <a:lnTo>
                    <a:pt x="14" y="128"/>
                  </a:lnTo>
                  <a:lnTo>
                    <a:pt x="10" y="114"/>
                  </a:lnTo>
                  <a:lnTo>
                    <a:pt x="4" y="99"/>
                  </a:lnTo>
                  <a:lnTo>
                    <a:pt x="0" y="83"/>
                  </a:lnTo>
                  <a:lnTo>
                    <a:pt x="2" y="68"/>
                  </a:lnTo>
                  <a:lnTo>
                    <a:pt x="10" y="54"/>
                  </a:lnTo>
                  <a:lnTo>
                    <a:pt x="12" y="45"/>
                  </a:lnTo>
                  <a:lnTo>
                    <a:pt x="17" y="37"/>
                  </a:lnTo>
                  <a:lnTo>
                    <a:pt x="19" y="25"/>
                  </a:lnTo>
                  <a:lnTo>
                    <a:pt x="25" y="19"/>
                  </a:lnTo>
                  <a:lnTo>
                    <a:pt x="29" y="10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3080" y="5128200"/>
              <a:ext cx="1990440" cy="326520"/>
            </a:xfrm>
            <a:custGeom>
              <a:avLst/>
              <a:gdLst/>
              <a:ahLst/>
              <a:rect l="l" t="t" r="r" b="b"/>
              <a:pathLst>
                <a:path w="2734" h="488">
                  <a:moveTo>
                    <a:pt x="580" y="279"/>
                  </a:moveTo>
                  <a:lnTo>
                    <a:pt x="636" y="248"/>
                  </a:lnTo>
                  <a:lnTo>
                    <a:pt x="694" y="217"/>
                  </a:lnTo>
                  <a:lnTo>
                    <a:pt x="752" y="184"/>
                  </a:lnTo>
                  <a:lnTo>
                    <a:pt x="810" y="153"/>
                  </a:lnTo>
                  <a:lnTo>
                    <a:pt x="868" y="122"/>
                  </a:lnTo>
                  <a:lnTo>
                    <a:pt x="927" y="97"/>
                  </a:lnTo>
                  <a:lnTo>
                    <a:pt x="987" y="75"/>
                  </a:lnTo>
                  <a:lnTo>
                    <a:pt x="1053" y="62"/>
                  </a:lnTo>
                  <a:lnTo>
                    <a:pt x="1150" y="46"/>
                  </a:lnTo>
                  <a:lnTo>
                    <a:pt x="1251" y="39"/>
                  </a:lnTo>
                  <a:lnTo>
                    <a:pt x="1351" y="33"/>
                  </a:lnTo>
                  <a:lnTo>
                    <a:pt x="1454" y="33"/>
                  </a:lnTo>
                  <a:lnTo>
                    <a:pt x="1555" y="31"/>
                  </a:lnTo>
                  <a:lnTo>
                    <a:pt x="1658" y="31"/>
                  </a:lnTo>
                  <a:lnTo>
                    <a:pt x="1757" y="29"/>
                  </a:lnTo>
                  <a:lnTo>
                    <a:pt x="1858" y="29"/>
                  </a:lnTo>
                  <a:lnTo>
                    <a:pt x="1896" y="29"/>
                  </a:lnTo>
                  <a:lnTo>
                    <a:pt x="1937" y="29"/>
                  </a:lnTo>
                  <a:lnTo>
                    <a:pt x="1978" y="27"/>
                  </a:lnTo>
                  <a:lnTo>
                    <a:pt x="2019" y="27"/>
                  </a:lnTo>
                  <a:lnTo>
                    <a:pt x="2057" y="25"/>
                  </a:lnTo>
                  <a:lnTo>
                    <a:pt x="2098" y="23"/>
                  </a:lnTo>
                  <a:lnTo>
                    <a:pt x="2139" y="23"/>
                  </a:lnTo>
                  <a:lnTo>
                    <a:pt x="2179" y="25"/>
                  </a:lnTo>
                  <a:lnTo>
                    <a:pt x="2179" y="21"/>
                  </a:lnTo>
                  <a:lnTo>
                    <a:pt x="2245" y="17"/>
                  </a:lnTo>
                  <a:lnTo>
                    <a:pt x="2315" y="13"/>
                  </a:lnTo>
                  <a:lnTo>
                    <a:pt x="2385" y="10"/>
                  </a:lnTo>
                  <a:lnTo>
                    <a:pt x="2455" y="8"/>
                  </a:lnTo>
                  <a:lnTo>
                    <a:pt x="2525" y="2"/>
                  </a:lnTo>
                  <a:lnTo>
                    <a:pt x="2595" y="0"/>
                  </a:lnTo>
                  <a:lnTo>
                    <a:pt x="2664" y="0"/>
                  </a:lnTo>
                  <a:lnTo>
                    <a:pt x="2734" y="2"/>
                  </a:lnTo>
                  <a:lnTo>
                    <a:pt x="2734" y="10"/>
                  </a:lnTo>
                  <a:lnTo>
                    <a:pt x="2711" y="25"/>
                  </a:lnTo>
                  <a:lnTo>
                    <a:pt x="2690" y="43"/>
                  </a:lnTo>
                  <a:lnTo>
                    <a:pt x="2666" y="58"/>
                  </a:lnTo>
                  <a:lnTo>
                    <a:pt x="2643" y="72"/>
                  </a:lnTo>
                  <a:lnTo>
                    <a:pt x="2616" y="81"/>
                  </a:lnTo>
                  <a:lnTo>
                    <a:pt x="2591" y="89"/>
                  </a:lnTo>
                  <a:lnTo>
                    <a:pt x="2565" y="95"/>
                  </a:lnTo>
                  <a:lnTo>
                    <a:pt x="2540" y="101"/>
                  </a:lnTo>
                  <a:lnTo>
                    <a:pt x="2542" y="93"/>
                  </a:lnTo>
                  <a:lnTo>
                    <a:pt x="2550" y="87"/>
                  </a:lnTo>
                  <a:lnTo>
                    <a:pt x="2556" y="79"/>
                  </a:lnTo>
                  <a:lnTo>
                    <a:pt x="2556" y="74"/>
                  </a:lnTo>
                  <a:lnTo>
                    <a:pt x="2550" y="68"/>
                  </a:lnTo>
                  <a:lnTo>
                    <a:pt x="2434" y="68"/>
                  </a:lnTo>
                  <a:lnTo>
                    <a:pt x="2317" y="68"/>
                  </a:lnTo>
                  <a:lnTo>
                    <a:pt x="2201" y="70"/>
                  </a:lnTo>
                  <a:lnTo>
                    <a:pt x="2084" y="72"/>
                  </a:lnTo>
                  <a:lnTo>
                    <a:pt x="1964" y="74"/>
                  </a:lnTo>
                  <a:lnTo>
                    <a:pt x="1848" y="79"/>
                  </a:lnTo>
                  <a:lnTo>
                    <a:pt x="1730" y="85"/>
                  </a:lnTo>
                  <a:lnTo>
                    <a:pt x="1613" y="95"/>
                  </a:lnTo>
                  <a:lnTo>
                    <a:pt x="1557" y="93"/>
                  </a:lnTo>
                  <a:lnTo>
                    <a:pt x="1503" y="93"/>
                  </a:lnTo>
                  <a:lnTo>
                    <a:pt x="1448" y="97"/>
                  </a:lnTo>
                  <a:lnTo>
                    <a:pt x="1396" y="103"/>
                  </a:lnTo>
                  <a:lnTo>
                    <a:pt x="1342" y="108"/>
                  </a:lnTo>
                  <a:lnTo>
                    <a:pt x="1289" y="120"/>
                  </a:lnTo>
                  <a:lnTo>
                    <a:pt x="1239" y="132"/>
                  </a:lnTo>
                  <a:lnTo>
                    <a:pt x="1190" y="147"/>
                  </a:lnTo>
                  <a:lnTo>
                    <a:pt x="1175" y="157"/>
                  </a:lnTo>
                  <a:lnTo>
                    <a:pt x="1161" y="169"/>
                  </a:lnTo>
                  <a:lnTo>
                    <a:pt x="1148" y="180"/>
                  </a:lnTo>
                  <a:lnTo>
                    <a:pt x="1138" y="196"/>
                  </a:lnTo>
                  <a:lnTo>
                    <a:pt x="1126" y="213"/>
                  </a:lnTo>
                  <a:lnTo>
                    <a:pt x="1117" y="233"/>
                  </a:lnTo>
                  <a:lnTo>
                    <a:pt x="1107" y="252"/>
                  </a:lnTo>
                  <a:lnTo>
                    <a:pt x="1099" y="271"/>
                  </a:lnTo>
                  <a:lnTo>
                    <a:pt x="1090" y="289"/>
                  </a:lnTo>
                  <a:lnTo>
                    <a:pt x="1082" y="308"/>
                  </a:lnTo>
                  <a:lnTo>
                    <a:pt x="1072" y="328"/>
                  </a:lnTo>
                  <a:lnTo>
                    <a:pt x="1066" y="349"/>
                  </a:lnTo>
                  <a:lnTo>
                    <a:pt x="1059" y="351"/>
                  </a:lnTo>
                  <a:lnTo>
                    <a:pt x="1059" y="357"/>
                  </a:lnTo>
                  <a:lnTo>
                    <a:pt x="1059" y="362"/>
                  </a:lnTo>
                  <a:lnTo>
                    <a:pt x="1059" y="368"/>
                  </a:lnTo>
                  <a:lnTo>
                    <a:pt x="1051" y="388"/>
                  </a:lnTo>
                  <a:lnTo>
                    <a:pt x="1045" y="407"/>
                  </a:lnTo>
                  <a:lnTo>
                    <a:pt x="1041" y="417"/>
                  </a:lnTo>
                  <a:lnTo>
                    <a:pt x="1039" y="426"/>
                  </a:lnTo>
                  <a:lnTo>
                    <a:pt x="1035" y="438"/>
                  </a:lnTo>
                  <a:lnTo>
                    <a:pt x="1033" y="450"/>
                  </a:lnTo>
                  <a:lnTo>
                    <a:pt x="1022" y="446"/>
                  </a:lnTo>
                  <a:lnTo>
                    <a:pt x="1010" y="444"/>
                  </a:lnTo>
                  <a:lnTo>
                    <a:pt x="998" y="440"/>
                  </a:lnTo>
                  <a:lnTo>
                    <a:pt x="989" y="438"/>
                  </a:lnTo>
                  <a:lnTo>
                    <a:pt x="977" y="434"/>
                  </a:lnTo>
                  <a:lnTo>
                    <a:pt x="967" y="432"/>
                  </a:lnTo>
                  <a:lnTo>
                    <a:pt x="956" y="432"/>
                  </a:lnTo>
                  <a:lnTo>
                    <a:pt x="946" y="434"/>
                  </a:lnTo>
                  <a:lnTo>
                    <a:pt x="948" y="434"/>
                  </a:lnTo>
                  <a:lnTo>
                    <a:pt x="952" y="432"/>
                  </a:lnTo>
                  <a:lnTo>
                    <a:pt x="952" y="428"/>
                  </a:lnTo>
                  <a:lnTo>
                    <a:pt x="865" y="424"/>
                  </a:lnTo>
                  <a:lnTo>
                    <a:pt x="781" y="421"/>
                  </a:lnTo>
                  <a:lnTo>
                    <a:pt x="698" y="415"/>
                  </a:lnTo>
                  <a:lnTo>
                    <a:pt x="616" y="413"/>
                  </a:lnTo>
                  <a:lnTo>
                    <a:pt x="533" y="409"/>
                  </a:lnTo>
                  <a:lnTo>
                    <a:pt x="450" y="411"/>
                  </a:lnTo>
                  <a:lnTo>
                    <a:pt x="364" y="415"/>
                  </a:lnTo>
                  <a:lnTo>
                    <a:pt x="281" y="426"/>
                  </a:lnTo>
                  <a:lnTo>
                    <a:pt x="252" y="426"/>
                  </a:lnTo>
                  <a:lnTo>
                    <a:pt x="223" y="430"/>
                  </a:lnTo>
                  <a:lnTo>
                    <a:pt x="196" y="436"/>
                  </a:lnTo>
                  <a:lnTo>
                    <a:pt x="168" y="442"/>
                  </a:lnTo>
                  <a:lnTo>
                    <a:pt x="139" y="448"/>
                  </a:lnTo>
                  <a:lnTo>
                    <a:pt x="114" y="454"/>
                  </a:lnTo>
                  <a:lnTo>
                    <a:pt x="87" y="461"/>
                  </a:lnTo>
                  <a:lnTo>
                    <a:pt x="62" y="471"/>
                  </a:lnTo>
                  <a:lnTo>
                    <a:pt x="0" y="488"/>
                  </a:lnTo>
                  <a:lnTo>
                    <a:pt x="69" y="461"/>
                  </a:lnTo>
                  <a:lnTo>
                    <a:pt x="141" y="434"/>
                  </a:lnTo>
                  <a:lnTo>
                    <a:pt x="213" y="407"/>
                  </a:lnTo>
                  <a:lnTo>
                    <a:pt x="287" y="382"/>
                  </a:lnTo>
                  <a:lnTo>
                    <a:pt x="358" y="355"/>
                  </a:lnTo>
                  <a:lnTo>
                    <a:pt x="432" y="329"/>
                  </a:lnTo>
                  <a:lnTo>
                    <a:pt x="504" y="302"/>
                  </a:lnTo>
                  <a:lnTo>
                    <a:pt x="580" y="279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73520" y="4987800"/>
              <a:ext cx="159840" cy="12420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31" y="139"/>
                  </a:moveTo>
                  <a:lnTo>
                    <a:pt x="37" y="127"/>
                  </a:lnTo>
                  <a:lnTo>
                    <a:pt x="47" y="118"/>
                  </a:lnTo>
                  <a:lnTo>
                    <a:pt x="55" y="106"/>
                  </a:lnTo>
                  <a:lnTo>
                    <a:pt x="64" y="98"/>
                  </a:lnTo>
                  <a:lnTo>
                    <a:pt x="72" y="87"/>
                  </a:lnTo>
                  <a:lnTo>
                    <a:pt x="82" y="77"/>
                  </a:lnTo>
                  <a:lnTo>
                    <a:pt x="87" y="65"/>
                  </a:lnTo>
                  <a:lnTo>
                    <a:pt x="93" y="54"/>
                  </a:lnTo>
                  <a:lnTo>
                    <a:pt x="107" y="34"/>
                  </a:lnTo>
                  <a:lnTo>
                    <a:pt x="124" y="17"/>
                  </a:lnTo>
                  <a:lnTo>
                    <a:pt x="132" y="9"/>
                  </a:lnTo>
                  <a:lnTo>
                    <a:pt x="142" y="3"/>
                  </a:lnTo>
                  <a:lnTo>
                    <a:pt x="153" y="0"/>
                  </a:lnTo>
                  <a:lnTo>
                    <a:pt x="167" y="0"/>
                  </a:lnTo>
                  <a:lnTo>
                    <a:pt x="181" y="1"/>
                  </a:lnTo>
                  <a:lnTo>
                    <a:pt x="194" y="7"/>
                  </a:lnTo>
                  <a:lnTo>
                    <a:pt x="206" y="13"/>
                  </a:lnTo>
                  <a:lnTo>
                    <a:pt x="219" y="23"/>
                  </a:lnTo>
                  <a:lnTo>
                    <a:pt x="196" y="23"/>
                  </a:lnTo>
                  <a:lnTo>
                    <a:pt x="173" y="31"/>
                  </a:lnTo>
                  <a:lnTo>
                    <a:pt x="150" y="40"/>
                  </a:lnTo>
                  <a:lnTo>
                    <a:pt x="132" y="56"/>
                  </a:lnTo>
                  <a:lnTo>
                    <a:pt x="111" y="71"/>
                  </a:lnTo>
                  <a:lnTo>
                    <a:pt x="95" y="91"/>
                  </a:lnTo>
                  <a:lnTo>
                    <a:pt x="78" y="108"/>
                  </a:lnTo>
                  <a:lnTo>
                    <a:pt x="66" y="126"/>
                  </a:lnTo>
                  <a:lnTo>
                    <a:pt x="49" y="139"/>
                  </a:lnTo>
                  <a:lnTo>
                    <a:pt x="33" y="153"/>
                  </a:lnTo>
                  <a:lnTo>
                    <a:pt x="20" y="168"/>
                  </a:lnTo>
                  <a:lnTo>
                    <a:pt x="8" y="186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31" y="1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9360" y="5076000"/>
              <a:ext cx="100440" cy="60120"/>
            </a:xfrm>
            <a:custGeom>
              <a:avLst/>
              <a:gdLst/>
              <a:ahLst/>
              <a:rect l="l" t="t" r="r" b="b"/>
              <a:pathLst>
                <a:path w="137" h="90">
                  <a:moveTo>
                    <a:pt x="71" y="2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2" y="18"/>
                  </a:lnTo>
                  <a:lnTo>
                    <a:pt x="137" y="31"/>
                  </a:lnTo>
                  <a:lnTo>
                    <a:pt x="126" y="26"/>
                  </a:lnTo>
                  <a:lnTo>
                    <a:pt x="114" y="24"/>
                  </a:lnTo>
                  <a:lnTo>
                    <a:pt x="102" y="22"/>
                  </a:lnTo>
                  <a:lnTo>
                    <a:pt x="93" y="24"/>
                  </a:lnTo>
                  <a:lnTo>
                    <a:pt x="81" y="24"/>
                  </a:lnTo>
                  <a:lnTo>
                    <a:pt x="69" y="29"/>
                  </a:lnTo>
                  <a:lnTo>
                    <a:pt x="58" y="35"/>
                  </a:lnTo>
                  <a:lnTo>
                    <a:pt x="50" y="41"/>
                  </a:lnTo>
                  <a:lnTo>
                    <a:pt x="36" y="53"/>
                  </a:lnTo>
                  <a:lnTo>
                    <a:pt x="27" y="68"/>
                  </a:lnTo>
                  <a:lnTo>
                    <a:pt x="15" y="80"/>
                  </a:lnTo>
                  <a:lnTo>
                    <a:pt x="3" y="90"/>
                  </a:lnTo>
                  <a:lnTo>
                    <a:pt x="0" y="72"/>
                  </a:lnTo>
                  <a:lnTo>
                    <a:pt x="11" y="57"/>
                  </a:lnTo>
                  <a:lnTo>
                    <a:pt x="23" y="41"/>
                  </a:lnTo>
                  <a:lnTo>
                    <a:pt x="36" y="24"/>
                  </a:lnTo>
                  <a:lnTo>
                    <a:pt x="42" y="14"/>
                  </a:lnTo>
                  <a:lnTo>
                    <a:pt x="50" y="8"/>
                  </a:lnTo>
                  <a:lnTo>
                    <a:pt x="60" y="2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080" y="5156280"/>
              <a:ext cx="108720" cy="17280"/>
            </a:xfrm>
            <a:custGeom>
              <a:avLst/>
              <a:gdLst/>
              <a:ahLst/>
              <a:rect l="l" t="t" r="r" b="b"/>
              <a:pathLst>
                <a:path w="149" h="25">
                  <a:moveTo>
                    <a:pt x="149" y="9"/>
                  </a:moveTo>
                  <a:lnTo>
                    <a:pt x="147" y="11"/>
                  </a:lnTo>
                  <a:lnTo>
                    <a:pt x="147" y="17"/>
                  </a:lnTo>
                  <a:lnTo>
                    <a:pt x="128" y="17"/>
                  </a:lnTo>
                  <a:lnTo>
                    <a:pt x="109" y="21"/>
                  </a:lnTo>
                  <a:lnTo>
                    <a:pt x="89" y="21"/>
                  </a:lnTo>
                  <a:lnTo>
                    <a:pt x="72" y="25"/>
                  </a:lnTo>
                  <a:lnTo>
                    <a:pt x="50" y="23"/>
                  </a:lnTo>
                  <a:lnTo>
                    <a:pt x="33" y="19"/>
                  </a:lnTo>
                  <a:lnTo>
                    <a:pt x="14" y="13"/>
                  </a:lnTo>
                  <a:lnTo>
                    <a:pt x="0" y="3"/>
                  </a:lnTo>
                  <a:lnTo>
                    <a:pt x="17" y="0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74" y="3"/>
                  </a:lnTo>
                  <a:lnTo>
                    <a:pt x="91" y="5"/>
                  </a:lnTo>
                  <a:lnTo>
                    <a:pt x="111" y="9"/>
                  </a:lnTo>
                  <a:lnTo>
                    <a:pt x="128" y="9"/>
                  </a:lnTo>
                  <a:lnTo>
                    <a:pt x="149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9120" y="5101200"/>
              <a:ext cx="12960" cy="334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4" y="0"/>
                  </a:moveTo>
                  <a:lnTo>
                    <a:pt x="15" y="12"/>
                  </a:lnTo>
                  <a:lnTo>
                    <a:pt x="17" y="25"/>
                  </a:lnTo>
                  <a:lnTo>
                    <a:pt x="15" y="37"/>
                  </a:lnTo>
                  <a:lnTo>
                    <a:pt x="10" y="51"/>
                  </a:lnTo>
                  <a:lnTo>
                    <a:pt x="12" y="39"/>
                  </a:lnTo>
                  <a:lnTo>
                    <a:pt x="12" y="29"/>
                  </a:lnTo>
                  <a:lnTo>
                    <a:pt x="8" y="1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65320" y="5101200"/>
              <a:ext cx="24480" cy="41400"/>
            </a:xfrm>
            <a:custGeom>
              <a:avLst/>
              <a:gdLst/>
              <a:ahLst/>
              <a:rect l="l" t="t" r="r" b="b"/>
              <a:pathLst>
                <a:path w="33" h="62">
                  <a:moveTo>
                    <a:pt x="8" y="0"/>
                  </a:moveTo>
                  <a:lnTo>
                    <a:pt x="22" y="0"/>
                  </a:lnTo>
                  <a:lnTo>
                    <a:pt x="33" y="8"/>
                  </a:lnTo>
                  <a:lnTo>
                    <a:pt x="27" y="23"/>
                  </a:lnTo>
                  <a:lnTo>
                    <a:pt x="22" y="39"/>
                  </a:lnTo>
                  <a:lnTo>
                    <a:pt x="10" y="53"/>
                  </a:lnTo>
                  <a:lnTo>
                    <a:pt x="0" y="62"/>
                  </a:lnTo>
                  <a:lnTo>
                    <a:pt x="6" y="47"/>
                  </a:lnTo>
                  <a:lnTo>
                    <a:pt x="10" y="31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1760" y="5051880"/>
              <a:ext cx="46440" cy="8964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43" y="53"/>
                  </a:moveTo>
                  <a:lnTo>
                    <a:pt x="43" y="35"/>
                  </a:lnTo>
                  <a:lnTo>
                    <a:pt x="45" y="22"/>
                  </a:lnTo>
                  <a:lnTo>
                    <a:pt x="49" y="10"/>
                  </a:lnTo>
                  <a:lnTo>
                    <a:pt x="55" y="0"/>
                  </a:lnTo>
                  <a:lnTo>
                    <a:pt x="60" y="6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62" y="43"/>
                  </a:lnTo>
                  <a:lnTo>
                    <a:pt x="57" y="55"/>
                  </a:lnTo>
                  <a:lnTo>
                    <a:pt x="53" y="68"/>
                  </a:lnTo>
                  <a:lnTo>
                    <a:pt x="45" y="80"/>
                  </a:lnTo>
                  <a:lnTo>
                    <a:pt x="39" y="94"/>
                  </a:lnTo>
                  <a:lnTo>
                    <a:pt x="29" y="105"/>
                  </a:lnTo>
                  <a:lnTo>
                    <a:pt x="22" y="117"/>
                  </a:lnTo>
                  <a:lnTo>
                    <a:pt x="12" y="125"/>
                  </a:lnTo>
                  <a:lnTo>
                    <a:pt x="4" y="134"/>
                  </a:lnTo>
                  <a:lnTo>
                    <a:pt x="0" y="130"/>
                  </a:lnTo>
                  <a:lnTo>
                    <a:pt x="12" y="111"/>
                  </a:lnTo>
                  <a:lnTo>
                    <a:pt x="27" y="94"/>
                  </a:lnTo>
                  <a:lnTo>
                    <a:pt x="37" y="72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30480" y="5232600"/>
              <a:ext cx="362160" cy="128160"/>
            </a:xfrm>
            <a:custGeom>
              <a:avLst/>
              <a:gdLst/>
              <a:ahLst/>
              <a:rect l="l" t="t" r="r" b="b"/>
              <a:pathLst>
                <a:path w="499" h="192">
                  <a:moveTo>
                    <a:pt x="33" y="31"/>
                  </a:moveTo>
                  <a:lnTo>
                    <a:pt x="88" y="19"/>
                  </a:lnTo>
                  <a:lnTo>
                    <a:pt x="146" y="12"/>
                  </a:lnTo>
                  <a:lnTo>
                    <a:pt x="204" y="4"/>
                  </a:lnTo>
                  <a:lnTo>
                    <a:pt x="264" y="2"/>
                  </a:lnTo>
                  <a:lnTo>
                    <a:pt x="322" y="0"/>
                  </a:lnTo>
                  <a:lnTo>
                    <a:pt x="383" y="2"/>
                  </a:lnTo>
                  <a:lnTo>
                    <a:pt x="441" y="6"/>
                  </a:lnTo>
                  <a:lnTo>
                    <a:pt x="499" y="13"/>
                  </a:lnTo>
                  <a:lnTo>
                    <a:pt x="499" y="19"/>
                  </a:lnTo>
                  <a:lnTo>
                    <a:pt x="489" y="19"/>
                  </a:lnTo>
                  <a:lnTo>
                    <a:pt x="483" y="21"/>
                  </a:lnTo>
                  <a:lnTo>
                    <a:pt x="460" y="31"/>
                  </a:lnTo>
                  <a:lnTo>
                    <a:pt x="439" y="43"/>
                  </a:lnTo>
                  <a:lnTo>
                    <a:pt x="416" y="52"/>
                  </a:lnTo>
                  <a:lnTo>
                    <a:pt x="394" y="64"/>
                  </a:lnTo>
                  <a:lnTo>
                    <a:pt x="371" y="74"/>
                  </a:lnTo>
                  <a:lnTo>
                    <a:pt x="348" y="83"/>
                  </a:lnTo>
                  <a:lnTo>
                    <a:pt x="326" y="95"/>
                  </a:lnTo>
                  <a:lnTo>
                    <a:pt x="307" y="110"/>
                  </a:lnTo>
                  <a:lnTo>
                    <a:pt x="278" y="120"/>
                  </a:lnTo>
                  <a:lnTo>
                    <a:pt x="251" y="132"/>
                  </a:lnTo>
                  <a:lnTo>
                    <a:pt x="224" y="141"/>
                  </a:lnTo>
                  <a:lnTo>
                    <a:pt x="196" y="151"/>
                  </a:lnTo>
                  <a:lnTo>
                    <a:pt x="167" y="161"/>
                  </a:lnTo>
                  <a:lnTo>
                    <a:pt x="140" y="171"/>
                  </a:lnTo>
                  <a:lnTo>
                    <a:pt x="113" y="180"/>
                  </a:lnTo>
                  <a:lnTo>
                    <a:pt x="86" y="192"/>
                  </a:lnTo>
                  <a:lnTo>
                    <a:pt x="76" y="174"/>
                  </a:lnTo>
                  <a:lnTo>
                    <a:pt x="68" y="159"/>
                  </a:lnTo>
                  <a:lnTo>
                    <a:pt x="57" y="143"/>
                  </a:lnTo>
                  <a:lnTo>
                    <a:pt x="47" y="128"/>
                  </a:lnTo>
                  <a:lnTo>
                    <a:pt x="35" y="112"/>
                  </a:lnTo>
                  <a:lnTo>
                    <a:pt x="24" y="99"/>
                  </a:lnTo>
                  <a:lnTo>
                    <a:pt x="12" y="83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8" y="43"/>
                  </a:lnTo>
                  <a:lnTo>
                    <a:pt x="20" y="35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3360" y="5053320"/>
              <a:ext cx="75240" cy="92160"/>
            </a:xfrm>
            <a:custGeom>
              <a:avLst/>
              <a:gdLst/>
              <a:ahLst/>
              <a:rect l="l" t="t" r="r" b="b"/>
              <a:pathLst>
                <a:path w="105" h="138">
                  <a:moveTo>
                    <a:pt x="64" y="61"/>
                  </a:moveTo>
                  <a:lnTo>
                    <a:pt x="70" y="43"/>
                  </a:lnTo>
                  <a:lnTo>
                    <a:pt x="82" y="28"/>
                  </a:lnTo>
                  <a:lnTo>
                    <a:pt x="93" y="12"/>
                  </a:lnTo>
                  <a:lnTo>
                    <a:pt x="105" y="0"/>
                  </a:lnTo>
                  <a:lnTo>
                    <a:pt x="103" y="14"/>
                  </a:lnTo>
                  <a:lnTo>
                    <a:pt x="103" y="30"/>
                  </a:lnTo>
                  <a:lnTo>
                    <a:pt x="101" y="45"/>
                  </a:lnTo>
                  <a:lnTo>
                    <a:pt x="99" y="61"/>
                  </a:lnTo>
                  <a:lnTo>
                    <a:pt x="93" y="74"/>
                  </a:lnTo>
                  <a:lnTo>
                    <a:pt x="88" y="88"/>
                  </a:lnTo>
                  <a:lnTo>
                    <a:pt x="80" y="99"/>
                  </a:lnTo>
                  <a:lnTo>
                    <a:pt x="72" y="113"/>
                  </a:lnTo>
                  <a:lnTo>
                    <a:pt x="55" y="123"/>
                  </a:lnTo>
                  <a:lnTo>
                    <a:pt x="37" y="132"/>
                  </a:lnTo>
                  <a:lnTo>
                    <a:pt x="18" y="136"/>
                  </a:lnTo>
                  <a:lnTo>
                    <a:pt x="0" y="138"/>
                  </a:lnTo>
                  <a:lnTo>
                    <a:pt x="10" y="128"/>
                  </a:lnTo>
                  <a:lnTo>
                    <a:pt x="20" y="119"/>
                  </a:lnTo>
                  <a:lnTo>
                    <a:pt x="26" y="109"/>
                  </a:lnTo>
                  <a:lnTo>
                    <a:pt x="33" y="99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53" y="66"/>
                  </a:lnTo>
                  <a:lnTo>
                    <a:pt x="64" y="61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55320" y="5109480"/>
              <a:ext cx="176040" cy="54720"/>
            </a:xfrm>
            <a:custGeom>
              <a:avLst/>
              <a:gdLst/>
              <a:ahLst/>
              <a:rect l="l" t="t" r="r" b="b"/>
              <a:pathLst>
                <a:path w="243" h="81">
                  <a:moveTo>
                    <a:pt x="47" y="79"/>
                  </a:moveTo>
                  <a:lnTo>
                    <a:pt x="57" y="73"/>
                  </a:lnTo>
                  <a:lnTo>
                    <a:pt x="66" y="73"/>
                  </a:lnTo>
                  <a:lnTo>
                    <a:pt x="78" y="73"/>
                  </a:lnTo>
                  <a:lnTo>
                    <a:pt x="90" y="73"/>
                  </a:lnTo>
                  <a:lnTo>
                    <a:pt x="99" y="71"/>
                  </a:lnTo>
                  <a:lnTo>
                    <a:pt x="111" y="70"/>
                  </a:lnTo>
                  <a:lnTo>
                    <a:pt x="123" y="68"/>
                  </a:lnTo>
                  <a:lnTo>
                    <a:pt x="134" y="68"/>
                  </a:lnTo>
                  <a:lnTo>
                    <a:pt x="144" y="71"/>
                  </a:lnTo>
                  <a:lnTo>
                    <a:pt x="156" y="73"/>
                  </a:lnTo>
                  <a:lnTo>
                    <a:pt x="144" y="62"/>
                  </a:lnTo>
                  <a:lnTo>
                    <a:pt x="154" y="54"/>
                  </a:lnTo>
                  <a:lnTo>
                    <a:pt x="163" y="48"/>
                  </a:lnTo>
                  <a:lnTo>
                    <a:pt x="171" y="39"/>
                  </a:lnTo>
                  <a:lnTo>
                    <a:pt x="179" y="31"/>
                  </a:lnTo>
                  <a:lnTo>
                    <a:pt x="187" y="19"/>
                  </a:lnTo>
                  <a:lnTo>
                    <a:pt x="194" y="11"/>
                  </a:lnTo>
                  <a:lnTo>
                    <a:pt x="204" y="4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29" y="7"/>
                  </a:lnTo>
                  <a:lnTo>
                    <a:pt x="233" y="11"/>
                  </a:lnTo>
                  <a:lnTo>
                    <a:pt x="243" y="11"/>
                  </a:lnTo>
                  <a:lnTo>
                    <a:pt x="233" y="17"/>
                  </a:lnTo>
                  <a:lnTo>
                    <a:pt x="237" y="19"/>
                  </a:lnTo>
                  <a:lnTo>
                    <a:pt x="241" y="19"/>
                  </a:lnTo>
                  <a:lnTo>
                    <a:pt x="225" y="17"/>
                  </a:lnTo>
                  <a:lnTo>
                    <a:pt x="216" y="27"/>
                  </a:lnTo>
                  <a:lnTo>
                    <a:pt x="208" y="37"/>
                  </a:lnTo>
                  <a:lnTo>
                    <a:pt x="200" y="46"/>
                  </a:lnTo>
                  <a:lnTo>
                    <a:pt x="179" y="64"/>
                  </a:lnTo>
                  <a:lnTo>
                    <a:pt x="156" y="75"/>
                  </a:lnTo>
                  <a:lnTo>
                    <a:pt x="130" y="79"/>
                  </a:lnTo>
                  <a:lnTo>
                    <a:pt x="107" y="81"/>
                  </a:lnTo>
                  <a:lnTo>
                    <a:pt x="80" y="77"/>
                  </a:lnTo>
                  <a:lnTo>
                    <a:pt x="53" y="75"/>
                  </a:lnTo>
                  <a:lnTo>
                    <a:pt x="26" y="75"/>
                  </a:lnTo>
                  <a:lnTo>
                    <a:pt x="0" y="79"/>
                  </a:lnTo>
                  <a:lnTo>
                    <a:pt x="12" y="77"/>
                  </a:lnTo>
                  <a:lnTo>
                    <a:pt x="24" y="79"/>
                  </a:lnTo>
                  <a:lnTo>
                    <a:pt x="35" y="79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1240" y="5050440"/>
              <a:ext cx="56520" cy="9900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66" y="29"/>
                  </a:moveTo>
                  <a:lnTo>
                    <a:pt x="60" y="1"/>
                  </a:lnTo>
                  <a:lnTo>
                    <a:pt x="68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80" y="36"/>
                  </a:lnTo>
                  <a:lnTo>
                    <a:pt x="76" y="54"/>
                  </a:lnTo>
                  <a:lnTo>
                    <a:pt x="74" y="71"/>
                  </a:lnTo>
                  <a:lnTo>
                    <a:pt x="68" y="87"/>
                  </a:lnTo>
                  <a:lnTo>
                    <a:pt x="62" y="104"/>
                  </a:lnTo>
                  <a:lnTo>
                    <a:pt x="57" y="120"/>
                  </a:lnTo>
                  <a:lnTo>
                    <a:pt x="51" y="135"/>
                  </a:lnTo>
                  <a:lnTo>
                    <a:pt x="37" y="141"/>
                  </a:lnTo>
                  <a:lnTo>
                    <a:pt x="26" y="147"/>
                  </a:lnTo>
                  <a:lnTo>
                    <a:pt x="12" y="149"/>
                  </a:lnTo>
                  <a:lnTo>
                    <a:pt x="0" y="149"/>
                  </a:lnTo>
                  <a:lnTo>
                    <a:pt x="14" y="137"/>
                  </a:lnTo>
                  <a:lnTo>
                    <a:pt x="27" y="126"/>
                  </a:lnTo>
                  <a:lnTo>
                    <a:pt x="37" y="110"/>
                  </a:lnTo>
                  <a:lnTo>
                    <a:pt x="47" y="96"/>
                  </a:lnTo>
                  <a:lnTo>
                    <a:pt x="51" y="79"/>
                  </a:lnTo>
                  <a:lnTo>
                    <a:pt x="57" y="62"/>
                  </a:lnTo>
                  <a:lnTo>
                    <a:pt x="60" y="44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3800" y="4647600"/>
              <a:ext cx="558720" cy="530280"/>
            </a:xfrm>
            <a:custGeom>
              <a:avLst/>
              <a:gdLst/>
              <a:ahLst/>
              <a:rect l="l" t="t" r="r" b="b"/>
              <a:pathLst>
                <a:path w="766" h="791">
                  <a:moveTo>
                    <a:pt x="16" y="570"/>
                  </a:moveTo>
                  <a:lnTo>
                    <a:pt x="0" y="550"/>
                  </a:lnTo>
                  <a:lnTo>
                    <a:pt x="12" y="533"/>
                  </a:lnTo>
                  <a:lnTo>
                    <a:pt x="25" y="515"/>
                  </a:lnTo>
                  <a:lnTo>
                    <a:pt x="39" y="496"/>
                  </a:lnTo>
                  <a:lnTo>
                    <a:pt x="52" y="478"/>
                  </a:lnTo>
                  <a:lnTo>
                    <a:pt x="64" y="459"/>
                  </a:lnTo>
                  <a:lnTo>
                    <a:pt x="80" y="440"/>
                  </a:lnTo>
                  <a:lnTo>
                    <a:pt x="93" y="422"/>
                  </a:lnTo>
                  <a:lnTo>
                    <a:pt x="111" y="407"/>
                  </a:lnTo>
                  <a:lnTo>
                    <a:pt x="111" y="403"/>
                  </a:lnTo>
                  <a:lnTo>
                    <a:pt x="122" y="383"/>
                  </a:lnTo>
                  <a:lnTo>
                    <a:pt x="138" y="366"/>
                  </a:lnTo>
                  <a:lnTo>
                    <a:pt x="153" y="349"/>
                  </a:lnTo>
                  <a:lnTo>
                    <a:pt x="171" y="331"/>
                  </a:lnTo>
                  <a:lnTo>
                    <a:pt x="184" y="312"/>
                  </a:lnTo>
                  <a:lnTo>
                    <a:pt x="198" y="294"/>
                  </a:lnTo>
                  <a:lnTo>
                    <a:pt x="209" y="275"/>
                  </a:lnTo>
                  <a:lnTo>
                    <a:pt x="221" y="255"/>
                  </a:lnTo>
                  <a:lnTo>
                    <a:pt x="235" y="238"/>
                  </a:lnTo>
                  <a:lnTo>
                    <a:pt x="248" y="221"/>
                  </a:lnTo>
                  <a:lnTo>
                    <a:pt x="260" y="201"/>
                  </a:lnTo>
                  <a:lnTo>
                    <a:pt x="273" y="184"/>
                  </a:lnTo>
                  <a:lnTo>
                    <a:pt x="285" y="162"/>
                  </a:lnTo>
                  <a:lnTo>
                    <a:pt x="299" y="143"/>
                  </a:lnTo>
                  <a:lnTo>
                    <a:pt x="310" y="124"/>
                  </a:lnTo>
                  <a:lnTo>
                    <a:pt x="324" y="106"/>
                  </a:lnTo>
                  <a:lnTo>
                    <a:pt x="334" y="93"/>
                  </a:lnTo>
                  <a:lnTo>
                    <a:pt x="345" y="79"/>
                  </a:lnTo>
                  <a:lnTo>
                    <a:pt x="357" y="65"/>
                  </a:lnTo>
                  <a:lnTo>
                    <a:pt x="368" y="52"/>
                  </a:lnTo>
                  <a:lnTo>
                    <a:pt x="378" y="36"/>
                  </a:lnTo>
                  <a:lnTo>
                    <a:pt x="390" y="25"/>
                  </a:lnTo>
                  <a:lnTo>
                    <a:pt x="401" y="11"/>
                  </a:lnTo>
                  <a:lnTo>
                    <a:pt x="413" y="0"/>
                  </a:lnTo>
                  <a:lnTo>
                    <a:pt x="423" y="0"/>
                  </a:lnTo>
                  <a:lnTo>
                    <a:pt x="431" y="7"/>
                  </a:lnTo>
                  <a:lnTo>
                    <a:pt x="442" y="11"/>
                  </a:lnTo>
                  <a:lnTo>
                    <a:pt x="456" y="17"/>
                  </a:lnTo>
                  <a:lnTo>
                    <a:pt x="467" y="23"/>
                  </a:lnTo>
                  <a:lnTo>
                    <a:pt x="479" y="33"/>
                  </a:lnTo>
                  <a:lnTo>
                    <a:pt x="491" y="40"/>
                  </a:lnTo>
                  <a:lnTo>
                    <a:pt x="502" y="52"/>
                  </a:lnTo>
                  <a:lnTo>
                    <a:pt x="512" y="60"/>
                  </a:lnTo>
                  <a:lnTo>
                    <a:pt x="524" y="69"/>
                  </a:lnTo>
                  <a:lnTo>
                    <a:pt x="533" y="81"/>
                  </a:lnTo>
                  <a:lnTo>
                    <a:pt x="545" y="93"/>
                  </a:lnTo>
                  <a:lnTo>
                    <a:pt x="557" y="102"/>
                  </a:lnTo>
                  <a:lnTo>
                    <a:pt x="570" y="114"/>
                  </a:lnTo>
                  <a:lnTo>
                    <a:pt x="584" y="124"/>
                  </a:lnTo>
                  <a:lnTo>
                    <a:pt x="599" y="135"/>
                  </a:lnTo>
                  <a:lnTo>
                    <a:pt x="613" y="145"/>
                  </a:lnTo>
                  <a:lnTo>
                    <a:pt x="626" y="157"/>
                  </a:lnTo>
                  <a:lnTo>
                    <a:pt x="640" y="168"/>
                  </a:lnTo>
                  <a:lnTo>
                    <a:pt x="654" y="182"/>
                  </a:lnTo>
                  <a:lnTo>
                    <a:pt x="663" y="191"/>
                  </a:lnTo>
                  <a:lnTo>
                    <a:pt x="675" y="201"/>
                  </a:lnTo>
                  <a:lnTo>
                    <a:pt x="688" y="211"/>
                  </a:lnTo>
                  <a:lnTo>
                    <a:pt x="704" y="223"/>
                  </a:lnTo>
                  <a:lnTo>
                    <a:pt x="716" y="230"/>
                  </a:lnTo>
                  <a:lnTo>
                    <a:pt x="729" y="242"/>
                  </a:lnTo>
                  <a:lnTo>
                    <a:pt x="741" y="252"/>
                  </a:lnTo>
                  <a:lnTo>
                    <a:pt x="754" y="263"/>
                  </a:lnTo>
                  <a:lnTo>
                    <a:pt x="756" y="269"/>
                  </a:lnTo>
                  <a:lnTo>
                    <a:pt x="762" y="275"/>
                  </a:lnTo>
                  <a:lnTo>
                    <a:pt x="766" y="279"/>
                  </a:lnTo>
                  <a:lnTo>
                    <a:pt x="766" y="288"/>
                  </a:lnTo>
                  <a:lnTo>
                    <a:pt x="762" y="288"/>
                  </a:lnTo>
                  <a:lnTo>
                    <a:pt x="758" y="290"/>
                  </a:lnTo>
                  <a:lnTo>
                    <a:pt x="714" y="341"/>
                  </a:lnTo>
                  <a:lnTo>
                    <a:pt x="671" y="393"/>
                  </a:lnTo>
                  <a:lnTo>
                    <a:pt x="624" y="444"/>
                  </a:lnTo>
                  <a:lnTo>
                    <a:pt x="578" y="494"/>
                  </a:lnTo>
                  <a:lnTo>
                    <a:pt x="529" y="542"/>
                  </a:lnTo>
                  <a:lnTo>
                    <a:pt x="481" y="593"/>
                  </a:lnTo>
                  <a:lnTo>
                    <a:pt x="434" y="643"/>
                  </a:lnTo>
                  <a:lnTo>
                    <a:pt x="392" y="696"/>
                  </a:lnTo>
                  <a:lnTo>
                    <a:pt x="287" y="791"/>
                  </a:lnTo>
                  <a:lnTo>
                    <a:pt x="258" y="787"/>
                  </a:lnTo>
                  <a:lnTo>
                    <a:pt x="231" y="785"/>
                  </a:lnTo>
                  <a:lnTo>
                    <a:pt x="204" y="783"/>
                  </a:lnTo>
                  <a:lnTo>
                    <a:pt x="180" y="781"/>
                  </a:lnTo>
                  <a:lnTo>
                    <a:pt x="153" y="779"/>
                  </a:lnTo>
                  <a:lnTo>
                    <a:pt x="126" y="777"/>
                  </a:lnTo>
                  <a:lnTo>
                    <a:pt x="99" y="777"/>
                  </a:lnTo>
                  <a:lnTo>
                    <a:pt x="74" y="777"/>
                  </a:lnTo>
                  <a:lnTo>
                    <a:pt x="87" y="765"/>
                  </a:lnTo>
                  <a:lnTo>
                    <a:pt x="101" y="752"/>
                  </a:lnTo>
                  <a:lnTo>
                    <a:pt x="107" y="746"/>
                  </a:lnTo>
                  <a:lnTo>
                    <a:pt x="116" y="742"/>
                  </a:lnTo>
                  <a:lnTo>
                    <a:pt x="126" y="740"/>
                  </a:lnTo>
                  <a:lnTo>
                    <a:pt x="138" y="744"/>
                  </a:lnTo>
                  <a:lnTo>
                    <a:pt x="151" y="738"/>
                  </a:lnTo>
                  <a:lnTo>
                    <a:pt x="165" y="729"/>
                  </a:lnTo>
                  <a:lnTo>
                    <a:pt x="175" y="713"/>
                  </a:lnTo>
                  <a:lnTo>
                    <a:pt x="182" y="699"/>
                  </a:lnTo>
                  <a:lnTo>
                    <a:pt x="182" y="678"/>
                  </a:lnTo>
                  <a:lnTo>
                    <a:pt x="178" y="659"/>
                  </a:lnTo>
                  <a:lnTo>
                    <a:pt x="169" y="641"/>
                  </a:lnTo>
                  <a:lnTo>
                    <a:pt x="159" y="626"/>
                  </a:lnTo>
                  <a:lnTo>
                    <a:pt x="140" y="614"/>
                  </a:lnTo>
                  <a:lnTo>
                    <a:pt x="122" y="616"/>
                  </a:lnTo>
                  <a:lnTo>
                    <a:pt x="105" y="624"/>
                  </a:lnTo>
                  <a:lnTo>
                    <a:pt x="89" y="632"/>
                  </a:lnTo>
                  <a:lnTo>
                    <a:pt x="78" y="649"/>
                  </a:lnTo>
                  <a:lnTo>
                    <a:pt x="66" y="668"/>
                  </a:lnTo>
                  <a:lnTo>
                    <a:pt x="60" y="676"/>
                  </a:lnTo>
                  <a:lnTo>
                    <a:pt x="58" y="686"/>
                  </a:lnTo>
                  <a:lnTo>
                    <a:pt x="56" y="697"/>
                  </a:lnTo>
                  <a:lnTo>
                    <a:pt x="58" y="709"/>
                  </a:lnTo>
                  <a:lnTo>
                    <a:pt x="43" y="719"/>
                  </a:lnTo>
                  <a:lnTo>
                    <a:pt x="29" y="730"/>
                  </a:lnTo>
                  <a:lnTo>
                    <a:pt x="14" y="738"/>
                  </a:lnTo>
                  <a:lnTo>
                    <a:pt x="0" y="742"/>
                  </a:lnTo>
                  <a:lnTo>
                    <a:pt x="10" y="721"/>
                  </a:lnTo>
                  <a:lnTo>
                    <a:pt x="19" y="699"/>
                  </a:lnTo>
                  <a:lnTo>
                    <a:pt x="25" y="678"/>
                  </a:lnTo>
                  <a:lnTo>
                    <a:pt x="29" y="657"/>
                  </a:lnTo>
                  <a:lnTo>
                    <a:pt x="29" y="634"/>
                  </a:lnTo>
                  <a:lnTo>
                    <a:pt x="27" y="610"/>
                  </a:lnTo>
                  <a:lnTo>
                    <a:pt x="21" y="589"/>
                  </a:lnTo>
                  <a:lnTo>
                    <a:pt x="16" y="570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6440" y="5558040"/>
              <a:ext cx="582120" cy="749880"/>
            </a:xfrm>
            <a:custGeom>
              <a:avLst/>
              <a:gdLst/>
              <a:ahLst/>
              <a:rect l="l" t="t" r="r" b="b"/>
              <a:pathLst>
                <a:path w="799" h="1120">
                  <a:moveTo>
                    <a:pt x="55" y="304"/>
                  </a:moveTo>
                  <a:lnTo>
                    <a:pt x="74" y="259"/>
                  </a:lnTo>
                  <a:lnTo>
                    <a:pt x="97" y="215"/>
                  </a:lnTo>
                  <a:lnTo>
                    <a:pt x="124" y="172"/>
                  </a:lnTo>
                  <a:lnTo>
                    <a:pt x="157" y="133"/>
                  </a:lnTo>
                  <a:lnTo>
                    <a:pt x="190" y="97"/>
                  </a:lnTo>
                  <a:lnTo>
                    <a:pt x="229" y="66"/>
                  </a:lnTo>
                  <a:lnTo>
                    <a:pt x="274" y="40"/>
                  </a:lnTo>
                  <a:lnTo>
                    <a:pt x="324" y="23"/>
                  </a:lnTo>
                  <a:lnTo>
                    <a:pt x="361" y="9"/>
                  </a:lnTo>
                  <a:lnTo>
                    <a:pt x="402" y="3"/>
                  </a:lnTo>
                  <a:lnTo>
                    <a:pt x="443" y="0"/>
                  </a:lnTo>
                  <a:lnTo>
                    <a:pt x="485" y="3"/>
                  </a:lnTo>
                  <a:lnTo>
                    <a:pt x="524" y="9"/>
                  </a:lnTo>
                  <a:lnTo>
                    <a:pt x="565" y="21"/>
                  </a:lnTo>
                  <a:lnTo>
                    <a:pt x="602" y="36"/>
                  </a:lnTo>
                  <a:lnTo>
                    <a:pt x="636" y="60"/>
                  </a:lnTo>
                  <a:lnTo>
                    <a:pt x="675" y="95"/>
                  </a:lnTo>
                  <a:lnTo>
                    <a:pt x="710" y="135"/>
                  </a:lnTo>
                  <a:lnTo>
                    <a:pt x="739" y="180"/>
                  </a:lnTo>
                  <a:lnTo>
                    <a:pt x="763" y="230"/>
                  </a:lnTo>
                  <a:lnTo>
                    <a:pt x="778" y="281"/>
                  </a:lnTo>
                  <a:lnTo>
                    <a:pt x="790" y="333"/>
                  </a:lnTo>
                  <a:lnTo>
                    <a:pt x="794" y="387"/>
                  </a:lnTo>
                  <a:lnTo>
                    <a:pt x="792" y="446"/>
                  </a:lnTo>
                  <a:lnTo>
                    <a:pt x="788" y="463"/>
                  </a:lnTo>
                  <a:lnTo>
                    <a:pt x="786" y="484"/>
                  </a:lnTo>
                  <a:lnTo>
                    <a:pt x="782" y="504"/>
                  </a:lnTo>
                  <a:lnTo>
                    <a:pt x="778" y="525"/>
                  </a:lnTo>
                  <a:lnTo>
                    <a:pt x="772" y="542"/>
                  </a:lnTo>
                  <a:lnTo>
                    <a:pt x="768" y="564"/>
                  </a:lnTo>
                  <a:lnTo>
                    <a:pt x="764" y="583"/>
                  </a:lnTo>
                  <a:lnTo>
                    <a:pt x="763" y="604"/>
                  </a:lnTo>
                  <a:lnTo>
                    <a:pt x="766" y="618"/>
                  </a:lnTo>
                  <a:lnTo>
                    <a:pt x="774" y="634"/>
                  </a:lnTo>
                  <a:lnTo>
                    <a:pt x="784" y="645"/>
                  </a:lnTo>
                  <a:lnTo>
                    <a:pt x="799" y="655"/>
                  </a:lnTo>
                  <a:lnTo>
                    <a:pt x="797" y="680"/>
                  </a:lnTo>
                  <a:lnTo>
                    <a:pt x="794" y="705"/>
                  </a:lnTo>
                  <a:lnTo>
                    <a:pt x="788" y="731"/>
                  </a:lnTo>
                  <a:lnTo>
                    <a:pt x="784" y="758"/>
                  </a:lnTo>
                  <a:lnTo>
                    <a:pt x="774" y="783"/>
                  </a:lnTo>
                  <a:lnTo>
                    <a:pt x="766" y="808"/>
                  </a:lnTo>
                  <a:lnTo>
                    <a:pt x="757" y="833"/>
                  </a:lnTo>
                  <a:lnTo>
                    <a:pt x="751" y="858"/>
                  </a:lnTo>
                  <a:lnTo>
                    <a:pt x="728" y="899"/>
                  </a:lnTo>
                  <a:lnTo>
                    <a:pt x="704" y="944"/>
                  </a:lnTo>
                  <a:lnTo>
                    <a:pt x="675" y="983"/>
                  </a:lnTo>
                  <a:lnTo>
                    <a:pt x="646" y="1023"/>
                  </a:lnTo>
                  <a:lnTo>
                    <a:pt x="611" y="1056"/>
                  </a:lnTo>
                  <a:lnTo>
                    <a:pt x="572" y="1085"/>
                  </a:lnTo>
                  <a:lnTo>
                    <a:pt x="528" y="1107"/>
                  </a:lnTo>
                  <a:lnTo>
                    <a:pt x="481" y="1120"/>
                  </a:lnTo>
                  <a:lnTo>
                    <a:pt x="450" y="1120"/>
                  </a:lnTo>
                  <a:lnTo>
                    <a:pt x="421" y="1120"/>
                  </a:lnTo>
                  <a:lnTo>
                    <a:pt x="392" y="1118"/>
                  </a:lnTo>
                  <a:lnTo>
                    <a:pt x="365" y="1116"/>
                  </a:lnTo>
                  <a:lnTo>
                    <a:pt x="336" y="1109"/>
                  </a:lnTo>
                  <a:lnTo>
                    <a:pt x="311" y="1103"/>
                  </a:lnTo>
                  <a:lnTo>
                    <a:pt x="283" y="1091"/>
                  </a:lnTo>
                  <a:lnTo>
                    <a:pt x="260" y="1079"/>
                  </a:lnTo>
                  <a:lnTo>
                    <a:pt x="229" y="1054"/>
                  </a:lnTo>
                  <a:lnTo>
                    <a:pt x="202" y="1027"/>
                  </a:lnTo>
                  <a:lnTo>
                    <a:pt x="175" y="998"/>
                  </a:lnTo>
                  <a:lnTo>
                    <a:pt x="152" y="969"/>
                  </a:lnTo>
                  <a:lnTo>
                    <a:pt x="128" y="938"/>
                  </a:lnTo>
                  <a:lnTo>
                    <a:pt x="105" y="907"/>
                  </a:lnTo>
                  <a:lnTo>
                    <a:pt x="84" y="874"/>
                  </a:lnTo>
                  <a:lnTo>
                    <a:pt x="66" y="843"/>
                  </a:lnTo>
                  <a:lnTo>
                    <a:pt x="57" y="824"/>
                  </a:lnTo>
                  <a:lnTo>
                    <a:pt x="49" y="804"/>
                  </a:lnTo>
                  <a:lnTo>
                    <a:pt x="39" y="785"/>
                  </a:lnTo>
                  <a:lnTo>
                    <a:pt x="33" y="767"/>
                  </a:lnTo>
                  <a:lnTo>
                    <a:pt x="24" y="748"/>
                  </a:lnTo>
                  <a:lnTo>
                    <a:pt x="20" y="731"/>
                  </a:lnTo>
                  <a:lnTo>
                    <a:pt x="16" y="713"/>
                  </a:lnTo>
                  <a:lnTo>
                    <a:pt x="18" y="696"/>
                  </a:lnTo>
                  <a:lnTo>
                    <a:pt x="10" y="682"/>
                  </a:lnTo>
                  <a:lnTo>
                    <a:pt x="8" y="668"/>
                  </a:lnTo>
                  <a:lnTo>
                    <a:pt x="6" y="653"/>
                  </a:lnTo>
                  <a:lnTo>
                    <a:pt x="4" y="639"/>
                  </a:lnTo>
                  <a:lnTo>
                    <a:pt x="0" y="608"/>
                  </a:lnTo>
                  <a:lnTo>
                    <a:pt x="0" y="57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6" y="490"/>
                  </a:lnTo>
                  <a:lnTo>
                    <a:pt x="10" y="461"/>
                  </a:lnTo>
                  <a:lnTo>
                    <a:pt x="16" y="432"/>
                  </a:lnTo>
                  <a:lnTo>
                    <a:pt x="22" y="403"/>
                  </a:lnTo>
                  <a:lnTo>
                    <a:pt x="55" y="304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57640" y="5623560"/>
              <a:ext cx="434880" cy="579960"/>
            </a:xfrm>
            <a:custGeom>
              <a:avLst/>
              <a:gdLst/>
              <a:ahLst/>
              <a:rect l="l" t="t" r="r" b="b"/>
              <a:pathLst>
                <a:path w="599" h="865">
                  <a:moveTo>
                    <a:pt x="35" y="225"/>
                  </a:moveTo>
                  <a:lnTo>
                    <a:pt x="42" y="212"/>
                  </a:lnTo>
                  <a:lnTo>
                    <a:pt x="46" y="196"/>
                  </a:lnTo>
                  <a:lnTo>
                    <a:pt x="62" y="165"/>
                  </a:lnTo>
                  <a:lnTo>
                    <a:pt x="81" y="136"/>
                  </a:lnTo>
                  <a:lnTo>
                    <a:pt x="101" y="107"/>
                  </a:lnTo>
                  <a:lnTo>
                    <a:pt x="126" y="84"/>
                  </a:lnTo>
                  <a:lnTo>
                    <a:pt x="149" y="61"/>
                  </a:lnTo>
                  <a:lnTo>
                    <a:pt x="180" y="41"/>
                  </a:lnTo>
                  <a:lnTo>
                    <a:pt x="209" y="24"/>
                  </a:lnTo>
                  <a:lnTo>
                    <a:pt x="246" y="14"/>
                  </a:lnTo>
                  <a:lnTo>
                    <a:pt x="258" y="14"/>
                  </a:lnTo>
                  <a:lnTo>
                    <a:pt x="267" y="8"/>
                  </a:lnTo>
                  <a:lnTo>
                    <a:pt x="300" y="2"/>
                  </a:lnTo>
                  <a:lnTo>
                    <a:pt x="335" y="0"/>
                  </a:lnTo>
                  <a:lnTo>
                    <a:pt x="368" y="2"/>
                  </a:lnTo>
                  <a:lnTo>
                    <a:pt x="403" y="10"/>
                  </a:lnTo>
                  <a:lnTo>
                    <a:pt x="432" y="20"/>
                  </a:lnTo>
                  <a:lnTo>
                    <a:pt x="461" y="37"/>
                  </a:lnTo>
                  <a:lnTo>
                    <a:pt x="487" y="59"/>
                  </a:lnTo>
                  <a:lnTo>
                    <a:pt x="508" y="88"/>
                  </a:lnTo>
                  <a:lnTo>
                    <a:pt x="523" y="107"/>
                  </a:lnTo>
                  <a:lnTo>
                    <a:pt x="539" y="130"/>
                  </a:lnTo>
                  <a:lnTo>
                    <a:pt x="549" y="154"/>
                  </a:lnTo>
                  <a:lnTo>
                    <a:pt x="558" y="183"/>
                  </a:lnTo>
                  <a:lnTo>
                    <a:pt x="564" y="208"/>
                  </a:lnTo>
                  <a:lnTo>
                    <a:pt x="572" y="237"/>
                  </a:lnTo>
                  <a:lnTo>
                    <a:pt x="578" y="264"/>
                  </a:lnTo>
                  <a:lnTo>
                    <a:pt x="585" y="291"/>
                  </a:lnTo>
                  <a:lnTo>
                    <a:pt x="583" y="303"/>
                  </a:lnTo>
                  <a:lnTo>
                    <a:pt x="585" y="315"/>
                  </a:lnTo>
                  <a:lnTo>
                    <a:pt x="587" y="326"/>
                  </a:lnTo>
                  <a:lnTo>
                    <a:pt x="593" y="338"/>
                  </a:lnTo>
                  <a:lnTo>
                    <a:pt x="597" y="373"/>
                  </a:lnTo>
                  <a:lnTo>
                    <a:pt x="599" y="410"/>
                  </a:lnTo>
                  <a:lnTo>
                    <a:pt x="597" y="444"/>
                  </a:lnTo>
                  <a:lnTo>
                    <a:pt x="597" y="479"/>
                  </a:lnTo>
                  <a:lnTo>
                    <a:pt x="591" y="512"/>
                  </a:lnTo>
                  <a:lnTo>
                    <a:pt x="587" y="545"/>
                  </a:lnTo>
                  <a:lnTo>
                    <a:pt x="580" y="578"/>
                  </a:lnTo>
                  <a:lnTo>
                    <a:pt x="574" y="613"/>
                  </a:lnTo>
                  <a:lnTo>
                    <a:pt x="556" y="646"/>
                  </a:lnTo>
                  <a:lnTo>
                    <a:pt x="541" y="681"/>
                  </a:lnTo>
                  <a:lnTo>
                    <a:pt x="519" y="716"/>
                  </a:lnTo>
                  <a:lnTo>
                    <a:pt x="498" y="751"/>
                  </a:lnTo>
                  <a:lnTo>
                    <a:pt x="471" y="782"/>
                  </a:lnTo>
                  <a:lnTo>
                    <a:pt x="444" y="811"/>
                  </a:lnTo>
                  <a:lnTo>
                    <a:pt x="411" y="836"/>
                  </a:lnTo>
                  <a:lnTo>
                    <a:pt x="378" y="857"/>
                  </a:lnTo>
                  <a:lnTo>
                    <a:pt x="360" y="859"/>
                  </a:lnTo>
                  <a:lnTo>
                    <a:pt x="345" y="863"/>
                  </a:lnTo>
                  <a:lnTo>
                    <a:pt x="327" y="863"/>
                  </a:lnTo>
                  <a:lnTo>
                    <a:pt x="312" y="865"/>
                  </a:lnTo>
                  <a:lnTo>
                    <a:pt x="295" y="863"/>
                  </a:lnTo>
                  <a:lnTo>
                    <a:pt x="279" y="863"/>
                  </a:lnTo>
                  <a:lnTo>
                    <a:pt x="262" y="861"/>
                  </a:lnTo>
                  <a:lnTo>
                    <a:pt x="246" y="861"/>
                  </a:lnTo>
                  <a:lnTo>
                    <a:pt x="211" y="850"/>
                  </a:lnTo>
                  <a:lnTo>
                    <a:pt x="180" y="838"/>
                  </a:lnTo>
                  <a:lnTo>
                    <a:pt x="149" y="821"/>
                  </a:lnTo>
                  <a:lnTo>
                    <a:pt x="124" y="801"/>
                  </a:lnTo>
                  <a:lnTo>
                    <a:pt x="99" y="776"/>
                  </a:lnTo>
                  <a:lnTo>
                    <a:pt x="79" y="751"/>
                  </a:lnTo>
                  <a:lnTo>
                    <a:pt x="62" y="722"/>
                  </a:lnTo>
                  <a:lnTo>
                    <a:pt x="50" y="695"/>
                  </a:lnTo>
                  <a:lnTo>
                    <a:pt x="33" y="660"/>
                  </a:lnTo>
                  <a:lnTo>
                    <a:pt x="21" y="627"/>
                  </a:lnTo>
                  <a:lnTo>
                    <a:pt x="11" y="590"/>
                  </a:lnTo>
                  <a:lnTo>
                    <a:pt x="6" y="555"/>
                  </a:lnTo>
                  <a:lnTo>
                    <a:pt x="0" y="516"/>
                  </a:lnTo>
                  <a:lnTo>
                    <a:pt x="0" y="479"/>
                  </a:lnTo>
                  <a:lnTo>
                    <a:pt x="0" y="441"/>
                  </a:lnTo>
                  <a:lnTo>
                    <a:pt x="0" y="406"/>
                  </a:lnTo>
                  <a:lnTo>
                    <a:pt x="0" y="382"/>
                  </a:lnTo>
                  <a:lnTo>
                    <a:pt x="2" y="359"/>
                  </a:lnTo>
                  <a:lnTo>
                    <a:pt x="4" y="336"/>
                  </a:lnTo>
                  <a:lnTo>
                    <a:pt x="7" y="315"/>
                  </a:lnTo>
                  <a:lnTo>
                    <a:pt x="11" y="291"/>
                  </a:lnTo>
                  <a:lnTo>
                    <a:pt x="17" y="268"/>
                  </a:lnTo>
                  <a:lnTo>
                    <a:pt x="23" y="247"/>
                  </a:lnTo>
                  <a:lnTo>
                    <a:pt x="3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73480" y="5642640"/>
              <a:ext cx="353520" cy="545040"/>
            </a:xfrm>
            <a:custGeom>
              <a:avLst/>
              <a:gdLst/>
              <a:ahLst/>
              <a:rect l="l" t="t" r="r" b="b"/>
              <a:pathLst>
                <a:path w="487" h="814">
                  <a:moveTo>
                    <a:pt x="76" y="130"/>
                  </a:moveTo>
                  <a:lnTo>
                    <a:pt x="93" y="100"/>
                  </a:lnTo>
                  <a:lnTo>
                    <a:pt x="116" y="75"/>
                  </a:lnTo>
                  <a:lnTo>
                    <a:pt x="140" y="50"/>
                  </a:lnTo>
                  <a:lnTo>
                    <a:pt x="169" y="33"/>
                  </a:lnTo>
                  <a:lnTo>
                    <a:pt x="198" y="15"/>
                  </a:lnTo>
                  <a:lnTo>
                    <a:pt x="231" y="5"/>
                  </a:lnTo>
                  <a:lnTo>
                    <a:pt x="264" y="0"/>
                  </a:lnTo>
                  <a:lnTo>
                    <a:pt x="299" y="2"/>
                  </a:lnTo>
                  <a:lnTo>
                    <a:pt x="297" y="3"/>
                  </a:lnTo>
                  <a:lnTo>
                    <a:pt x="299" y="3"/>
                  </a:lnTo>
                  <a:lnTo>
                    <a:pt x="281" y="7"/>
                  </a:lnTo>
                  <a:lnTo>
                    <a:pt x="262" y="17"/>
                  </a:lnTo>
                  <a:lnTo>
                    <a:pt x="242" y="33"/>
                  </a:lnTo>
                  <a:lnTo>
                    <a:pt x="225" y="48"/>
                  </a:lnTo>
                  <a:lnTo>
                    <a:pt x="206" y="60"/>
                  </a:lnTo>
                  <a:lnTo>
                    <a:pt x="188" y="75"/>
                  </a:lnTo>
                  <a:lnTo>
                    <a:pt x="173" y="91"/>
                  </a:lnTo>
                  <a:lnTo>
                    <a:pt x="161" y="110"/>
                  </a:lnTo>
                  <a:lnTo>
                    <a:pt x="147" y="128"/>
                  </a:lnTo>
                  <a:lnTo>
                    <a:pt x="136" y="149"/>
                  </a:lnTo>
                  <a:lnTo>
                    <a:pt x="124" y="168"/>
                  </a:lnTo>
                  <a:lnTo>
                    <a:pt x="114" y="190"/>
                  </a:lnTo>
                  <a:lnTo>
                    <a:pt x="107" y="203"/>
                  </a:lnTo>
                  <a:lnTo>
                    <a:pt x="101" y="217"/>
                  </a:lnTo>
                  <a:lnTo>
                    <a:pt x="93" y="232"/>
                  </a:lnTo>
                  <a:lnTo>
                    <a:pt x="91" y="250"/>
                  </a:lnTo>
                  <a:lnTo>
                    <a:pt x="78" y="267"/>
                  </a:lnTo>
                  <a:lnTo>
                    <a:pt x="72" y="288"/>
                  </a:lnTo>
                  <a:lnTo>
                    <a:pt x="68" y="298"/>
                  </a:lnTo>
                  <a:lnTo>
                    <a:pt x="66" y="308"/>
                  </a:lnTo>
                  <a:lnTo>
                    <a:pt x="62" y="318"/>
                  </a:lnTo>
                  <a:lnTo>
                    <a:pt x="58" y="329"/>
                  </a:lnTo>
                  <a:lnTo>
                    <a:pt x="52" y="345"/>
                  </a:lnTo>
                  <a:lnTo>
                    <a:pt x="50" y="362"/>
                  </a:lnTo>
                  <a:lnTo>
                    <a:pt x="49" y="380"/>
                  </a:lnTo>
                  <a:lnTo>
                    <a:pt x="49" y="397"/>
                  </a:lnTo>
                  <a:lnTo>
                    <a:pt x="47" y="413"/>
                  </a:lnTo>
                  <a:lnTo>
                    <a:pt x="47" y="430"/>
                  </a:lnTo>
                  <a:lnTo>
                    <a:pt x="47" y="447"/>
                  </a:lnTo>
                  <a:lnTo>
                    <a:pt x="47" y="465"/>
                  </a:lnTo>
                  <a:lnTo>
                    <a:pt x="47" y="492"/>
                  </a:lnTo>
                  <a:lnTo>
                    <a:pt x="52" y="521"/>
                  </a:lnTo>
                  <a:lnTo>
                    <a:pt x="58" y="548"/>
                  </a:lnTo>
                  <a:lnTo>
                    <a:pt x="70" y="577"/>
                  </a:lnTo>
                  <a:lnTo>
                    <a:pt x="80" y="603"/>
                  </a:lnTo>
                  <a:lnTo>
                    <a:pt x="93" y="630"/>
                  </a:lnTo>
                  <a:lnTo>
                    <a:pt x="107" y="655"/>
                  </a:lnTo>
                  <a:lnTo>
                    <a:pt x="122" y="680"/>
                  </a:lnTo>
                  <a:lnTo>
                    <a:pt x="132" y="690"/>
                  </a:lnTo>
                  <a:lnTo>
                    <a:pt x="142" y="699"/>
                  </a:lnTo>
                  <a:lnTo>
                    <a:pt x="140" y="699"/>
                  </a:lnTo>
                  <a:lnTo>
                    <a:pt x="142" y="701"/>
                  </a:lnTo>
                  <a:lnTo>
                    <a:pt x="147" y="701"/>
                  </a:lnTo>
                  <a:lnTo>
                    <a:pt x="144" y="703"/>
                  </a:lnTo>
                  <a:lnTo>
                    <a:pt x="153" y="713"/>
                  </a:lnTo>
                  <a:lnTo>
                    <a:pt x="165" y="725"/>
                  </a:lnTo>
                  <a:lnTo>
                    <a:pt x="177" y="734"/>
                  </a:lnTo>
                  <a:lnTo>
                    <a:pt x="190" y="746"/>
                  </a:lnTo>
                  <a:lnTo>
                    <a:pt x="202" y="754"/>
                  </a:lnTo>
                  <a:lnTo>
                    <a:pt x="217" y="762"/>
                  </a:lnTo>
                  <a:lnTo>
                    <a:pt x="233" y="767"/>
                  </a:lnTo>
                  <a:lnTo>
                    <a:pt x="250" y="773"/>
                  </a:lnTo>
                  <a:lnTo>
                    <a:pt x="262" y="781"/>
                  </a:lnTo>
                  <a:lnTo>
                    <a:pt x="274" y="789"/>
                  </a:lnTo>
                  <a:lnTo>
                    <a:pt x="287" y="793"/>
                  </a:lnTo>
                  <a:lnTo>
                    <a:pt x="305" y="798"/>
                  </a:lnTo>
                  <a:lnTo>
                    <a:pt x="303" y="800"/>
                  </a:lnTo>
                  <a:lnTo>
                    <a:pt x="308" y="802"/>
                  </a:lnTo>
                  <a:lnTo>
                    <a:pt x="314" y="804"/>
                  </a:lnTo>
                  <a:lnTo>
                    <a:pt x="322" y="806"/>
                  </a:lnTo>
                  <a:lnTo>
                    <a:pt x="334" y="793"/>
                  </a:lnTo>
                  <a:lnTo>
                    <a:pt x="347" y="781"/>
                  </a:lnTo>
                  <a:lnTo>
                    <a:pt x="361" y="767"/>
                  </a:lnTo>
                  <a:lnTo>
                    <a:pt x="374" y="752"/>
                  </a:lnTo>
                  <a:lnTo>
                    <a:pt x="361" y="738"/>
                  </a:lnTo>
                  <a:lnTo>
                    <a:pt x="355" y="723"/>
                  </a:lnTo>
                  <a:lnTo>
                    <a:pt x="349" y="705"/>
                  </a:lnTo>
                  <a:lnTo>
                    <a:pt x="347" y="690"/>
                  </a:lnTo>
                  <a:lnTo>
                    <a:pt x="341" y="672"/>
                  </a:lnTo>
                  <a:lnTo>
                    <a:pt x="339" y="655"/>
                  </a:lnTo>
                  <a:lnTo>
                    <a:pt x="338" y="639"/>
                  </a:lnTo>
                  <a:lnTo>
                    <a:pt x="336" y="624"/>
                  </a:lnTo>
                  <a:lnTo>
                    <a:pt x="334" y="606"/>
                  </a:lnTo>
                  <a:lnTo>
                    <a:pt x="332" y="593"/>
                  </a:lnTo>
                  <a:lnTo>
                    <a:pt x="330" y="575"/>
                  </a:lnTo>
                  <a:lnTo>
                    <a:pt x="328" y="562"/>
                  </a:lnTo>
                  <a:lnTo>
                    <a:pt x="341" y="552"/>
                  </a:lnTo>
                  <a:lnTo>
                    <a:pt x="355" y="542"/>
                  </a:lnTo>
                  <a:lnTo>
                    <a:pt x="369" y="527"/>
                  </a:lnTo>
                  <a:lnTo>
                    <a:pt x="384" y="515"/>
                  </a:lnTo>
                  <a:lnTo>
                    <a:pt x="390" y="527"/>
                  </a:lnTo>
                  <a:lnTo>
                    <a:pt x="398" y="541"/>
                  </a:lnTo>
                  <a:lnTo>
                    <a:pt x="403" y="552"/>
                  </a:lnTo>
                  <a:lnTo>
                    <a:pt x="411" y="568"/>
                  </a:lnTo>
                  <a:lnTo>
                    <a:pt x="417" y="581"/>
                  </a:lnTo>
                  <a:lnTo>
                    <a:pt x="425" y="595"/>
                  </a:lnTo>
                  <a:lnTo>
                    <a:pt x="433" y="608"/>
                  </a:lnTo>
                  <a:lnTo>
                    <a:pt x="444" y="624"/>
                  </a:lnTo>
                  <a:lnTo>
                    <a:pt x="448" y="639"/>
                  </a:lnTo>
                  <a:lnTo>
                    <a:pt x="460" y="649"/>
                  </a:lnTo>
                  <a:lnTo>
                    <a:pt x="473" y="657"/>
                  </a:lnTo>
                  <a:lnTo>
                    <a:pt x="487" y="668"/>
                  </a:lnTo>
                  <a:lnTo>
                    <a:pt x="462" y="692"/>
                  </a:lnTo>
                  <a:lnTo>
                    <a:pt x="438" y="719"/>
                  </a:lnTo>
                  <a:lnTo>
                    <a:pt x="413" y="744"/>
                  </a:lnTo>
                  <a:lnTo>
                    <a:pt x="390" y="769"/>
                  </a:lnTo>
                  <a:lnTo>
                    <a:pt x="361" y="789"/>
                  </a:lnTo>
                  <a:lnTo>
                    <a:pt x="334" y="804"/>
                  </a:lnTo>
                  <a:lnTo>
                    <a:pt x="301" y="812"/>
                  </a:lnTo>
                  <a:lnTo>
                    <a:pt x="266" y="814"/>
                  </a:lnTo>
                  <a:lnTo>
                    <a:pt x="231" y="808"/>
                  </a:lnTo>
                  <a:lnTo>
                    <a:pt x="198" y="800"/>
                  </a:lnTo>
                  <a:lnTo>
                    <a:pt x="165" y="789"/>
                  </a:lnTo>
                  <a:lnTo>
                    <a:pt x="138" y="775"/>
                  </a:lnTo>
                  <a:lnTo>
                    <a:pt x="109" y="754"/>
                  </a:lnTo>
                  <a:lnTo>
                    <a:pt x="85" y="731"/>
                  </a:lnTo>
                  <a:lnTo>
                    <a:pt x="66" y="701"/>
                  </a:lnTo>
                  <a:lnTo>
                    <a:pt x="52" y="672"/>
                  </a:lnTo>
                  <a:lnTo>
                    <a:pt x="31" y="636"/>
                  </a:lnTo>
                  <a:lnTo>
                    <a:pt x="18" y="599"/>
                  </a:lnTo>
                  <a:lnTo>
                    <a:pt x="8" y="558"/>
                  </a:lnTo>
                  <a:lnTo>
                    <a:pt x="4" y="519"/>
                  </a:lnTo>
                  <a:lnTo>
                    <a:pt x="0" y="477"/>
                  </a:lnTo>
                  <a:lnTo>
                    <a:pt x="0" y="436"/>
                  </a:lnTo>
                  <a:lnTo>
                    <a:pt x="0" y="397"/>
                  </a:lnTo>
                  <a:lnTo>
                    <a:pt x="2" y="360"/>
                  </a:lnTo>
                  <a:lnTo>
                    <a:pt x="4" y="327"/>
                  </a:lnTo>
                  <a:lnTo>
                    <a:pt x="10" y="298"/>
                  </a:lnTo>
                  <a:lnTo>
                    <a:pt x="14" y="265"/>
                  </a:lnTo>
                  <a:lnTo>
                    <a:pt x="21" y="236"/>
                  </a:lnTo>
                  <a:lnTo>
                    <a:pt x="27" y="207"/>
                  </a:lnTo>
                  <a:lnTo>
                    <a:pt x="41" y="178"/>
                  </a:lnTo>
                  <a:lnTo>
                    <a:pt x="54" y="151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0280" y="5829840"/>
              <a:ext cx="34560" cy="14184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39" y="0"/>
                  </a:moveTo>
                  <a:lnTo>
                    <a:pt x="47" y="6"/>
                  </a:lnTo>
                  <a:lnTo>
                    <a:pt x="49" y="17"/>
                  </a:lnTo>
                  <a:lnTo>
                    <a:pt x="41" y="25"/>
                  </a:lnTo>
                  <a:lnTo>
                    <a:pt x="35" y="35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1" y="73"/>
                  </a:lnTo>
                  <a:lnTo>
                    <a:pt x="19" y="91"/>
                  </a:lnTo>
                  <a:lnTo>
                    <a:pt x="18" y="110"/>
                  </a:lnTo>
                  <a:lnTo>
                    <a:pt x="18" y="132"/>
                  </a:lnTo>
                  <a:lnTo>
                    <a:pt x="18" y="151"/>
                  </a:lnTo>
                  <a:lnTo>
                    <a:pt x="19" y="170"/>
                  </a:lnTo>
                  <a:lnTo>
                    <a:pt x="21" y="190"/>
                  </a:lnTo>
                  <a:lnTo>
                    <a:pt x="27" y="211"/>
                  </a:lnTo>
                  <a:lnTo>
                    <a:pt x="19" y="211"/>
                  </a:lnTo>
                  <a:lnTo>
                    <a:pt x="10" y="211"/>
                  </a:lnTo>
                  <a:lnTo>
                    <a:pt x="4" y="196"/>
                  </a:lnTo>
                  <a:lnTo>
                    <a:pt x="2" y="182"/>
                  </a:lnTo>
                  <a:lnTo>
                    <a:pt x="0" y="166"/>
                  </a:lnTo>
                  <a:lnTo>
                    <a:pt x="0" y="155"/>
                  </a:lnTo>
                  <a:lnTo>
                    <a:pt x="0" y="139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4" y="101"/>
                  </a:lnTo>
                  <a:lnTo>
                    <a:pt x="6" y="87"/>
                  </a:lnTo>
                  <a:lnTo>
                    <a:pt x="8" y="73"/>
                  </a:lnTo>
                  <a:lnTo>
                    <a:pt x="10" y="60"/>
                  </a:lnTo>
                  <a:lnTo>
                    <a:pt x="16" y="48"/>
                  </a:lnTo>
                  <a:lnTo>
                    <a:pt x="18" y="35"/>
                  </a:lnTo>
                  <a:lnTo>
                    <a:pt x="23" y="21"/>
                  </a:lnTo>
                  <a:lnTo>
                    <a:pt x="29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28920" y="5941080"/>
              <a:ext cx="142560" cy="14040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1" y="67"/>
                  </a:moveTo>
                  <a:lnTo>
                    <a:pt x="17" y="69"/>
                  </a:lnTo>
                  <a:lnTo>
                    <a:pt x="25" y="67"/>
                  </a:lnTo>
                  <a:lnTo>
                    <a:pt x="31" y="62"/>
                  </a:lnTo>
                  <a:lnTo>
                    <a:pt x="38" y="62"/>
                  </a:lnTo>
                  <a:lnTo>
                    <a:pt x="52" y="50"/>
                  </a:lnTo>
                  <a:lnTo>
                    <a:pt x="71" y="46"/>
                  </a:lnTo>
                  <a:lnTo>
                    <a:pt x="89" y="31"/>
                  </a:lnTo>
                  <a:lnTo>
                    <a:pt x="110" y="19"/>
                  </a:lnTo>
                  <a:lnTo>
                    <a:pt x="120" y="13"/>
                  </a:lnTo>
                  <a:lnTo>
                    <a:pt x="132" y="9"/>
                  </a:lnTo>
                  <a:lnTo>
                    <a:pt x="143" y="3"/>
                  </a:lnTo>
                  <a:lnTo>
                    <a:pt x="155" y="0"/>
                  </a:lnTo>
                  <a:lnTo>
                    <a:pt x="157" y="11"/>
                  </a:lnTo>
                  <a:lnTo>
                    <a:pt x="159" y="23"/>
                  </a:lnTo>
                  <a:lnTo>
                    <a:pt x="161" y="36"/>
                  </a:lnTo>
                  <a:lnTo>
                    <a:pt x="166" y="50"/>
                  </a:lnTo>
                  <a:lnTo>
                    <a:pt x="170" y="60"/>
                  </a:lnTo>
                  <a:lnTo>
                    <a:pt x="178" y="71"/>
                  </a:lnTo>
                  <a:lnTo>
                    <a:pt x="184" y="81"/>
                  </a:lnTo>
                  <a:lnTo>
                    <a:pt x="196" y="93"/>
                  </a:lnTo>
                  <a:lnTo>
                    <a:pt x="180" y="102"/>
                  </a:lnTo>
                  <a:lnTo>
                    <a:pt x="166" y="114"/>
                  </a:lnTo>
                  <a:lnTo>
                    <a:pt x="153" y="127"/>
                  </a:lnTo>
                  <a:lnTo>
                    <a:pt x="139" y="143"/>
                  </a:lnTo>
                  <a:lnTo>
                    <a:pt x="124" y="157"/>
                  </a:lnTo>
                  <a:lnTo>
                    <a:pt x="110" y="170"/>
                  </a:lnTo>
                  <a:lnTo>
                    <a:pt x="95" y="182"/>
                  </a:lnTo>
                  <a:lnTo>
                    <a:pt x="79" y="193"/>
                  </a:lnTo>
                  <a:lnTo>
                    <a:pt x="60" y="211"/>
                  </a:lnTo>
                  <a:lnTo>
                    <a:pt x="46" y="197"/>
                  </a:lnTo>
                  <a:lnTo>
                    <a:pt x="36" y="184"/>
                  </a:lnTo>
                  <a:lnTo>
                    <a:pt x="27" y="168"/>
                  </a:lnTo>
                  <a:lnTo>
                    <a:pt x="21" y="153"/>
                  </a:lnTo>
                  <a:lnTo>
                    <a:pt x="13" y="135"/>
                  </a:lnTo>
                  <a:lnTo>
                    <a:pt x="7" y="118"/>
                  </a:lnTo>
                  <a:lnTo>
                    <a:pt x="4" y="100"/>
                  </a:lnTo>
                  <a:lnTo>
                    <a:pt x="0" y="83"/>
                  </a:lnTo>
                  <a:lnTo>
                    <a:pt x="0" y="69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0520" y="5851440"/>
              <a:ext cx="91440" cy="10440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7" y="39"/>
                  </a:moveTo>
                  <a:lnTo>
                    <a:pt x="11" y="27"/>
                  </a:lnTo>
                  <a:lnTo>
                    <a:pt x="15" y="17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42" y="11"/>
                  </a:lnTo>
                  <a:lnTo>
                    <a:pt x="54" y="23"/>
                  </a:lnTo>
                  <a:lnTo>
                    <a:pt x="66" y="37"/>
                  </a:lnTo>
                  <a:lnTo>
                    <a:pt x="77" y="50"/>
                  </a:lnTo>
                  <a:lnTo>
                    <a:pt x="87" y="64"/>
                  </a:lnTo>
                  <a:lnTo>
                    <a:pt x="99" y="77"/>
                  </a:lnTo>
                  <a:lnTo>
                    <a:pt x="110" y="89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2" y="103"/>
                  </a:lnTo>
                  <a:lnTo>
                    <a:pt x="122" y="104"/>
                  </a:lnTo>
                  <a:lnTo>
                    <a:pt x="126" y="106"/>
                  </a:lnTo>
                  <a:lnTo>
                    <a:pt x="116" y="110"/>
                  </a:lnTo>
                  <a:lnTo>
                    <a:pt x="104" y="118"/>
                  </a:lnTo>
                  <a:lnTo>
                    <a:pt x="91" y="126"/>
                  </a:lnTo>
                  <a:lnTo>
                    <a:pt x="79" y="132"/>
                  </a:lnTo>
                  <a:lnTo>
                    <a:pt x="17" y="157"/>
                  </a:lnTo>
                  <a:lnTo>
                    <a:pt x="7" y="139"/>
                  </a:lnTo>
                  <a:lnTo>
                    <a:pt x="4" y="124"/>
                  </a:lnTo>
                  <a:lnTo>
                    <a:pt x="2" y="106"/>
                  </a:lnTo>
                  <a:lnTo>
                    <a:pt x="0" y="91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2" y="48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2320" y="5717520"/>
              <a:ext cx="126360" cy="186120"/>
            </a:xfrm>
            <a:custGeom>
              <a:avLst/>
              <a:gdLst/>
              <a:ahLst/>
              <a:rect l="l" t="t" r="r" b="b"/>
              <a:pathLst>
                <a:path w="174" h="277">
                  <a:moveTo>
                    <a:pt x="83" y="0"/>
                  </a:moveTo>
                  <a:lnTo>
                    <a:pt x="91" y="0"/>
                  </a:lnTo>
                  <a:lnTo>
                    <a:pt x="93" y="8"/>
                  </a:lnTo>
                  <a:lnTo>
                    <a:pt x="89" y="14"/>
                  </a:lnTo>
                  <a:lnTo>
                    <a:pt x="97" y="23"/>
                  </a:lnTo>
                  <a:lnTo>
                    <a:pt x="104" y="39"/>
                  </a:lnTo>
                  <a:lnTo>
                    <a:pt x="110" y="54"/>
                  </a:lnTo>
                  <a:lnTo>
                    <a:pt x="120" y="70"/>
                  </a:lnTo>
                  <a:lnTo>
                    <a:pt x="126" y="83"/>
                  </a:lnTo>
                  <a:lnTo>
                    <a:pt x="133" y="101"/>
                  </a:lnTo>
                  <a:lnTo>
                    <a:pt x="137" y="118"/>
                  </a:lnTo>
                  <a:lnTo>
                    <a:pt x="143" y="138"/>
                  </a:lnTo>
                  <a:lnTo>
                    <a:pt x="147" y="153"/>
                  </a:lnTo>
                  <a:lnTo>
                    <a:pt x="153" y="171"/>
                  </a:lnTo>
                  <a:lnTo>
                    <a:pt x="161" y="186"/>
                  </a:lnTo>
                  <a:lnTo>
                    <a:pt x="174" y="202"/>
                  </a:lnTo>
                  <a:lnTo>
                    <a:pt x="174" y="213"/>
                  </a:lnTo>
                  <a:lnTo>
                    <a:pt x="168" y="221"/>
                  </a:lnTo>
                  <a:lnTo>
                    <a:pt x="157" y="227"/>
                  </a:lnTo>
                  <a:lnTo>
                    <a:pt x="149" y="237"/>
                  </a:lnTo>
                  <a:lnTo>
                    <a:pt x="139" y="244"/>
                  </a:lnTo>
                  <a:lnTo>
                    <a:pt x="135" y="256"/>
                  </a:lnTo>
                  <a:lnTo>
                    <a:pt x="132" y="266"/>
                  </a:lnTo>
                  <a:lnTo>
                    <a:pt x="124" y="277"/>
                  </a:lnTo>
                  <a:lnTo>
                    <a:pt x="110" y="266"/>
                  </a:lnTo>
                  <a:lnTo>
                    <a:pt x="99" y="254"/>
                  </a:lnTo>
                  <a:lnTo>
                    <a:pt x="89" y="242"/>
                  </a:lnTo>
                  <a:lnTo>
                    <a:pt x="79" y="231"/>
                  </a:lnTo>
                  <a:lnTo>
                    <a:pt x="68" y="217"/>
                  </a:lnTo>
                  <a:lnTo>
                    <a:pt x="60" y="206"/>
                  </a:lnTo>
                  <a:lnTo>
                    <a:pt x="50" y="192"/>
                  </a:lnTo>
                  <a:lnTo>
                    <a:pt x="44" y="180"/>
                  </a:lnTo>
                  <a:lnTo>
                    <a:pt x="44" y="171"/>
                  </a:lnTo>
                  <a:lnTo>
                    <a:pt x="38" y="165"/>
                  </a:lnTo>
                  <a:lnTo>
                    <a:pt x="31" y="161"/>
                  </a:lnTo>
                  <a:lnTo>
                    <a:pt x="27" y="157"/>
                  </a:lnTo>
                  <a:lnTo>
                    <a:pt x="11" y="153"/>
                  </a:lnTo>
                  <a:lnTo>
                    <a:pt x="0" y="151"/>
                  </a:lnTo>
                  <a:lnTo>
                    <a:pt x="5" y="130"/>
                  </a:lnTo>
                  <a:lnTo>
                    <a:pt x="15" y="111"/>
                  </a:lnTo>
                  <a:lnTo>
                    <a:pt x="23" y="89"/>
                  </a:lnTo>
                  <a:lnTo>
                    <a:pt x="35" y="72"/>
                  </a:lnTo>
                  <a:lnTo>
                    <a:pt x="44" y="50"/>
                  </a:lnTo>
                  <a:lnTo>
                    <a:pt x="56" y="33"/>
                  </a:lnTo>
                  <a:lnTo>
                    <a:pt x="69" y="1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5800" y="6097680"/>
              <a:ext cx="123480" cy="70920"/>
            </a:xfrm>
            <a:custGeom>
              <a:avLst/>
              <a:gdLst/>
              <a:ahLst/>
              <a:rect l="l" t="t" r="r" b="b"/>
              <a:pathLst>
                <a:path w="171" h="107">
                  <a:moveTo>
                    <a:pt x="37" y="23"/>
                  </a:moveTo>
                  <a:lnTo>
                    <a:pt x="47" y="35"/>
                  </a:lnTo>
                  <a:lnTo>
                    <a:pt x="58" y="49"/>
                  </a:lnTo>
                  <a:lnTo>
                    <a:pt x="74" y="60"/>
                  </a:lnTo>
                  <a:lnTo>
                    <a:pt x="91" y="72"/>
                  </a:lnTo>
                  <a:lnTo>
                    <a:pt x="109" y="78"/>
                  </a:lnTo>
                  <a:lnTo>
                    <a:pt x="130" y="85"/>
                  </a:lnTo>
                  <a:lnTo>
                    <a:pt x="150" y="89"/>
                  </a:lnTo>
                  <a:lnTo>
                    <a:pt x="171" y="91"/>
                  </a:lnTo>
                  <a:lnTo>
                    <a:pt x="165" y="101"/>
                  </a:lnTo>
                  <a:lnTo>
                    <a:pt x="155" y="107"/>
                  </a:lnTo>
                  <a:lnTo>
                    <a:pt x="142" y="101"/>
                  </a:lnTo>
                  <a:lnTo>
                    <a:pt x="130" y="95"/>
                  </a:lnTo>
                  <a:lnTo>
                    <a:pt x="119" y="89"/>
                  </a:lnTo>
                  <a:lnTo>
                    <a:pt x="107" y="83"/>
                  </a:lnTo>
                  <a:lnTo>
                    <a:pt x="93" y="78"/>
                  </a:lnTo>
                  <a:lnTo>
                    <a:pt x="82" y="72"/>
                  </a:lnTo>
                  <a:lnTo>
                    <a:pt x="70" y="66"/>
                  </a:lnTo>
                  <a:lnTo>
                    <a:pt x="58" y="64"/>
                  </a:lnTo>
                  <a:lnTo>
                    <a:pt x="41" y="51"/>
                  </a:lnTo>
                  <a:lnTo>
                    <a:pt x="27" y="39"/>
                  </a:lnTo>
                  <a:lnTo>
                    <a:pt x="14" y="2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20" y="6"/>
                  </a:lnTo>
                  <a:lnTo>
                    <a:pt x="27" y="14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720" y="5648040"/>
              <a:ext cx="133920" cy="58680"/>
            </a:xfrm>
            <a:custGeom>
              <a:avLst/>
              <a:gdLst/>
              <a:ahLst/>
              <a:rect l="l" t="t" r="r" b="b"/>
              <a:pathLst>
                <a:path w="184" h="90">
                  <a:moveTo>
                    <a:pt x="118" y="10"/>
                  </a:moveTo>
                  <a:lnTo>
                    <a:pt x="132" y="2"/>
                  </a:lnTo>
                  <a:lnTo>
                    <a:pt x="147" y="0"/>
                  </a:lnTo>
                  <a:lnTo>
                    <a:pt x="165" y="0"/>
                  </a:lnTo>
                  <a:lnTo>
                    <a:pt x="184" y="4"/>
                  </a:lnTo>
                  <a:lnTo>
                    <a:pt x="180" y="8"/>
                  </a:lnTo>
                  <a:lnTo>
                    <a:pt x="157" y="8"/>
                  </a:lnTo>
                  <a:lnTo>
                    <a:pt x="135" y="14"/>
                  </a:lnTo>
                  <a:lnTo>
                    <a:pt x="114" y="20"/>
                  </a:lnTo>
                  <a:lnTo>
                    <a:pt x="97" y="31"/>
                  </a:lnTo>
                  <a:lnTo>
                    <a:pt x="77" y="41"/>
                  </a:lnTo>
                  <a:lnTo>
                    <a:pt x="62" y="55"/>
                  </a:lnTo>
                  <a:lnTo>
                    <a:pt x="44" y="68"/>
                  </a:lnTo>
                  <a:lnTo>
                    <a:pt x="33" y="84"/>
                  </a:lnTo>
                  <a:lnTo>
                    <a:pt x="15" y="90"/>
                  </a:lnTo>
                  <a:lnTo>
                    <a:pt x="0" y="86"/>
                  </a:lnTo>
                  <a:lnTo>
                    <a:pt x="11" y="74"/>
                  </a:lnTo>
                  <a:lnTo>
                    <a:pt x="25" y="62"/>
                  </a:lnTo>
                  <a:lnTo>
                    <a:pt x="38" y="51"/>
                  </a:lnTo>
                  <a:lnTo>
                    <a:pt x="54" y="39"/>
                  </a:lnTo>
                  <a:lnTo>
                    <a:pt x="68" y="28"/>
                  </a:lnTo>
                  <a:lnTo>
                    <a:pt x="83" y="18"/>
                  </a:lnTo>
                  <a:lnTo>
                    <a:pt x="99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8920" y="5128200"/>
              <a:ext cx="145440" cy="33120"/>
            </a:xfrm>
            <a:custGeom>
              <a:avLst/>
              <a:gdLst/>
              <a:ahLst/>
              <a:rect l="l" t="t" r="r" b="b"/>
              <a:pathLst>
                <a:path w="200" h="50">
                  <a:moveTo>
                    <a:pt x="46" y="2"/>
                  </a:moveTo>
                  <a:lnTo>
                    <a:pt x="60" y="6"/>
                  </a:lnTo>
                  <a:lnTo>
                    <a:pt x="73" y="13"/>
                  </a:lnTo>
                  <a:lnTo>
                    <a:pt x="89" y="17"/>
                  </a:lnTo>
                  <a:lnTo>
                    <a:pt x="106" y="19"/>
                  </a:lnTo>
                  <a:lnTo>
                    <a:pt x="126" y="21"/>
                  </a:lnTo>
                  <a:lnTo>
                    <a:pt x="145" y="27"/>
                  </a:lnTo>
                  <a:lnTo>
                    <a:pt x="155" y="27"/>
                  </a:lnTo>
                  <a:lnTo>
                    <a:pt x="167" y="29"/>
                  </a:lnTo>
                  <a:lnTo>
                    <a:pt x="178" y="29"/>
                  </a:lnTo>
                  <a:lnTo>
                    <a:pt x="190" y="31"/>
                  </a:lnTo>
                  <a:lnTo>
                    <a:pt x="188" y="33"/>
                  </a:lnTo>
                  <a:lnTo>
                    <a:pt x="194" y="35"/>
                  </a:lnTo>
                  <a:lnTo>
                    <a:pt x="200" y="35"/>
                  </a:lnTo>
                  <a:lnTo>
                    <a:pt x="178" y="39"/>
                  </a:lnTo>
                  <a:lnTo>
                    <a:pt x="157" y="44"/>
                  </a:lnTo>
                  <a:lnTo>
                    <a:pt x="136" y="48"/>
                  </a:lnTo>
                  <a:lnTo>
                    <a:pt x="114" y="50"/>
                  </a:lnTo>
                  <a:lnTo>
                    <a:pt x="91" y="48"/>
                  </a:lnTo>
                  <a:lnTo>
                    <a:pt x="70" y="44"/>
                  </a:lnTo>
                  <a:lnTo>
                    <a:pt x="50" y="37"/>
                  </a:lnTo>
                  <a:lnTo>
                    <a:pt x="33" y="27"/>
                  </a:lnTo>
                  <a:lnTo>
                    <a:pt x="23" y="25"/>
                  </a:lnTo>
                  <a:lnTo>
                    <a:pt x="13" y="27"/>
                  </a:lnTo>
                  <a:lnTo>
                    <a:pt x="4" y="2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0"/>
                  </a:lnTo>
                  <a:lnTo>
                    <a:pt x="31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8000" y="5671800"/>
              <a:ext cx="102960" cy="159120"/>
            </a:xfrm>
            <a:custGeom>
              <a:avLst/>
              <a:gdLst/>
              <a:ahLst/>
              <a:rect l="l" t="t" r="r" b="b"/>
              <a:pathLst>
                <a:path w="142" h="239">
                  <a:moveTo>
                    <a:pt x="23" y="64"/>
                  </a:moveTo>
                  <a:lnTo>
                    <a:pt x="35" y="47"/>
                  </a:lnTo>
                  <a:lnTo>
                    <a:pt x="50" y="37"/>
                  </a:lnTo>
                  <a:lnTo>
                    <a:pt x="66" y="25"/>
                  </a:lnTo>
                  <a:lnTo>
                    <a:pt x="81" y="16"/>
                  </a:lnTo>
                  <a:lnTo>
                    <a:pt x="93" y="8"/>
                  </a:lnTo>
                  <a:lnTo>
                    <a:pt x="109" y="4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36" y="12"/>
                  </a:lnTo>
                  <a:lnTo>
                    <a:pt x="132" y="25"/>
                  </a:lnTo>
                  <a:lnTo>
                    <a:pt x="126" y="39"/>
                  </a:lnTo>
                  <a:lnTo>
                    <a:pt x="122" y="53"/>
                  </a:lnTo>
                  <a:lnTo>
                    <a:pt x="116" y="64"/>
                  </a:lnTo>
                  <a:lnTo>
                    <a:pt x="112" y="78"/>
                  </a:lnTo>
                  <a:lnTo>
                    <a:pt x="109" y="91"/>
                  </a:lnTo>
                  <a:lnTo>
                    <a:pt x="109" y="107"/>
                  </a:lnTo>
                  <a:lnTo>
                    <a:pt x="103" y="118"/>
                  </a:lnTo>
                  <a:lnTo>
                    <a:pt x="97" y="130"/>
                  </a:lnTo>
                  <a:lnTo>
                    <a:pt x="93" y="142"/>
                  </a:lnTo>
                  <a:lnTo>
                    <a:pt x="91" y="153"/>
                  </a:lnTo>
                  <a:lnTo>
                    <a:pt x="87" y="165"/>
                  </a:lnTo>
                  <a:lnTo>
                    <a:pt x="83" y="177"/>
                  </a:lnTo>
                  <a:lnTo>
                    <a:pt x="79" y="188"/>
                  </a:lnTo>
                  <a:lnTo>
                    <a:pt x="78" y="200"/>
                  </a:lnTo>
                  <a:lnTo>
                    <a:pt x="79" y="204"/>
                  </a:lnTo>
                  <a:lnTo>
                    <a:pt x="78" y="208"/>
                  </a:lnTo>
                  <a:lnTo>
                    <a:pt x="74" y="212"/>
                  </a:lnTo>
                  <a:lnTo>
                    <a:pt x="74" y="217"/>
                  </a:lnTo>
                  <a:lnTo>
                    <a:pt x="68" y="229"/>
                  </a:lnTo>
                  <a:lnTo>
                    <a:pt x="58" y="239"/>
                  </a:lnTo>
                  <a:lnTo>
                    <a:pt x="50" y="219"/>
                  </a:lnTo>
                  <a:lnTo>
                    <a:pt x="43" y="202"/>
                  </a:lnTo>
                  <a:lnTo>
                    <a:pt x="37" y="182"/>
                  </a:lnTo>
                  <a:lnTo>
                    <a:pt x="31" y="165"/>
                  </a:lnTo>
                  <a:lnTo>
                    <a:pt x="23" y="148"/>
                  </a:lnTo>
                  <a:lnTo>
                    <a:pt x="15" y="130"/>
                  </a:lnTo>
                  <a:lnTo>
                    <a:pt x="8" y="113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8" y="78"/>
                  </a:lnTo>
                  <a:lnTo>
                    <a:pt x="15" y="70"/>
                  </a:lnTo>
                  <a:lnTo>
                    <a:pt x="2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64280" y="5868720"/>
              <a:ext cx="85680" cy="1299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6" y="77"/>
                  </a:moveTo>
                  <a:lnTo>
                    <a:pt x="2" y="66"/>
                  </a:lnTo>
                  <a:lnTo>
                    <a:pt x="4" y="54"/>
                  </a:lnTo>
                  <a:lnTo>
                    <a:pt x="8" y="43"/>
                  </a:lnTo>
                  <a:lnTo>
                    <a:pt x="11" y="31"/>
                  </a:lnTo>
                  <a:lnTo>
                    <a:pt x="15" y="19"/>
                  </a:lnTo>
                  <a:lnTo>
                    <a:pt x="25" y="13"/>
                  </a:lnTo>
                  <a:lnTo>
                    <a:pt x="35" y="8"/>
                  </a:lnTo>
                  <a:lnTo>
                    <a:pt x="44" y="4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4" y="4"/>
                  </a:lnTo>
                  <a:lnTo>
                    <a:pt x="85" y="12"/>
                  </a:lnTo>
                  <a:lnTo>
                    <a:pt x="85" y="19"/>
                  </a:lnTo>
                  <a:lnTo>
                    <a:pt x="91" y="23"/>
                  </a:lnTo>
                  <a:lnTo>
                    <a:pt x="97" y="27"/>
                  </a:lnTo>
                  <a:lnTo>
                    <a:pt x="105" y="35"/>
                  </a:lnTo>
                  <a:lnTo>
                    <a:pt x="108" y="46"/>
                  </a:lnTo>
                  <a:lnTo>
                    <a:pt x="112" y="62"/>
                  </a:lnTo>
                  <a:lnTo>
                    <a:pt x="114" y="77"/>
                  </a:lnTo>
                  <a:lnTo>
                    <a:pt x="116" y="95"/>
                  </a:lnTo>
                  <a:lnTo>
                    <a:pt x="114" y="110"/>
                  </a:lnTo>
                  <a:lnTo>
                    <a:pt x="112" y="128"/>
                  </a:lnTo>
                  <a:lnTo>
                    <a:pt x="106" y="143"/>
                  </a:lnTo>
                  <a:lnTo>
                    <a:pt x="103" y="161"/>
                  </a:lnTo>
                  <a:lnTo>
                    <a:pt x="91" y="171"/>
                  </a:lnTo>
                  <a:lnTo>
                    <a:pt x="81" y="182"/>
                  </a:lnTo>
                  <a:lnTo>
                    <a:pt x="68" y="190"/>
                  </a:lnTo>
                  <a:lnTo>
                    <a:pt x="56" y="194"/>
                  </a:lnTo>
                  <a:lnTo>
                    <a:pt x="39" y="194"/>
                  </a:lnTo>
                  <a:lnTo>
                    <a:pt x="33" y="182"/>
                  </a:lnTo>
                  <a:lnTo>
                    <a:pt x="25" y="174"/>
                  </a:lnTo>
                  <a:lnTo>
                    <a:pt x="17" y="169"/>
                  </a:lnTo>
                  <a:lnTo>
                    <a:pt x="11" y="163"/>
                  </a:lnTo>
                  <a:lnTo>
                    <a:pt x="8" y="155"/>
                  </a:lnTo>
                  <a:lnTo>
                    <a:pt x="6" y="149"/>
                  </a:lnTo>
                  <a:lnTo>
                    <a:pt x="4" y="130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4880" y="5652000"/>
              <a:ext cx="146520" cy="226080"/>
            </a:xfrm>
            <a:custGeom>
              <a:avLst/>
              <a:gdLst/>
              <a:ahLst/>
              <a:rect l="l" t="t" r="r" b="b"/>
              <a:pathLst>
                <a:path w="201" h="339">
                  <a:moveTo>
                    <a:pt x="100" y="0"/>
                  </a:moveTo>
                  <a:lnTo>
                    <a:pt x="110" y="4"/>
                  </a:lnTo>
                  <a:lnTo>
                    <a:pt x="122" y="10"/>
                  </a:lnTo>
                  <a:lnTo>
                    <a:pt x="131" y="18"/>
                  </a:lnTo>
                  <a:lnTo>
                    <a:pt x="141" y="27"/>
                  </a:lnTo>
                  <a:lnTo>
                    <a:pt x="159" y="47"/>
                  </a:lnTo>
                  <a:lnTo>
                    <a:pt x="176" y="66"/>
                  </a:lnTo>
                  <a:lnTo>
                    <a:pt x="184" y="84"/>
                  </a:lnTo>
                  <a:lnTo>
                    <a:pt x="195" y="101"/>
                  </a:lnTo>
                  <a:lnTo>
                    <a:pt x="199" y="109"/>
                  </a:lnTo>
                  <a:lnTo>
                    <a:pt x="201" y="118"/>
                  </a:lnTo>
                  <a:lnTo>
                    <a:pt x="199" y="128"/>
                  </a:lnTo>
                  <a:lnTo>
                    <a:pt x="192" y="138"/>
                  </a:lnTo>
                  <a:lnTo>
                    <a:pt x="188" y="146"/>
                  </a:lnTo>
                  <a:lnTo>
                    <a:pt x="184" y="157"/>
                  </a:lnTo>
                  <a:lnTo>
                    <a:pt x="178" y="169"/>
                  </a:lnTo>
                  <a:lnTo>
                    <a:pt x="176" y="180"/>
                  </a:lnTo>
                  <a:lnTo>
                    <a:pt x="161" y="198"/>
                  </a:lnTo>
                  <a:lnTo>
                    <a:pt x="149" y="217"/>
                  </a:lnTo>
                  <a:lnTo>
                    <a:pt x="135" y="239"/>
                  </a:lnTo>
                  <a:lnTo>
                    <a:pt x="124" y="260"/>
                  </a:lnTo>
                  <a:lnTo>
                    <a:pt x="110" y="279"/>
                  </a:lnTo>
                  <a:lnTo>
                    <a:pt x="98" y="301"/>
                  </a:lnTo>
                  <a:lnTo>
                    <a:pt x="85" y="320"/>
                  </a:lnTo>
                  <a:lnTo>
                    <a:pt x="71" y="339"/>
                  </a:lnTo>
                  <a:lnTo>
                    <a:pt x="64" y="328"/>
                  </a:lnTo>
                  <a:lnTo>
                    <a:pt x="54" y="318"/>
                  </a:lnTo>
                  <a:lnTo>
                    <a:pt x="42" y="310"/>
                  </a:lnTo>
                  <a:lnTo>
                    <a:pt x="33" y="307"/>
                  </a:lnTo>
                  <a:lnTo>
                    <a:pt x="0" y="307"/>
                  </a:lnTo>
                  <a:lnTo>
                    <a:pt x="11" y="268"/>
                  </a:lnTo>
                  <a:lnTo>
                    <a:pt x="23" y="231"/>
                  </a:lnTo>
                  <a:lnTo>
                    <a:pt x="36" y="192"/>
                  </a:lnTo>
                  <a:lnTo>
                    <a:pt x="50" y="155"/>
                  </a:lnTo>
                  <a:lnTo>
                    <a:pt x="62" y="115"/>
                  </a:lnTo>
                  <a:lnTo>
                    <a:pt x="75" y="78"/>
                  </a:lnTo>
                  <a:lnTo>
                    <a:pt x="87" y="3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6080" y="5866200"/>
              <a:ext cx="126720" cy="108720"/>
            </a:xfrm>
            <a:custGeom>
              <a:avLst/>
              <a:gdLst/>
              <a:ahLst/>
              <a:rect l="l" t="t" r="r" b="b"/>
              <a:pathLst>
                <a:path w="172" h="163">
                  <a:moveTo>
                    <a:pt x="4" y="50"/>
                  </a:moveTo>
                  <a:lnTo>
                    <a:pt x="17" y="41"/>
                  </a:lnTo>
                  <a:lnTo>
                    <a:pt x="35" y="35"/>
                  </a:lnTo>
                  <a:lnTo>
                    <a:pt x="52" y="31"/>
                  </a:lnTo>
                  <a:lnTo>
                    <a:pt x="70" y="25"/>
                  </a:lnTo>
                  <a:lnTo>
                    <a:pt x="87" y="23"/>
                  </a:lnTo>
                  <a:lnTo>
                    <a:pt x="105" y="18"/>
                  </a:lnTo>
                  <a:lnTo>
                    <a:pt x="122" y="14"/>
                  </a:lnTo>
                  <a:lnTo>
                    <a:pt x="140" y="6"/>
                  </a:lnTo>
                  <a:lnTo>
                    <a:pt x="157" y="0"/>
                  </a:lnTo>
                  <a:lnTo>
                    <a:pt x="165" y="2"/>
                  </a:lnTo>
                  <a:lnTo>
                    <a:pt x="163" y="14"/>
                  </a:lnTo>
                  <a:lnTo>
                    <a:pt x="163" y="25"/>
                  </a:lnTo>
                  <a:lnTo>
                    <a:pt x="165" y="39"/>
                  </a:lnTo>
                  <a:lnTo>
                    <a:pt x="167" y="52"/>
                  </a:lnTo>
                  <a:lnTo>
                    <a:pt x="167" y="64"/>
                  </a:lnTo>
                  <a:lnTo>
                    <a:pt x="169" y="78"/>
                  </a:lnTo>
                  <a:lnTo>
                    <a:pt x="171" y="89"/>
                  </a:lnTo>
                  <a:lnTo>
                    <a:pt x="172" y="101"/>
                  </a:lnTo>
                  <a:lnTo>
                    <a:pt x="161" y="105"/>
                  </a:lnTo>
                  <a:lnTo>
                    <a:pt x="151" y="109"/>
                  </a:lnTo>
                  <a:lnTo>
                    <a:pt x="141" y="111"/>
                  </a:lnTo>
                  <a:lnTo>
                    <a:pt x="132" y="113"/>
                  </a:lnTo>
                  <a:lnTo>
                    <a:pt x="114" y="120"/>
                  </a:lnTo>
                  <a:lnTo>
                    <a:pt x="99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8" y="145"/>
                  </a:lnTo>
                  <a:lnTo>
                    <a:pt x="31" y="151"/>
                  </a:lnTo>
                  <a:lnTo>
                    <a:pt x="15" y="157"/>
                  </a:lnTo>
                  <a:lnTo>
                    <a:pt x="0" y="163"/>
                  </a:lnTo>
                  <a:lnTo>
                    <a:pt x="4" y="149"/>
                  </a:lnTo>
                  <a:lnTo>
                    <a:pt x="8" y="136"/>
                  </a:lnTo>
                  <a:lnTo>
                    <a:pt x="10" y="120"/>
                  </a:lnTo>
                  <a:lnTo>
                    <a:pt x="12" y="107"/>
                  </a:lnTo>
                  <a:lnTo>
                    <a:pt x="10" y="91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9040" y="5085360"/>
              <a:ext cx="66600" cy="612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35" y="68"/>
                  </a:moveTo>
                  <a:lnTo>
                    <a:pt x="45" y="50"/>
                  </a:lnTo>
                  <a:lnTo>
                    <a:pt x="55" y="33"/>
                  </a:lnTo>
                  <a:lnTo>
                    <a:pt x="60" y="15"/>
                  </a:lnTo>
                  <a:lnTo>
                    <a:pt x="68" y="0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3"/>
                  </a:lnTo>
                  <a:lnTo>
                    <a:pt x="91" y="21"/>
                  </a:lnTo>
                  <a:lnTo>
                    <a:pt x="80" y="31"/>
                  </a:lnTo>
                  <a:lnTo>
                    <a:pt x="74" y="46"/>
                  </a:lnTo>
                  <a:lnTo>
                    <a:pt x="64" y="62"/>
                  </a:lnTo>
                  <a:lnTo>
                    <a:pt x="53" y="74"/>
                  </a:lnTo>
                  <a:lnTo>
                    <a:pt x="41" y="79"/>
                  </a:lnTo>
                  <a:lnTo>
                    <a:pt x="27" y="87"/>
                  </a:lnTo>
                  <a:lnTo>
                    <a:pt x="12" y="89"/>
                  </a:lnTo>
                  <a:lnTo>
                    <a:pt x="0" y="93"/>
                  </a:lnTo>
                  <a:lnTo>
                    <a:pt x="6" y="85"/>
                  </a:lnTo>
                  <a:lnTo>
                    <a:pt x="14" y="77"/>
                  </a:lnTo>
                  <a:lnTo>
                    <a:pt x="24" y="72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0480" y="5753520"/>
              <a:ext cx="87120" cy="1202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89" y="33"/>
                  </a:moveTo>
                  <a:lnTo>
                    <a:pt x="91" y="26"/>
                  </a:lnTo>
                  <a:lnTo>
                    <a:pt x="95" y="16"/>
                  </a:lnTo>
                  <a:lnTo>
                    <a:pt x="99" y="6"/>
                  </a:lnTo>
                  <a:lnTo>
                    <a:pt x="107" y="0"/>
                  </a:lnTo>
                  <a:lnTo>
                    <a:pt x="109" y="16"/>
                  </a:lnTo>
                  <a:lnTo>
                    <a:pt x="113" y="31"/>
                  </a:lnTo>
                  <a:lnTo>
                    <a:pt x="115" y="47"/>
                  </a:lnTo>
                  <a:lnTo>
                    <a:pt x="119" y="64"/>
                  </a:lnTo>
                  <a:lnTo>
                    <a:pt x="119" y="82"/>
                  </a:lnTo>
                  <a:lnTo>
                    <a:pt x="121" y="99"/>
                  </a:lnTo>
                  <a:lnTo>
                    <a:pt x="121" y="117"/>
                  </a:lnTo>
                  <a:lnTo>
                    <a:pt x="121" y="134"/>
                  </a:lnTo>
                  <a:lnTo>
                    <a:pt x="105" y="140"/>
                  </a:lnTo>
                  <a:lnTo>
                    <a:pt x="89" y="148"/>
                  </a:lnTo>
                  <a:lnTo>
                    <a:pt x="74" y="154"/>
                  </a:lnTo>
                  <a:lnTo>
                    <a:pt x="60" y="161"/>
                  </a:lnTo>
                  <a:lnTo>
                    <a:pt x="45" y="165"/>
                  </a:lnTo>
                  <a:lnTo>
                    <a:pt x="29" y="171"/>
                  </a:lnTo>
                  <a:lnTo>
                    <a:pt x="14" y="175"/>
                  </a:lnTo>
                  <a:lnTo>
                    <a:pt x="0" y="181"/>
                  </a:lnTo>
                  <a:lnTo>
                    <a:pt x="8" y="161"/>
                  </a:lnTo>
                  <a:lnTo>
                    <a:pt x="20" y="144"/>
                  </a:lnTo>
                  <a:lnTo>
                    <a:pt x="31" y="124"/>
                  </a:lnTo>
                  <a:lnTo>
                    <a:pt x="43" y="107"/>
                  </a:lnTo>
                  <a:lnTo>
                    <a:pt x="55" y="88"/>
                  </a:lnTo>
                  <a:lnTo>
                    <a:pt x="66" y="70"/>
                  </a:lnTo>
                  <a:lnTo>
                    <a:pt x="78" y="51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8280" y="6004080"/>
              <a:ext cx="219600" cy="30240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153" y="292"/>
                  </a:moveTo>
                  <a:lnTo>
                    <a:pt x="159" y="279"/>
                  </a:lnTo>
                  <a:lnTo>
                    <a:pt x="166" y="265"/>
                  </a:lnTo>
                  <a:lnTo>
                    <a:pt x="174" y="252"/>
                  </a:lnTo>
                  <a:lnTo>
                    <a:pt x="182" y="238"/>
                  </a:lnTo>
                  <a:lnTo>
                    <a:pt x="188" y="224"/>
                  </a:lnTo>
                  <a:lnTo>
                    <a:pt x="194" y="211"/>
                  </a:lnTo>
                  <a:lnTo>
                    <a:pt x="199" y="197"/>
                  </a:lnTo>
                  <a:lnTo>
                    <a:pt x="205" y="184"/>
                  </a:lnTo>
                  <a:lnTo>
                    <a:pt x="211" y="160"/>
                  </a:lnTo>
                  <a:lnTo>
                    <a:pt x="219" y="137"/>
                  </a:lnTo>
                  <a:lnTo>
                    <a:pt x="225" y="114"/>
                  </a:lnTo>
                  <a:lnTo>
                    <a:pt x="232" y="93"/>
                  </a:lnTo>
                  <a:lnTo>
                    <a:pt x="236" y="69"/>
                  </a:lnTo>
                  <a:lnTo>
                    <a:pt x="242" y="46"/>
                  </a:lnTo>
                  <a:lnTo>
                    <a:pt x="248" y="25"/>
                  </a:lnTo>
                  <a:lnTo>
                    <a:pt x="254" y="5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0" y="1"/>
                  </a:lnTo>
                  <a:lnTo>
                    <a:pt x="289" y="54"/>
                  </a:lnTo>
                  <a:lnTo>
                    <a:pt x="277" y="106"/>
                  </a:lnTo>
                  <a:lnTo>
                    <a:pt x="261" y="158"/>
                  </a:lnTo>
                  <a:lnTo>
                    <a:pt x="246" y="213"/>
                  </a:lnTo>
                  <a:lnTo>
                    <a:pt x="223" y="261"/>
                  </a:lnTo>
                  <a:lnTo>
                    <a:pt x="199" y="312"/>
                  </a:lnTo>
                  <a:lnTo>
                    <a:pt x="170" y="358"/>
                  </a:lnTo>
                  <a:lnTo>
                    <a:pt x="137" y="407"/>
                  </a:lnTo>
                  <a:lnTo>
                    <a:pt x="122" y="418"/>
                  </a:lnTo>
                  <a:lnTo>
                    <a:pt x="106" y="428"/>
                  </a:lnTo>
                  <a:lnTo>
                    <a:pt x="89" y="434"/>
                  </a:lnTo>
                  <a:lnTo>
                    <a:pt x="73" y="442"/>
                  </a:lnTo>
                  <a:lnTo>
                    <a:pt x="54" y="443"/>
                  </a:lnTo>
                  <a:lnTo>
                    <a:pt x="36" y="447"/>
                  </a:lnTo>
                  <a:lnTo>
                    <a:pt x="17" y="449"/>
                  </a:lnTo>
                  <a:lnTo>
                    <a:pt x="0" y="451"/>
                  </a:lnTo>
                  <a:lnTo>
                    <a:pt x="21" y="434"/>
                  </a:lnTo>
                  <a:lnTo>
                    <a:pt x="44" y="418"/>
                  </a:lnTo>
                  <a:lnTo>
                    <a:pt x="64" y="399"/>
                  </a:lnTo>
                  <a:lnTo>
                    <a:pt x="85" y="380"/>
                  </a:lnTo>
                  <a:lnTo>
                    <a:pt x="102" y="358"/>
                  </a:lnTo>
                  <a:lnTo>
                    <a:pt x="122" y="337"/>
                  </a:lnTo>
                  <a:lnTo>
                    <a:pt x="137" y="314"/>
                  </a:lnTo>
                  <a:lnTo>
                    <a:pt x="153" y="292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1320" y="5954400"/>
              <a:ext cx="46440" cy="122040"/>
            </a:xfrm>
            <a:custGeom>
              <a:avLst/>
              <a:gdLst/>
              <a:ahLst/>
              <a:rect l="l" t="t" r="r" b="b"/>
              <a:pathLst>
                <a:path w="64" h="180">
                  <a:moveTo>
                    <a:pt x="38" y="35"/>
                  </a:moveTo>
                  <a:lnTo>
                    <a:pt x="40" y="17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4"/>
                  </a:lnTo>
                  <a:lnTo>
                    <a:pt x="60" y="25"/>
                  </a:lnTo>
                  <a:lnTo>
                    <a:pt x="58" y="48"/>
                  </a:lnTo>
                  <a:lnTo>
                    <a:pt x="52" y="72"/>
                  </a:lnTo>
                  <a:lnTo>
                    <a:pt x="48" y="95"/>
                  </a:lnTo>
                  <a:lnTo>
                    <a:pt x="38" y="116"/>
                  </a:lnTo>
                  <a:lnTo>
                    <a:pt x="29" y="138"/>
                  </a:lnTo>
                  <a:lnTo>
                    <a:pt x="17" y="159"/>
                  </a:lnTo>
                  <a:lnTo>
                    <a:pt x="5" y="180"/>
                  </a:lnTo>
                  <a:lnTo>
                    <a:pt x="0" y="169"/>
                  </a:lnTo>
                  <a:lnTo>
                    <a:pt x="2" y="157"/>
                  </a:lnTo>
                  <a:lnTo>
                    <a:pt x="7" y="141"/>
                  </a:lnTo>
                  <a:lnTo>
                    <a:pt x="13" y="130"/>
                  </a:lnTo>
                  <a:lnTo>
                    <a:pt x="17" y="118"/>
                  </a:lnTo>
                  <a:lnTo>
                    <a:pt x="23" y="106"/>
                  </a:lnTo>
                  <a:lnTo>
                    <a:pt x="27" y="95"/>
                  </a:lnTo>
                  <a:lnTo>
                    <a:pt x="31" y="85"/>
                  </a:lnTo>
                  <a:lnTo>
                    <a:pt x="33" y="72"/>
                  </a:lnTo>
                  <a:lnTo>
                    <a:pt x="35" y="60"/>
                  </a:lnTo>
                  <a:lnTo>
                    <a:pt x="37" y="46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69480" y="5316840"/>
              <a:ext cx="273240" cy="93600"/>
            </a:xfrm>
            <a:custGeom>
              <a:avLst/>
              <a:gdLst/>
              <a:ahLst/>
              <a:rect l="l" t="t" r="r" b="b"/>
              <a:pathLst>
                <a:path w="376" h="140">
                  <a:moveTo>
                    <a:pt x="23" y="0"/>
                  </a:moveTo>
                  <a:lnTo>
                    <a:pt x="68" y="6"/>
                  </a:lnTo>
                  <a:lnTo>
                    <a:pt x="114" y="14"/>
                  </a:lnTo>
                  <a:lnTo>
                    <a:pt x="159" y="19"/>
                  </a:lnTo>
                  <a:lnTo>
                    <a:pt x="206" y="31"/>
                  </a:lnTo>
                  <a:lnTo>
                    <a:pt x="248" y="41"/>
                  </a:lnTo>
                  <a:lnTo>
                    <a:pt x="293" y="54"/>
                  </a:lnTo>
                  <a:lnTo>
                    <a:pt x="334" y="70"/>
                  </a:lnTo>
                  <a:lnTo>
                    <a:pt x="376" y="91"/>
                  </a:lnTo>
                  <a:lnTo>
                    <a:pt x="347" y="99"/>
                  </a:lnTo>
                  <a:lnTo>
                    <a:pt x="320" y="107"/>
                  </a:lnTo>
                  <a:lnTo>
                    <a:pt x="291" y="110"/>
                  </a:lnTo>
                  <a:lnTo>
                    <a:pt x="264" y="116"/>
                  </a:lnTo>
                  <a:lnTo>
                    <a:pt x="235" y="120"/>
                  </a:lnTo>
                  <a:lnTo>
                    <a:pt x="206" y="124"/>
                  </a:lnTo>
                  <a:lnTo>
                    <a:pt x="177" y="130"/>
                  </a:lnTo>
                  <a:lnTo>
                    <a:pt x="149" y="136"/>
                  </a:lnTo>
                  <a:lnTo>
                    <a:pt x="91" y="140"/>
                  </a:lnTo>
                  <a:lnTo>
                    <a:pt x="93" y="138"/>
                  </a:lnTo>
                  <a:lnTo>
                    <a:pt x="80" y="138"/>
                  </a:lnTo>
                  <a:lnTo>
                    <a:pt x="68" y="138"/>
                  </a:lnTo>
                  <a:lnTo>
                    <a:pt x="56" y="138"/>
                  </a:lnTo>
                  <a:lnTo>
                    <a:pt x="45" y="138"/>
                  </a:lnTo>
                  <a:lnTo>
                    <a:pt x="33" y="136"/>
                  </a:lnTo>
                  <a:lnTo>
                    <a:pt x="21" y="134"/>
                  </a:lnTo>
                  <a:lnTo>
                    <a:pt x="10" y="130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8" y="77"/>
                  </a:lnTo>
                  <a:lnTo>
                    <a:pt x="12" y="62"/>
                  </a:lnTo>
                  <a:lnTo>
                    <a:pt x="14" y="46"/>
                  </a:lnTo>
                  <a:lnTo>
                    <a:pt x="17" y="31"/>
                  </a:lnTo>
                  <a:lnTo>
                    <a:pt x="19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82800" y="5347800"/>
              <a:ext cx="1207800" cy="144360"/>
            </a:xfrm>
            <a:custGeom>
              <a:avLst/>
              <a:gdLst/>
              <a:ahLst/>
              <a:rect l="l" t="t" r="r" b="b"/>
              <a:pathLst>
                <a:path w="1661" h="217">
                  <a:moveTo>
                    <a:pt x="53" y="139"/>
                  </a:moveTo>
                  <a:lnTo>
                    <a:pt x="90" y="131"/>
                  </a:lnTo>
                  <a:lnTo>
                    <a:pt x="127" y="126"/>
                  </a:lnTo>
                  <a:lnTo>
                    <a:pt x="163" y="118"/>
                  </a:lnTo>
                  <a:lnTo>
                    <a:pt x="200" y="112"/>
                  </a:lnTo>
                  <a:lnTo>
                    <a:pt x="235" y="104"/>
                  </a:lnTo>
                  <a:lnTo>
                    <a:pt x="272" y="96"/>
                  </a:lnTo>
                  <a:lnTo>
                    <a:pt x="309" y="89"/>
                  </a:lnTo>
                  <a:lnTo>
                    <a:pt x="346" y="81"/>
                  </a:lnTo>
                  <a:lnTo>
                    <a:pt x="375" y="67"/>
                  </a:lnTo>
                  <a:lnTo>
                    <a:pt x="408" y="58"/>
                  </a:lnTo>
                  <a:lnTo>
                    <a:pt x="441" y="48"/>
                  </a:lnTo>
                  <a:lnTo>
                    <a:pt x="476" y="40"/>
                  </a:lnTo>
                  <a:lnTo>
                    <a:pt x="509" y="32"/>
                  </a:lnTo>
                  <a:lnTo>
                    <a:pt x="542" y="25"/>
                  </a:lnTo>
                  <a:lnTo>
                    <a:pt x="575" y="15"/>
                  </a:lnTo>
                  <a:lnTo>
                    <a:pt x="609" y="7"/>
                  </a:lnTo>
                  <a:lnTo>
                    <a:pt x="639" y="3"/>
                  </a:lnTo>
                  <a:lnTo>
                    <a:pt x="668" y="1"/>
                  </a:lnTo>
                  <a:lnTo>
                    <a:pt x="695" y="0"/>
                  </a:lnTo>
                  <a:lnTo>
                    <a:pt x="724" y="0"/>
                  </a:lnTo>
                  <a:lnTo>
                    <a:pt x="751" y="0"/>
                  </a:lnTo>
                  <a:lnTo>
                    <a:pt x="778" y="0"/>
                  </a:lnTo>
                  <a:lnTo>
                    <a:pt x="807" y="0"/>
                  </a:lnTo>
                  <a:lnTo>
                    <a:pt x="840" y="3"/>
                  </a:lnTo>
                  <a:lnTo>
                    <a:pt x="1230" y="54"/>
                  </a:lnTo>
                  <a:lnTo>
                    <a:pt x="1236" y="56"/>
                  </a:lnTo>
                  <a:lnTo>
                    <a:pt x="1247" y="58"/>
                  </a:lnTo>
                  <a:lnTo>
                    <a:pt x="1257" y="60"/>
                  </a:lnTo>
                  <a:lnTo>
                    <a:pt x="1271" y="62"/>
                  </a:lnTo>
                  <a:lnTo>
                    <a:pt x="1296" y="67"/>
                  </a:lnTo>
                  <a:lnTo>
                    <a:pt x="1323" y="73"/>
                  </a:lnTo>
                  <a:lnTo>
                    <a:pt x="1352" y="77"/>
                  </a:lnTo>
                  <a:lnTo>
                    <a:pt x="1381" y="81"/>
                  </a:lnTo>
                  <a:lnTo>
                    <a:pt x="1408" y="83"/>
                  </a:lnTo>
                  <a:lnTo>
                    <a:pt x="1436" y="87"/>
                  </a:lnTo>
                  <a:lnTo>
                    <a:pt x="1463" y="89"/>
                  </a:lnTo>
                  <a:lnTo>
                    <a:pt x="1492" y="95"/>
                  </a:lnTo>
                  <a:lnTo>
                    <a:pt x="1503" y="96"/>
                  </a:lnTo>
                  <a:lnTo>
                    <a:pt x="1517" y="100"/>
                  </a:lnTo>
                  <a:lnTo>
                    <a:pt x="1529" y="100"/>
                  </a:lnTo>
                  <a:lnTo>
                    <a:pt x="1542" y="108"/>
                  </a:lnTo>
                  <a:lnTo>
                    <a:pt x="1542" y="98"/>
                  </a:lnTo>
                  <a:lnTo>
                    <a:pt x="1560" y="98"/>
                  </a:lnTo>
                  <a:lnTo>
                    <a:pt x="1579" y="102"/>
                  </a:lnTo>
                  <a:lnTo>
                    <a:pt x="1597" y="108"/>
                  </a:lnTo>
                  <a:lnTo>
                    <a:pt x="1614" y="120"/>
                  </a:lnTo>
                  <a:lnTo>
                    <a:pt x="1628" y="129"/>
                  </a:lnTo>
                  <a:lnTo>
                    <a:pt x="1641" y="145"/>
                  </a:lnTo>
                  <a:lnTo>
                    <a:pt x="1651" y="160"/>
                  </a:lnTo>
                  <a:lnTo>
                    <a:pt x="1661" y="180"/>
                  </a:lnTo>
                  <a:lnTo>
                    <a:pt x="1616" y="172"/>
                  </a:lnTo>
                  <a:lnTo>
                    <a:pt x="1573" y="170"/>
                  </a:lnTo>
                  <a:lnTo>
                    <a:pt x="1531" y="168"/>
                  </a:lnTo>
                  <a:lnTo>
                    <a:pt x="1488" y="172"/>
                  </a:lnTo>
                  <a:lnTo>
                    <a:pt x="1445" y="172"/>
                  </a:lnTo>
                  <a:lnTo>
                    <a:pt x="1403" y="178"/>
                  </a:lnTo>
                  <a:lnTo>
                    <a:pt x="1360" y="182"/>
                  </a:lnTo>
                  <a:lnTo>
                    <a:pt x="1317" y="186"/>
                  </a:lnTo>
                  <a:lnTo>
                    <a:pt x="1228" y="188"/>
                  </a:lnTo>
                  <a:lnTo>
                    <a:pt x="1139" y="191"/>
                  </a:lnTo>
                  <a:lnTo>
                    <a:pt x="1050" y="195"/>
                  </a:lnTo>
                  <a:lnTo>
                    <a:pt x="960" y="199"/>
                  </a:lnTo>
                  <a:lnTo>
                    <a:pt x="869" y="201"/>
                  </a:lnTo>
                  <a:lnTo>
                    <a:pt x="780" y="207"/>
                  </a:lnTo>
                  <a:lnTo>
                    <a:pt x="689" y="211"/>
                  </a:lnTo>
                  <a:lnTo>
                    <a:pt x="602" y="217"/>
                  </a:lnTo>
                  <a:lnTo>
                    <a:pt x="602" y="215"/>
                  </a:lnTo>
                  <a:lnTo>
                    <a:pt x="569" y="215"/>
                  </a:lnTo>
                  <a:lnTo>
                    <a:pt x="538" y="217"/>
                  </a:lnTo>
                  <a:lnTo>
                    <a:pt x="507" y="217"/>
                  </a:lnTo>
                  <a:lnTo>
                    <a:pt x="478" y="217"/>
                  </a:lnTo>
                  <a:lnTo>
                    <a:pt x="445" y="215"/>
                  </a:lnTo>
                  <a:lnTo>
                    <a:pt x="414" y="215"/>
                  </a:lnTo>
                  <a:lnTo>
                    <a:pt x="381" y="215"/>
                  </a:lnTo>
                  <a:lnTo>
                    <a:pt x="350" y="217"/>
                  </a:lnTo>
                  <a:lnTo>
                    <a:pt x="303" y="207"/>
                  </a:lnTo>
                  <a:lnTo>
                    <a:pt x="260" y="199"/>
                  </a:lnTo>
                  <a:lnTo>
                    <a:pt x="216" y="190"/>
                  </a:lnTo>
                  <a:lnTo>
                    <a:pt x="173" y="180"/>
                  </a:lnTo>
                  <a:lnTo>
                    <a:pt x="128" y="168"/>
                  </a:lnTo>
                  <a:lnTo>
                    <a:pt x="86" y="159"/>
                  </a:lnTo>
                  <a:lnTo>
                    <a:pt x="43" y="149"/>
                  </a:lnTo>
                  <a:lnTo>
                    <a:pt x="0" y="143"/>
                  </a:lnTo>
                  <a:lnTo>
                    <a:pt x="10" y="137"/>
                  </a:lnTo>
                  <a:lnTo>
                    <a:pt x="26" y="133"/>
                  </a:lnTo>
                  <a:lnTo>
                    <a:pt x="41" y="133"/>
                  </a:lnTo>
                  <a:lnTo>
                    <a:pt x="53" y="13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2520" y="5299560"/>
              <a:ext cx="406080" cy="74880"/>
            </a:xfrm>
            <a:custGeom>
              <a:avLst/>
              <a:gdLst/>
              <a:ahLst/>
              <a:rect l="l" t="t" r="r" b="b"/>
              <a:pathLst>
                <a:path w="559" h="112">
                  <a:moveTo>
                    <a:pt x="4" y="0"/>
                  </a:moveTo>
                  <a:lnTo>
                    <a:pt x="70" y="4"/>
                  </a:lnTo>
                  <a:lnTo>
                    <a:pt x="140" y="9"/>
                  </a:lnTo>
                  <a:lnTo>
                    <a:pt x="210" y="15"/>
                  </a:lnTo>
                  <a:lnTo>
                    <a:pt x="281" y="23"/>
                  </a:lnTo>
                  <a:lnTo>
                    <a:pt x="349" y="31"/>
                  </a:lnTo>
                  <a:lnTo>
                    <a:pt x="419" y="41"/>
                  </a:lnTo>
                  <a:lnTo>
                    <a:pt x="489" y="52"/>
                  </a:lnTo>
                  <a:lnTo>
                    <a:pt x="559" y="66"/>
                  </a:lnTo>
                  <a:lnTo>
                    <a:pt x="533" y="68"/>
                  </a:lnTo>
                  <a:lnTo>
                    <a:pt x="510" y="73"/>
                  </a:lnTo>
                  <a:lnTo>
                    <a:pt x="489" y="79"/>
                  </a:lnTo>
                  <a:lnTo>
                    <a:pt x="467" y="89"/>
                  </a:lnTo>
                  <a:lnTo>
                    <a:pt x="444" y="95"/>
                  </a:lnTo>
                  <a:lnTo>
                    <a:pt x="423" y="103"/>
                  </a:lnTo>
                  <a:lnTo>
                    <a:pt x="400" y="106"/>
                  </a:lnTo>
                  <a:lnTo>
                    <a:pt x="378" y="112"/>
                  </a:lnTo>
                  <a:lnTo>
                    <a:pt x="357" y="97"/>
                  </a:lnTo>
                  <a:lnTo>
                    <a:pt x="338" y="87"/>
                  </a:lnTo>
                  <a:lnTo>
                    <a:pt x="316" y="75"/>
                  </a:lnTo>
                  <a:lnTo>
                    <a:pt x="295" y="70"/>
                  </a:lnTo>
                  <a:lnTo>
                    <a:pt x="272" y="62"/>
                  </a:lnTo>
                  <a:lnTo>
                    <a:pt x="250" y="54"/>
                  </a:lnTo>
                  <a:lnTo>
                    <a:pt x="229" y="46"/>
                  </a:lnTo>
                  <a:lnTo>
                    <a:pt x="208" y="41"/>
                  </a:lnTo>
                  <a:lnTo>
                    <a:pt x="182" y="31"/>
                  </a:lnTo>
                  <a:lnTo>
                    <a:pt x="157" y="25"/>
                  </a:lnTo>
                  <a:lnTo>
                    <a:pt x="132" y="19"/>
                  </a:lnTo>
                  <a:lnTo>
                    <a:pt x="107" y="15"/>
                  </a:lnTo>
                  <a:lnTo>
                    <a:pt x="80" y="9"/>
                  </a:lnTo>
                  <a:lnTo>
                    <a:pt x="52" y="8"/>
                  </a:lnTo>
                  <a:lnTo>
                    <a:pt x="25" y="6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27440" y="6004080"/>
              <a:ext cx="148320" cy="283680"/>
            </a:xfrm>
            <a:custGeom>
              <a:avLst/>
              <a:gdLst/>
              <a:ahLst/>
              <a:rect l="l" t="t" r="r" b="b"/>
              <a:pathLst>
                <a:path w="203" h="422">
                  <a:moveTo>
                    <a:pt x="159" y="23"/>
                  </a:moveTo>
                  <a:lnTo>
                    <a:pt x="162" y="13"/>
                  </a:lnTo>
                  <a:lnTo>
                    <a:pt x="166" y="0"/>
                  </a:lnTo>
                  <a:lnTo>
                    <a:pt x="203" y="1"/>
                  </a:lnTo>
                  <a:lnTo>
                    <a:pt x="197" y="50"/>
                  </a:lnTo>
                  <a:lnTo>
                    <a:pt x="188" y="98"/>
                  </a:lnTo>
                  <a:lnTo>
                    <a:pt x="172" y="147"/>
                  </a:lnTo>
                  <a:lnTo>
                    <a:pt x="157" y="197"/>
                  </a:lnTo>
                  <a:lnTo>
                    <a:pt x="135" y="244"/>
                  </a:lnTo>
                  <a:lnTo>
                    <a:pt x="114" y="290"/>
                  </a:lnTo>
                  <a:lnTo>
                    <a:pt x="89" y="337"/>
                  </a:lnTo>
                  <a:lnTo>
                    <a:pt x="65" y="383"/>
                  </a:lnTo>
                  <a:lnTo>
                    <a:pt x="50" y="395"/>
                  </a:lnTo>
                  <a:lnTo>
                    <a:pt x="36" y="411"/>
                  </a:lnTo>
                  <a:lnTo>
                    <a:pt x="29" y="414"/>
                  </a:lnTo>
                  <a:lnTo>
                    <a:pt x="21" y="420"/>
                  </a:lnTo>
                  <a:lnTo>
                    <a:pt x="9" y="422"/>
                  </a:lnTo>
                  <a:lnTo>
                    <a:pt x="0" y="422"/>
                  </a:lnTo>
                  <a:lnTo>
                    <a:pt x="25" y="372"/>
                  </a:lnTo>
                  <a:lnTo>
                    <a:pt x="50" y="323"/>
                  </a:lnTo>
                  <a:lnTo>
                    <a:pt x="73" y="275"/>
                  </a:lnTo>
                  <a:lnTo>
                    <a:pt x="97" y="226"/>
                  </a:lnTo>
                  <a:lnTo>
                    <a:pt x="116" y="176"/>
                  </a:lnTo>
                  <a:lnTo>
                    <a:pt x="133" y="126"/>
                  </a:lnTo>
                  <a:lnTo>
                    <a:pt x="147" y="73"/>
                  </a:lnTo>
                  <a:lnTo>
                    <a:pt x="159" y="23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81440" y="6004080"/>
              <a:ext cx="146880" cy="272880"/>
            </a:xfrm>
            <a:custGeom>
              <a:avLst/>
              <a:gdLst/>
              <a:ahLst/>
              <a:rect l="l" t="t" r="r" b="b"/>
              <a:pathLst>
                <a:path w="204" h="407">
                  <a:moveTo>
                    <a:pt x="130" y="126"/>
                  </a:moveTo>
                  <a:lnTo>
                    <a:pt x="132" y="110"/>
                  </a:lnTo>
                  <a:lnTo>
                    <a:pt x="138" y="98"/>
                  </a:lnTo>
                  <a:lnTo>
                    <a:pt x="140" y="83"/>
                  </a:lnTo>
                  <a:lnTo>
                    <a:pt x="146" y="71"/>
                  </a:lnTo>
                  <a:lnTo>
                    <a:pt x="148" y="56"/>
                  </a:lnTo>
                  <a:lnTo>
                    <a:pt x="152" y="42"/>
                  </a:lnTo>
                  <a:lnTo>
                    <a:pt x="155" y="29"/>
                  </a:lnTo>
                  <a:lnTo>
                    <a:pt x="161" y="17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204" y="1"/>
                  </a:lnTo>
                  <a:lnTo>
                    <a:pt x="198" y="25"/>
                  </a:lnTo>
                  <a:lnTo>
                    <a:pt x="194" y="48"/>
                  </a:lnTo>
                  <a:lnTo>
                    <a:pt x="188" y="71"/>
                  </a:lnTo>
                  <a:lnTo>
                    <a:pt x="184" y="96"/>
                  </a:lnTo>
                  <a:lnTo>
                    <a:pt x="177" y="120"/>
                  </a:lnTo>
                  <a:lnTo>
                    <a:pt x="171" y="143"/>
                  </a:lnTo>
                  <a:lnTo>
                    <a:pt x="163" y="166"/>
                  </a:lnTo>
                  <a:lnTo>
                    <a:pt x="155" y="191"/>
                  </a:lnTo>
                  <a:lnTo>
                    <a:pt x="152" y="201"/>
                  </a:lnTo>
                  <a:lnTo>
                    <a:pt x="150" y="211"/>
                  </a:lnTo>
                  <a:lnTo>
                    <a:pt x="146" y="221"/>
                  </a:lnTo>
                  <a:lnTo>
                    <a:pt x="146" y="232"/>
                  </a:lnTo>
                  <a:lnTo>
                    <a:pt x="138" y="244"/>
                  </a:lnTo>
                  <a:lnTo>
                    <a:pt x="134" y="259"/>
                  </a:lnTo>
                  <a:lnTo>
                    <a:pt x="130" y="267"/>
                  </a:lnTo>
                  <a:lnTo>
                    <a:pt x="128" y="275"/>
                  </a:lnTo>
                  <a:lnTo>
                    <a:pt x="120" y="288"/>
                  </a:lnTo>
                  <a:lnTo>
                    <a:pt x="113" y="304"/>
                  </a:lnTo>
                  <a:lnTo>
                    <a:pt x="105" y="319"/>
                  </a:lnTo>
                  <a:lnTo>
                    <a:pt x="97" y="337"/>
                  </a:lnTo>
                  <a:lnTo>
                    <a:pt x="86" y="350"/>
                  </a:lnTo>
                  <a:lnTo>
                    <a:pt x="76" y="366"/>
                  </a:lnTo>
                  <a:lnTo>
                    <a:pt x="66" y="380"/>
                  </a:lnTo>
                  <a:lnTo>
                    <a:pt x="56" y="393"/>
                  </a:lnTo>
                  <a:lnTo>
                    <a:pt x="0" y="407"/>
                  </a:lnTo>
                  <a:lnTo>
                    <a:pt x="20" y="372"/>
                  </a:lnTo>
                  <a:lnTo>
                    <a:pt x="39" y="337"/>
                  </a:lnTo>
                  <a:lnTo>
                    <a:pt x="56" y="302"/>
                  </a:lnTo>
                  <a:lnTo>
                    <a:pt x="74" y="269"/>
                  </a:lnTo>
                  <a:lnTo>
                    <a:pt x="88" y="232"/>
                  </a:lnTo>
                  <a:lnTo>
                    <a:pt x="103" y="197"/>
                  </a:lnTo>
                  <a:lnTo>
                    <a:pt x="117" y="160"/>
                  </a:lnTo>
                  <a:lnTo>
                    <a:pt x="130" y="126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67480" y="6005520"/>
              <a:ext cx="95760" cy="230040"/>
            </a:xfrm>
            <a:custGeom>
              <a:avLst/>
              <a:gdLst/>
              <a:ahLst/>
              <a:rect l="l" t="t" r="r" b="b"/>
              <a:pathLst>
                <a:path w="131" h="344">
                  <a:moveTo>
                    <a:pt x="106" y="0"/>
                  </a:moveTo>
                  <a:lnTo>
                    <a:pt x="131" y="0"/>
                  </a:lnTo>
                  <a:lnTo>
                    <a:pt x="126" y="10"/>
                  </a:lnTo>
                  <a:lnTo>
                    <a:pt x="124" y="22"/>
                  </a:lnTo>
                  <a:lnTo>
                    <a:pt x="124" y="31"/>
                  </a:lnTo>
                  <a:lnTo>
                    <a:pt x="124" y="43"/>
                  </a:lnTo>
                  <a:lnTo>
                    <a:pt x="122" y="63"/>
                  </a:lnTo>
                  <a:lnTo>
                    <a:pt x="114" y="84"/>
                  </a:lnTo>
                  <a:lnTo>
                    <a:pt x="110" y="95"/>
                  </a:lnTo>
                  <a:lnTo>
                    <a:pt x="106" y="109"/>
                  </a:lnTo>
                  <a:lnTo>
                    <a:pt x="102" y="121"/>
                  </a:lnTo>
                  <a:lnTo>
                    <a:pt x="98" y="136"/>
                  </a:lnTo>
                  <a:lnTo>
                    <a:pt x="93" y="148"/>
                  </a:lnTo>
                  <a:lnTo>
                    <a:pt x="89" y="161"/>
                  </a:lnTo>
                  <a:lnTo>
                    <a:pt x="85" y="175"/>
                  </a:lnTo>
                  <a:lnTo>
                    <a:pt x="81" y="189"/>
                  </a:lnTo>
                  <a:lnTo>
                    <a:pt x="73" y="208"/>
                  </a:lnTo>
                  <a:lnTo>
                    <a:pt x="65" y="229"/>
                  </a:lnTo>
                  <a:lnTo>
                    <a:pt x="56" y="249"/>
                  </a:lnTo>
                  <a:lnTo>
                    <a:pt x="48" y="270"/>
                  </a:lnTo>
                  <a:lnTo>
                    <a:pt x="34" y="287"/>
                  </a:lnTo>
                  <a:lnTo>
                    <a:pt x="23" y="307"/>
                  </a:lnTo>
                  <a:lnTo>
                    <a:pt x="11" y="324"/>
                  </a:lnTo>
                  <a:lnTo>
                    <a:pt x="0" y="344"/>
                  </a:lnTo>
                  <a:lnTo>
                    <a:pt x="15" y="299"/>
                  </a:lnTo>
                  <a:lnTo>
                    <a:pt x="33" y="258"/>
                  </a:lnTo>
                  <a:lnTo>
                    <a:pt x="48" y="216"/>
                  </a:lnTo>
                  <a:lnTo>
                    <a:pt x="65" y="175"/>
                  </a:lnTo>
                  <a:lnTo>
                    <a:pt x="77" y="130"/>
                  </a:lnTo>
                  <a:lnTo>
                    <a:pt x="91" y="88"/>
                  </a:lnTo>
                  <a:lnTo>
                    <a:pt x="98" y="4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3320" y="5558040"/>
              <a:ext cx="221040" cy="210240"/>
            </a:xfrm>
            <a:custGeom>
              <a:avLst/>
              <a:gdLst/>
              <a:ahLst/>
              <a:rect l="l" t="t" r="r" b="b"/>
              <a:pathLst>
                <a:path w="302" h="314">
                  <a:moveTo>
                    <a:pt x="29" y="83"/>
                  </a:moveTo>
                  <a:lnTo>
                    <a:pt x="33" y="71"/>
                  </a:lnTo>
                  <a:lnTo>
                    <a:pt x="37" y="60"/>
                  </a:lnTo>
                  <a:lnTo>
                    <a:pt x="42" y="48"/>
                  </a:lnTo>
                  <a:lnTo>
                    <a:pt x="48" y="38"/>
                  </a:lnTo>
                  <a:lnTo>
                    <a:pt x="54" y="27"/>
                  </a:lnTo>
                  <a:lnTo>
                    <a:pt x="60" y="15"/>
                  </a:lnTo>
                  <a:lnTo>
                    <a:pt x="68" y="5"/>
                  </a:lnTo>
                  <a:lnTo>
                    <a:pt x="79" y="0"/>
                  </a:lnTo>
                  <a:lnTo>
                    <a:pt x="91" y="5"/>
                  </a:lnTo>
                  <a:lnTo>
                    <a:pt x="103" y="15"/>
                  </a:lnTo>
                  <a:lnTo>
                    <a:pt x="112" y="23"/>
                  </a:lnTo>
                  <a:lnTo>
                    <a:pt x="122" y="34"/>
                  </a:lnTo>
                  <a:lnTo>
                    <a:pt x="130" y="44"/>
                  </a:lnTo>
                  <a:lnTo>
                    <a:pt x="138" y="54"/>
                  </a:lnTo>
                  <a:lnTo>
                    <a:pt x="147" y="64"/>
                  </a:lnTo>
                  <a:lnTo>
                    <a:pt x="159" y="75"/>
                  </a:lnTo>
                  <a:lnTo>
                    <a:pt x="174" y="97"/>
                  </a:lnTo>
                  <a:lnTo>
                    <a:pt x="192" y="124"/>
                  </a:lnTo>
                  <a:lnTo>
                    <a:pt x="207" y="149"/>
                  </a:lnTo>
                  <a:lnTo>
                    <a:pt x="225" y="178"/>
                  </a:lnTo>
                  <a:lnTo>
                    <a:pt x="240" y="205"/>
                  </a:lnTo>
                  <a:lnTo>
                    <a:pt x="258" y="232"/>
                  </a:lnTo>
                  <a:lnTo>
                    <a:pt x="275" y="257"/>
                  </a:lnTo>
                  <a:lnTo>
                    <a:pt x="293" y="285"/>
                  </a:lnTo>
                  <a:lnTo>
                    <a:pt x="297" y="285"/>
                  </a:lnTo>
                  <a:lnTo>
                    <a:pt x="302" y="288"/>
                  </a:lnTo>
                  <a:lnTo>
                    <a:pt x="291" y="288"/>
                  </a:lnTo>
                  <a:lnTo>
                    <a:pt x="293" y="294"/>
                  </a:lnTo>
                  <a:lnTo>
                    <a:pt x="256" y="294"/>
                  </a:lnTo>
                  <a:lnTo>
                    <a:pt x="221" y="296"/>
                  </a:lnTo>
                  <a:lnTo>
                    <a:pt x="186" y="300"/>
                  </a:lnTo>
                  <a:lnTo>
                    <a:pt x="151" y="306"/>
                  </a:lnTo>
                  <a:lnTo>
                    <a:pt x="116" y="308"/>
                  </a:lnTo>
                  <a:lnTo>
                    <a:pt x="81" y="312"/>
                  </a:lnTo>
                  <a:lnTo>
                    <a:pt x="44" y="312"/>
                  </a:lnTo>
                  <a:lnTo>
                    <a:pt x="10" y="314"/>
                  </a:lnTo>
                  <a:lnTo>
                    <a:pt x="8" y="302"/>
                  </a:lnTo>
                  <a:lnTo>
                    <a:pt x="6" y="290"/>
                  </a:lnTo>
                  <a:lnTo>
                    <a:pt x="4" y="281"/>
                  </a:lnTo>
                  <a:lnTo>
                    <a:pt x="4" y="271"/>
                  </a:lnTo>
                  <a:lnTo>
                    <a:pt x="0" y="252"/>
                  </a:lnTo>
                  <a:lnTo>
                    <a:pt x="0" y="234"/>
                  </a:lnTo>
                  <a:lnTo>
                    <a:pt x="0" y="211"/>
                  </a:lnTo>
                  <a:lnTo>
                    <a:pt x="0" y="192"/>
                  </a:lnTo>
                  <a:lnTo>
                    <a:pt x="2" y="170"/>
                  </a:lnTo>
                  <a:lnTo>
                    <a:pt x="6" y="153"/>
                  </a:lnTo>
                  <a:lnTo>
                    <a:pt x="8" y="133"/>
                  </a:lnTo>
                  <a:lnTo>
                    <a:pt x="13" y="116"/>
                  </a:lnTo>
                  <a:lnTo>
                    <a:pt x="19" y="98"/>
                  </a:lnTo>
                  <a:lnTo>
                    <a:pt x="29" y="83"/>
                  </a:lnTo>
                  <a:close/>
                </a:path>
              </a:pathLst>
            </a:custGeom>
            <a:solidFill>
              <a:srgbClr val="ff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45960" y="5196600"/>
              <a:ext cx="727560" cy="167040"/>
            </a:xfrm>
            <a:custGeom>
              <a:avLst/>
              <a:gdLst/>
              <a:ahLst/>
              <a:rect l="l" t="t" r="r" b="b"/>
              <a:pathLst>
                <a:path w="1001" h="250">
                  <a:moveTo>
                    <a:pt x="357" y="9"/>
                  </a:moveTo>
                  <a:lnTo>
                    <a:pt x="435" y="4"/>
                  </a:lnTo>
                  <a:lnTo>
                    <a:pt x="516" y="2"/>
                  </a:lnTo>
                  <a:lnTo>
                    <a:pt x="597" y="2"/>
                  </a:lnTo>
                  <a:lnTo>
                    <a:pt x="679" y="2"/>
                  </a:lnTo>
                  <a:lnTo>
                    <a:pt x="758" y="0"/>
                  </a:lnTo>
                  <a:lnTo>
                    <a:pt x="840" y="0"/>
                  </a:lnTo>
                  <a:lnTo>
                    <a:pt x="919" y="0"/>
                  </a:lnTo>
                  <a:lnTo>
                    <a:pt x="1001" y="2"/>
                  </a:lnTo>
                  <a:lnTo>
                    <a:pt x="980" y="31"/>
                  </a:lnTo>
                  <a:lnTo>
                    <a:pt x="960" y="62"/>
                  </a:lnTo>
                  <a:lnTo>
                    <a:pt x="937" y="91"/>
                  </a:lnTo>
                  <a:lnTo>
                    <a:pt x="914" y="122"/>
                  </a:lnTo>
                  <a:lnTo>
                    <a:pt x="890" y="151"/>
                  </a:lnTo>
                  <a:lnTo>
                    <a:pt x="869" y="184"/>
                  </a:lnTo>
                  <a:lnTo>
                    <a:pt x="850" y="215"/>
                  </a:lnTo>
                  <a:lnTo>
                    <a:pt x="836" y="250"/>
                  </a:lnTo>
                  <a:lnTo>
                    <a:pt x="731" y="234"/>
                  </a:lnTo>
                  <a:lnTo>
                    <a:pt x="627" y="223"/>
                  </a:lnTo>
                  <a:lnTo>
                    <a:pt x="520" y="213"/>
                  </a:lnTo>
                  <a:lnTo>
                    <a:pt x="415" y="203"/>
                  </a:lnTo>
                  <a:lnTo>
                    <a:pt x="308" y="192"/>
                  </a:lnTo>
                  <a:lnTo>
                    <a:pt x="204" y="180"/>
                  </a:lnTo>
                  <a:lnTo>
                    <a:pt x="101" y="168"/>
                  </a:lnTo>
                  <a:lnTo>
                    <a:pt x="0" y="157"/>
                  </a:lnTo>
                  <a:lnTo>
                    <a:pt x="45" y="139"/>
                  </a:lnTo>
                  <a:lnTo>
                    <a:pt x="89" y="124"/>
                  </a:lnTo>
                  <a:lnTo>
                    <a:pt x="134" y="104"/>
                  </a:lnTo>
                  <a:lnTo>
                    <a:pt x="181" y="87"/>
                  </a:lnTo>
                  <a:lnTo>
                    <a:pt x="223" y="66"/>
                  </a:lnTo>
                  <a:lnTo>
                    <a:pt x="268" y="46"/>
                  </a:lnTo>
                  <a:lnTo>
                    <a:pt x="310" y="27"/>
                  </a:lnTo>
                  <a:lnTo>
                    <a:pt x="357" y="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6400" y="5499000"/>
              <a:ext cx="543960" cy="254520"/>
            </a:xfrm>
            <a:custGeom>
              <a:avLst/>
              <a:gdLst/>
              <a:ahLst/>
              <a:rect l="l" t="t" r="r" b="b"/>
              <a:pathLst>
                <a:path w="748" h="380">
                  <a:moveTo>
                    <a:pt x="0" y="72"/>
                  </a:moveTo>
                  <a:lnTo>
                    <a:pt x="29" y="51"/>
                  </a:lnTo>
                  <a:lnTo>
                    <a:pt x="62" y="37"/>
                  </a:lnTo>
                  <a:lnTo>
                    <a:pt x="97" y="28"/>
                  </a:lnTo>
                  <a:lnTo>
                    <a:pt x="134" y="24"/>
                  </a:lnTo>
                  <a:lnTo>
                    <a:pt x="168" y="18"/>
                  </a:lnTo>
                  <a:lnTo>
                    <a:pt x="205" y="16"/>
                  </a:lnTo>
                  <a:lnTo>
                    <a:pt x="242" y="14"/>
                  </a:lnTo>
                  <a:lnTo>
                    <a:pt x="279" y="10"/>
                  </a:lnTo>
                  <a:lnTo>
                    <a:pt x="304" y="8"/>
                  </a:lnTo>
                  <a:lnTo>
                    <a:pt x="333" y="8"/>
                  </a:lnTo>
                  <a:lnTo>
                    <a:pt x="362" y="6"/>
                  </a:lnTo>
                  <a:lnTo>
                    <a:pt x="391" y="6"/>
                  </a:lnTo>
                  <a:lnTo>
                    <a:pt x="419" y="2"/>
                  </a:lnTo>
                  <a:lnTo>
                    <a:pt x="448" y="2"/>
                  </a:lnTo>
                  <a:lnTo>
                    <a:pt x="475" y="0"/>
                  </a:lnTo>
                  <a:lnTo>
                    <a:pt x="504" y="2"/>
                  </a:lnTo>
                  <a:lnTo>
                    <a:pt x="516" y="8"/>
                  </a:lnTo>
                  <a:lnTo>
                    <a:pt x="527" y="10"/>
                  </a:lnTo>
                  <a:lnTo>
                    <a:pt x="539" y="12"/>
                  </a:lnTo>
                  <a:lnTo>
                    <a:pt x="552" y="18"/>
                  </a:lnTo>
                  <a:lnTo>
                    <a:pt x="597" y="35"/>
                  </a:lnTo>
                  <a:lnTo>
                    <a:pt x="634" y="66"/>
                  </a:lnTo>
                  <a:lnTo>
                    <a:pt x="665" y="101"/>
                  </a:lnTo>
                  <a:lnTo>
                    <a:pt x="690" y="144"/>
                  </a:lnTo>
                  <a:lnTo>
                    <a:pt x="708" y="186"/>
                  </a:lnTo>
                  <a:lnTo>
                    <a:pt x="725" y="233"/>
                  </a:lnTo>
                  <a:lnTo>
                    <a:pt x="737" y="278"/>
                  </a:lnTo>
                  <a:lnTo>
                    <a:pt x="748" y="322"/>
                  </a:lnTo>
                  <a:lnTo>
                    <a:pt x="744" y="326"/>
                  </a:lnTo>
                  <a:lnTo>
                    <a:pt x="675" y="330"/>
                  </a:lnTo>
                  <a:lnTo>
                    <a:pt x="609" y="338"/>
                  </a:lnTo>
                  <a:lnTo>
                    <a:pt x="543" y="345"/>
                  </a:lnTo>
                  <a:lnTo>
                    <a:pt x="479" y="355"/>
                  </a:lnTo>
                  <a:lnTo>
                    <a:pt x="413" y="363"/>
                  </a:lnTo>
                  <a:lnTo>
                    <a:pt x="349" y="371"/>
                  </a:lnTo>
                  <a:lnTo>
                    <a:pt x="283" y="375"/>
                  </a:lnTo>
                  <a:lnTo>
                    <a:pt x="215" y="380"/>
                  </a:lnTo>
                  <a:lnTo>
                    <a:pt x="198" y="355"/>
                  </a:lnTo>
                  <a:lnTo>
                    <a:pt x="182" y="330"/>
                  </a:lnTo>
                  <a:lnTo>
                    <a:pt x="168" y="305"/>
                  </a:lnTo>
                  <a:lnTo>
                    <a:pt x="157" y="281"/>
                  </a:lnTo>
                  <a:lnTo>
                    <a:pt x="143" y="256"/>
                  </a:lnTo>
                  <a:lnTo>
                    <a:pt x="130" y="231"/>
                  </a:lnTo>
                  <a:lnTo>
                    <a:pt x="112" y="206"/>
                  </a:lnTo>
                  <a:lnTo>
                    <a:pt x="97" y="183"/>
                  </a:lnTo>
                  <a:lnTo>
                    <a:pt x="97" y="177"/>
                  </a:lnTo>
                  <a:lnTo>
                    <a:pt x="81" y="163"/>
                  </a:lnTo>
                  <a:lnTo>
                    <a:pt x="70" y="150"/>
                  </a:lnTo>
                  <a:lnTo>
                    <a:pt x="58" y="136"/>
                  </a:lnTo>
                  <a:lnTo>
                    <a:pt x="48" y="124"/>
                  </a:lnTo>
                  <a:lnTo>
                    <a:pt x="37" y="111"/>
                  </a:lnTo>
                  <a:lnTo>
                    <a:pt x="27" y="97"/>
                  </a:lnTo>
                  <a:lnTo>
                    <a:pt x="13" y="86"/>
                  </a:lnTo>
                  <a:lnTo>
                    <a:pt x="0" y="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753080"/>
              <a:ext cx="245880" cy="372240"/>
            </a:xfrm>
            <a:custGeom>
              <a:avLst/>
              <a:gdLst/>
              <a:ahLst/>
              <a:rect l="l" t="t" r="r" b="b"/>
              <a:pathLst>
                <a:path w="339" h="556">
                  <a:moveTo>
                    <a:pt x="19" y="343"/>
                  </a:moveTo>
                  <a:lnTo>
                    <a:pt x="19" y="319"/>
                  </a:lnTo>
                  <a:lnTo>
                    <a:pt x="25" y="302"/>
                  </a:lnTo>
                  <a:lnTo>
                    <a:pt x="33" y="283"/>
                  </a:lnTo>
                  <a:lnTo>
                    <a:pt x="44" y="267"/>
                  </a:lnTo>
                  <a:lnTo>
                    <a:pt x="54" y="250"/>
                  </a:lnTo>
                  <a:lnTo>
                    <a:pt x="67" y="232"/>
                  </a:lnTo>
                  <a:lnTo>
                    <a:pt x="83" y="217"/>
                  </a:lnTo>
                  <a:lnTo>
                    <a:pt x="99" y="203"/>
                  </a:lnTo>
                  <a:lnTo>
                    <a:pt x="93" y="186"/>
                  </a:lnTo>
                  <a:lnTo>
                    <a:pt x="91" y="170"/>
                  </a:lnTo>
                  <a:lnTo>
                    <a:pt x="93" y="155"/>
                  </a:lnTo>
                  <a:lnTo>
                    <a:pt x="100" y="143"/>
                  </a:lnTo>
                  <a:lnTo>
                    <a:pt x="97" y="128"/>
                  </a:lnTo>
                  <a:lnTo>
                    <a:pt x="100" y="116"/>
                  </a:lnTo>
                  <a:lnTo>
                    <a:pt x="106" y="106"/>
                  </a:lnTo>
                  <a:lnTo>
                    <a:pt x="116" y="98"/>
                  </a:lnTo>
                  <a:lnTo>
                    <a:pt x="126" y="91"/>
                  </a:lnTo>
                  <a:lnTo>
                    <a:pt x="135" y="83"/>
                  </a:lnTo>
                  <a:lnTo>
                    <a:pt x="145" y="75"/>
                  </a:lnTo>
                  <a:lnTo>
                    <a:pt x="157" y="67"/>
                  </a:lnTo>
                  <a:lnTo>
                    <a:pt x="168" y="62"/>
                  </a:lnTo>
                  <a:lnTo>
                    <a:pt x="184" y="56"/>
                  </a:lnTo>
                  <a:lnTo>
                    <a:pt x="197" y="52"/>
                  </a:lnTo>
                  <a:lnTo>
                    <a:pt x="215" y="48"/>
                  </a:lnTo>
                  <a:lnTo>
                    <a:pt x="228" y="40"/>
                  </a:lnTo>
                  <a:lnTo>
                    <a:pt x="242" y="34"/>
                  </a:lnTo>
                  <a:lnTo>
                    <a:pt x="254" y="25"/>
                  </a:lnTo>
                  <a:lnTo>
                    <a:pt x="267" y="15"/>
                  </a:lnTo>
                  <a:lnTo>
                    <a:pt x="275" y="9"/>
                  </a:lnTo>
                  <a:lnTo>
                    <a:pt x="283" y="3"/>
                  </a:lnTo>
                  <a:lnTo>
                    <a:pt x="290" y="0"/>
                  </a:lnTo>
                  <a:lnTo>
                    <a:pt x="302" y="2"/>
                  </a:lnTo>
                  <a:lnTo>
                    <a:pt x="310" y="11"/>
                  </a:lnTo>
                  <a:lnTo>
                    <a:pt x="320" y="25"/>
                  </a:lnTo>
                  <a:lnTo>
                    <a:pt x="325" y="38"/>
                  </a:lnTo>
                  <a:lnTo>
                    <a:pt x="339" y="50"/>
                  </a:lnTo>
                  <a:lnTo>
                    <a:pt x="325" y="48"/>
                  </a:lnTo>
                  <a:lnTo>
                    <a:pt x="312" y="52"/>
                  </a:lnTo>
                  <a:lnTo>
                    <a:pt x="296" y="56"/>
                  </a:lnTo>
                  <a:lnTo>
                    <a:pt x="285" y="66"/>
                  </a:lnTo>
                  <a:lnTo>
                    <a:pt x="289" y="71"/>
                  </a:lnTo>
                  <a:lnTo>
                    <a:pt x="292" y="77"/>
                  </a:lnTo>
                  <a:lnTo>
                    <a:pt x="269" y="77"/>
                  </a:lnTo>
                  <a:lnTo>
                    <a:pt x="248" y="79"/>
                  </a:lnTo>
                  <a:lnTo>
                    <a:pt x="226" y="85"/>
                  </a:lnTo>
                  <a:lnTo>
                    <a:pt x="209" y="95"/>
                  </a:lnTo>
                  <a:lnTo>
                    <a:pt x="190" y="104"/>
                  </a:lnTo>
                  <a:lnTo>
                    <a:pt x="174" y="118"/>
                  </a:lnTo>
                  <a:lnTo>
                    <a:pt x="161" y="133"/>
                  </a:lnTo>
                  <a:lnTo>
                    <a:pt x="153" y="153"/>
                  </a:lnTo>
                  <a:lnTo>
                    <a:pt x="143" y="170"/>
                  </a:lnTo>
                  <a:lnTo>
                    <a:pt x="139" y="190"/>
                  </a:lnTo>
                  <a:lnTo>
                    <a:pt x="135" y="209"/>
                  </a:lnTo>
                  <a:lnTo>
                    <a:pt x="135" y="228"/>
                  </a:lnTo>
                  <a:lnTo>
                    <a:pt x="133" y="248"/>
                  </a:lnTo>
                  <a:lnTo>
                    <a:pt x="131" y="269"/>
                  </a:lnTo>
                  <a:lnTo>
                    <a:pt x="128" y="288"/>
                  </a:lnTo>
                  <a:lnTo>
                    <a:pt x="124" y="312"/>
                  </a:lnTo>
                  <a:lnTo>
                    <a:pt x="112" y="319"/>
                  </a:lnTo>
                  <a:lnTo>
                    <a:pt x="104" y="331"/>
                  </a:lnTo>
                  <a:lnTo>
                    <a:pt x="97" y="343"/>
                  </a:lnTo>
                  <a:lnTo>
                    <a:pt x="89" y="356"/>
                  </a:lnTo>
                  <a:lnTo>
                    <a:pt x="85" y="358"/>
                  </a:lnTo>
                  <a:lnTo>
                    <a:pt x="81" y="366"/>
                  </a:lnTo>
                  <a:lnTo>
                    <a:pt x="73" y="376"/>
                  </a:lnTo>
                  <a:lnTo>
                    <a:pt x="66" y="393"/>
                  </a:lnTo>
                  <a:lnTo>
                    <a:pt x="56" y="409"/>
                  </a:lnTo>
                  <a:lnTo>
                    <a:pt x="46" y="424"/>
                  </a:lnTo>
                  <a:lnTo>
                    <a:pt x="38" y="440"/>
                  </a:lnTo>
                  <a:lnTo>
                    <a:pt x="33" y="453"/>
                  </a:lnTo>
                  <a:lnTo>
                    <a:pt x="42" y="457"/>
                  </a:lnTo>
                  <a:lnTo>
                    <a:pt x="52" y="455"/>
                  </a:lnTo>
                  <a:lnTo>
                    <a:pt x="54" y="438"/>
                  </a:lnTo>
                  <a:lnTo>
                    <a:pt x="64" y="424"/>
                  </a:lnTo>
                  <a:lnTo>
                    <a:pt x="73" y="407"/>
                  </a:lnTo>
                  <a:lnTo>
                    <a:pt x="85" y="391"/>
                  </a:lnTo>
                  <a:lnTo>
                    <a:pt x="95" y="374"/>
                  </a:lnTo>
                  <a:lnTo>
                    <a:pt x="104" y="360"/>
                  </a:lnTo>
                  <a:lnTo>
                    <a:pt x="114" y="345"/>
                  </a:lnTo>
                  <a:lnTo>
                    <a:pt x="126" y="331"/>
                  </a:lnTo>
                  <a:lnTo>
                    <a:pt x="120" y="343"/>
                  </a:lnTo>
                  <a:lnTo>
                    <a:pt x="122" y="354"/>
                  </a:lnTo>
                  <a:lnTo>
                    <a:pt x="128" y="358"/>
                  </a:lnTo>
                  <a:lnTo>
                    <a:pt x="135" y="358"/>
                  </a:lnTo>
                  <a:lnTo>
                    <a:pt x="139" y="349"/>
                  </a:lnTo>
                  <a:lnTo>
                    <a:pt x="151" y="347"/>
                  </a:lnTo>
                  <a:lnTo>
                    <a:pt x="145" y="352"/>
                  </a:lnTo>
                  <a:lnTo>
                    <a:pt x="147" y="360"/>
                  </a:lnTo>
                  <a:lnTo>
                    <a:pt x="157" y="364"/>
                  </a:lnTo>
                  <a:lnTo>
                    <a:pt x="166" y="364"/>
                  </a:lnTo>
                  <a:lnTo>
                    <a:pt x="170" y="352"/>
                  </a:lnTo>
                  <a:lnTo>
                    <a:pt x="176" y="347"/>
                  </a:lnTo>
                  <a:lnTo>
                    <a:pt x="190" y="347"/>
                  </a:lnTo>
                  <a:lnTo>
                    <a:pt x="186" y="352"/>
                  </a:lnTo>
                  <a:lnTo>
                    <a:pt x="182" y="360"/>
                  </a:lnTo>
                  <a:lnTo>
                    <a:pt x="178" y="366"/>
                  </a:lnTo>
                  <a:lnTo>
                    <a:pt x="188" y="374"/>
                  </a:lnTo>
                  <a:lnTo>
                    <a:pt x="195" y="366"/>
                  </a:lnTo>
                  <a:lnTo>
                    <a:pt x="203" y="356"/>
                  </a:lnTo>
                  <a:lnTo>
                    <a:pt x="211" y="349"/>
                  </a:lnTo>
                  <a:lnTo>
                    <a:pt x="226" y="352"/>
                  </a:lnTo>
                  <a:lnTo>
                    <a:pt x="226" y="358"/>
                  </a:lnTo>
                  <a:lnTo>
                    <a:pt x="219" y="356"/>
                  </a:lnTo>
                  <a:lnTo>
                    <a:pt x="215" y="360"/>
                  </a:lnTo>
                  <a:lnTo>
                    <a:pt x="213" y="362"/>
                  </a:lnTo>
                  <a:lnTo>
                    <a:pt x="217" y="364"/>
                  </a:lnTo>
                  <a:lnTo>
                    <a:pt x="221" y="364"/>
                  </a:lnTo>
                  <a:lnTo>
                    <a:pt x="211" y="376"/>
                  </a:lnTo>
                  <a:lnTo>
                    <a:pt x="201" y="383"/>
                  </a:lnTo>
                  <a:lnTo>
                    <a:pt x="192" y="391"/>
                  </a:lnTo>
                  <a:lnTo>
                    <a:pt x="190" y="405"/>
                  </a:lnTo>
                  <a:lnTo>
                    <a:pt x="184" y="422"/>
                  </a:lnTo>
                  <a:lnTo>
                    <a:pt x="178" y="440"/>
                  </a:lnTo>
                  <a:lnTo>
                    <a:pt x="168" y="457"/>
                  </a:lnTo>
                  <a:lnTo>
                    <a:pt x="159" y="475"/>
                  </a:lnTo>
                  <a:lnTo>
                    <a:pt x="145" y="488"/>
                  </a:lnTo>
                  <a:lnTo>
                    <a:pt x="133" y="506"/>
                  </a:lnTo>
                  <a:lnTo>
                    <a:pt x="120" y="519"/>
                  </a:lnTo>
                  <a:lnTo>
                    <a:pt x="108" y="537"/>
                  </a:lnTo>
                  <a:lnTo>
                    <a:pt x="99" y="540"/>
                  </a:lnTo>
                  <a:lnTo>
                    <a:pt x="89" y="544"/>
                  </a:lnTo>
                  <a:lnTo>
                    <a:pt x="77" y="548"/>
                  </a:lnTo>
                  <a:lnTo>
                    <a:pt x="67" y="554"/>
                  </a:lnTo>
                  <a:lnTo>
                    <a:pt x="56" y="554"/>
                  </a:lnTo>
                  <a:lnTo>
                    <a:pt x="46" y="556"/>
                  </a:lnTo>
                  <a:lnTo>
                    <a:pt x="35" y="552"/>
                  </a:lnTo>
                  <a:lnTo>
                    <a:pt x="27" y="548"/>
                  </a:lnTo>
                  <a:lnTo>
                    <a:pt x="13" y="527"/>
                  </a:lnTo>
                  <a:lnTo>
                    <a:pt x="7" y="506"/>
                  </a:lnTo>
                  <a:lnTo>
                    <a:pt x="2" y="482"/>
                  </a:lnTo>
                  <a:lnTo>
                    <a:pt x="2" y="461"/>
                  </a:lnTo>
                  <a:lnTo>
                    <a:pt x="0" y="436"/>
                  </a:lnTo>
                  <a:lnTo>
                    <a:pt x="2" y="413"/>
                  </a:lnTo>
                  <a:lnTo>
                    <a:pt x="3" y="389"/>
                  </a:lnTo>
                  <a:lnTo>
                    <a:pt x="7" y="368"/>
                  </a:lnTo>
                  <a:lnTo>
                    <a:pt x="9" y="354"/>
                  </a:lnTo>
                  <a:lnTo>
                    <a:pt x="19" y="34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9280" y="5200560"/>
              <a:ext cx="104400" cy="4104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11" y="6"/>
                  </a:moveTo>
                  <a:lnTo>
                    <a:pt x="25" y="4"/>
                  </a:lnTo>
                  <a:lnTo>
                    <a:pt x="42" y="2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3" y="4"/>
                  </a:lnTo>
                  <a:lnTo>
                    <a:pt x="135" y="10"/>
                  </a:lnTo>
                  <a:lnTo>
                    <a:pt x="128" y="14"/>
                  </a:lnTo>
                  <a:lnTo>
                    <a:pt x="118" y="14"/>
                  </a:lnTo>
                  <a:lnTo>
                    <a:pt x="110" y="18"/>
                  </a:lnTo>
                  <a:lnTo>
                    <a:pt x="97" y="24"/>
                  </a:lnTo>
                  <a:lnTo>
                    <a:pt x="83" y="30"/>
                  </a:lnTo>
                  <a:lnTo>
                    <a:pt x="70" y="35"/>
                  </a:lnTo>
                  <a:lnTo>
                    <a:pt x="56" y="41"/>
                  </a:lnTo>
                  <a:lnTo>
                    <a:pt x="42" y="45"/>
                  </a:lnTo>
                  <a:lnTo>
                    <a:pt x="29" y="51"/>
                  </a:lnTo>
                  <a:lnTo>
                    <a:pt x="15" y="5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5120" y="4813200"/>
              <a:ext cx="159840" cy="162000"/>
            </a:xfrm>
            <a:custGeom>
              <a:avLst/>
              <a:gdLst/>
              <a:ahLst/>
              <a:rect l="l" t="t" r="r" b="b"/>
              <a:pathLst>
                <a:path w="219" h="240">
                  <a:moveTo>
                    <a:pt x="14" y="95"/>
                  </a:moveTo>
                  <a:lnTo>
                    <a:pt x="17" y="83"/>
                  </a:lnTo>
                  <a:lnTo>
                    <a:pt x="21" y="71"/>
                  </a:lnTo>
                  <a:lnTo>
                    <a:pt x="27" y="60"/>
                  </a:lnTo>
                  <a:lnTo>
                    <a:pt x="33" y="50"/>
                  </a:lnTo>
                  <a:lnTo>
                    <a:pt x="39" y="38"/>
                  </a:lnTo>
                  <a:lnTo>
                    <a:pt x="48" y="31"/>
                  </a:lnTo>
                  <a:lnTo>
                    <a:pt x="58" y="23"/>
                  </a:lnTo>
                  <a:lnTo>
                    <a:pt x="70" y="17"/>
                  </a:lnTo>
                  <a:lnTo>
                    <a:pt x="161" y="2"/>
                  </a:lnTo>
                  <a:lnTo>
                    <a:pt x="169" y="0"/>
                  </a:lnTo>
                  <a:lnTo>
                    <a:pt x="178" y="6"/>
                  </a:lnTo>
                  <a:lnTo>
                    <a:pt x="186" y="7"/>
                  </a:lnTo>
                  <a:lnTo>
                    <a:pt x="198" y="7"/>
                  </a:lnTo>
                  <a:lnTo>
                    <a:pt x="194" y="11"/>
                  </a:lnTo>
                  <a:lnTo>
                    <a:pt x="196" y="13"/>
                  </a:lnTo>
                  <a:lnTo>
                    <a:pt x="184" y="17"/>
                  </a:lnTo>
                  <a:lnTo>
                    <a:pt x="173" y="19"/>
                  </a:lnTo>
                  <a:lnTo>
                    <a:pt x="159" y="21"/>
                  </a:lnTo>
                  <a:lnTo>
                    <a:pt x="145" y="23"/>
                  </a:lnTo>
                  <a:lnTo>
                    <a:pt x="132" y="23"/>
                  </a:lnTo>
                  <a:lnTo>
                    <a:pt x="118" y="27"/>
                  </a:lnTo>
                  <a:lnTo>
                    <a:pt x="107" y="31"/>
                  </a:lnTo>
                  <a:lnTo>
                    <a:pt x="97" y="38"/>
                  </a:lnTo>
                  <a:lnTo>
                    <a:pt x="89" y="50"/>
                  </a:lnTo>
                  <a:lnTo>
                    <a:pt x="85" y="66"/>
                  </a:lnTo>
                  <a:lnTo>
                    <a:pt x="97" y="71"/>
                  </a:lnTo>
                  <a:lnTo>
                    <a:pt x="109" y="70"/>
                  </a:lnTo>
                  <a:lnTo>
                    <a:pt x="122" y="70"/>
                  </a:lnTo>
                  <a:lnTo>
                    <a:pt x="136" y="70"/>
                  </a:lnTo>
                  <a:lnTo>
                    <a:pt x="149" y="73"/>
                  </a:lnTo>
                  <a:lnTo>
                    <a:pt x="161" y="73"/>
                  </a:lnTo>
                  <a:lnTo>
                    <a:pt x="175" y="77"/>
                  </a:lnTo>
                  <a:lnTo>
                    <a:pt x="188" y="77"/>
                  </a:lnTo>
                  <a:lnTo>
                    <a:pt x="204" y="81"/>
                  </a:lnTo>
                  <a:lnTo>
                    <a:pt x="200" y="89"/>
                  </a:lnTo>
                  <a:lnTo>
                    <a:pt x="190" y="91"/>
                  </a:lnTo>
                  <a:lnTo>
                    <a:pt x="176" y="87"/>
                  </a:lnTo>
                  <a:lnTo>
                    <a:pt x="165" y="87"/>
                  </a:lnTo>
                  <a:lnTo>
                    <a:pt x="151" y="87"/>
                  </a:lnTo>
                  <a:lnTo>
                    <a:pt x="140" y="91"/>
                  </a:lnTo>
                  <a:lnTo>
                    <a:pt x="126" y="91"/>
                  </a:lnTo>
                  <a:lnTo>
                    <a:pt x="114" y="97"/>
                  </a:lnTo>
                  <a:lnTo>
                    <a:pt x="103" y="102"/>
                  </a:lnTo>
                  <a:lnTo>
                    <a:pt x="93" y="110"/>
                  </a:lnTo>
                  <a:lnTo>
                    <a:pt x="101" y="122"/>
                  </a:lnTo>
                  <a:lnTo>
                    <a:pt x="112" y="130"/>
                  </a:lnTo>
                  <a:lnTo>
                    <a:pt x="126" y="135"/>
                  </a:lnTo>
                  <a:lnTo>
                    <a:pt x="142" y="141"/>
                  </a:lnTo>
                  <a:lnTo>
                    <a:pt x="159" y="139"/>
                  </a:lnTo>
                  <a:lnTo>
                    <a:pt x="180" y="141"/>
                  </a:lnTo>
                  <a:lnTo>
                    <a:pt x="198" y="141"/>
                  </a:lnTo>
                  <a:lnTo>
                    <a:pt x="219" y="143"/>
                  </a:lnTo>
                  <a:lnTo>
                    <a:pt x="213" y="151"/>
                  </a:lnTo>
                  <a:lnTo>
                    <a:pt x="207" y="159"/>
                  </a:lnTo>
                  <a:lnTo>
                    <a:pt x="198" y="163"/>
                  </a:lnTo>
                  <a:lnTo>
                    <a:pt x="190" y="168"/>
                  </a:lnTo>
                  <a:lnTo>
                    <a:pt x="178" y="170"/>
                  </a:lnTo>
                  <a:lnTo>
                    <a:pt x="169" y="172"/>
                  </a:lnTo>
                  <a:lnTo>
                    <a:pt x="157" y="172"/>
                  </a:lnTo>
                  <a:lnTo>
                    <a:pt x="149" y="178"/>
                  </a:lnTo>
                  <a:lnTo>
                    <a:pt x="132" y="190"/>
                  </a:lnTo>
                  <a:lnTo>
                    <a:pt x="116" y="203"/>
                  </a:lnTo>
                  <a:lnTo>
                    <a:pt x="101" y="215"/>
                  </a:lnTo>
                  <a:lnTo>
                    <a:pt x="83" y="223"/>
                  </a:lnTo>
                  <a:lnTo>
                    <a:pt x="79" y="230"/>
                  </a:lnTo>
                  <a:lnTo>
                    <a:pt x="87" y="238"/>
                  </a:lnTo>
                  <a:lnTo>
                    <a:pt x="81" y="238"/>
                  </a:lnTo>
                  <a:lnTo>
                    <a:pt x="72" y="240"/>
                  </a:lnTo>
                  <a:lnTo>
                    <a:pt x="62" y="238"/>
                  </a:lnTo>
                  <a:lnTo>
                    <a:pt x="52" y="238"/>
                  </a:lnTo>
                  <a:lnTo>
                    <a:pt x="39" y="232"/>
                  </a:lnTo>
                  <a:lnTo>
                    <a:pt x="25" y="227"/>
                  </a:lnTo>
                  <a:lnTo>
                    <a:pt x="12" y="221"/>
                  </a:lnTo>
                  <a:lnTo>
                    <a:pt x="0" y="215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8"/>
                  </a:lnTo>
                  <a:lnTo>
                    <a:pt x="6" y="155"/>
                  </a:lnTo>
                  <a:lnTo>
                    <a:pt x="8" y="139"/>
                  </a:lnTo>
                  <a:lnTo>
                    <a:pt x="10" y="124"/>
                  </a:lnTo>
                  <a:lnTo>
                    <a:pt x="12" y="108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6160" y="4924440"/>
              <a:ext cx="334440" cy="204840"/>
            </a:xfrm>
            <a:custGeom>
              <a:avLst/>
              <a:gdLst/>
              <a:ahLst/>
              <a:rect l="l" t="t" r="r" b="b"/>
              <a:pathLst>
                <a:path w="462" h="306">
                  <a:moveTo>
                    <a:pt x="27" y="129"/>
                  </a:moveTo>
                  <a:lnTo>
                    <a:pt x="35" y="110"/>
                  </a:lnTo>
                  <a:lnTo>
                    <a:pt x="45" y="95"/>
                  </a:lnTo>
                  <a:lnTo>
                    <a:pt x="57" y="79"/>
                  </a:lnTo>
                  <a:lnTo>
                    <a:pt x="72" y="65"/>
                  </a:lnTo>
                  <a:lnTo>
                    <a:pt x="72" y="52"/>
                  </a:lnTo>
                  <a:lnTo>
                    <a:pt x="80" y="44"/>
                  </a:lnTo>
                  <a:lnTo>
                    <a:pt x="89" y="36"/>
                  </a:lnTo>
                  <a:lnTo>
                    <a:pt x="99" y="31"/>
                  </a:lnTo>
                  <a:lnTo>
                    <a:pt x="117" y="25"/>
                  </a:lnTo>
                  <a:lnTo>
                    <a:pt x="136" y="21"/>
                  </a:lnTo>
                  <a:lnTo>
                    <a:pt x="153" y="13"/>
                  </a:lnTo>
                  <a:lnTo>
                    <a:pt x="173" y="0"/>
                  </a:lnTo>
                  <a:lnTo>
                    <a:pt x="183" y="9"/>
                  </a:lnTo>
                  <a:lnTo>
                    <a:pt x="194" y="19"/>
                  </a:lnTo>
                  <a:lnTo>
                    <a:pt x="208" y="27"/>
                  </a:lnTo>
                  <a:lnTo>
                    <a:pt x="223" y="34"/>
                  </a:lnTo>
                  <a:lnTo>
                    <a:pt x="239" y="38"/>
                  </a:lnTo>
                  <a:lnTo>
                    <a:pt x="254" y="44"/>
                  </a:lnTo>
                  <a:lnTo>
                    <a:pt x="270" y="48"/>
                  </a:lnTo>
                  <a:lnTo>
                    <a:pt x="287" y="50"/>
                  </a:lnTo>
                  <a:lnTo>
                    <a:pt x="299" y="52"/>
                  </a:lnTo>
                  <a:lnTo>
                    <a:pt x="314" y="56"/>
                  </a:lnTo>
                  <a:lnTo>
                    <a:pt x="318" y="83"/>
                  </a:lnTo>
                  <a:lnTo>
                    <a:pt x="332" y="104"/>
                  </a:lnTo>
                  <a:lnTo>
                    <a:pt x="347" y="120"/>
                  </a:lnTo>
                  <a:lnTo>
                    <a:pt x="371" y="133"/>
                  </a:lnTo>
                  <a:lnTo>
                    <a:pt x="394" y="145"/>
                  </a:lnTo>
                  <a:lnTo>
                    <a:pt x="417" y="160"/>
                  </a:lnTo>
                  <a:lnTo>
                    <a:pt x="439" y="176"/>
                  </a:lnTo>
                  <a:lnTo>
                    <a:pt x="456" y="199"/>
                  </a:lnTo>
                  <a:lnTo>
                    <a:pt x="454" y="205"/>
                  </a:lnTo>
                  <a:lnTo>
                    <a:pt x="454" y="217"/>
                  </a:lnTo>
                  <a:lnTo>
                    <a:pt x="454" y="228"/>
                  </a:lnTo>
                  <a:lnTo>
                    <a:pt x="454" y="240"/>
                  </a:lnTo>
                  <a:lnTo>
                    <a:pt x="454" y="252"/>
                  </a:lnTo>
                  <a:lnTo>
                    <a:pt x="456" y="263"/>
                  </a:lnTo>
                  <a:lnTo>
                    <a:pt x="458" y="273"/>
                  </a:lnTo>
                  <a:lnTo>
                    <a:pt x="462" y="283"/>
                  </a:lnTo>
                  <a:lnTo>
                    <a:pt x="423" y="284"/>
                  </a:lnTo>
                  <a:lnTo>
                    <a:pt x="384" y="286"/>
                  </a:lnTo>
                  <a:lnTo>
                    <a:pt x="345" y="288"/>
                  </a:lnTo>
                  <a:lnTo>
                    <a:pt x="307" y="290"/>
                  </a:lnTo>
                  <a:lnTo>
                    <a:pt x="266" y="292"/>
                  </a:lnTo>
                  <a:lnTo>
                    <a:pt x="227" y="294"/>
                  </a:lnTo>
                  <a:lnTo>
                    <a:pt x="188" y="296"/>
                  </a:lnTo>
                  <a:lnTo>
                    <a:pt x="152" y="300"/>
                  </a:lnTo>
                  <a:lnTo>
                    <a:pt x="132" y="302"/>
                  </a:lnTo>
                  <a:lnTo>
                    <a:pt x="115" y="304"/>
                  </a:lnTo>
                  <a:lnTo>
                    <a:pt x="97" y="304"/>
                  </a:lnTo>
                  <a:lnTo>
                    <a:pt x="80" y="304"/>
                  </a:lnTo>
                  <a:lnTo>
                    <a:pt x="60" y="302"/>
                  </a:lnTo>
                  <a:lnTo>
                    <a:pt x="43" y="302"/>
                  </a:lnTo>
                  <a:lnTo>
                    <a:pt x="24" y="302"/>
                  </a:lnTo>
                  <a:lnTo>
                    <a:pt x="4" y="306"/>
                  </a:lnTo>
                  <a:lnTo>
                    <a:pt x="8" y="286"/>
                  </a:lnTo>
                  <a:lnTo>
                    <a:pt x="6" y="273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4" y="164"/>
                  </a:lnTo>
                  <a:lnTo>
                    <a:pt x="10" y="151"/>
                  </a:lnTo>
                  <a:lnTo>
                    <a:pt x="14" y="139"/>
                  </a:lnTo>
                  <a:lnTo>
                    <a:pt x="27" y="129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22000" y="4320720"/>
              <a:ext cx="295560" cy="392400"/>
            </a:xfrm>
            <a:custGeom>
              <a:avLst/>
              <a:gdLst/>
              <a:ahLst/>
              <a:rect l="l" t="t" r="r" b="b"/>
              <a:pathLst>
                <a:path w="405" h="585">
                  <a:moveTo>
                    <a:pt x="19" y="285"/>
                  </a:moveTo>
                  <a:lnTo>
                    <a:pt x="21" y="275"/>
                  </a:lnTo>
                  <a:lnTo>
                    <a:pt x="29" y="271"/>
                  </a:lnTo>
                  <a:lnTo>
                    <a:pt x="34" y="254"/>
                  </a:lnTo>
                  <a:lnTo>
                    <a:pt x="44" y="240"/>
                  </a:lnTo>
                  <a:lnTo>
                    <a:pt x="50" y="225"/>
                  </a:lnTo>
                  <a:lnTo>
                    <a:pt x="52" y="211"/>
                  </a:lnTo>
                  <a:lnTo>
                    <a:pt x="54" y="215"/>
                  </a:lnTo>
                  <a:lnTo>
                    <a:pt x="56" y="227"/>
                  </a:lnTo>
                  <a:lnTo>
                    <a:pt x="58" y="237"/>
                  </a:lnTo>
                  <a:lnTo>
                    <a:pt x="62" y="246"/>
                  </a:lnTo>
                  <a:lnTo>
                    <a:pt x="46" y="258"/>
                  </a:lnTo>
                  <a:lnTo>
                    <a:pt x="38" y="277"/>
                  </a:lnTo>
                  <a:lnTo>
                    <a:pt x="40" y="285"/>
                  </a:lnTo>
                  <a:lnTo>
                    <a:pt x="42" y="297"/>
                  </a:lnTo>
                  <a:lnTo>
                    <a:pt x="44" y="306"/>
                  </a:lnTo>
                  <a:lnTo>
                    <a:pt x="54" y="316"/>
                  </a:lnTo>
                  <a:lnTo>
                    <a:pt x="42" y="316"/>
                  </a:lnTo>
                  <a:lnTo>
                    <a:pt x="33" y="316"/>
                  </a:lnTo>
                  <a:lnTo>
                    <a:pt x="23" y="318"/>
                  </a:lnTo>
                  <a:lnTo>
                    <a:pt x="15" y="328"/>
                  </a:lnTo>
                  <a:lnTo>
                    <a:pt x="7" y="339"/>
                  </a:lnTo>
                  <a:lnTo>
                    <a:pt x="7" y="355"/>
                  </a:lnTo>
                  <a:lnTo>
                    <a:pt x="21" y="361"/>
                  </a:lnTo>
                  <a:lnTo>
                    <a:pt x="29" y="374"/>
                  </a:lnTo>
                  <a:lnTo>
                    <a:pt x="34" y="388"/>
                  </a:lnTo>
                  <a:lnTo>
                    <a:pt x="42" y="403"/>
                  </a:lnTo>
                  <a:lnTo>
                    <a:pt x="46" y="411"/>
                  </a:lnTo>
                  <a:lnTo>
                    <a:pt x="46" y="421"/>
                  </a:lnTo>
                  <a:lnTo>
                    <a:pt x="46" y="428"/>
                  </a:lnTo>
                  <a:lnTo>
                    <a:pt x="60" y="432"/>
                  </a:lnTo>
                  <a:lnTo>
                    <a:pt x="64" y="442"/>
                  </a:lnTo>
                  <a:lnTo>
                    <a:pt x="69" y="454"/>
                  </a:lnTo>
                  <a:lnTo>
                    <a:pt x="75" y="463"/>
                  </a:lnTo>
                  <a:lnTo>
                    <a:pt x="83" y="475"/>
                  </a:lnTo>
                  <a:lnTo>
                    <a:pt x="91" y="479"/>
                  </a:lnTo>
                  <a:lnTo>
                    <a:pt x="100" y="481"/>
                  </a:lnTo>
                  <a:lnTo>
                    <a:pt x="110" y="479"/>
                  </a:lnTo>
                  <a:lnTo>
                    <a:pt x="120" y="479"/>
                  </a:lnTo>
                  <a:lnTo>
                    <a:pt x="139" y="461"/>
                  </a:lnTo>
                  <a:lnTo>
                    <a:pt x="155" y="444"/>
                  </a:lnTo>
                  <a:lnTo>
                    <a:pt x="164" y="423"/>
                  </a:lnTo>
                  <a:lnTo>
                    <a:pt x="172" y="403"/>
                  </a:lnTo>
                  <a:lnTo>
                    <a:pt x="178" y="380"/>
                  </a:lnTo>
                  <a:lnTo>
                    <a:pt x="188" y="357"/>
                  </a:lnTo>
                  <a:lnTo>
                    <a:pt x="197" y="335"/>
                  </a:lnTo>
                  <a:lnTo>
                    <a:pt x="215" y="318"/>
                  </a:lnTo>
                  <a:lnTo>
                    <a:pt x="219" y="308"/>
                  </a:lnTo>
                  <a:lnTo>
                    <a:pt x="230" y="304"/>
                  </a:lnTo>
                  <a:lnTo>
                    <a:pt x="238" y="299"/>
                  </a:lnTo>
                  <a:lnTo>
                    <a:pt x="242" y="291"/>
                  </a:lnTo>
                  <a:lnTo>
                    <a:pt x="234" y="287"/>
                  </a:lnTo>
                  <a:lnTo>
                    <a:pt x="226" y="281"/>
                  </a:lnTo>
                  <a:lnTo>
                    <a:pt x="219" y="277"/>
                  </a:lnTo>
                  <a:lnTo>
                    <a:pt x="213" y="281"/>
                  </a:lnTo>
                  <a:lnTo>
                    <a:pt x="217" y="285"/>
                  </a:lnTo>
                  <a:lnTo>
                    <a:pt x="215" y="291"/>
                  </a:lnTo>
                  <a:lnTo>
                    <a:pt x="205" y="297"/>
                  </a:lnTo>
                  <a:lnTo>
                    <a:pt x="197" y="297"/>
                  </a:lnTo>
                  <a:lnTo>
                    <a:pt x="188" y="295"/>
                  </a:lnTo>
                  <a:lnTo>
                    <a:pt x="180" y="293"/>
                  </a:lnTo>
                  <a:lnTo>
                    <a:pt x="166" y="293"/>
                  </a:lnTo>
                  <a:lnTo>
                    <a:pt x="153" y="295"/>
                  </a:lnTo>
                  <a:lnTo>
                    <a:pt x="141" y="297"/>
                  </a:lnTo>
                  <a:lnTo>
                    <a:pt x="129" y="300"/>
                  </a:lnTo>
                  <a:lnTo>
                    <a:pt x="118" y="302"/>
                  </a:lnTo>
                  <a:lnTo>
                    <a:pt x="106" y="306"/>
                  </a:lnTo>
                  <a:lnTo>
                    <a:pt x="95" y="308"/>
                  </a:lnTo>
                  <a:lnTo>
                    <a:pt x="83" y="312"/>
                  </a:lnTo>
                  <a:lnTo>
                    <a:pt x="69" y="310"/>
                  </a:lnTo>
                  <a:lnTo>
                    <a:pt x="58" y="308"/>
                  </a:lnTo>
                  <a:lnTo>
                    <a:pt x="52" y="297"/>
                  </a:lnTo>
                  <a:lnTo>
                    <a:pt x="48" y="285"/>
                  </a:lnTo>
                  <a:lnTo>
                    <a:pt x="46" y="273"/>
                  </a:lnTo>
                  <a:lnTo>
                    <a:pt x="56" y="266"/>
                  </a:lnTo>
                  <a:lnTo>
                    <a:pt x="71" y="254"/>
                  </a:lnTo>
                  <a:lnTo>
                    <a:pt x="91" y="252"/>
                  </a:lnTo>
                  <a:lnTo>
                    <a:pt x="108" y="248"/>
                  </a:lnTo>
                  <a:lnTo>
                    <a:pt x="128" y="240"/>
                  </a:lnTo>
                  <a:lnTo>
                    <a:pt x="129" y="233"/>
                  </a:lnTo>
                  <a:lnTo>
                    <a:pt x="135" y="227"/>
                  </a:lnTo>
                  <a:lnTo>
                    <a:pt x="139" y="219"/>
                  </a:lnTo>
                  <a:lnTo>
                    <a:pt x="139" y="213"/>
                  </a:lnTo>
                  <a:lnTo>
                    <a:pt x="141" y="211"/>
                  </a:lnTo>
                  <a:lnTo>
                    <a:pt x="143" y="225"/>
                  </a:lnTo>
                  <a:lnTo>
                    <a:pt x="151" y="240"/>
                  </a:lnTo>
                  <a:lnTo>
                    <a:pt x="161" y="254"/>
                  </a:lnTo>
                  <a:lnTo>
                    <a:pt x="172" y="268"/>
                  </a:lnTo>
                  <a:lnTo>
                    <a:pt x="188" y="266"/>
                  </a:lnTo>
                  <a:lnTo>
                    <a:pt x="205" y="260"/>
                  </a:lnTo>
                  <a:lnTo>
                    <a:pt x="219" y="248"/>
                  </a:lnTo>
                  <a:lnTo>
                    <a:pt x="230" y="233"/>
                  </a:lnTo>
                  <a:lnTo>
                    <a:pt x="230" y="221"/>
                  </a:lnTo>
                  <a:lnTo>
                    <a:pt x="232" y="209"/>
                  </a:lnTo>
                  <a:lnTo>
                    <a:pt x="230" y="198"/>
                  </a:lnTo>
                  <a:lnTo>
                    <a:pt x="230" y="188"/>
                  </a:lnTo>
                  <a:lnTo>
                    <a:pt x="223" y="167"/>
                  </a:lnTo>
                  <a:lnTo>
                    <a:pt x="211" y="151"/>
                  </a:lnTo>
                  <a:lnTo>
                    <a:pt x="201" y="143"/>
                  </a:lnTo>
                  <a:lnTo>
                    <a:pt x="192" y="142"/>
                  </a:lnTo>
                  <a:lnTo>
                    <a:pt x="182" y="140"/>
                  </a:lnTo>
                  <a:lnTo>
                    <a:pt x="174" y="142"/>
                  </a:lnTo>
                  <a:lnTo>
                    <a:pt x="161" y="149"/>
                  </a:lnTo>
                  <a:lnTo>
                    <a:pt x="149" y="161"/>
                  </a:lnTo>
                  <a:lnTo>
                    <a:pt x="147" y="173"/>
                  </a:lnTo>
                  <a:lnTo>
                    <a:pt x="145" y="188"/>
                  </a:lnTo>
                  <a:lnTo>
                    <a:pt x="137" y="173"/>
                  </a:lnTo>
                  <a:lnTo>
                    <a:pt x="133" y="157"/>
                  </a:lnTo>
                  <a:lnTo>
                    <a:pt x="124" y="143"/>
                  </a:lnTo>
                  <a:lnTo>
                    <a:pt x="110" y="138"/>
                  </a:lnTo>
                  <a:lnTo>
                    <a:pt x="93" y="138"/>
                  </a:lnTo>
                  <a:lnTo>
                    <a:pt x="83" y="143"/>
                  </a:lnTo>
                  <a:lnTo>
                    <a:pt x="73" y="145"/>
                  </a:lnTo>
                  <a:lnTo>
                    <a:pt x="65" y="155"/>
                  </a:lnTo>
                  <a:lnTo>
                    <a:pt x="65" y="157"/>
                  </a:lnTo>
                  <a:lnTo>
                    <a:pt x="65" y="138"/>
                  </a:lnTo>
                  <a:lnTo>
                    <a:pt x="81" y="138"/>
                  </a:lnTo>
                  <a:lnTo>
                    <a:pt x="95" y="126"/>
                  </a:lnTo>
                  <a:lnTo>
                    <a:pt x="106" y="114"/>
                  </a:lnTo>
                  <a:lnTo>
                    <a:pt x="124" y="111"/>
                  </a:lnTo>
                  <a:lnTo>
                    <a:pt x="128" y="103"/>
                  </a:lnTo>
                  <a:lnTo>
                    <a:pt x="128" y="97"/>
                  </a:lnTo>
                  <a:lnTo>
                    <a:pt x="114" y="93"/>
                  </a:lnTo>
                  <a:lnTo>
                    <a:pt x="102" y="97"/>
                  </a:lnTo>
                  <a:lnTo>
                    <a:pt x="91" y="103"/>
                  </a:lnTo>
                  <a:lnTo>
                    <a:pt x="81" y="112"/>
                  </a:lnTo>
                  <a:lnTo>
                    <a:pt x="75" y="118"/>
                  </a:lnTo>
                  <a:lnTo>
                    <a:pt x="71" y="126"/>
                  </a:lnTo>
                  <a:lnTo>
                    <a:pt x="71" y="107"/>
                  </a:lnTo>
                  <a:lnTo>
                    <a:pt x="75" y="89"/>
                  </a:lnTo>
                  <a:lnTo>
                    <a:pt x="79" y="72"/>
                  </a:lnTo>
                  <a:lnTo>
                    <a:pt x="85" y="54"/>
                  </a:lnTo>
                  <a:lnTo>
                    <a:pt x="91" y="37"/>
                  </a:lnTo>
                  <a:lnTo>
                    <a:pt x="102" y="21"/>
                  </a:lnTo>
                  <a:lnTo>
                    <a:pt x="114" y="10"/>
                  </a:lnTo>
                  <a:lnTo>
                    <a:pt x="131" y="2"/>
                  </a:lnTo>
                  <a:lnTo>
                    <a:pt x="143" y="0"/>
                  </a:lnTo>
                  <a:lnTo>
                    <a:pt x="155" y="6"/>
                  </a:lnTo>
                  <a:lnTo>
                    <a:pt x="166" y="12"/>
                  </a:lnTo>
                  <a:lnTo>
                    <a:pt x="178" y="17"/>
                  </a:lnTo>
                  <a:lnTo>
                    <a:pt x="195" y="19"/>
                  </a:lnTo>
                  <a:lnTo>
                    <a:pt x="211" y="29"/>
                  </a:lnTo>
                  <a:lnTo>
                    <a:pt x="226" y="37"/>
                  </a:lnTo>
                  <a:lnTo>
                    <a:pt x="246" y="41"/>
                  </a:lnTo>
                  <a:lnTo>
                    <a:pt x="257" y="39"/>
                  </a:lnTo>
                  <a:lnTo>
                    <a:pt x="271" y="39"/>
                  </a:lnTo>
                  <a:lnTo>
                    <a:pt x="283" y="39"/>
                  </a:lnTo>
                  <a:lnTo>
                    <a:pt x="298" y="39"/>
                  </a:lnTo>
                  <a:lnTo>
                    <a:pt x="310" y="39"/>
                  </a:lnTo>
                  <a:lnTo>
                    <a:pt x="321" y="43"/>
                  </a:lnTo>
                  <a:lnTo>
                    <a:pt x="331" y="50"/>
                  </a:lnTo>
                  <a:lnTo>
                    <a:pt x="339" y="64"/>
                  </a:lnTo>
                  <a:lnTo>
                    <a:pt x="335" y="78"/>
                  </a:lnTo>
                  <a:lnTo>
                    <a:pt x="329" y="87"/>
                  </a:lnTo>
                  <a:lnTo>
                    <a:pt x="320" y="95"/>
                  </a:lnTo>
                  <a:lnTo>
                    <a:pt x="312" y="111"/>
                  </a:lnTo>
                  <a:lnTo>
                    <a:pt x="302" y="126"/>
                  </a:lnTo>
                  <a:lnTo>
                    <a:pt x="296" y="143"/>
                  </a:lnTo>
                  <a:lnTo>
                    <a:pt x="294" y="163"/>
                  </a:lnTo>
                  <a:lnTo>
                    <a:pt x="294" y="182"/>
                  </a:lnTo>
                  <a:lnTo>
                    <a:pt x="294" y="200"/>
                  </a:lnTo>
                  <a:lnTo>
                    <a:pt x="298" y="219"/>
                  </a:lnTo>
                  <a:lnTo>
                    <a:pt x="304" y="237"/>
                  </a:lnTo>
                  <a:lnTo>
                    <a:pt x="312" y="254"/>
                  </a:lnTo>
                  <a:lnTo>
                    <a:pt x="316" y="258"/>
                  </a:lnTo>
                  <a:lnTo>
                    <a:pt x="321" y="256"/>
                  </a:lnTo>
                  <a:lnTo>
                    <a:pt x="327" y="248"/>
                  </a:lnTo>
                  <a:lnTo>
                    <a:pt x="333" y="244"/>
                  </a:lnTo>
                  <a:lnTo>
                    <a:pt x="335" y="235"/>
                  </a:lnTo>
                  <a:lnTo>
                    <a:pt x="343" y="225"/>
                  </a:lnTo>
                  <a:lnTo>
                    <a:pt x="351" y="217"/>
                  </a:lnTo>
                  <a:lnTo>
                    <a:pt x="362" y="215"/>
                  </a:lnTo>
                  <a:lnTo>
                    <a:pt x="374" y="215"/>
                  </a:lnTo>
                  <a:lnTo>
                    <a:pt x="387" y="219"/>
                  </a:lnTo>
                  <a:lnTo>
                    <a:pt x="401" y="231"/>
                  </a:lnTo>
                  <a:lnTo>
                    <a:pt x="405" y="248"/>
                  </a:lnTo>
                  <a:lnTo>
                    <a:pt x="403" y="266"/>
                  </a:lnTo>
                  <a:lnTo>
                    <a:pt x="405" y="285"/>
                  </a:lnTo>
                  <a:lnTo>
                    <a:pt x="397" y="297"/>
                  </a:lnTo>
                  <a:lnTo>
                    <a:pt x="389" y="310"/>
                  </a:lnTo>
                  <a:lnTo>
                    <a:pt x="378" y="322"/>
                  </a:lnTo>
                  <a:lnTo>
                    <a:pt x="364" y="330"/>
                  </a:lnTo>
                  <a:lnTo>
                    <a:pt x="353" y="330"/>
                  </a:lnTo>
                  <a:lnTo>
                    <a:pt x="341" y="328"/>
                  </a:lnTo>
                  <a:lnTo>
                    <a:pt x="331" y="326"/>
                  </a:lnTo>
                  <a:lnTo>
                    <a:pt x="325" y="335"/>
                  </a:lnTo>
                  <a:lnTo>
                    <a:pt x="327" y="345"/>
                  </a:lnTo>
                  <a:lnTo>
                    <a:pt x="329" y="357"/>
                  </a:lnTo>
                  <a:lnTo>
                    <a:pt x="329" y="366"/>
                  </a:lnTo>
                  <a:lnTo>
                    <a:pt x="331" y="378"/>
                  </a:lnTo>
                  <a:lnTo>
                    <a:pt x="329" y="388"/>
                  </a:lnTo>
                  <a:lnTo>
                    <a:pt x="329" y="399"/>
                  </a:lnTo>
                  <a:lnTo>
                    <a:pt x="325" y="409"/>
                  </a:lnTo>
                  <a:lnTo>
                    <a:pt x="323" y="421"/>
                  </a:lnTo>
                  <a:lnTo>
                    <a:pt x="314" y="430"/>
                  </a:lnTo>
                  <a:lnTo>
                    <a:pt x="304" y="440"/>
                  </a:lnTo>
                  <a:lnTo>
                    <a:pt x="292" y="446"/>
                  </a:lnTo>
                  <a:lnTo>
                    <a:pt x="281" y="452"/>
                  </a:lnTo>
                  <a:lnTo>
                    <a:pt x="267" y="458"/>
                  </a:lnTo>
                  <a:lnTo>
                    <a:pt x="256" y="463"/>
                  </a:lnTo>
                  <a:lnTo>
                    <a:pt x="244" y="473"/>
                  </a:lnTo>
                  <a:lnTo>
                    <a:pt x="238" y="487"/>
                  </a:lnTo>
                  <a:lnTo>
                    <a:pt x="225" y="492"/>
                  </a:lnTo>
                  <a:lnTo>
                    <a:pt x="213" y="498"/>
                  </a:lnTo>
                  <a:lnTo>
                    <a:pt x="201" y="500"/>
                  </a:lnTo>
                  <a:lnTo>
                    <a:pt x="190" y="510"/>
                  </a:lnTo>
                  <a:lnTo>
                    <a:pt x="178" y="522"/>
                  </a:lnTo>
                  <a:lnTo>
                    <a:pt x="168" y="537"/>
                  </a:lnTo>
                  <a:lnTo>
                    <a:pt x="157" y="551"/>
                  </a:lnTo>
                  <a:lnTo>
                    <a:pt x="145" y="566"/>
                  </a:lnTo>
                  <a:lnTo>
                    <a:pt x="131" y="576"/>
                  </a:lnTo>
                  <a:lnTo>
                    <a:pt x="118" y="584"/>
                  </a:lnTo>
                  <a:lnTo>
                    <a:pt x="100" y="585"/>
                  </a:lnTo>
                  <a:lnTo>
                    <a:pt x="83" y="582"/>
                  </a:lnTo>
                  <a:lnTo>
                    <a:pt x="71" y="578"/>
                  </a:lnTo>
                  <a:lnTo>
                    <a:pt x="65" y="572"/>
                  </a:lnTo>
                  <a:lnTo>
                    <a:pt x="58" y="566"/>
                  </a:lnTo>
                  <a:lnTo>
                    <a:pt x="50" y="568"/>
                  </a:lnTo>
                  <a:lnTo>
                    <a:pt x="31" y="549"/>
                  </a:lnTo>
                  <a:lnTo>
                    <a:pt x="23" y="529"/>
                  </a:lnTo>
                  <a:lnTo>
                    <a:pt x="19" y="508"/>
                  </a:lnTo>
                  <a:lnTo>
                    <a:pt x="21" y="489"/>
                  </a:lnTo>
                  <a:lnTo>
                    <a:pt x="23" y="465"/>
                  </a:lnTo>
                  <a:lnTo>
                    <a:pt x="25" y="444"/>
                  </a:lnTo>
                  <a:lnTo>
                    <a:pt x="23" y="423"/>
                  </a:lnTo>
                  <a:lnTo>
                    <a:pt x="17" y="405"/>
                  </a:lnTo>
                  <a:lnTo>
                    <a:pt x="15" y="395"/>
                  </a:lnTo>
                  <a:lnTo>
                    <a:pt x="9" y="386"/>
                  </a:lnTo>
                  <a:lnTo>
                    <a:pt x="5" y="370"/>
                  </a:lnTo>
                  <a:lnTo>
                    <a:pt x="1" y="359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8"/>
                  </a:lnTo>
                  <a:lnTo>
                    <a:pt x="3" y="306"/>
                  </a:lnTo>
                  <a:lnTo>
                    <a:pt x="7" y="295"/>
                  </a:lnTo>
                  <a:lnTo>
                    <a:pt x="19" y="28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36400" y="4540320"/>
              <a:ext cx="17280" cy="2124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5" y="0"/>
                  </a:moveTo>
                  <a:lnTo>
                    <a:pt x="23" y="0"/>
                  </a:lnTo>
                  <a:lnTo>
                    <a:pt x="17" y="13"/>
                  </a:lnTo>
                  <a:lnTo>
                    <a:pt x="19" y="33"/>
                  </a:lnTo>
                  <a:lnTo>
                    <a:pt x="6" y="27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4040" y="4799880"/>
              <a:ext cx="174600" cy="143280"/>
            </a:xfrm>
            <a:custGeom>
              <a:avLst/>
              <a:gdLst/>
              <a:ahLst/>
              <a:rect l="l" t="t" r="r" b="b"/>
              <a:pathLst>
                <a:path w="241" h="216">
                  <a:moveTo>
                    <a:pt x="86" y="62"/>
                  </a:moveTo>
                  <a:lnTo>
                    <a:pt x="86" y="53"/>
                  </a:lnTo>
                  <a:lnTo>
                    <a:pt x="86" y="4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80" y="16"/>
                  </a:lnTo>
                  <a:lnTo>
                    <a:pt x="70" y="10"/>
                  </a:lnTo>
                  <a:lnTo>
                    <a:pt x="60" y="4"/>
                  </a:lnTo>
                  <a:lnTo>
                    <a:pt x="51" y="2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82" y="10"/>
                  </a:lnTo>
                  <a:lnTo>
                    <a:pt x="93" y="20"/>
                  </a:lnTo>
                  <a:lnTo>
                    <a:pt x="103" y="28"/>
                  </a:lnTo>
                  <a:lnTo>
                    <a:pt x="115" y="37"/>
                  </a:lnTo>
                  <a:lnTo>
                    <a:pt x="126" y="45"/>
                  </a:lnTo>
                  <a:lnTo>
                    <a:pt x="142" y="51"/>
                  </a:lnTo>
                  <a:lnTo>
                    <a:pt x="155" y="59"/>
                  </a:lnTo>
                  <a:lnTo>
                    <a:pt x="171" y="68"/>
                  </a:lnTo>
                  <a:lnTo>
                    <a:pt x="184" y="76"/>
                  </a:lnTo>
                  <a:lnTo>
                    <a:pt x="198" y="88"/>
                  </a:lnTo>
                  <a:lnTo>
                    <a:pt x="208" y="97"/>
                  </a:lnTo>
                  <a:lnTo>
                    <a:pt x="219" y="111"/>
                  </a:lnTo>
                  <a:lnTo>
                    <a:pt x="229" y="124"/>
                  </a:lnTo>
                  <a:lnTo>
                    <a:pt x="241" y="144"/>
                  </a:lnTo>
                  <a:lnTo>
                    <a:pt x="239" y="194"/>
                  </a:lnTo>
                  <a:lnTo>
                    <a:pt x="227" y="190"/>
                  </a:lnTo>
                  <a:lnTo>
                    <a:pt x="223" y="198"/>
                  </a:lnTo>
                  <a:lnTo>
                    <a:pt x="221" y="208"/>
                  </a:lnTo>
                  <a:lnTo>
                    <a:pt x="215" y="216"/>
                  </a:lnTo>
                  <a:lnTo>
                    <a:pt x="196" y="212"/>
                  </a:lnTo>
                  <a:lnTo>
                    <a:pt x="179" y="210"/>
                  </a:lnTo>
                  <a:lnTo>
                    <a:pt x="161" y="204"/>
                  </a:lnTo>
                  <a:lnTo>
                    <a:pt x="148" y="194"/>
                  </a:lnTo>
                  <a:lnTo>
                    <a:pt x="132" y="187"/>
                  </a:lnTo>
                  <a:lnTo>
                    <a:pt x="124" y="173"/>
                  </a:lnTo>
                  <a:lnTo>
                    <a:pt x="119" y="157"/>
                  </a:lnTo>
                  <a:lnTo>
                    <a:pt x="111" y="146"/>
                  </a:lnTo>
                  <a:lnTo>
                    <a:pt x="8" y="144"/>
                  </a:lnTo>
                  <a:lnTo>
                    <a:pt x="4" y="140"/>
                  </a:lnTo>
                  <a:lnTo>
                    <a:pt x="16" y="132"/>
                  </a:lnTo>
                  <a:lnTo>
                    <a:pt x="29" y="130"/>
                  </a:lnTo>
                  <a:lnTo>
                    <a:pt x="41" y="128"/>
                  </a:lnTo>
                  <a:lnTo>
                    <a:pt x="56" y="130"/>
                  </a:lnTo>
                  <a:lnTo>
                    <a:pt x="68" y="128"/>
                  </a:lnTo>
                  <a:lnTo>
                    <a:pt x="82" y="128"/>
                  </a:lnTo>
                  <a:lnTo>
                    <a:pt x="93" y="124"/>
                  </a:lnTo>
                  <a:lnTo>
                    <a:pt x="107" y="119"/>
                  </a:lnTo>
                  <a:lnTo>
                    <a:pt x="105" y="105"/>
                  </a:lnTo>
                  <a:lnTo>
                    <a:pt x="99" y="97"/>
                  </a:lnTo>
                  <a:lnTo>
                    <a:pt x="89" y="92"/>
                  </a:lnTo>
                  <a:lnTo>
                    <a:pt x="82" y="88"/>
                  </a:lnTo>
                  <a:lnTo>
                    <a:pt x="60" y="82"/>
                  </a:lnTo>
                  <a:lnTo>
                    <a:pt x="41" y="80"/>
                  </a:lnTo>
                  <a:lnTo>
                    <a:pt x="29" y="78"/>
                  </a:lnTo>
                  <a:lnTo>
                    <a:pt x="18" y="76"/>
                  </a:lnTo>
                  <a:lnTo>
                    <a:pt x="8" y="74"/>
                  </a:lnTo>
                  <a:lnTo>
                    <a:pt x="0" y="72"/>
                  </a:lnTo>
                  <a:lnTo>
                    <a:pt x="10" y="68"/>
                  </a:lnTo>
                  <a:lnTo>
                    <a:pt x="20" y="66"/>
                  </a:lnTo>
                  <a:lnTo>
                    <a:pt x="31" y="64"/>
                  </a:lnTo>
                  <a:lnTo>
                    <a:pt x="43" y="64"/>
                  </a:lnTo>
                  <a:lnTo>
                    <a:pt x="53" y="62"/>
                  </a:lnTo>
                  <a:lnTo>
                    <a:pt x="62" y="60"/>
                  </a:lnTo>
                  <a:lnTo>
                    <a:pt x="74" y="60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5480" y="4536360"/>
              <a:ext cx="24480" cy="3060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0"/>
                  </a:moveTo>
                  <a:lnTo>
                    <a:pt x="31" y="10"/>
                  </a:lnTo>
                  <a:lnTo>
                    <a:pt x="29" y="23"/>
                  </a:lnTo>
                  <a:lnTo>
                    <a:pt x="27" y="35"/>
                  </a:lnTo>
                  <a:lnTo>
                    <a:pt x="31" y="46"/>
                  </a:lnTo>
                  <a:lnTo>
                    <a:pt x="12" y="41"/>
                  </a:lnTo>
                  <a:lnTo>
                    <a:pt x="0" y="29"/>
                  </a:lnTo>
                  <a:lnTo>
                    <a:pt x="2" y="15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240" y="4541400"/>
              <a:ext cx="99000" cy="6012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50"/>
                  </a:moveTo>
                  <a:lnTo>
                    <a:pt x="11" y="50"/>
                  </a:lnTo>
                  <a:lnTo>
                    <a:pt x="25" y="52"/>
                  </a:lnTo>
                  <a:lnTo>
                    <a:pt x="37" y="50"/>
                  </a:lnTo>
                  <a:lnTo>
                    <a:pt x="50" y="50"/>
                  </a:lnTo>
                  <a:lnTo>
                    <a:pt x="62" y="44"/>
                  </a:lnTo>
                  <a:lnTo>
                    <a:pt x="74" y="40"/>
                  </a:lnTo>
                  <a:lnTo>
                    <a:pt x="85" y="34"/>
                  </a:lnTo>
                  <a:lnTo>
                    <a:pt x="99" y="31"/>
                  </a:lnTo>
                  <a:lnTo>
                    <a:pt x="108" y="25"/>
                  </a:lnTo>
                  <a:lnTo>
                    <a:pt x="116" y="17"/>
                  </a:lnTo>
                  <a:lnTo>
                    <a:pt x="124" y="7"/>
                  </a:lnTo>
                  <a:lnTo>
                    <a:pt x="136" y="0"/>
                  </a:lnTo>
                  <a:lnTo>
                    <a:pt x="126" y="17"/>
                  </a:lnTo>
                  <a:lnTo>
                    <a:pt x="118" y="36"/>
                  </a:lnTo>
                  <a:lnTo>
                    <a:pt x="108" y="56"/>
                  </a:lnTo>
                  <a:lnTo>
                    <a:pt x="95" y="75"/>
                  </a:lnTo>
                  <a:lnTo>
                    <a:pt x="75" y="79"/>
                  </a:lnTo>
                  <a:lnTo>
                    <a:pt x="56" y="85"/>
                  </a:lnTo>
                  <a:lnTo>
                    <a:pt x="46" y="87"/>
                  </a:lnTo>
                  <a:lnTo>
                    <a:pt x="37" y="89"/>
                  </a:lnTo>
                  <a:lnTo>
                    <a:pt x="27" y="89"/>
                  </a:lnTo>
                  <a:lnTo>
                    <a:pt x="17" y="91"/>
                  </a:lnTo>
                  <a:lnTo>
                    <a:pt x="10" y="79"/>
                  </a:lnTo>
                  <a:lnTo>
                    <a:pt x="8" y="67"/>
                  </a:lnTo>
                  <a:lnTo>
                    <a:pt x="4" y="5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62680" y="4645800"/>
              <a:ext cx="52200" cy="2664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8" y="0"/>
                  </a:moveTo>
                  <a:lnTo>
                    <a:pt x="15" y="0"/>
                  </a:lnTo>
                  <a:lnTo>
                    <a:pt x="23" y="5"/>
                  </a:lnTo>
                  <a:lnTo>
                    <a:pt x="23" y="15"/>
                  </a:lnTo>
                  <a:lnTo>
                    <a:pt x="31" y="25"/>
                  </a:lnTo>
                  <a:lnTo>
                    <a:pt x="42" y="27"/>
                  </a:lnTo>
                  <a:lnTo>
                    <a:pt x="54" y="23"/>
                  </a:lnTo>
                  <a:lnTo>
                    <a:pt x="64" y="21"/>
                  </a:lnTo>
                  <a:lnTo>
                    <a:pt x="72" y="29"/>
                  </a:lnTo>
                  <a:lnTo>
                    <a:pt x="60" y="35"/>
                  </a:lnTo>
                  <a:lnTo>
                    <a:pt x="48" y="38"/>
                  </a:lnTo>
                  <a:lnTo>
                    <a:pt x="35" y="38"/>
                  </a:lnTo>
                  <a:lnTo>
                    <a:pt x="23" y="38"/>
                  </a:lnTo>
                  <a:lnTo>
                    <a:pt x="8" y="27"/>
                  </a:lnTo>
                  <a:lnTo>
                    <a:pt x="0" y="11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74560" y="4423680"/>
              <a:ext cx="39240" cy="4932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20" y="4"/>
                  </a:moveTo>
                  <a:lnTo>
                    <a:pt x="27" y="0"/>
                  </a:lnTo>
                  <a:lnTo>
                    <a:pt x="37" y="2"/>
                  </a:lnTo>
                  <a:lnTo>
                    <a:pt x="45" y="8"/>
                  </a:lnTo>
                  <a:lnTo>
                    <a:pt x="53" y="18"/>
                  </a:lnTo>
                  <a:lnTo>
                    <a:pt x="53" y="29"/>
                  </a:lnTo>
                  <a:lnTo>
                    <a:pt x="55" y="41"/>
                  </a:lnTo>
                  <a:lnTo>
                    <a:pt x="53" y="53"/>
                  </a:lnTo>
                  <a:lnTo>
                    <a:pt x="49" y="66"/>
                  </a:lnTo>
                  <a:lnTo>
                    <a:pt x="43" y="56"/>
                  </a:lnTo>
                  <a:lnTo>
                    <a:pt x="35" y="51"/>
                  </a:lnTo>
                  <a:lnTo>
                    <a:pt x="22" y="51"/>
                  </a:lnTo>
                  <a:lnTo>
                    <a:pt x="16" y="60"/>
                  </a:lnTo>
                  <a:lnTo>
                    <a:pt x="10" y="70"/>
                  </a:lnTo>
                  <a:lnTo>
                    <a:pt x="2" y="76"/>
                  </a:lnTo>
                  <a:lnTo>
                    <a:pt x="0" y="56"/>
                  </a:lnTo>
                  <a:lnTo>
                    <a:pt x="2" y="37"/>
                  </a:lnTo>
                  <a:lnTo>
                    <a:pt x="8" y="1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83200" y="4533480"/>
              <a:ext cx="33120" cy="3312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7" y="0"/>
                  </a:moveTo>
                  <a:lnTo>
                    <a:pt x="35" y="0"/>
                  </a:lnTo>
                  <a:lnTo>
                    <a:pt x="33" y="14"/>
                  </a:lnTo>
                  <a:lnTo>
                    <a:pt x="37" y="29"/>
                  </a:lnTo>
                  <a:lnTo>
                    <a:pt x="41" y="35"/>
                  </a:lnTo>
                  <a:lnTo>
                    <a:pt x="46" y="41"/>
                  </a:lnTo>
                  <a:lnTo>
                    <a:pt x="37" y="45"/>
                  </a:lnTo>
                  <a:lnTo>
                    <a:pt x="27" y="46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2" y="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7960" y="4731480"/>
              <a:ext cx="124920" cy="87120"/>
            </a:xfrm>
            <a:custGeom>
              <a:avLst/>
              <a:gdLst/>
              <a:ahLst/>
              <a:rect l="l" t="t" r="r" b="b"/>
              <a:pathLst>
                <a:path w="173" h="129">
                  <a:moveTo>
                    <a:pt x="4" y="25"/>
                  </a:moveTo>
                  <a:lnTo>
                    <a:pt x="20" y="33"/>
                  </a:lnTo>
                  <a:lnTo>
                    <a:pt x="35" y="40"/>
                  </a:lnTo>
                  <a:lnTo>
                    <a:pt x="51" y="38"/>
                  </a:lnTo>
                  <a:lnTo>
                    <a:pt x="68" y="36"/>
                  </a:lnTo>
                  <a:lnTo>
                    <a:pt x="84" y="33"/>
                  </a:lnTo>
                  <a:lnTo>
                    <a:pt x="101" y="31"/>
                  </a:lnTo>
                  <a:lnTo>
                    <a:pt x="115" y="25"/>
                  </a:lnTo>
                  <a:lnTo>
                    <a:pt x="128" y="19"/>
                  </a:lnTo>
                  <a:lnTo>
                    <a:pt x="142" y="9"/>
                  </a:lnTo>
                  <a:lnTo>
                    <a:pt x="155" y="0"/>
                  </a:lnTo>
                  <a:lnTo>
                    <a:pt x="167" y="3"/>
                  </a:lnTo>
                  <a:lnTo>
                    <a:pt x="173" y="15"/>
                  </a:lnTo>
                  <a:lnTo>
                    <a:pt x="167" y="29"/>
                  </a:lnTo>
                  <a:lnTo>
                    <a:pt x="157" y="38"/>
                  </a:lnTo>
                  <a:lnTo>
                    <a:pt x="146" y="46"/>
                  </a:lnTo>
                  <a:lnTo>
                    <a:pt x="138" y="62"/>
                  </a:lnTo>
                  <a:lnTo>
                    <a:pt x="126" y="69"/>
                  </a:lnTo>
                  <a:lnTo>
                    <a:pt x="119" y="83"/>
                  </a:lnTo>
                  <a:lnTo>
                    <a:pt x="111" y="97"/>
                  </a:lnTo>
                  <a:lnTo>
                    <a:pt x="103" y="112"/>
                  </a:lnTo>
                  <a:lnTo>
                    <a:pt x="93" y="122"/>
                  </a:lnTo>
                  <a:lnTo>
                    <a:pt x="86" y="129"/>
                  </a:lnTo>
                  <a:lnTo>
                    <a:pt x="74" y="128"/>
                  </a:lnTo>
                  <a:lnTo>
                    <a:pt x="62" y="122"/>
                  </a:lnTo>
                  <a:lnTo>
                    <a:pt x="55" y="110"/>
                  </a:lnTo>
                  <a:lnTo>
                    <a:pt x="47" y="106"/>
                  </a:lnTo>
                  <a:lnTo>
                    <a:pt x="43" y="93"/>
                  </a:lnTo>
                  <a:lnTo>
                    <a:pt x="39" y="81"/>
                  </a:lnTo>
                  <a:lnTo>
                    <a:pt x="31" y="71"/>
                  </a:lnTo>
                  <a:lnTo>
                    <a:pt x="26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cc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3800" y="4647600"/>
              <a:ext cx="102960" cy="96120"/>
            </a:xfrm>
            <a:custGeom>
              <a:avLst/>
              <a:gdLst/>
              <a:ahLst/>
              <a:rect l="l" t="t" r="r" b="b"/>
              <a:pathLst>
                <a:path w="141" h="143">
                  <a:moveTo>
                    <a:pt x="5" y="122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17" y="100"/>
                  </a:lnTo>
                  <a:lnTo>
                    <a:pt x="27" y="98"/>
                  </a:lnTo>
                  <a:lnTo>
                    <a:pt x="35" y="87"/>
                  </a:lnTo>
                  <a:lnTo>
                    <a:pt x="42" y="77"/>
                  </a:lnTo>
                  <a:lnTo>
                    <a:pt x="50" y="65"/>
                  </a:lnTo>
                  <a:lnTo>
                    <a:pt x="60" y="56"/>
                  </a:lnTo>
                  <a:lnTo>
                    <a:pt x="67" y="44"/>
                  </a:lnTo>
                  <a:lnTo>
                    <a:pt x="79" y="34"/>
                  </a:lnTo>
                  <a:lnTo>
                    <a:pt x="89" y="25"/>
                  </a:lnTo>
                  <a:lnTo>
                    <a:pt x="104" y="19"/>
                  </a:lnTo>
                  <a:lnTo>
                    <a:pt x="137" y="0"/>
                  </a:lnTo>
                  <a:lnTo>
                    <a:pt x="137" y="9"/>
                  </a:lnTo>
                  <a:lnTo>
                    <a:pt x="139" y="21"/>
                  </a:lnTo>
                  <a:lnTo>
                    <a:pt x="137" y="34"/>
                  </a:lnTo>
                  <a:lnTo>
                    <a:pt x="137" y="50"/>
                  </a:lnTo>
                  <a:lnTo>
                    <a:pt x="135" y="62"/>
                  </a:lnTo>
                  <a:lnTo>
                    <a:pt x="135" y="75"/>
                  </a:lnTo>
                  <a:lnTo>
                    <a:pt x="137" y="87"/>
                  </a:lnTo>
                  <a:lnTo>
                    <a:pt x="141" y="100"/>
                  </a:lnTo>
                  <a:lnTo>
                    <a:pt x="126" y="110"/>
                  </a:lnTo>
                  <a:lnTo>
                    <a:pt x="112" y="120"/>
                  </a:lnTo>
                  <a:lnTo>
                    <a:pt x="95" y="128"/>
                  </a:lnTo>
                  <a:lnTo>
                    <a:pt x="79" y="135"/>
                  </a:lnTo>
                  <a:lnTo>
                    <a:pt x="62" y="139"/>
                  </a:lnTo>
                  <a:lnTo>
                    <a:pt x="44" y="143"/>
                  </a:lnTo>
                  <a:lnTo>
                    <a:pt x="25" y="143"/>
                  </a:lnTo>
                  <a:lnTo>
                    <a:pt x="7" y="143"/>
                  </a:lnTo>
                  <a:lnTo>
                    <a:pt x="0" y="129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15240" y="4528080"/>
              <a:ext cx="28800" cy="266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0"/>
                  </a:moveTo>
                  <a:lnTo>
                    <a:pt x="19" y="2"/>
                  </a:lnTo>
                  <a:lnTo>
                    <a:pt x="29" y="8"/>
                  </a:lnTo>
                  <a:lnTo>
                    <a:pt x="34" y="14"/>
                  </a:lnTo>
                  <a:lnTo>
                    <a:pt x="38" y="25"/>
                  </a:lnTo>
                  <a:lnTo>
                    <a:pt x="29" y="35"/>
                  </a:lnTo>
                  <a:lnTo>
                    <a:pt x="17" y="4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080" y="4426200"/>
              <a:ext cx="41760" cy="5616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21" y="0"/>
                  </a:moveTo>
                  <a:lnTo>
                    <a:pt x="32" y="0"/>
                  </a:lnTo>
                  <a:lnTo>
                    <a:pt x="40" y="8"/>
                  </a:lnTo>
                  <a:lnTo>
                    <a:pt x="46" y="17"/>
                  </a:lnTo>
                  <a:lnTo>
                    <a:pt x="54" y="29"/>
                  </a:lnTo>
                  <a:lnTo>
                    <a:pt x="56" y="37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2" y="70"/>
                  </a:lnTo>
                  <a:lnTo>
                    <a:pt x="44" y="78"/>
                  </a:lnTo>
                  <a:lnTo>
                    <a:pt x="36" y="83"/>
                  </a:lnTo>
                  <a:lnTo>
                    <a:pt x="36" y="74"/>
                  </a:lnTo>
                  <a:lnTo>
                    <a:pt x="36" y="64"/>
                  </a:lnTo>
                  <a:lnTo>
                    <a:pt x="23" y="52"/>
                  </a:lnTo>
                  <a:lnTo>
                    <a:pt x="9" y="52"/>
                  </a:lnTo>
                  <a:lnTo>
                    <a:pt x="1" y="66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1" y="15"/>
                  </a:lnTo>
                  <a:lnTo>
                    <a:pt x="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1520" y="4524120"/>
              <a:ext cx="21600" cy="15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6"/>
                  </a:moveTo>
                  <a:lnTo>
                    <a:pt x="26" y="16"/>
                  </a:lnTo>
                  <a:lnTo>
                    <a:pt x="16" y="24"/>
                  </a:lnTo>
                  <a:lnTo>
                    <a:pt x="6" y="16"/>
                  </a:lnTo>
                  <a:lnTo>
                    <a:pt x="0" y="4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42600" y="4284360"/>
              <a:ext cx="193680" cy="184320"/>
            </a:xfrm>
            <a:custGeom>
              <a:avLst/>
              <a:gdLst/>
              <a:ahLst/>
              <a:rect l="l" t="t" r="r" b="b"/>
              <a:pathLst>
                <a:path w="266" h="277">
                  <a:moveTo>
                    <a:pt x="33" y="2"/>
                  </a:moveTo>
                  <a:lnTo>
                    <a:pt x="59" y="0"/>
                  </a:lnTo>
                  <a:lnTo>
                    <a:pt x="86" y="2"/>
                  </a:lnTo>
                  <a:lnTo>
                    <a:pt x="111" y="6"/>
                  </a:lnTo>
                  <a:lnTo>
                    <a:pt x="138" y="15"/>
                  </a:lnTo>
                  <a:lnTo>
                    <a:pt x="161" y="25"/>
                  </a:lnTo>
                  <a:lnTo>
                    <a:pt x="185" y="38"/>
                  </a:lnTo>
                  <a:lnTo>
                    <a:pt x="206" y="54"/>
                  </a:lnTo>
                  <a:lnTo>
                    <a:pt x="225" y="75"/>
                  </a:lnTo>
                  <a:lnTo>
                    <a:pt x="239" y="93"/>
                  </a:lnTo>
                  <a:lnTo>
                    <a:pt x="251" y="112"/>
                  </a:lnTo>
                  <a:lnTo>
                    <a:pt x="258" y="133"/>
                  </a:lnTo>
                  <a:lnTo>
                    <a:pt x="264" y="157"/>
                  </a:lnTo>
                  <a:lnTo>
                    <a:pt x="264" y="180"/>
                  </a:lnTo>
                  <a:lnTo>
                    <a:pt x="266" y="203"/>
                  </a:lnTo>
                  <a:lnTo>
                    <a:pt x="262" y="227"/>
                  </a:lnTo>
                  <a:lnTo>
                    <a:pt x="260" y="252"/>
                  </a:lnTo>
                  <a:lnTo>
                    <a:pt x="249" y="273"/>
                  </a:lnTo>
                  <a:lnTo>
                    <a:pt x="235" y="260"/>
                  </a:lnTo>
                  <a:lnTo>
                    <a:pt x="223" y="254"/>
                  </a:lnTo>
                  <a:lnTo>
                    <a:pt x="210" y="246"/>
                  </a:lnTo>
                  <a:lnTo>
                    <a:pt x="194" y="246"/>
                  </a:lnTo>
                  <a:lnTo>
                    <a:pt x="181" y="246"/>
                  </a:lnTo>
                  <a:lnTo>
                    <a:pt x="169" y="254"/>
                  </a:lnTo>
                  <a:lnTo>
                    <a:pt x="161" y="261"/>
                  </a:lnTo>
                  <a:lnTo>
                    <a:pt x="157" y="275"/>
                  </a:lnTo>
                  <a:lnTo>
                    <a:pt x="157" y="277"/>
                  </a:lnTo>
                  <a:lnTo>
                    <a:pt x="154" y="277"/>
                  </a:lnTo>
                  <a:lnTo>
                    <a:pt x="148" y="258"/>
                  </a:lnTo>
                  <a:lnTo>
                    <a:pt x="148" y="238"/>
                  </a:lnTo>
                  <a:lnTo>
                    <a:pt x="146" y="221"/>
                  </a:lnTo>
                  <a:lnTo>
                    <a:pt x="150" y="203"/>
                  </a:lnTo>
                  <a:lnTo>
                    <a:pt x="154" y="186"/>
                  </a:lnTo>
                  <a:lnTo>
                    <a:pt x="161" y="170"/>
                  </a:lnTo>
                  <a:lnTo>
                    <a:pt x="171" y="155"/>
                  </a:lnTo>
                  <a:lnTo>
                    <a:pt x="185" y="143"/>
                  </a:lnTo>
                  <a:lnTo>
                    <a:pt x="189" y="133"/>
                  </a:lnTo>
                  <a:lnTo>
                    <a:pt x="194" y="124"/>
                  </a:lnTo>
                  <a:lnTo>
                    <a:pt x="187" y="110"/>
                  </a:lnTo>
                  <a:lnTo>
                    <a:pt x="185" y="101"/>
                  </a:lnTo>
                  <a:lnTo>
                    <a:pt x="169" y="87"/>
                  </a:lnTo>
                  <a:lnTo>
                    <a:pt x="152" y="79"/>
                  </a:lnTo>
                  <a:lnTo>
                    <a:pt x="132" y="77"/>
                  </a:lnTo>
                  <a:lnTo>
                    <a:pt x="115" y="79"/>
                  </a:lnTo>
                  <a:lnTo>
                    <a:pt x="93" y="79"/>
                  </a:lnTo>
                  <a:lnTo>
                    <a:pt x="76" y="79"/>
                  </a:lnTo>
                  <a:lnTo>
                    <a:pt x="59" y="73"/>
                  </a:lnTo>
                  <a:lnTo>
                    <a:pt x="43" y="66"/>
                  </a:lnTo>
                  <a:lnTo>
                    <a:pt x="29" y="62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6" y="40"/>
                  </a:lnTo>
                  <a:lnTo>
                    <a:pt x="0" y="23"/>
                  </a:lnTo>
                  <a:lnTo>
                    <a:pt x="8" y="13"/>
                  </a:lnTo>
                  <a:lnTo>
                    <a:pt x="20" y="6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60240" y="4380840"/>
              <a:ext cx="37800" cy="212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0"/>
                  </a:moveTo>
                  <a:lnTo>
                    <a:pt x="13" y="0"/>
                  </a:lnTo>
                  <a:lnTo>
                    <a:pt x="29" y="8"/>
                  </a:lnTo>
                  <a:lnTo>
                    <a:pt x="40" y="18"/>
                  </a:lnTo>
                  <a:lnTo>
                    <a:pt x="52" y="31"/>
                  </a:lnTo>
                  <a:lnTo>
                    <a:pt x="40" y="33"/>
                  </a:lnTo>
                  <a:lnTo>
                    <a:pt x="35" y="27"/>
                  </a:lnTo>
                  <a:lnTo>
                    <a:pt x="25" y="18"/>
                  </a:lnTo>
                  <a:lnTo>
                    <a:pt x="17" y="16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6440" y="4752000"/>
              <a:ext cx="299520" cy="325080"/>
            </a:xfrm>
            <a:custGeom>
              <a:avLst/>
              <a:gdLst/>
              <a:ahLst/>
              <a:rect l="l" t="t" r="r" b="b"/>
              <a:pathLst>
                <a:path w="411" h="486">
                  <a:moveTo>
                    <a:pt x="68" y="13"/>
                  </a:moveTo>
                  <a:lnTo>
                    <a:pt x="79" y="7"/>
                  </a:lnTo>
                  <a:lnTo>
                    <a:pt x="93" y="2"/>
                  </a:lnTo>
                  <a:lnTo>
                    <a:pt x="105" y="0"/>
                  </a:lnTo>
                  <a:lnTo>
                    <a:pt x="118" y="4"/>
                  </a:lnTo>
                  <a:lnTo>
                    <a:pt x="122" y="13"/>
                  </a:lnTo>
                  <a:lnTo>
                    <a:pt x="132" y="21"/>
                  </a:lnTo>
                  <a:lnTo>
                    <a:pt x="142" y="23"/>
                  </a:lnTo>
                  <a:lnTo>
                    <a:pt x="153" y="25"/>
                  </a:lnTo>
                  <a:lnTo>
                    <a:pt x="165" y="23"/>
                  </a:lnTo>
                  <a:lnTo>
                    <a:pt x="176" y="23"/>
                  </a:lnTo>
                  <a:lnTo>
                    <a:pt x="188" y="23"/>
                  </a:lnTo>
                  <a:lnTo>
                    <a:pt x="202" y="27"/>
                  </a:lnTo>
                  <a:lnTo>
                    <a:pt x="213" y="29"/>
                  </a:lnTo>
                  <a:lnTo>
                    <a:pt x="225" y="31"/>
                  </a:lnTo>
                  <a:lnTo>
                    <a:pt x="237" y="31"/>
                  </a:lnTo>
                  <a:lnTo>
                    <a:pt x="250" y="35"/>
                  </a:lnTo>
                  <a:lnTo>
                    <a:pt x="260" y="36"/>
                  </a:lnTo>
                  <a:lnTo>
                    <a:pt x="271" y="42"/>
                  </a:lnTo>
                  <a:lnTo>
                    <a:pt x="281" y="50"/>
                  </a:lnTo>
                  <a:lnTo>
                    <a:pt x="289" y="64"/>
                  </a:lnTo>
                  <a:lnTo>
                    <a:pt x="297" y="73"/>
                  </a:lnTo>
                  <a:lnTo>
                    <a:pt x="301" y="87"/>
                  </a:lnTo>
                  <a:lnTo>
                    <a:pt x="302" y="100"/>
                  </a:lnTo>
                  <a:lnTo>
                    <a:pt x="308" y="114"/>
                  </a:lnTo>
                  <a:lnTo>
                    <a:pt x="310" y="131"/>
                  </a:lnTo>
                  <a:lnTo>
                    <a:pt x="316" y="151"/>
                  </a:lnTo>
                  <a:lnTo>
                    <a:pt x="324" y="168"/>
                  </a:lnTo>
                  <a:lnTo>
                    <a:pt x="332" y="188"/>
                  </a:lnTo>
                  <a:lnTo>
                    <a:pt x="337" y="203"/>
                  </a:lnTo>
                  <a:lnTo>
                    <a:pt x="347" y="221"/>
                  </a:lnTo>
                  <a:lnTo>
                    <a:pt x="353" y="238"/>
                  </a:lnTo>
                  <a:lnTo>
                    <a:pt x="359" y="256"/>
                  </a:lnTo>
                  <a:lnTo>
                    <a:pt x="355" y="269"/>
                  </a:lnTo>
                  <a:lnTo>
                    <a:pt x="359" y="285"/>
                  </a:lnTo>
                  <a:lnTo>
                    <a:pt x="363" y="298"/>
                  </a:lnTo>
                  <a:lnTo>
                    <a:pt x="370" y="314"/>
                  </a:lnTo>
                  <a:lnTo>
                    <a:pt x="372" y="325"/>
                  </a:lnTo>
                  <a:lnTo>
                    <a:pt x="380" y="339"/>
                  </a:lnTo>
                  <a:lnTo>
                    <a:pt x="386" y="349"/>
                  </a:lnTo>
                  <a:lnTo>
                    <a:pt x="392" y="364"/>
                  </a:lnTo>
                  <a:lnTo>
                    <a:pt x="394" y="374"/>
                  </a:lnTo>
                  <a:lnTo>
                    <a:pt x="399" y="385"/>
                  </a:lnTo>
                  <a:lnTo>
                    <a:pt x="403" y="397"/>
                  </a:lnTo>
                  <a:lnTo>
                    <a:pt x="407" y="409"/>
                  </a:lnTo>
                  <a:lnTo>
                    <a:pt x="409" y="420"/>
                  </a:lnTo>
                  <a:lnTo>
                    <a:pt x="411" y="434"/>
                  </a:lnTo>
                  <a:lnTo>
                    <a:pt x="411" y="446"/>
                  </a:lnTo>
                  <a:lnTo>
                    <a:pt x="411" y="459"/>
                  </a:lnTo>
                  <a:lnTo>
                    <a:pt x="396" y="473"/>
                  </a:lnTo>
                  <a:lnTo>
                    <a:pt x="378" y="482"/>
                  </a:lnTo>
                  <a:lnTo>
                    <a:pt x="366" y="482"/>
                  </a:lnTo>
                  <a:lnTo>
                    <a:pt x="357" y="484"/>
                  </a:lnTo>
                  <a:lnTo>
                    <a:pt x="345" y="484"/>
                  </a:lnTo>
                  <a:lnTo>
                    <a:pt x="337" y="486"/>
                  </a:lnTo>
                  <a:lnTo>
                    <a:pt x="341" y="482"/>
                  </a:lnTo>
                  <a:lnTo>
                    <a:pt x="345" y="480"/>
                  </a:lnTo>
                  <a:lnTo>
                    <a:pt x="308" y="477"/>
                  </a:lnTo>
                  <a:lnTo>
                    <a:pt x="277" y="467"/>
                  </a:lnTo>
                  <a:lnTo>
                    <a:pt x="250" y="449"/>
                  </a:lnTo>
                  <a:lnTo>
                    <a:pt x="227" y="432"/>
                  </a:lnTo>
                  <a:lnTo>
                    <a:pt x="202" y="409"/>
                  </a:lnTo>
                  <a:lnTo>
                    <a:pt x="178" y="387"/>
                  </a:lnTo>
                  <a:lnTo>
                    <a:pt x="149" y="366"/>
                  </a:lnTo>
                  <a:lnTo>
                    <a:pt x="120" y="351"/>
                  </a:lnTo>
                  <a:lnTo>
                    <a:pt x="109" y="349"/>
                  </a:lnTo>
                  <a:lnTo>
                    <a:pt x="103" y="343"/>
                  </a:lnTo>
                  <a:lnTo>
                    <a:pt x="103" y="335"/>
                  </a:lnTo>
                  <a:lnTo>
                    <a:pt x="101" y="329"/>
                  </a:lnTo>
                  <a:lnTo>
                    <a:pt x="105" y="329"/>
                  </a:lnTo>
                  <a:lnTo>
                    <a:pt x="109" y="327"/>
                  </a:lnTo>
                  <a:lnTo>
                    <a:pt x="105" y="325"/>
                  </a:lnTo>
                  <a:lnTo>
                    <a:pt x="101" y="325"/>
                  </a:lnTo>
                  <a:lnTo>
                    <a:pt x="107" y="320"/>
                  </a:lnTo>
                  <a:lnTo>
                    <a:pt x="101" y="312"/>
                  </a:lnTo>
                  <a:lnTo>
                    <a:pt x="105" y="300"/>
                  </a:lnTo>
                  <a:lnTo>
                    <a:pt x="105" y="290"/>
                  </a:lnTo>
                  <a:lnTo>
                    <a:pt x="93" y="294"/>
                  </a:lnTo>
                  <a:lnTo>
                    <a:pt x="91" y="287"/>
                  </a:lnTo>
                  <a:lnTo>
                    <a:pt x="87" y="283"/>
                  </a:lnTo>
                  <a:lnTo>
                    <a:pt x="83" y="283"/>
                  </a:lnTo>
                  <a:lnTo>
                    <a:pt x="83" y="275"/>
                  </a:lnTo>
                  <a:lnTo>
                    <a:pt x="89" y="271"/>
                  </a:lnTo>
                  <a:lnTo>
                    <a:pt x="95" y="271"/>
                  </a:lnTo>
                  <a:lnTo>
                    <a:pt x="105" y="273"/>
                  </a:lnTo>
                  <a:lnTo>
                    <a:pt x="112" y="273"/>
                  </a:lnTo>
                  <a:lnTo>
                    <a:pt x="120" y="271"/>
                  </a:lnTo>
                  <a:lnTo>
                    <a:pt x="116" y="258"/>
                  </a:lnTo>
                  <a:lnTo>
                    <a:pt x="110" y="252"/>
                  </a:lnTo>
                  <a:lnTo>
                    <a:pt x="97" y="252"/>
                  </a:lnTo>
                  <a:lnTo>
                    <a:pt x="91" y="246"/>
                  </a:lnTo>
                  <a:lnTo>
                    <a:pt x="91" y="240"/>
                  </a:lnTo>
                  <a:lnTo>
                    <a:pt x="97" y="236"/>
                  </a:lnTo>
                  <a:lnTo>
                    <a:pt x="107" y="238"/>
                  </a:lnTo>
                  <a:lnTo>
                    <a:pt x="116" y="242"/>
                  </a:lnTo>
                  <a:lnTo>
                    <a:pt x="126" y="242"/>
                  </a:lnTo>
                  <a:lnTo>
                    <a:pt x="134" y="236"/>
                  </a:lnTo>
                  <a:lnTo>
                    <a:pt x="142" y="228"/>
                  </a:lnTo>
                  <a:lnTo>
                    <a:pt x="142" y="223"/>
                  </a:lnTo>
                  <a:lnTo>
                    <a:pt x="138" y="217"/>
                  </a:lnTo>
                  <a:lnTo>
                    <a:pt x="145" y="211"/>
                  </a:lnTo>
                  <a:lnTo>
                    <a:pt x="159" y="205"/>
                  </a:lnTo>
                  <a:lnTo>
                    <a:pt x="174" y="209"/>
                  </a:lnTo>
                  <a:lnTo>
                    <a:pt x="190" y="215"/>
                  </a:lnTo>
                  <a:lnTo>
                    <a:pt x="206" y="221"/>
                  </a:lnTo>
                  <a:lnTo>
                    <a:pt x="231" y="232"/>
                  </a:lnTo>
                  <a:lnTo>
                    <a:pt x="256" y="252"/>
                  </a:lnTo>
                  <a:lnTo>
                    <a:pt x="277" y="273"/>
                  </a:lnTo>
                  <a:lnTo>
                    <a:pt x="297" y="298"/>
                  </a:lnTo>
                  <a:lnTo>
                    <a:pt x="312" y="321"/>
                  </a:lnTo>
                  <a:lnTo>
                    <a:pt x="328" y="349"/>
                  </a:lnTo>
                  <a:lnTo>
                    <a:pt x="341" y="376"/>
                  </a:lnTo>
                  <a:lnTo>
                    <a:pt x="355" y="403"/>
                  </a:lnTo>
                  <a:lnTo>
                    <a:pt x="363" y="403"/>
                  </a:lnTo>
                  <a:lnTo>
                    <a:pt x="370" y="399"/>
                  </a:lnTo>
                  <a:lnTo>
                    <a:pt x="368" y="384"/>
                  </a:lnTo>
                  <a:lnTo>
                    <a:pt x="365" y="370"/>
                  </a:lnTo>
                  <a:lnTo>
                    <a:pt x="359" y="354"/>
                  </a:lnTo>
                  <a:lnTo>
                    <a:pt x="353" y="341"/>
                  </a:lnTo>
                  <a:lnTo>
                    <a:pt x="345" y="325"/>
                  </a:lnTo>
                  <a:lnTo>
                    <a:pt x="339" y="314"/>
                  </a:lnTo>
                  <a:lnTo>
                    <a:pt x="334" y="300"/>
                  </a:lnTo>
                  <a:lnTo>
                    <a:pt x="332" y="289"/>
                  </a:lnTo>
                  <a:lnTo>
                    <a:pt x="320" y="279"/>
                  </a:lnTo>
                  <a:lnTo>
                    <a:pt x="308" y="271"/>
                  </a:lnTo>
                  <a:lnTo>
                    <a:pt x="297" y="261"/>
                  </a:lnTo>
                  <a:lnTo>
                    <a:pt x="287" y="254"/>
                  </a:lnTo>
                  <a:lnTo>
                    <a:pt x="275" y="242"/>
                  </a:lnTo>
                  <a:lnTo>
                    <a:pt x="266" y="232"/>
                  </a:lnTo>
                  <a:lnTo>
                    <a:pt x="254" y="225"/>
                  </a:lnTo>
                  <a:lnTo>
                    <a:pt x="244" y="219"/>
                  </a:lnTo>
                  <a:lnTo>
                    <a:pt x="235" y="205"/>
                  </a:lnTo>
                  <a:lnTo>
                    <a:pt x="223" y="197"/>
                  </a:lnTo>
                  <a:lnTo>
                    <a:pt x="209" y="188"/>
                  </a:lnTo>
                  <a:lnTo>
                    <a:pt x="198" y="178"/>
                  </a:lnTo>
                  <a:lnTo>
                    <a:pt x="192" y="168"/>
                  </a:lnTo>
                  <a:lnTo>
                    <a:pt x="184" y="166"/>
                  </a:lnTo>
                  <a:lnTo>
                    <a:pt x="173" y="168"/>
                  </a:lnTo>
                  <a:lnTo>
                    <a:pt x="167" y="168"/>
                  </a:lnTo>
                  <a:lnTo>
                    <a:pt x="151" y="174"/>
                  </a:lnTo>
                  <a:lnTo>
                    <a:pt x="143" y="190"/>
                  </a:lnTo>
                  <a:lnTo>
                    <a:pt x="132" y="197"/>
                  </a:lnTo>
                  <a:lnTo>
                    <a:pt x="116" y="194"/>
                  </a:lnTo>
                  <a:lnTo>
                    <a:pt x="107" y="190"/>
                  </a:lnTo>
                  <a:lnTo>
                    <a:pt x="97" y="190"/>
                  </a:lnTo>
                  <a:lnTo>
                    <a:pt x="89" y="186"/>
                  </a:lnTo>
                  <a:lnTo>
                    <a:pt x="85" y="180"/>
                  </a:lnTo>
                  <a:lnTo>
                    <a:pt x="74" y="170"/>
                  </a:lnTo>
                  <a:lnTo>
                    <a:pt x="62" y="163"/>
                  </a:lnTo>
                  <a:lnTo>
                    <a:pt x="52" y="153"/>
                  </a:lnTo>
                  <a:lnTo>
                    <a:pt x="43" y="145"/>
                  </a:lnTo>
                  <a:lnTo>
                    <a:pt x="33" y="133"/>
                  </a:lnTo>
                  <a:lnTo>
                    <a:pt x="23" y="128"/>
                  </a:lnTo>
                  <a:lnTo>
                    <a:pt x="12" y="120"/>
                  </a:lnTo>
                  <a:lnTo>
                    <a:pt x="0" y="116"/>
                  </a:lnTo>
                  <a:lnTo>
                    <a:pt x="4" y="99"/>
                  </a:lnTo>
                  <a:lnTo>
                    <a:pt x="10" y="87"/>
                  </a:lnTo>
                  <a:lnTo>
                    <a:pt x="17" y="73"/>
                  </a:lnTo>
                  <a:lnTo>
                    <a:pt x="29" y="62"/>
                  </a:lnTo>
                  <a:lnTo>
                    <a:pt x="39" y="48"/>
                  </a:lnTo>
                  <a:lnTo>
                    <a:pt x="48" y="36"/>
                  </a:lnTo>
                  <a:lnTo>
                    <a:pt x="58" y="25"/>
                  </a:lnTo>
                  <a:lnTo>
                    <a:pt x="68" y="1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43400" y="4892760"/>
              <a:ext cx="24480" cy="115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0"/>
                  </a:moveTo>
                  <a:lnTo>
                    <a:pt x="35" y="17"/>
                  </a:lnTo>
                  <a:lnTo>
                    <a:pt x="1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4920" y="5489640"/>
              <a:ext cx="357840" cy="225000"/>
            </a:xfrm>
            <a:custGeom>
              <a:avLst/>
              <a:gdLst/>
              <a:ahLst/>
              <a:rect l="l" t="t" r="r" b="b"/>
              <a:pathLst>
                <a:path w="490" h="335">
                  <a:moveTo>
                    <a:pt x="118" y="8"/>
                  </a:moveTo>
                  <a:lnTo>
                    <a:pt x="135" y="6"/>
                  </a:lnTo>
                  <a:lnTo>
                    <a:pt x="153" y="4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09" y="0"/>
                  </a:lnTo>
                  <a:lnTo>
                    <a:pt x="226" y="2"/>
                  </a:lnTo>
                  <a:lnTo>
                    <a:pt x="244" y="8"/>
                  </a:lnTo>
                  <a:lnTo>
                    <a:pt x="263" y="19"/>
                  </a:lnTo>
                  <a:lnTo>
                    <a:pt x="269" y="17"/>
                  </a:lnTo>
                  <a:lnTo>
                    <a:pt x="273" y="21"/>
                  </a:lnTo>
                  <a:lnTo>
                    <a:pt x="277" y="23"/>
                  </a:lnTo>
                  <a:lnTo>
                    <a:pt x="285" y="27"/>
                  </a:lnTo>
                  <a:lnTo>
                    <a:pt x="304" y="41"/>
                  </a:lnTo>
                  <a:lnTo>
                    <a:pt x="323" y="58"/>
                  </a:lnTo>
                  <a:lnTo>
                    <a:pt x="341" y="75"/>
                  </a:lnTo>
                  <a:lnTo>
                    <a:pt x="358" y="95"/>
                  </a:lnTo>
                  <a:lnTo>
                    <a:pt x="372" y="112"/>
                  </a:lnTo>
                  <a:lnTo>
                    <a:pt x="387" y="134"/>
                  </a:lnTo>
                  <a:lnTo>
                    <a:pt x="401" y="155"/>
                  </a:lnTo>
                  <a:lnTo>
                    <a:pt x="417" y="176"/>
                  </a:lnTo>
                  <a:lnTo>
                    <a:pt x="428" y="188"/>
                  </a:lnTo>
                  <a:lnTo>
                    <a:pt x="438" y="203"/>
                  </a:lnTo>
                  <a:lnTo>
                    <a:pt x="440" y="213"/>
                  </a:lnTo>
                  <a:lnTo>
                    <a:pt x="446" y="223"/>
                  </a:lnTo>
                  <a:lnTo>
                    <a:pt x="449" y="232"/>
                  </a:lnTo>
                  <a:lnTo>
                    <a:pt x="455" y="244"/>
                  </a:lnTo>
                  <a:lnTo>
                    <a:pt x="461" y="262"/>
                  </a:lnTo>
                  <a:lnTo>
                    <a:pt x="467" y="283"/>
                  </a:lnTo>
                  <a:lnTo>
                    <a:pt x="475" y="298"/>
                  </a:lnTo>
                  <a:lnTo>
                    <a:pt x="490" y="310"/>
                  </a:lnTo>
                  <a:lnTo>
                    <a:pt x="486" y="310"/>
                  </a:lnTo>
                  <a:lnTo>
                    <a:pt x="482" y="314"/>
                  </a:lnTo>
                  <a:lnTo>
                    <a:pt x="484" y="316"/>
                  </a:lnTo>
                  <a:lnTo>
                    <a:pt x="217" y="335"/>
                  </a:lnTo>
                  <a:lnTo>
                    <a:pt x="211" y="308"/>
                  </a:lnTo>
                  <a:lnTo>
                    <a:pt x="207" y="281"/>
                  </a:lnTo>
                  <a:lnTo>
                    <a:pt x="199" y="254"/>
                  </a:lnTo>
                  <a:lnTo>
                    <a:pt x="192" y="227"/>
                  </a:lnTo>
                  <a:lnTo>
                    <a:pt x="180" y="198"/>
                  </a:lnTo>
                  <a:lnTo>
                    <a:pt x="170" y="172"/>
                  </a:lnTo>
                  <a:lnTo>
                    <a:pt x="159" y="145"/>
                  </a:lnTo>
                  <a:lnTo>
                    <a:pt x="147" y="122"/>
                  </a:lnTo>
                  <a:lnTo>
                    <a:pt x="131" y="103"/>
                  </a:lnTo>
                  <a:lnTo>
                    <a:pt x="116" y="85"/>
                  </a:lnTo>
                  <a:lnTo>
                    <a:pt x="98" y="68"/>
                  </a:lnTo>
                  <a:lnTo>
                    <a:pt x="81" y="54"/>
                  </a:lnTo>
                  <a:lnTo>
                    <a:pt x="62" y="39"/>
                  </a:lnTo>
                  <a:lnTo>
                    <a:pt x="42" y="27"/>
                  </a:lnTo>
                  <a:lnTo>
                    <a:pt x="21" y="17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6" y="9"/>
                  </a:lnTo>
                  <a:lnTo>
                    <a:pt x="69" y="9"/>
                  </a:lnTo>
                  <a:lnTo>
                    <a:pt x="87" y="9"/>
                  </a:lnTo>
                  <a:lnTo>
                    <a:pt x="100" y="8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56360" y="5929200"/>
              <a:ext cx="317160" cy="246240"/>
            </a:xfrm>
            <a:custGeom>
              <a:avLst/>
              <a:gdLst/>
              <a:ahLst/>
              <a:rect l="l" t="t" r="r" b="b"/>
              <a:pathLst>
                <a:path w="437" h="368">
                  <a:moveTo>
                    <a:pt x="0" y="66"/>
                  </a:moveTo>
                  <a:lnTo>
                    <a:pt x="10" y="64"/>
                  </a:lnTo>
                  <a:lnTo>
                    <a:pt x="22" y="62"/>
                  </a:lnTo>
                  <a:lnTo>
                    <a:pt x="35" y="62"/>
                  </a:lnTo>
                  <a:lnTo>
                    <a:pt x="49" y="62"/>
                  </a:lnTo>
                  <a:lnTo>
                    <a:pt x="61" y="62"/>
                  </a:lnTo>
                  <a:lnTo>
                    <a:pt x="74" y="62"/>
                  </a:lnTo>
                  <a:lnTo>
                    <a:pt x="84" y="64"/>
                  </a:lnTo>
                  <a:lnTo>
                    <a:pt x="96" y="70"/>
                  </a:lnTo>
                  <a:lnTo>
                    <a:pt x="128" y="140"/>
                  </a:lnTo>
                  <a:lnTo>
                    <a:pt x="140" y="153"/>
                  </a:lnTo>
                  <a:lnTo>
                    <a:pt x="158" y="167"/>
                  </a:lnTo>
                  <a:lnTo>
                    <a:pt x="173" y="178"/>
                  </a:lnTo>
                  <a:lnTo>
                    <a:pt x="192" y="192"/>
                  </a:lnTo>
                  <a:lnTo>
                    <a:pt x="210" y="200"/>
                  </a:lnTo>
                  <a:lnTo>
                    <a:pt x="231" y="208"/>
                  </a:lnTo>
                  <a:lnTo>
                    <a:pt x="253" y="208"/>
                  </a:lnTo>
                  <a:lnTo>
                    <a:pt x="276" y="206"/>
                  </a:lnTo>
                  <a:lnTo>
                    <a:pt x="289" y="198"/>
                  </a:lnTo>
                  <a:lnTo>
                    <a:pt x="303" y="190"/>
                  </a:lnTo>
                  <a:lnTo>
                    <a:pt x="315" y="180"/>
                  </a:lnTo>
                  <a:lnTo>
                    <a:pt x="326" y="171"/>
                  </a:lnTo>
                  <a:lnTo>
                    <a:pt x="336" y="157"/>
                  </a:lnTo>
                  <a:lnTo>
                    <a:pt x="344" y="145"/>
                  </a:lnTo>
                  <a:lnTo>
                    <a:pt x="350" y="132"/>
                  </a:lnTo>
                  <a:lnTo>
                    <a:pt x="357" y="118"/>
                  </a:lnTo>
                  <a:lnTo>
                    <a:pt x="359" y="107"/>
                  </a:lnTo>
                  <a:lnTo>
                    <a:pt x="365" y="97"/>
                  </a:lnTo>
                  <a:lnTo>
                    <a:pt x="367" y="76"/>
                  </a:lnTo>
                  <a:lnTo>
                    <a:pt x="371" y="56"/>
                  </a:lnTo>
                  <a:lnTo>
                    <a:pt x="371" y="45"/>
                  </a:lnTo>
                  <a:lnTo>
                    <a:pt x="371" y="35"/>
                  </a:lnTo>
                  <a:lnTo>
                    <a:pt x="369" y="23"/>
                  </a:lnTo>
                  <a:lnTo>
                    <a:pt x="369" y="14"/>
                  </a:lnTo>
                  <a:lnTo>
                    <a:pt x="383" y="10"/>
                  </a:lnTo>
                  <a:lnTo>
                    <a:pt x="398" y="6"/>
                  </a:lnTo>
                  <a:lnTo>
                    <a:pt x="414" y="2"/>
                  </a:lnTo>
                  <a:lnTo>
                    <a:pt x="429" y="0"/>
                  </a:lnTo>
                  <a:lnTo>
                    <a:pt x="437" y="14"/>
                  </a:lnTo>
                  <a:lnTo>
                    <a:pt x="435" y="14"/>
                  </a:lnTo>
                  <a:lnTo>
                    <a:pt x="431" y="27"/>
                  </a:lnTo>
                  <a:lnTo>
                    <a:pt x="429" y="43"/>
                  </a:lnTo>
                  <a:lnTo>
                    <a:pt x="425" y="56"/>
                  </a:lnTo>
                  <a:lnTo>
                    <a:pt x="429" y="72"/>
                  </a:lnTo>
                  <a:lnTo>
                    <a:pt x="429" y="83"/>
                  </a:lnTo>
                  <a:lnTo>
                    <a:pt x="427" y="97"/>
                  </a:lnTo>
                  <a:lnTo>
                    <a:pt x="425" y="109"/>
                  </a:lnTo>
                  <a:lnTo>
                    <a:pt x="431" y="124"/>
                  </a:lnTo>
                  <a:lnTo>
                    <a:pt x="423" y="130"/>
                  </a:lnTo>
                  <a:lnTo>
                    <a:pt x="421" y="140"/>
                  </a:lnTo>
                  <a:lnTo>
                    <a:pt x="421" y="147"/>
                  </a:lnTo>
                  <a:lnTo>
                    <a:pt x="423" y="157"/>
                  </a:lnTo>
                  <a:lnTo>
                    <a:pt x="417" y="178"/>
                  </a:lnTo>
                  <a:lnTo>
                    <a:pt x="412" y="202"/>
                  </a:lnTo>
                  <a:lnTo>
                    <a:pt x="404" y="223"/>
                  </a:lnTo>
                  <a:lnTo>
                    <a:pt x="396" y="244"/>
                  </a:lnTo>
                  <a:lnTo>
                    <a:pt x="384" y="264"/>
                  </a:lnTo>
                  <a:lnTo>
                    <a:pt x="373" y="285"/>
                  </a:lnTo>
                  <a:lnTo>
                    <a:pt x="361" y="304"/>
                  </a:lnTo>
                  <a:lnTo>
                    <a:pt x="350" y="324"/>
                  </a:lnTo>
                  <a:lnTo>
                    <a:pt x="340" y="334"/>
                  </a:lnTo>
                  <a:lnTo>
                    <a:pt x="330" y="343"/>
                  </a:lnTo>
                  <a:lnTo>
                    <a:pt x="319" y="351"/>
                  </a:lnTo>
                  <a:lnTo>
                    <a:pt x="307" y="359"/>
                  </a:lnTo>
                  <a:lnTo>
                    <a:pt x="293" y="363"/>
                  </a:lnTo>
                  <a:lnTo>
                    <a:pt x="282" y="368"/>
                  </a:lnTo>
                  <a:lnTo>
                    <a:pt x="268" y="366"/>
                  </a:lnTo>
                  <a:lnTo>
                    <a:pt x="255" y="366"/>
                  </a:lnTo>
                  <a:lnTo>
                    <a:pt x="216" y="357"/>
                  </a:lnTo>
                  <a:lnTo>
                    <a:pt x="181" y="343"/>
                  </a:lnTo>
                  <a:lnTo>
                    <a:pt x="148" y="322"/>
                  </a:lnTo>
                  <a:lnTo>
                    <a:pt x="119" y="297"/>
                  </a:lnTo>
                  <a:lnTo>
                    <a:pt x="90" y="266"/>
                  </a:lnTo>
                  <a:lnTo>
                    <a:pt x="66" y="233"/>
                  </a:lnTo>
                  <a:lnTo>
                    <a:pt x="43" y="200"/>
                  </a:lnTo>
                  <a:lnTo>
                    <a:pt x="28" y="167"/>
                  </a:lnTo>
                  <a:lnTo>
                    <a:pt x="22" y="153"/>
                  </a:lnTo>
                  <a:lnTo>
                    <a:pt x="18" y="142"/>
                  </a:lnTo>
                  <a:lnTo>
                    <a:pt x="14" y="130"/>
                  </a:lnTo>
                  <a:lnTo>
                    <a:pt x="12" y="118"/>
                  </a:lnTo>
                  <a:lnTo>
                    <a:pt x="8" y="107"/>
                  </a:lnTo>
                  <a:lnTo>
                    <a:pt x="6" y="95"/>
                  </a:lnTo>
                  <a:lnTo>
                    <a:pt x="2" y="83"/>
                  </a:lnTo>
                  <a:lnTo>
                    <a:pt x="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39520" y="5938560"/>
              <a:ext cx="171360" cy="118800"/>
            </a:xfrm>
            <a:custGeom>
              <a:avLst/>
              <a:gdLst/>
              <a:ahLst/>
              <a:rect l="l" t="t" r="r" b="b"/>
              <a:pathLst>
                <a:path w="235" h="178">
                  <a:moveTo>
                    <a:pt x="25" y="33"/>
                  </a:moveTo>
                  <a:lnTo>
                    <a:pt x="29" y="42"/>
                  </a:lnTo>
                  <a:lnTo>
                    <a:pt x="35" y="54"/>
                  </a:lnTo>
                  <a:lnTo>
                    <a:pt x="41" y="64"/>
                  </a:lnTo>
                  <a:lnTo>
                    <a:pt x="52" y="71"/>
                  </a:lnTo>
                  <a:lnTo>
                    <a:pt x="64" y="79"/>
                  </a:lnTo>
                  <a:lnTo>
                    <a:pt x="79" y="87"/>
                  </a:lnTo>
                  <a:lnTo>
                    <a:pt x="97" y="91"/>
                  </a:lnTo>
                  <a:lnTo>
                    <a:pt x="114" y="97"/>
                  </a:lnTo>
                  <a:lnTo>
                    <a:pt x="130" y="95"/>
                  </a:lnTo>
                  <a:lnTo>
                    <a:pt x="143" y="89"/>
                  </a:lnTo>
                  <a:lnTo>
                    <a:pt x="155" y="81"/>
                  </a:lnTo>
                  <a:lnTo>
                    <a:pt x="169" y="71"/>
                  </a:lnTo>
                  <a:lnTo>
                    <a:pt x="178" y="58"/>
                  </a:lnTo>
                  <a:lnTo>
                    <a:pt x="188" y="46"/>
                  </a:lnTo>
                  <a:lnTo>
                    <a:pt x="196" y="33"/>
                  </a:lnTo>
                  <a:lnTo>
                    <a:pt x="205" y="23"/>
                  </a:lnTo>
                  <a:lnTo>
                    <a:pt x="198" y="15"/>
                  </a:lnTo>
                  <a:lnTo>
                    <a:pt x="204" y="9"/>
                  </a:lnTo>
                  <a:lnTo>
                    <a:pt x="207" y="4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29" y="0"/>
                  </a:lnTo>
                  <a:lnTo>
                    <a:pt x="235" y="5"/>
                  </a:lnTo>
                  <a:lnTo>
                    <a:pt x="233" y="83"/>
                  </a:lnTo>
                  <a:lnTo>
                    <a:pt x="223" y="99"/>
                  </a:lnTo>
                  <a:lnTo>
                    <a:pt x="213" y="114"/>
                  </a:lnTo>
                  <a:lnTo>
                    <a:pt x="204" y="130"/>
                  </a:lnTo>
                  <a:lnTo>
                    <a:pt x="196" y="145"/>
                  </a:lnTo>
                  <a:lnTo>
                    <a:pt x="182" y="155"/>
                  </a:lnTo>
                  <a:lnTo>
                    <a:pt x="169" y="166"/>
                  </a:lnTo>
                  <a:lnTo>
                    <a:pt x="151" y="172"/>
                  </a:lnTo>
                  <a:lnTo>
                    <a:pt x="134" y="178"/>
                  </a:lnTo>
                  <a:lnTo>
                    <a:pt x="109" y="170"/>
                  </a:lnTo>
                  <a:lnTo>
                    <a:pt x="87" y="161"/>
                  </a:lnTo>
                  <a:lnTo>
                    <a:pt x="68" y="149"/>
                  </a:lnTo>
                  <a:lnTo>
                    <a:pt x="50" y="135"/>
                  </a:lnTo>
                  <a:lnTo>
                    <a:pt x="33" y="118"/>
                  </a:lnTo>
                  <a:lnTo>
                    <a:pt x="21" y="100"/>
                  </a:lnTo>
                  <a:lnTo>
                    <a:pt x="12" y="79"/>
                  </a:lnTo>
                  <a:lnTo>
                    <a:pt x="6" y="58"/>
                  </a:lnTo>
                  <a:lnTo>
                    <a:pt x="12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12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4160" y="5943960"/>
              <a:ext cx="87120" cy="4248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22"/>
                  </a:moveTo>
                  <a:lnTo>
                    <a:pt x="14" y="18"/>
                  </a:lnTo>
                  <a:lnTo>
                    <a:pt x="29" y="16"/>
                  </a:lnTo>
                  <a:lnTo>
                    <a:pt x="43" y="14"/>
                  </a:lnTo>
                  <a:lnTo>
                    <a:pt x="60" y="12"/>
                  </a:lnTo>
                  <a:lnTo>
                    <a:pt x="74" y="8"/>
                  </a:lnTo>
                  <a:lnTo>
                    <a:pt x="89" y="6"/>
                  </a:lnTo>
                  <a:lnTo>
                    <a:pt x="103" y="2"/>
                  </a:lnTo>
                  <a:lnTo>
                    <a:pt x="120" y="0"/>
                  </a:lnTo>
                  <a:lnTo>
                    <a:pt x="116" y="18"/>
                  </a:lnTo>
                  <a:lnTo>
                    <a:pt x="109" y="33"/>
                  </a:lnTo>
                  <a:lnTo>
                    <a:pt x="95" y="47"/>
                  </a:lnTo>
                  <a:lnTo>
                    <a:pt x="80" y="61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3" y="62"/>
                  </a:lnTo>
                  <a:lnTo>
                    <a:pt x="23" y="57"/>
                  </a:lnTo>
                  <a:lnTo>
                    <a:pt x="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60120" y="5480280"/>
              <a:ext cx="429120" cy="221040"/>
            </a:xfrm>
            <a:custGeom>
              <a:avLst/>
              <a:gdLst/>
              <a:ahLst/>
              <a:rect l="l" t="t" r="r" b="b"/>
              <a:pathLst>
                <a:path w="589" h="332">
                  <a:moveTo>
                    <a:pt x="0" y="18"/>
                  </a:moveTo>
                  <a:lnTo>
                    <a:pt x="52" y="12"/>
                  </a:lnTo>
                  <a:lnTo>
                    <a:pt x="104" y="10"/>
                  </a:lnTo>
                  <a:lnTo>
                    <a:pt x="159" y="6"/>
                  </a:lnTo>
                  <a:lnTo>
                    <a:pt x="213" y="4"/>
                  </a:lnTo>
                  <a:lnTo>
                    <a:pt x="267" y="2"/>
                  </a:lnTo>
                  <a:lnTo>
                    <a:pt x="322" y="0"/>
                  </a:lnTo>
                  <a:lnTo>
                    <a:pt x="376" y="0"/>
                  </a:lnTo>
                  <a:lnTo>
                    <a:pt x="430" y="2"/>
                  </a:lnTo>
                  <a:lnTo>
                    <a:pt x="457" y="16"/>
                  </a:lnTo>
                  <a:lnTo>
                    <a:pt x="485" y="37"/>
                  </a:lnTo>
                  <a:lnTo>
                    <a:pt x="506" y="62"/>
                  </a:lnTo>
                  <a:lnTo>
                    <a:pt x="527" y="93"/>
                  </a:lnTo>
                  <a:lnTo>
                    <a:pt x="543" y="122"/>
                  </a:lnTo>
                  <a:lnTo>
                    <a:pt x="558" y="155"/>
                  </a:lnTo>
                  <a:lnTo>
                    <a:pt x="568" y="186"/>
                  </a:lnTo>
                  <a:lnTo>
                    <a:pt x="580" y="219"/>
                  </a:lnTo>
                  <a:lnTo>
                    <a:pt x="580" y="229"/>
                  </a:lnTo>
                  <a:lnTo>
                    <a:pt x="582" y="241"/>
                  </a:lnTo>
                  <a:lnTo>
                    <a:pt x="584" y="252"/>
                  </a:lnTo>
                  <a:lnTo>
                    <a:pt x="585" y="266"/>
                  </a:lnTo>
                  <a:lnTo>
                    <a:pt x="585" y="278"/>
                  </a:lnTo>
                  <a:lnTo>
                    <a:pt x="587" y="291"/>
                  </a:lnTo>
                  <a:lnTo>
                    <a:pt x="587" y="303"/>
                  </a:lnTo>
                  <a:lnTo>
                    <a:pt x="589" y="316"/>
                  </a:lnTo>
                  <a:lnTo>
                    <a:pt x="572" y="309"/>
                  </a:lnTo>
                  <a:lnTo>
                    <a:pt x="554" y="305"/>
                  </a:lnTo>
                  <a:lnTo>
                    <a:pt x="537" y="301"/>
                  </a:lnTo>
                  <a:lnTo>
                    <a:pt x="520" y="301"/>
                  </a:lnTo>
                  <a:lnTo>
                    <a:pt x="500" y="301"/>
                  </a:lnTo>
                  <a:lnTo>
                    <a:pt x="483" y="301"/>
                  </a:lnTo>
                  <a:lnTo>
                    <a:pt x="463" y="303"/>
                  </a:lnTo>
                  <a:lnTo>
                    <a:pt x="446" y="307"/>
                  </a:lnTo>
                  <a:lnTo>
                    <a:pt x="417" y="307"/>
                  </a:lnTo>
                  <a:lnTo>
                    <a:pt x="388" y="310"/>
                  </a:lnTo>
                  <a:lnTo>
                    <a:pt x="359" y="314"/>
                  </a:lnTo>
                  <a:lnTo>
                    <a:pt x="329" y="318"/>
                  </a:lnTo>
                  <a:lnTo>
                    <a:pt x="300" y="322"/>
                  </a:lnTo>
                  <a:lnTo>
                    <a:pt x="271" y="326"/>
                  </a:lnTo>
                  <a:lnTo>
                    <a:pt x="242" y="328"/>
                  </a:lnTo>
                  <a:lnTo>
                    <a:pt x="215" y="332"/>
                  </a:lnTo>
                  <a:lnTo>
                    <a:pt x="200" y="285"/>
                  </a:lnTo>
                  <a:lnTo>
                    <a:pt x="184" y="241"/>
                  </a:lnTo>
                  <a:lnTo>
                    <a:pt x="163" y="198"/>
                  </a:lnTo>
                  <a:lnTo>
                    <a:pt x="139" y="159"/>
                  </a:lnTo>
                  <a:lnTo>
                    <a:pt x="110" y="119"/>
                  </a:lnTo>
                  <a:lnTo>
                    <a:pt x="79" y="84"/>
                  </a:lnTo>
                  <a:lnTo>
                    <a:pt x="44" y="51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05120" y="5923800"/>
              <a:ext cx="104760" cy="248760"/>
            </a:xfrm>
            <a:custGeom>
              <a:avLst/>
              <a:gdLst/>
              <a:ahLst/>
              <a:rect l="l" t="t" r="r" b="b"/>
              <a:pathLst>
                <a:path w="143" h="373">
                  <a:moveTo>
                    <a:pt x="70" y="276"/>
                  </a:moveTo>
                  <a:lnTo>
                    <a:pt x="77" y="260"/>
                  </a:lnTo>
                  <a:lnTo>
                    <a:pt x="85" y="245"/>
                  </a:lnTo>
                  <a:lnTo>
                    <a:pt x="89" y="229"/>
                  </a:lnTo>
                  <a:lnTo>
                    <a:pt x="97" y="216"/>
                  </a:lnTo>
                  <a:lnTo>
                    <a:pt x="101" y="190"/>
                  </a:lnTo>
                  <a:lnTo>
                    <a:pt x="105" y="167"/>
                  </a:lnTo>
                  <a:lnTo>
                    <a:pt x="106" y="144"/>
                  </a:lnTo>
                  <a:lnTo>
                    <a:pt x="108" y="121"/>
                  </a:lnTo>
                  <a:lnTo>
                    <a:pt x="108" y="95"/>
                  </a:lnTo>
                  <a:lnTo>
                    <a:pt x="108" y="72"/>
                  </a:lnTo>
                  <a:lnTo>
                    <a:pt x="108" y="49"/>
                  </a:lnTo>
                  <a:lnTo>
                    <a:pt x="110" y="26"/>
                  </a:lnTo>
                  <a:lnTo>
                    <a:pt x="114" y="16"/>
                  </a:lnTo>
                  <a:lnTo>
                    <a:pt x="112" y="6"/>
                  </a:lnTo>
                  <a:lnTo>
                    <a:pt x="126" y="2"/>
                  </a:lnTo>
                  <a:lnTo>
                    <a:pt x="143" y="0"/>
                  </a:lnTo>
                  <a:lnTo>
                    <a:pt x="143" y="18"/>
                  </a:lnTo>
                  <a:lnTo>
                    <a:pt x="143" y="37"/>
                  </a:lnTo>
                  <a:lnTo>
                    <a:pt x="139" y="57"/>
                  </a:lnTo>
                  <a:lnTo>
                    <a:pt x="138" y="78"/>
                  </a:lnTo>
                  <a:lnTo>
                    <a:pt x="134" y="97"/>
                  </a:lnTo>
                  <a:lnTo>
                    <a:pt x="132" y="117"/>
                  </a:lnTo>
                  <a:lnTo>
                    <a:pt x="130" y="136"/>
                  </a:lnTo>
                  <a:lnTo>
                    <a:pt x="132" y="157"/>
                  </a:lnTo>
                  <a:lnTo>
                    <a:pt x="126" y="173"/>
                  </a:lnTo>
                  <a:lnTo>
                    <a:pt x="122" y="192"/>
                  </a:lnTo>
                  <a:lnTo>
                    <a:pt x="114" y="210"/>
                  </a:lnTo>
                  <a:lnTo>
                    <a:pt x="108" y="227"/>
                  </a:lnTo>
                  <a:lnTo>
                    <a:pt x="105" y="245"/>
                  </a:lnTo>
                  <a:lnTo>
                    <a:pt x="101" y="262"/>
                  </a:lnTo>
                  <a:lnTo>
                    <a:pt x="95" y="281"/>
                  </a:lnTo>
                  <a:lnTo>
                    <a:pt x="91" y="301"/>
                  </a:lnTo>
                  <a:lnTo>
                    <a:pt x="81" y="318"/>
                  </a:lnTo>
                  <a:lnTo>
                    <a:pt x="72" y="336"/>
                  </a:lnTo>
                  <a:lnTo>
                    <a:pt x="60" y="351"/>
                  </a:lnTo>
                  <a:lnTo>
                    <a:pt x="46" y="369"/>
                  </a:lnTo>
                  <a:lnTo>
                    <a:pt x="0" y="373"/>
                  </a:lnTo>
                  <a:lnTo>
                    <a:pt x="8" y="361"/>
                  </a:lnTo>
                  <a:lnTo>
                    <a:pt x="19" y="349"/>
                  </a:lnTo>
                  <a:lnTo>
                    <a:pt x="29" y="340"/>
                  </a:lnTo>
                  <a:lnTo>
                    <a:pt x="39" y="330"/>
                  </a:lnTo>
                  <a:lnTo>
                    <a:pt x="46" y="316"/>
                  </a:lnTo>
                  <a:lnTo>
                    <a:pt x="56" y="305"/>
                  </a:lnTo>
                  <a:lnTo>
                    <a:pt x="62" y="289"/>
                  </a:lnTo>
                  <a:lnTo>
                    <a:pt x="70" y="27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7760" y="5914440"/>
              <a:ext cx="99000" cy="248760"/>
            </a:xfrm>
            <a:custGeom>
              <a:avLst/>
              <a:gdLst/>
              <a:ahLst/>
              <a:rect l="l" t="t" r="r" b="b"/>
              <a:pathLst>
                <a:path w="138" h="370">
                  <a:moveTo>
                    <a:pt x="60" y="199"/>
                  </a:moveTo>
                  <a:lnTo>
                    <a:pt x="62" y="184"/>
                  </a:lnTo>
                  <a:lnTo>
                    <a:pt x="64" y="168"/>
                  </a:lnTo>
                  <a:lnTo>
                    <a:pt x="66" y="153"/>
                  </a:lnTo>
                  <a:lnTo>
                    <a:pt x="68" y="139"/>
                  </a:lnTo>
                  <a:lnTo>
                    <a:pt x="68" y="124"/>
                  </a:lnTo>
                  <a:lnTo>
                    <a:pt x="70" y="110"/>
                  </a:lnTo>
                  <a:lnTo>
                    <a:pt x="70" y="95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78" y="52"/>
                  </a:lnTo>
                  <a:lnTo>
                    <a:pt x="80" y="37"/>
                  </a:lnTo>
                  <a:lnTo>
                    <a:pt x="84" y="25"/>
                  </a:lnTo>
                  <a:lnTo>
                    <a:pt x="80" y="17"/>
                  </a:lnTo>
                  <a:lnTo>
                    <a:pt x="80" y="9"/>
                  </a:lnTo>
                  <a:lnTo>
                    <a:pt x="138" y="0"/>
                  </a:lnTo>
                  <a:lnTo>
                    <a:pt x="134" y="25"/>
                  </a:lnTo>
                  <a:lnTo>
                    <a:pt x="130" y="50"/>
                  </a:lnTo>
                  <a:lnTo>
                    <a:pt x="124" y="75"/>
                  </a:lnTo>
                  <a:lnTo>
                    <a:pt x="120" y="103"/>
                  </a:lnTo>
                  <a:lnTo>
                    <a:pt x="115" y="126"/>
                  </a:lnTo>
                  <a:lnTo>
                    <a:pt x="111" y="153"/>
                  </a:lnTo>
                  <a:lnTo>
                    <a:pt x="105" y="178"/>
                  </a:lnTo>
                  <a:lnTo>
                    <a:pt x="103" y="205"/>
                  </a:lnTo>
                  <a:lnTo>
                    <a:pt x="95" y="221"/>
                  </a:lnTo>
                  <a:lnTo>
                    <a:pt x="89" y="240"/>
                  </a:lnTo>
                  <a:lnTo>
                    <a:pt x="84" y="260"/>
                  </a:lnTo>
                  <a:lnTo>
                    <a:pt x="78" y="281"/>
                  </a:lnTo>
                  <a:lnTo>
                    <a:pt x="70" y="300"/>
                  </a:lnTo>
                  <a:lnTo>
                    <a:pt x="62" y="320"/>
                  </a:lnTo>
                  <a:lnTo>
                    <a:pt x="49" y="337"/>
                  </a:lnTo>
                  <a:lnTo>
                    <a:pt x="37" y="356"/>
                  </a:lnTo>
                  <a:lnTo>
                    <a:pt x="0" y="370"/>
                  </a:lnTo>
                  <a:lnTo>
                    <a:pt x="10" y="351"/>
                  </a:lnTo>
                  <a:lnTo>
                    <a:pt x="20" y="331"/>
                  </a:lnTo>
                  <a:lnTo>
                    <a:pt x="27" y="308"/>
                  </a:lnTo>
                  <a:lnTo>
                    <a:pt x="35" y="287"/>
                  </a:lnTo>
                  <a:lnTo>
                    <a:pt x="39" y="263"/>
                  </a:lnTo>
                  <a:lnTo>
                    <a:pt x="45" y="242"/>
                  </a:lnTo>
                  <a:lnTo>
                    <a:pt x="51" y="219"/>
                  </a:lnTo>
                  <a:lnTo>
                    <a:pt x="60" y="199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9880" y="5903640"/>
              <a:ext cx="101880" cy="240840"/>
            </a:xfrm>
            <a:custGeom>
              <a:avLst/>
              <a:gdLst/>
              <a:ahLst/>
              <a:rect l="l" t="t" r="r" b="b"/>
              <a:pathLst>
                <a:path w="142" h="361">
                  <a:moveTo>
                    <a:pt x="22" y="343"/>
                  </a:moveTo>
                  <a:lnTo>
                    <a:pt x="27" y="322"/>
                  </a:lnTo>
                  <a:lnTo>
                    <a:pt x="35" y="301"/>
                  </a:lnTo>
                  <a:lnTo>
                    <a:pt x="41" y="279"/>
                  </a:lnTo>
                  <a:lnTo>
                    <a:pt x="51" y="260"/>
                  </a:lnTo>
                  <a:lnTo>
                    <a:pt x="57" y="239"/>
                  </a:lnTo>
                  <a:lnTo>
                    <a:pt x="64" y="219"/>
                  </a:lnTo>
                  <a:lnTo>
                    <a:pt x="68" y="198"/>
                  </a:lnTo>
                  <a:lnTo>
                    <a:pt x="72" y="179"/>
                  </a:lnTo>
                  <a:lnTo>
                    <a:pt x="72" y="171"/>
                  </a:lnTo>
                  <a:lnTo>
                    <a:pt x="74" y="161"/>
                  </a:lnTo>
                  <a:lnTo>
                    <a:pt x="74" y="152"/>
                  </a:lnTo>
                  <a:lnTo>
                    <a:pt x="76" y="144"/>
                  </a:lnTo>
                  <a:lnTo>
                    <a:pt x="76" y="124"/>
                  </a:lnTo>
                  <a:lnTo>
                    <a:pt x="80" y="107"/>
                  </a:lnTo>
                  <a:lnTo>
                    <a:pt x="86" y="91"/>
                  </a:lnTo>
                  <a:lnTo>
                    <a:pt x="91" y="76"/>
                  </a:lnTo>
                  <a:lnTo>
                    <a:pt x="95" y="58"/>
                  </a:lnTo>
                  <a:lnTo>
                    <a:pt x="99" y="43"/>
                  </a:lnTo>
                  <a:lnTo>
                    <a:pt x="101" y="26"/>
                  </a:lnTo>
                  <a:lnTo>
                    <a:pt x="103" y="10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40" y="26"/>
                  </a:lnTo>
                  <a:lnTo>
                    <a:pt x="142" y="53"/>
                  </a:lnTo>
                  <a:lnTo>
                    <a:pt x="138" y="78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28" y="155"/>
                  </a:lnTo>
                  <a:lnTo>
                    <a:pt x="123" y="183"/>
                  </a:lnTo>
                  <a:lnTo>
                    <a:pt x="121" y="212"/>
                  </a:lnTo>
                  <a:lnTo>
                    <a:pt x="113" y="229"/>
                  </a:lnTo>
                  <a:lnTo>
                    <a:pt x="107" y="247"/>
                  </a:lnTo>
                  <a:lnTo>
                    <a:pt x="99" y="264"/>
                  </a:lnTo>
                  <a:lnTo>
                    <a:pt x="91" y="281"/>
                  </a:lnTo>
                  <a:lnTo>
                    <a:pt x="82" y="299"/>
                  </a:lnTo>
                  <a:lnTo>
                    <a:pt x="74" y="316"/>
                  </a:lnTo>
                  <a:lnTo>
                    <a:pt x="64" y="334"/>
                  </a:lnTo>
                  <a:lnTo>
                    <a:pt x="59" y="351"/>
                  </a:lnTo>
                  <a:lnTo>
                    <a:pt x="43" y="353"/>
                  </a:lnTo>
                  <a:lnTo>
                    <a:pt x="27" y="359"/>
                  </a:lnTo>
                  <a:lnTo>
                    <a:pt x="12" y="361"/>
                  </a:lnTo>
                  <a:lnTo>
                    <a:pt x="0" y="359"/>
                  </a:lnTo>
                  <a:lnTo>
                    <a:pt x="12" y="357"/>
                  </a:lnTo>
                  <a:lnTo>
                    <a:pt x="22" y="343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3960" y="5890320"/>
              <a:ext cx="101880" cy="236880"/>
            </a:xfrm>
            <a:custGeom>
              <a:avLst/>
              <a:gdLst/>
              <a:ahLst/>
              <a:rect l="l" t="t" r="r" b="b"/>
              <a:pathLst>
                <a:path w="139" h="355">
                  <a:moveTo>
                    <a:pt x="40" y="246"/>
                  </a:moveTo>
                  <a:lnTo>
                    <a:pt x="46" y="223"/>
                  </a:lnTo>
                  <a:lnTo>
                    <a:pt x="52" y="202"/>
                  </a:lnTo>
                  <a:lnTo>
                    <a:pt x="56" y="178"/>
                  </a:lnTo>
                  <a:lnTo>
                    <a:pt x="60" y="159"/>
                  </a:lnTo>
                  <a:lnTo>
                    <a:pt x="62" y="136"/>
                  </a:lnTo>
                  <a:lnTo>
                    <a:pt x="64" y="112"/>
                  </a:lnTo>
                  <a:lnTo>
                    <a:pt x="65" y="89"/>
                  </a:lnTo>
                  <a:lnTo>
                    <a:pt x="69" y="66"/>
                  </a:lnTo>
                  <a:lnTo>
                    <a:pt x="69" y="52"/>
                  </a:lnTo>
                  <a:lnTo>
                    <a:pt x="69" y="41"/>
                  </a:lnTo>
                  <a:lnTo>
                    <a:pt x="67" y="25"/>
                  </a:lnTo>
                  <a:lnTo>
                    <a:pt x="73" y="13"/>
                  </a:lnTo>
                  <a:lnTo>
                    <a:pt x="129" y="0"/>
                  </a:lnTo>
                  <a:lnTo>
                    <a:pt x="129" y="6"/>
                  </a:lnTo>
                  <a:lnTo>
                    <a:pt x="135" y="10"/>
                  </a:lnTo>
                  <a:lnTo>
                    <a:pt x="135" y="8"/>
                  </a:lnTo>
                  <a:lnTo>
                    <a:pt x="139" y="8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3" y="39"/>
                  </a:lnTo>
                  <a:lnTo>
                    <a:pt x="131" y="72"/>
                  </a:lnTo>
                  <a:lnTo>
                    <a:pt x="128" y="103"/>
                  </a:lnTo>
                  <a:lnTo>
                    <a:pt x="126" y="136"/>
                  </a:lnTo>
                  <a:lnTo>
                    <a:pt x="118" y="167"/>
                  </a:lnTo>
                  <a:lnTo>
                    <a:pt x="110" y="198"/>
                  </a:lnTo>
                  <a:lnTo>
                    <a:pt x="98" y="229"/>
                  </a:lnTo>
                  <a:lnTo>
                    <a:pt x="87" y="260"/>
                  </a:lnTo>
                  <a:lnTo>
                    <a:pt x="81" y="275"/>
                  </a:lnTo>
                  <a:lnTo>
                    <a:pt x="71" y="293"/>
                  </a:lnTo>
                  <a:lnTo>
                    <a:pt x="65" y="302"/>
                  </a:lnTo>
                  <a:lnTo>
                    <a:pt x="60" y="312"/>
                  </a:lnTo>
                  <a:lnTo>
                    <a:pt x="52" y="322"/>
                  </a:lnTo>
                  <a:lnTo>
                    <a:pt x="44" y="333"/>
                  </a:lnTo>
                  <a:lnTo>
                    <a:pt x="44" y="335"/>
                  </a:lnTo>
                  <a:lnTo>
                    <a:pt x="44" y="337"/>
                  </a:lnTo>
                  <a:lnTo>
                    <a:pt x="0" y="355"/>
                  </a:lnTo>
                  <a:lnTo>
                    <a:pt x="1" y="339"/>
                  </a:lnTo>
                  <a:lnTo>
                    <a:pt x="7" y="328"/>
                  </a:lnTo>
                  <a:lnTo>
                    <a:pt x="13" y="312"/>
                  </a:lnTo>
                  <a:lnTo>
                    <a:pt x="19" y="300"/>
                  </a:lnTo>
                  <a:lnTo>
                    <a:pt x="23" y="285"/>
                  </a:lnTo>
                  <a:lnTo>
                    <a:pt x="29" y="273"/>
                  </a:lnTo>
                  <a:lnTo>
                    <a:pt x="34" y="258"/>
                  </a:lnTo>
                  <a:lnTo>
                    <a:pt x="40" y="24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4160" y="5880960"/>
              <a:ext cx="60840" cy="19800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56" y="8"/>
                  </a:moveTo>
                  <a:lnTo>
                    <a:pt x="71" y="0"/>
                  </a:lnTo>
                  <a:lnTo>
                    <a:pt x="85" y="4"/>
                  </a:lnTo>
                  <a:lnTo>
                    <a:pt x="83" y="43"/>
                  </a:lnTo>
                  <a:lnTo>
                    <a:pt x="79" y="84"/>
                  </a:lnTo>
                  <a:lnTo>
                    <a:pt x="71" y="121"/>
                  </a:lnTo>
                  <a:lnTo>
                    <a:pt x="64" y="159"/>
                  </a:lnTo>
                  <a:lnTo>
                    <a:pt x="50" y="194"/>
                  </a:lnTo>
                  <a:lnTo>
                    <a:pt x="38" y="229"/>
                  </a:lnTo>
                  <a:lnTo>
                    <a:pt x="23" y="262"/>
                  </a:lnTo>
                  <a:lnTo>
                    <a:pt x="7" y="295"/>
                  </a:lnTo>
                  <a:lnTo>
                    <a:pt x="0" y="295"/>
                  </a:lnTo>
                  <a:lnTo>
                    <a:pt x="17" y="262"/>
                  </a:lnTo>
                  <a:lnTo>
                    <a:pt x="31" y="229"/>
                  </a:lnTo>
                  <a:lnTo>
                    <a:pt x="38" y="192"/>
                  </a:lnTo>
                  <a:lnTo>
                    <a:pt x="46" y="157"/>
                  </a:lnTo>
                  <a:lnTo>
                    <a:pt x="50" y="119"/>
                  </a:lnTo>
                  <a:lnTo>
                    <a:pt x="52" y="82"/>
                  </a:lnTo>
                  <a:lnTo>
                    <a:pt x="54" y="43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6960" y="5832720"/>
              <a:ext cx="12960" cy="7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3"/>
                  </a:moveTo>
                  <a:lnTo>
                    <a:pt x="12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2800" y="5832720"/>
              <a:ext cx="5760" cy="3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50000" y="5824800"/>
              <a:ext cx="46800" cy="1152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10" y="8"/>
                  </a:moveTo>
                  <a:lnTo>
                    <a:pt x="23" y="8"/>
                  </a:lnTo>
                  <a:lnTo>
                    <a:pt x="37" y="6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37" y="10"/>
                  </a:lnTo>
                  <a:lnTo>
                    <a:pt x="21" y="14"/>
                  </a:lnTo>
                  <a:lnTo>
                    <a:pt x="6" y="1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2320" y="6013440"/>
              <a:ext cx="63720" cy="4968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7"/>
                  </a:moveTo>
                  <a:lnTo>
                    <a:pt x="4" y="37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9" y="54"/>
                  </a:lnTo>
                  <a:lnTo>
                    <a:pt x="21" y="60"/>
                  </a:lnTo>
                  <a:lnTo>
                    <a:pt x="42" y="68"/>
                  </a:lnTo>
                  <a:lnTo>
                    <a:pt x="62" y="72"/>
                  </a:lnTo>
                  <a:lnTo>
                    <a:pt x="75" y="74"/>
                  </a:lnTo>
                  <a:lnTo>
                    <a:pt x="81" y="72"/>
                  </a:lnTo>
                  <a:lnTo>
                    <a:pt x="87" y="72"/>
                  </a:lnTo>
                  <a:lnTo>
                    <a:pt x="87" y="66"/>
                  </a:lnTo>
                  <a:lnTo>
                    <a:pt x="87" y="64"/>
                  </a:lnTo>
                  <a:lnTo>
                    <a:pt x="83" y="10"/>
                  </a:lnTo>
                  <a:lnTo>
                    <a:pt x="48" y="0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69040" y="5961240"/>
              <a:ext cx="82800" cy="7740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31" y="116"/>
                  </a:moveTo>
                  <a:lnTo>
                    <a:pt x="66" y="93"/>
                  </a:lnTo>
                  <a:lnTo>
                    <a:pt x="105" y="58"/>
                  </a:lnTo>
                  <a:lnTo>
                    <a:pt x="115" y="0"/>
                  </a:lnTo>
                  <a:lnTo>
                    <a:pt x="0" y="27"/>
                  </a:lnTo>
                  <a:lnTo>
                    <a:pt x="3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6800" y="5969160"/>
              <a:ext cx="68040" cy="5076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0" y="58"/>
                  </a:moveTo>
                  <a:lnTo>
                    <a:pt x="0" y="60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31" y="76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58" y="72"/>
                  </a:lnTo>
                  <a:lnTo>
                    <a:pt x="70" y="72"/>
                  </a:lnTo>
                  <a:lnTo>
                    <a:pt x="85" y="70"/>
                  </a:lnTo>
                  <a:lnTo>
                    <a:pt x="93" y="70"/>
                  </a:lnTo>
                  <a:lnTo>
                    <a:pt x="35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79520" y="5589000"/>
              <a:ext cx="368280" cy="83880"/>
            </a:xfrm>
            <a:custGeom>
              <a:avLst/>
              <a:gdLst/>
              <a:ahLst/>
              <a:rect l="l" t="t" r="r" b="b"/>
              <a:pathLst>
                <a:path w="507" h="126">
                  <a:moveTo>
                    <a:pt x="254" y="126"/>
                  </a:moveTo>
                  <a:lnTo>
                    <a:pt x="305" y="120"/>
                  </a:lnTo>
                  <a:lnTo>
                    <a:pt x="351" y="115"/>
                  </a:lnTo>
                  <a:lnTo>
                    <a:pt x="394" y="107"/>
                  </a:lnTo>
                  <a:lnTo>
                    <a:pt x="433" y="99"/>
                  </a:lnTo>
                  <a:lnTo>
                    <a:pt x="462" y="87"/>
                  </a:lnTo>
                  <a:lnTo>
                    <a:pt x="487" y="76"/>
                  </a:lnTo>
                  <a:lnTo>
                    <a:pt x="501" y="64"/>
                  </a:lnTo>
                  <a:lnTo>
                    <a:pt x="507" y="52"/>
                  </a:lnTo>
                  <a:lnTo>
                    <a:pt x="499" y="39"/>
                  </a:lnTo>
                  <a:lnTo>
                    <a:pt x="483" y="27"/>
                  </a:lnTo>
                  <a:lnTo>
                    <a:pt x="458" y="16"/>
                  </a:lnTo>
                  <a:lnTo>
                    <a:pt x="429" y="10"/>
                  </a:lnTo>
                  <a:lnTo>
                    <a:pt x="390" y="4"/>
                  </a:lnTo>
                  <a:lnTo>
                    <a:pt x="348" y="0"/>
                  </a:lnTo>
                  <a:lnTo>
                    <a:pt x="299" y="0"/>
                  </a:lnTo>
                  <a:lnTo>
                    <a:pt x="249" y="2"/>
                  </a:lnTo>
                  <a:lnTo>
                    <a:pt x="196" y="4"/>
                  </a:lnTo>
                  <a:lnTo>
                    <a:pt x="150" y="10"/>
                  </a:lnTo>
                  <a:lnTo>
                    <a:pt x="105" y="16"/>
                  </a:lnTo>
                  <a:lnTo>
                    <a:pt x="70" y="27"/>
                  </a:lnTo>
                  <a:lnTo>
                    <a:pt x="39" y="37"/>
                  </a:lnTo>
                  <a:lnTo>
                    <a:pt x="18" y="49"/>
                  </a:lnTo>
                  <a:lnTo>
                    <a:pt x="2" y="62"/>
                  </a:lnTo>
                  <a:lnTo>
                    <a:pt x="0" y="76"/>
                  </a:lnTo>
                  <a:lnTo>
                    <a:pt x="4" y="85"/>
                  </a:lnTo>
                  <a:lnTo>
                    <a:pt x="20" y="97"/>
                  </a:lnTo>
                  <a:lnTo>
                    <a:pt x="41" y="107"/>
                  </a:lnTo>
                  <a:lnTo>
                    <a:pt x="74" y="115"/>
                  </a:lnTo>
                  <a:lnTo>
                    <a:pt x="111" y="118"/>
                  </a:lnTo>
                  <a:lnTo>
                    <a:pt x="156" y="124"/>
                  </a:lnTo>
                  <a:lnTo>
                    <a:pt x="202" y="124"/>
                  </a:lnTo>
                  <a:lnTo>
                    <a:pt x="254" y="126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551200"/>
              <a:ext cx="242640" cy="56160"/>
            </a:xfrm>
            <a:custGeom>
              <a:avLst/>
              <a:gdLst/>
              <a:ahLst/>
              <a:rect l="l" t="t" r="r" b="b"/>
              <a:pathLst>
                <a:path w="333" h="83">
                  <a:moveTo>
                    <a:pt x="168" y="83"/>
                  </a:moveTo>
                  <a:lnTo>
                    <a:pt x="199" y="79"/>
                  </a:lnTo>
                  <a:lnTo>
                    <a:pt x="230" y="76"/>
                  </a:lnTo>
                  <a:lnTo>
                    <a:pt x="258" y="70"/>
                  </a:lnTo>
                  <a:lnTo>
                    <a:pt x="285" y="66"/>
                  </a:lnTo>
                  <a:lnTo>
                    <a:pt x="302" y="58"/>
                  </a:lnTo>
                  <a:lnTo>
                    <a:pt x="320" y="50"/>
                  </a:lnTo>
                  <a:lnTo>
                    <a:pt x="329" y="43"/>
                  </a:lnTo>
                  <a:lnTo>
                    <a:pt x="333" y="37"/>
                  </a:lnTo>
                  <a:lnTo>
                    <a:pt x="327" y="27"/>
                  </a:lnTo>
                  <a:lnTo>
                    <a:pt x="318" y="19"/>
                  </a:lnTo>
                  <a:lnTo>
                    <a:pt x="300" y="13"/>
                  </a:lnTo>
                  <a:lnTo>
                    <a:pt x="281" y="8"/>
                  </a:lnTo>
                  <a:lnTo>
                    <a:pt x="256" y="2"/>
                  </a:lnTo>
                  <a:lnTo>
                    <a:pt x="228" y="2"/>
                  </a:lnTo>
                  <a:lnTo>
                    <a:pt x="196" y="0"/>
                  </a:lnTo>
                  <a:lnTo>
                    <a:pt x="164" y="4"/>
                  </a:lnTo>
                  <a:lnTo>
                    <a:pt x="130" y="4"/>
                  </a:lnTo>
                  <a:lnTo>
                    <a:pt x="99" y="10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5" y="27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11" y="66"/>
                  </a:lnTo>
                  <a:lnTo>
                    <a:pt x="27" y="72"/>
                  </a:lnTo>
                  <a:lnTo>
                    <a:pt x="48" y="77"/>
                  </a:lnTo>
                  <a:lnTo>
                    <a:pt x="71" y="79"/>
                  </a:lnTo>
                  <a:lnTo>
                    <a:pt x="102" y="83"/>
                  </a:lnTo>
                  <a:lnTo>
                    <a:pt x="133" y="83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457200" y="152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ная акци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ителя автомобиле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72D-5E19-4F10-A5D5-7298E40E903E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Признак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недосыпания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удороги в мышцах ног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вязная реч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пособность задержать взгляд на каком-то предмет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увство безнадёж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отчая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дражительн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 общени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403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562720" y="6477120"/>
            <a:ext cx="3352680" cy="457200"/>
            <a:chOff x="5562720" y="6477120"/>
            <a:chExt cx="3352680" cy="457200"/>
          </a:xfrm>
        </p:grpSpPr>
        <p:sp>
          <p:nvSpPr>
            <p:cNvPr id="241" name=""/>
            <p:cNvSpPr/>
            <p:nvPr/>
          </p:nvSpPr>
          <p:spPr>
            <a:xfrm>
              <a:off x="556272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DD24193-6FC0-4165-9F48-5773D57FC70F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0" y="76320"/>
            <a:ext cx="2411280" cy="17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76520" y="1143000"/>
            <a:ext cx="5410080" cy="3259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038120"/>
            <a:ext cx="7772400" cy="221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которые «засыпали стоя»,                                    а потом падали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DD6-954D-4665-9138-016B5687BF79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953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kGothic Md BT"/>
              </a:rPr>
              <a:t>к вечеру 3-х суток…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1976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..осталось только два участни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сле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77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асов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28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минут остался последний измученный участни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 уехал отмечать так трудно добытую победу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644400"/>
            <a:ext cx="3124440" cy="24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AA3-B679-43A6-A2A4-50D61EDFC244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600" y="1600200"/>
            <a:ext cx="4799880" cy="5257800"/>
            <a:chOff x="228600" y="1600200"/>
            <a:chExt cx="4799880" cy="5257800"/>
          </a:xfrm>
        </p:grpSpPr>
        <p:grpSp>
          <p:nvGrpSpPr>
            <p:cNvPr id="251" name=""/>
            <p:cNvGrpSpPr/>
            <p:nvPr/>
          </p:nvGrpSpPr>
          <p:grpSpPr>
            <a:xfrm>
              <a:off x="228600" y="1600200"/>
              <a:ext cx="4799880" cy="5257800"/>
              <a:chOff x="228600" y="1600200"/>
              <a:chExt cx="4799880" cy="525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228600" y="1600200"/>
                <a:ext cx="4799880" cy="5257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794960"/>
                <a:ext cx="4747680" cy="506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"/>
            <p:cNvSpPr/>
            <p:nvPr/>
          </p:nvSpPr>
          <p:spPr>
            <a:xfrm>
              <a:off x="1828800" y="6566040"/>
              <a:ext cx="27792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Переполнено уставшими людьми, сражающимися за место под солнцем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81080" y="3049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 сегодн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7D9-52EC-42A0-AAB8-2AE640B06154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44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н восстанавливает силы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аёт время и возможность организму восстановить то, что было им потрачено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609480"/>
            <a:ext cx="5943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 нужен отдых 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638680" y="6477120"/>
            <a:ext cx="3352680" cy="457200"/>
            <a:chOff x="5638680" y="6477120"/>
            <a:chExt cx="3352680" cy="457200"/>
          </a:xfrm>
        </p:grpSpPr>
        <p:sp>
          <p:nvSpPr>
            <p:cNvPr id="263" name=""/>
            <p:cNvSpPr/>
            <p:nvPr/>
          </p:nvSpPr>
          <p:spPr>
            <a:xfrm>
              <a:off x="563868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624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5D14CC8-12CF-4EE3-9A21-AB9C7A986F4C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94360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928-C7AC-42F3-8B4E-2A39A0B8D652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3-16T17:28:39Z</cp:lastPrinted>
  <dcterms:modified xsi:type="dcterms:W3CDTF">2005-05-18T14:39:21Z</dcterms:modified>
  <cp:revision>721</cp:revision>
  <dc:subject/>
  <dc:title>CELEBRATIONS</dc:title>
</cp:coreProperties>
</file>