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wmf" ContentType="image/x-wmf"/>
  <Override PartName="/ppt/media/image9.wmf" ContentType="image/x-wmf"/>
  <Override PartName="/ppt/media/image8.wmf" ContentType="image/x-wmf"/>
  <Override PartName="/ppt/media/image13.png" ContentType="image/png"/>
  <Override PartName="/ppt/media/image12.wmf" ContentType="image/x-wmf"/>
  <Override PartName="/ppt/media/image7.wmf" ContentType="image/x-wmf"/>
  <Override PartName="/ppt/media/image4.wmf" ContentType="image/x-wmf"/>
  <Override PartName="/ppt/media/image3.wmf" ContentType="image/x-wmf"/>
  <Override PartName="/ppt/media/image10.wmf" ContentType="image/x-wmf"/>
  <Override PartName="/ppt/media/image23.wmf" ContentType="image/x-wmf"/>
  <Override PartName="/ppt/media/image22.wmf" ContentType="image/x-wmf"/>
  <Override PartName="/ppt/media/image2.gif" ContentType="image/gif"/>
  <Override PartName="/ppt/media/image5.wmf" ContentType="image/x-wmf"/>
  <Override PartName="/ppt/media/image21.png" ContentType="image/png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6.png" ContentType="image/png"/>
  <Override PartName="/ppt/media/image1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A6A2E-C364-419A-95A6-81C8C8831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5CAE1-4B51-49B9-B2D6-400BE9539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A13F6-7B1F-4A20-A3A3-43E767B77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DBC7F-4078-44E4-86E9-DF90C7756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89486-0603-4787-9C5C-4A2C5970E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C0120-7BE8-4426-8294-9B0BC3A0B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B3886-B25D-44AD-B4C2-801829589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DC066-2BAA-42F8-A13B-900E42F61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CAF4A-7155-488A-B9DB-0AF9EF1C1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CF0D7-7C69-4FD6-9B1F-ABEC996F2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2E2E0-9FC3-4E9E-9D9A-341CDEACD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1F6E8-CD0D-4533-963D-5A3DB212E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A7CFD-F124-4D24-9BF2-CAD5D3460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E332C-057F-4B1A-BA0C-C31E72AAE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E1D1E-DE5D-4270-A596-0C633FDAD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6F911-9CE7-4FC6-9BD3-903F24C28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0EB7A-8063-4E56-9C76-BB30E5FFA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BCA19-0289-4AEA-B53F-E231258FC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04FBA-7295-4495-8F52-36FF8CB29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F3E87-8DAB-4874-86F4-2675ADCFE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3E5FA-7827-471E-94E6-38A4D4CC9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04B70-539E-4CFD-B8FB-A9C1DEA28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7E79E-A57F-475B-9D74-C766E7BB3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9DC15-76BA-45CD-857C-502EBE723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BD1E1-7396-4527-A611-9BB8C9908EC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9" name="BTZBUL1A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9048F-43DC-4903-A44C-B672A0545B5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image" Target="../media/image3.wmf"/><Relationship Id="rId8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image" Target="../media/image3.wmf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7.wmf"/><Relationship Id="rId13" Type="http://schemas.openxmlformats.org/officeDocument/2006/relationships/oleObject" Target="../embeddings/oleObject1.bin"/><Relationship Id="rId14" Type="http://schemas.openxmlformats.org/officeDocument/2006/relationships/image" Target="../media/image8.wmf"/><Relationship Id="rId15" Type="http://schemas.openxmlformats.org/officeDocument/2006/relationships/oleObject" Target="../embeddings/oleObject2.bin"/><Relationship Id="rId16" Type="http://schemas.openxmlformats.org/officeDocument/2006/relationships/image" Target="../media/image9.wmf"/><Relationship Id="rId17" Type="http://schemas.openxmlformats.org/officeDocument/2006/relationships/image" Target="../media/image10.wmf"/><Relationship Id="rId1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image" Target="../media/image6.png"/><Relationship Id="rId15" Type="http://schemas.openxmlformats.org/officeDocument/2006/relationships/image" Target="../media/image6.png"/><Relationship Id="rId16" Type="http://schemas.openxmlformats.org/officeDocument/2006/relationships/image" Target="../media/image6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8.wmf"/><Relationship Id="rId5" Type="http://schemas.openxmlformats.org/officeDocument/2006/relationships/image" Target="../media/image19.wmf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560" y="2166480"/>
            <a:ext cx="87627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cc00"/>
                </a:solidFill>
                <a:latin typeface="Arial"/>
              </a:rPr>
              <a:t>СЕМЬ КЛЮЧЕЙ</a:t>
            </a:r>
            <a:endParaRPr b="0" lang="en-US" sz="8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09480" y="4724280"/>
            <a:ext cx="990720" cy="70488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752480" y="4724280"/>
            <a:ext cx="990720" cy="70488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2895480" y="4724280"/>
            <a:ext cx="990720" cy="70488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4114800" y="4724280"/>
            <a:ext cx="990720" cy="70488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5334120" y="4724280"/>
            <a:ext cx="990360" cy="70488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6"/>
          <a:stretch/>
        </p:blipFill>
        <p:spPr>
          <a:xfrm>
            <a:off x="6553080" y="4724280"/>
            <a:ext cx="990720" cy="70488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7"/>
          <a:stretch/>
        </p:blipFill>
        <p:spPr>
          <a:xfrm>
            <a:off x="7696080" y="4724280"/>
            <a:ext cx="990720" cy="7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28240" y="167040"/>
            <a:ext cx="8915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ПОЗИТИВНОЕ</a:t>
            </a:r>
            <a:br>
              <a:rPr sz="4400"/>
            </a:b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МЫШЛЕНИЕ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3" name=""/>
          <p:cNvSpPr/>
          <p:nvPr/>
        </p:nvSpPr>
        <p:spPr>
          <a:xfrm>
            <a:off x="685800" y="1676520"/>
            <a:ext cx="7924680" cy="394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Наконец, братия мои, что только истинно, что честно, что справедливо, что чисто, что любезно, что достославно, что только добродетель и похвала, о том помышляйте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К Филиппийцам 4: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1523880" y="304920"/>
            <a:ext cx="762120" cy="54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3429000" y="2362320"/>
            <a:ext cx="2367000" cy="358596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167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ДУШЕВНЫЙ ПОКОЙ И ИСЦЕЛЕНИЕ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7" name=""/>
          <p:cNvSpPr/>
          <p:nvPr/>
        </p:nvSpPr>
        <p:spPr>
          <a:xfrm>
            <a:off x="609480" y="1600200"/>
            <a:ext cx="815364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Спонтанная регрессия рака может быть тесно связана с душевным состоянием свободным от беспокойства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09480" y="3257640"/>
            <a:ext cx="8001000" cy="284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«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Не требовательная молитва о конкретном исходе, включая устранения рака, предшествует исцелению, а смиренное молитвенное состояние, посвящение Богу и принятие Его воли»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Лари Доссей «Исцеляющие слова: сила                          молитвы и медицинская практика»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304200"/>
            <a:ext cx="77724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cc00"/>
                </a:solidFill>
                <a:latin typeface="Arial Black"/>
              </a:rPr>
              <a:t>ПОМОЩЬ ДРУГИМ</a:t>
            </a:r>
            <a:endParaRPr b="0" lang="en-US" sz="5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«Раздели с голодным хлеб твой, и скитающихся бедных введи в дом; когда увидишь нагого, одень его, и от единокровного твоего не укрывайся. Тогда откроется, как заря, свет твой, и </a:t>
            </a:r>
            <a:r>
              <a:rPr b="0" i="1" lang="en-US" sz="3000" spc="-1" strike="noStrike">
                <a:solidFill>
                  <a:srgbClr val="ffffff"/>
                </a:solidFill>
                <a:latin typeface="Arial"/>
              </a:rPr>
              <a:t>исцеление твое скоро возрастет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, и правда твоя пойдет пред тобою, и слава Господня будет сопровождать тебя».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Исаия 28:7,8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62120" cy="5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 Black"/>
              </a:rPr>
              <a:t>ДОВЕРИЕ БОГУ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3" name=""/>
          <p:cNvSpPr/>
          <p:nvPr/>
        </p:nvSpPr>
        <p:spPr>
          <a:xfrm>
            <a:off x="533520" y="990720"/>
            <a:ext cx="5715000" cy="54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«Мы отовсюду притесняемы, но не стеснены; мы в отчаянных обстоятельствах, но не отчаиваемся; мы гонимы, но не оставлены; низлагаемы, но не погибаем»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-е Коринфянам 4: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4495680" y="2743200"/>
            <a:ext cx="4648320" cy="34099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1143000" y="228600"/>
            <a:ext cx="762120" cy="5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303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ХРИСТОС В СЕРДЦЕ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-360" y="990360"/>
            <a:ext cx="53341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Кто отлучит нас от любви Божией: скорбь, или теснота, или гонение, или голод, или нагота, или опасность, или меч?… Но все сие преодолеваем силою Возлюбившего нас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Римлянам 8:35,3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8" name="j0260360" descr=""/>
          <p:cNvPicPr/>
          <p:nvPr/>
        </p:nvPicPr>
        <p:blipFill>
          <a:blip r:embed="rId1"/>
          <a:stretch/>
        </p:blipFill>
        <p:spPr>
          <a:xfrm>
            <a:off x="5867280" y="1143000"/>
            <a:ext cx="26226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303840"/>
            <a:ext cx="777240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c00"/>
                </a:solidFill>
                <a:latin typeface="Arial Black"/>
              </a:rPr>
              <a:t>СЕМЬ КЛЮЧЕЙ</a:t>
            </a: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Разумное приспособлени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Здоровый образ жизн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Планировани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Уверенность в будущем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Позитивное мышлени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Помощь другим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Доверие Богу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228600" y="1730520"/>
            <a:ext cx="457200" cy="32544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228600" y="2362320"/>
            <a:ext cx="457200" cy="3254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3"/>
          <a:stretch/>
        </p:blipFill>
        <p:spPr>
          <a:xfrm>
            <a:off x="152280" y="2971800"/>
            <a:ext cx="457200" cy="32544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4"/>
          <a:stretch/>
        </p:blipFill>
        <p:spPr>
          <a:xfrm>
            <a:off x="152280" y="3581280"/>
            <a:ext cx="457200" cy="32544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5"/>
          <a:stretch/>
        </p:blipFill>
        <p:spPr>
          <a:xfrm>
            <a:off x="152280" y="4114800"/>
            <a:ext cx="457200" cy="32544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6"/>
          <a:stretch/>
        </p:blipFill>
        <p:spPr>
          <a:xfrm>
            <a:off x="152280" y="4724280"/>
            <a:ext cx="457200" cy="32544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7"/>
          <a:stretch/>
        </p:blipFill>
        <p:spPr>
          <a:xfrm>
            <a:off x="152280" y="5334120"/>
            <a:ext cx="457200" cy="32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312120"/>
            <a:ext cx="777240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00"/>
                </a:solidFill>
                <a:latin typeface="Arial"/>
              </a:rPr>
              <a:t>СТРЕССОРЫ И СТРЕСС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2286000" y="2362320"/>
            <a:ext cx="47242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99cc00"/>
                </a:solidFill>
                <a:latin typeface="Arial"/>
              </a:rPr>
              <a:t>Давление извне</a:t>
            </a:r>
            <a:endParaRPr b="1" lang="en-US" sz="2400" spc="1" strike="noStrike">
              <a:ln w="0">
                <a:noFill/>
              </a:ln>
              <a:solidFill>
                <a:srgbClr val="99cc00"/>
              </a:solidFill>
              <a:latin typeface="Arial"/>
              <a:ea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276720" y="3959280"/>
            <a:ext cx="281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Стресс – это ваша реакция на стрессор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380880" y="3733920"/>
            <a:ext cx="2746440" cy="243684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6588000" y="3962520"/>
            <a:ext cx="2082960" cy="229068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495680" y="1219320"/>
            <a:ext cx="0" cy="1371600"/>
          </a:xfrm>
          <a:prstGeom prst="line">
            <a:avLst/>
          </a:prstGeom>
          <a:ln w="384120">
            <a:solidFill>
              <a:srgbClr val="cc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7560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РЕАКЦИЯ ОРГАНИЗМА НА ВНЕЗАПНЫЙ СТРЕССОР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овышение давл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учащение сердцеби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усиление сокращения сердц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усиление кровотока к активным мышца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ослабление кровотока в областях, не задействованных в ответной реакц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расширение зрачк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расширение бронх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увеличение силы мыш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высвобождение глюкозы печень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овышение умственной деятельност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ускорение метаболизм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2"/>
          <a:stretch/>
        </p:blipFill>
        <p:spPr>
          <a:xfrm>
            <a:off x="6248520" y="3809880"/>
            <a:ext cx="95400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7" name=""/>
          <p:cNvGraphicFramePr/>
          <p:nvPr/>
        </p:nvGraphicFramePr>
        <p:xfrm>
          <a:off x="6172200" y="1371600"/>
          <a:ext cx="1676520" cy="12333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172200" y="1371600"/>
                    <a:ext cx="1676520" cy="12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9" name=""/>
          <p:cNvGraphicFramePr/>
          <p:nvPr/>
        </p:nvGraphicFramePr>
        <p:xfrm>
          <a:off x="7162920" y="5181480"/>
          <a:ext cx="1981080" cy="8906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7162920" y="5181480"/>
                    <a:ext cx="1981080" cy="89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61" name="hm00246_" descr=""/>
          <p:cNvPicPr/>
          <p:nvPr/>
        </p:nvPicPr>
        <p:blipFill>
          <a:blip r:embed="rId17"/>
          <a:stretch/>
        </p:blipFill>
        <p:spPr>
          <a:xfrm>
            <a:off x="7696080" y="2666880"/>
            <a:ext cx="96228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455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СТАДИИ СТРЕССА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Реакция тревог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Состояние сопротивл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Стадия истощ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943600" y="1600200"/>
            <a:ext cx="1600200" cy="142092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7315200" y="2895480"/>
            <a:ext cx="1523880" cy="150516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3"/>
          <a:stretch/>
        </p:blipFill>
        <p:spPr>
          <a:xfrm>
            <a:off x="5791320" y="4495680"/>
            <a:ext cx="1755720" cy="14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2209680" y="1676520"/>
            <a:ext cx="4689720" cy="457200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22788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БОЛЕЗНИ СВЯЗАННЫЕ СО СТРЕССОМ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4560" y="2286000"/>
            <a:ext cx="4190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Сердечно-сосудистые заболева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Ра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Депресс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Стенокард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Диабе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Туберкулёз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Ревматоидный артри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Гиперто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Язвы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48320" y="22096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Головные бол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Аллерг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ростуд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редменструальный синдро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Бородав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Сыпь на кож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Выпадение воло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одагр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Герпе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137160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Болезни, одной из причин которых может быть стресс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762120" y="4267080"/>
            <a:ext cx="3886200" cy="1974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83160"/>
            <a:ext cx="7924680" cy="161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cc00"/>
                </a:solidFill>
                <a:latin typeface="Arial Black"/>
              </a:rPr>
              <a:t>РАЗУМНОЕ ПРИСПОСОБЛЕНИЕ</a:t>
            </a:r>
            <a:endParaRPr b="0" lang="en-US" sz="50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6477120" y="3429000"/>
            <a:ext cx="1828800" cy="174780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7086600" y="5067360"/>
            <a:ext cx="1143000" cy="110484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762120" y="1752480"/>
            <a:ext cx="815328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разумное приспособление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подразумевает либо устранение стрессора, либо приспособление к нему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неразумное приспособление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– избегание или отрицание проблемы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4"/>
          <a:stretch/>
        </p:blipFill>
        <p:spPr>
          <a:xfrm>
            <a:off x="1752480" y="228600"/>
            <a:ext cx="762120" cy="5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457200" y="3124080"/>
            <a:ext cx="2895480" cy="258156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59400"/>
            <a:ext cx="7772400" cy="161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cc00"/>
                </a:solidFill>
                <a:latin typeface="Arial Black"/>
              </a:rPr>
              <a:t>ЗДОРОВЫЙ ОБРАЗ </a:t>
            </a:r>
            <a:r>
              <a:rPr b="1" lang="en-US" sz="5000" spc="-1" strike="noStrike">
                <a:solidFill>
                  <a:srgbClr val="ffcc00"/>
                </a:solidFill>
                <a:latin typeface="Arial Black"/>
              </a:rPr>
              <a:t>ЖИЗНИ</a:t>
            </a:r>
            <a:endParaRPr b="0" lang="en-US" sz="5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ПОЛНОЦЕННОЕ ПИТА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УПРАЖН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4"/>
          <a:stretch/>
        </p:blipFill>
        <p:spPr>
          <a:xfrm>
            <a:off x="5759280" y="2590920"/>
            <a:ext cx="1175040" cy="36576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5"/>
          <a:stretch/>
        </p:blipFill>
        <p:spPr>
          <a:xfrm>
            <a:off x="2286000" y="4191120"/>
            <a:ext cx="2133720" cy="199872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6"/>
          <a:stretch/>
        </p:blipFill>
        <p:spPr>
          <a:xfrm>
            <a:off x="304920" y="152280"/>
            <a:ext cx="761760" cy="5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288360"/>
            <a:ext cx="77724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cc00"/>
                </a:solidFill>
                <a:latin typeface="Arial Black"/>
              </a:rPr>
              <a:t>ПЛАНИРОВАНИЕ</a:t>
            </a:r>
            <a:endParaRPr b="0" lang="en-US" sz="5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981080" y="1218960"/>
            <a:ext cx="6858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«Ибо кто из вас, желая построить башню, не сядет прежде и не вычислит издержек, имеет ли он, что нужно для совершения ее, дабы, когда положит основание и не возможет совершить, все видящие не стали смеяться над ним».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Луки 14:28,2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533520" y="1066680"/>
            <a:ext cx="2855880" cy="49532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609480" y="380880"/>
            <a:ext cx="762120" cy="5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30312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НЕ БЕСПОКОЙТЕСЬ О БУДУЩЕМ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0" name=""/>
          <p:cNvSpPr/>
          <p:nvPr/>
        </p:nvSpPr>
        <p:spPr>
          <a:xfrm>
            <a:off x="609480" y="2268360"/>
            <a:ext cx="807732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Итак не заботьтесь о завтрашнем дне, ибо завтрашний сам будет заботиться о своем: довольно для каждого дня своей заботы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Евангелие от Матфея 6:3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228600" y="380880"/>
            <a:ext cx="762120" cy="5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0T12:53:51Z</dcterms:created>
  <dc:creator>Ostapenco</dc:creator>
  <dc:description/>
  <dc:language>en-US</dc:language>
  <cp:lastModifiedBy>Our Home</cp:lastModifiedBy>
  <dcterms:modified xsi:type="dcterms:W3CDTF">2001-04-08T15:49:49Z</dcterms:modified>
  <cp:revision>30</cp:revision>
  <dc:subject/>
  <dc:title>СТРЕСС</dc:title>
</cp:coreProperties>
</file>