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01E5-B536-4FA2-8DCD-87487AF4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F99A-775F-4D73-A71C-684F7108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D91E5-AFDC-4764-AEA1-9D2A8B5C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6EF2D-9D1C-4573-ACA7-928CF165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31F12-5FDB-4340-8BEB-16FCC16E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671EB-517B-4A98-949E-5F92FE35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47008-4A4E-43FD-A226-C2FCFE5F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5A838-F665-4ED5-A90B-69174C43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E1728-7734-42DB-A45F-D061B0CC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F2362-7AED-4CED-BCB8-C5EFAD41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DE6C3-2EEE-4752-8A86-6A0B4D4D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D9888B-FC96-442C-AABA-E0939A9F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45B7-CC0F-4EBB-BC64-96F589DB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0F1BC2-7D85-4DC1-994C-20B531EC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39A331-64B0-46DE-8D98-8AF5C9B8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B727CD-A118-46C3-9A26-8DAAC2C0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9DA463-93D3-431E-AB24-D52D6850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81890C-46F8-4D89-B4BF-92834407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A5843E-A631-4976-A059-2FB2B8B7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C16110-95AE-4D0C-9123-599854F6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1F1E11-1C5A-4BF3-8176-E85E31B4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BCEF2D-B1F0-4911-BCA4-D231CB0A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C05D58-A68B-453E-BC85-B5664FFA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969C-F83F-4DD2-8234-97F497A4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1E5F32-6BC5-4355-BB07-C257A4FE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F76E-6751-483B-87C5-06F84848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E88D-9ED9-4434-AF52-535C28E7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BB7A-DC88-4256-A0EE-BB53F994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F7DF-E8F5-47FF-ABDA-ED67E54E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D379-04B2-40C0-83D0-5B4F3A50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ABB5-F7FC-4A59-BC95-C19C9601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0D7C-49CE-4088-BA42-2AF4F0C3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A81-5BC2-4D42-984D-3211DD3E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DED3-8DD2-449D-B6CA-B89C1784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8F8C-BC05-438A-8955-03CCFFD9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D73C-1499-4E7E-81E9-70337215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7DD6-5A98-498B-8C33-37CE2C38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6398-3137-4A0B-9A3B-AC35BF3F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4150E-1828-4FC8-BC76-24F82354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6EB73-F5EE-4AF3-B457-22C87B5B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531D4-0CA8-4484-B942-14E2A37F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F48B6-7DF5-4DED-8977-DD037B1D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0EFCD-756A-4E31-B54F-3045FB9F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5BE-269B-49AC-AEB0-E76B7856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96BCF-CEB1-4B9C-927D-E14324B8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F7503-635E-41E3-B5AD-20E23AF5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37185-BF66-44ED-AE66-145A3D21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5F73C-4F58-41C9-A729-52CED864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C8464-E988-494B-9001-22E17E2B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3F543-3867-447E-88A4-94EEBBB8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52EBF-A7B3-4780-A738-49DDBE80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8683F-5521-4CD4-AC3D-5D5726B6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5A5DD-E000-4B4F-ABFA-D0768C7D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E2946-B228-41DD-9917-ED6F2A89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5B28-217E-41C8-8AB1-E2EE720A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51571-46E5-47FE-B924-0594692B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50086-C81F-41B3-8BC4-BAC3CA4E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71504-6D30-4897-A48E-E0E3A589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57C2A-2BDF-471C-8954-3EF30E86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AC14B-7F94-450B-B90F-74A0C76A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7ACC5-3B1A-4018-8C32-1DA2667A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533A3-5660-4022-8D3F-CE777330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4BB03-5F45-491D-BD41-47167F01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F627B-36CC-48D6-AE69-5988570F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97DE2-DA4B-4496-A47B-46B2CEA2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787-66A1-4F33-824D-65BBD1A1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6EF32-3734-4EA6-96FC-233E9476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0E328-56F8-439D-B5E1-4C50245B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F7310-BE3C-431B-A833-D44BC39E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B8A12-73AB-4D5F-8491-974B3CBA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525D4-6D14-426D-AEB7-09A964FA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FDDA4-C546-4C45-8258-4F36A75B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B61D8-517E-4D56-ADF4-B9ECBCB4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8D1D7-373E-49E9-8179-34BC05E2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1F628-1D0F-44E2-9E09-D1C0B897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FF9F7-4C92-4AC2-B95C-0A38553A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2F49-8407-42DD-921A-370B0F8F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486F6-4C99-4ACB-8BB5-BCD76250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DEEAD-26D8-4C94-B1B3-5B59E300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68F67-ED2C-41FC-A2C8-8C3A46F7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DF1C4-4516-47B2-AA0F-C0F752A8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04B53-2978-4AB4-AAEC-10622814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1C0F7-186E-4F92-AA4D-37C595F9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FE80F-7196-4821-A169-CA4A0C4B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E9A0B-D7AF-4CD7-AE47-703CF6B2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49EE2-491B-4700-872A-E95390C5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37403-A875-4FE6-98F3-BF710C3C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3A2-C9DE-4D61-ADCD-50409B33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BD5C6-0108-4806-A047-B4A6DBA5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99AF5-A14F-4782-B457-BAD1A1F7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6653A-C2CF-4770-A49B-6ECEF149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3FF08-3131-4392-BE41-51E5ADB2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50872-E649-44DF-A11C-AC88D204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9B1DE-0DC7-4611-BBF5-ECB39EEC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682F3-6EE8-4306-BA0C-73BC1B5E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4F5EB-D85D-4766-B19E-790BCF54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C8665-C40D-45E7-B216-8A0CEF18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2DD4A-E905-4005-BFF6-0499E1EA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7794-CE19-4E61-AD1D-B5B88EB1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F3F99-F1EA-4EDD-8D61-72912158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FB1DE-3B10-4265-96AC-791DBA97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10602-7718-4B1A-9960-9AA7C47E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29CE0-BC28-4FED-91CE-461AE7C5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0229C-33BD-435D-9E16-95C3472A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D5657-0CE7-42CA-AA02-A06AFB6B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A8039-7CD8-465B-8582-DBEF44DE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0AB0A-9D78-4B7D-AD99-5FABF0A9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3F0EC-C0D4-466B-9298-8E83B2C8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F5D6A-0D44-46CD-9A72-016C3067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6B6D-BC88-4C7E-B2FC-ADC08D5B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246EF-A38D-4B09-AEBD-76B2FA9F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5A8A4-6DF8-4260-874D-57A3D02E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CEEA9-7C32-4C3A-8649-ADAC86B7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E2EC7-4E0E-49AE-8F34-1F4CB163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A91E4-3343-46A3-B53B-949AF369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B65AF-1EF8-48DA-B40C-3DA2DB00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5B29F-096D-41CB-B6E8-DAEE7FBE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0661D-551C-4DD9-989C-2FCEE46C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BB5AF-129F-4F8B-9F69-77237875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28450-E746-4FF6-90FB-DEF8A1B0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2F04-3D19-41FD-B68C-3562BC2D78B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8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8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8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9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5E8A-AA1C-4889-8959-64D70F59BC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E5FD-4574-4860-90EF-0E0089F5625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9EBE-8A46-4A32-9FE0-E5F7D6974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4B1B-3D46-4F49-A1F7-DF29CFCC3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7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D6AD-3FB7-4B92-952C-F999207DDC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4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PlaceHolder 1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A548-DEDA-4781-8C12-702C9594B8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7A59-88AD-49F2-B46A-5DD0AE143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7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1000-003C-45B3-BA65-04AD46BEB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2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2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3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BB79-4F85-415B-AEF0-65D7B729B9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Формирование самооцен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Мнение окружающих люд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Собственный жизненный опы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Степень воздействия на формирование нашей самооценки имеет значимость для нас мнения того или иного челове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 txBox="1"/>
          <p:nvPr/>
        </p:nvSpPr>
        <p:spPr>
          <a:xfrm rot="297000">
            <a:off x="726840" y="1123560"/>
            <a:ext cx="705636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оце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685800" y="2142720"/>
            <a:ext cx="769608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здоровое отношение человека к самому 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чувство собственного достоинства и уверенности в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актор признания или непризнания человека окружающими людьми оказывает влияние на формирование у него правильного отношения к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 txBox="1"/>
          <p:nvPr/>
        </p:nvSpPr>
        <p:spPr>
          <a:xfrm rot="183000">
            <a:off x="826920" y="744120"/>
            <a:ext cx="71866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ува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 негативным подтекстом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никогда не сможешь ничего добиться в своей жизн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полная копия своего отц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Позитивное высказывание: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Вы напоминаете мне … Вы энергичны и решительны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Я ценю ваше умение выполнять поручаемую работу. Вы очень эффективный работник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619280" y="1197000"/>
            <a:ext cx="626580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269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говорят о на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бладающего чувством самоуваже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крытый взгля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олова поднята; походка прям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разговоре выражает позитивное отношение к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корит себя; ощущает принятие со стороны окружающих люд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увствует себя способным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рет на себя ответственность и заботится о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меет здоровые привыч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042920" y="1052640"/>
            <a:ext cx="7201080" cy="71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51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С низкой самооценко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ячет глаза, старается отвести взгля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 ходьбе сутулится, вжимает голову в плеч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нижает собственное достоин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тоянно ощущает чувство в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способен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заботится о себе, не несет ответственности за себя и свои действ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меет вредные привыч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755640" y="1052640"/>
            <a:ext cx="74167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844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ногие используют еду как средство снятия напря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удачные попытки сбросить вес ведут к  потери самоува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вильная самооценка и уважительное отношение к себе помогает человеку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бросить вес, удержать его и полностью изменить свой стиль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755640" y="1052640"/>
            <a:ext cx="725472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789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зиимосвязь ожирения и самооценк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Необходим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рить в возможность повышения самооце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ть пути повышения самооце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547640" y="836640"/>
            <a:ext cx="640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к повысить самооценку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Сознательно формируйте чувство самоуважения и верьте в собственную значим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Анализируйте свои чувства и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Постарайтесь осознать, что эмоции и чувства являются продуктом ваших мыс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Определите мысли вызывающие негативные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ример: «Я – полный неудачник» или «эта задача мне не по силам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меняйте негативные мысли на позитивные: «Я не считаю себя неудачником, моя зависимость от еды – временное явление. Я смогу похуде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) Помните, что вы можете изменить себя, если измените свои мысл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Научитесь прощать себя и друг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Окружите себя людьми, которые понимают и поддерживают ва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Находите для себя возможность ежедневно заниматься любимым дел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) чтение, занятие спортом, прогулка на свежем воздухе, прослушивание музыки, работа в сад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) помните о том, что утомление часто является скрытой формой депресс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0:32:42Z</dcterms:created>
  <dc:creator>Черевичная Вера Петровна</dc:creator>
  <dc:description/>
  <dc:language>en-US</dc:language>
  <cp:lastModifiedBy>Черевичная Вера Петровна</cp:lastModifiedBy>
  <dcterms:modified xsi:type="dcterms:W3CDTF">2007-02-08T10:59:59Z</dcterms:modified>
  <cp:revision>2</cp:revision>
  <dc:subject/>
  <dc:title>Слайд 1</dc:title>
</cp:coreProperties>
</file>