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31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694-6943-40FE-A374-9584E683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60DD-1E36-4FBF-A954-E936E361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2D8-72E9-4E8C-811C-3CCEC889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E23-242F-4322-864B-CE6665FE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4E2-A1F9-4605-8DD4-104AA177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CEE-8CDE-4956-B7E6-C25C3414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0AD-6094-43D3-A96D-127AFBF4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B49-22BB-4FCC-86D9-7E40E9B2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82BA-1A26-4FC5-AC03-AD100A29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9C7-F982-4526-8AA0-3CAAE24D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16F-7451-4A7F-9C62-8ED0F0B3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B84-5B2C-4F70-AAEF-8256E0F3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3B29-D93B-4039-ACB1-CD1E42CBEC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ПОСОБ УПОТРЕБЛЕНИЯ ПИЩ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5638680" y="2514240"/>
            <a:ext cx="1779840" cy="204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ДУКТЫ, МЕШАЮЩИЕ ПИЩЕВАРЕН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380988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с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трые спе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3352680"/>
            <a:ext cx="14032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05720" y="3962520"/>
            <a:ext cx="1425600" cy="15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53080" y="5562720"/>
            <a:ext cx="1219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5073480"/>
            <a:ext cx="1687320" cy="1327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1981080" y="5407200"/>
            <a:ext cx="1067040" cy="84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71600" y="5715000"/>
            <a:ext cx="762120" cy="66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8080" y="5715000"/>
            <a:ext cx="482760" cy="75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95480" y="5334120"/>
            <a:ext cx="1524240" cy="127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620120" y="4114800"/>
            <a:ext cx="1057320" cy="1992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257800" y="5345280"/>
            <a:ext cx="2286000" cy="136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867280" y="4724280"/>
            <a:ext cx="1521000" cy="51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УДАЧНЫЕ СОЧЕ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рукты и овощ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хар, молоко и яй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вощи и обильные десер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809880" y="571500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3048120" y="5867280"/>
            <a:ext cx="593640" cy="75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2362320" y="6095880"/>
            <a:ext cx="990360" cy="60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914400" y="5715000"/>
            <a:ext cx="1219320" cy="77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05320" y="6172200"/>
            <a:ext cx="990360" cy="528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2057400" y="6172200"/>
            <a:ext cx="411120" cy="4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2438280" y="6400800"/>
            <a:ext cx="38412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943600" cy="310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 БОЛЬШОЕ РАЗНООБРАЗ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должно быть от приёма пищи к приёму, а не за один раз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о различных питательных веществ конкурируют за доступ к пищеварительным фермент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, слишком сложные блюда вызывают войну в желу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СИСТЕНЦИЯ ПИЩ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ёрдая и сухая пища предпочтительн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ствует тщательному пережёвы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733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епляет зубы и 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281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контролировать аппет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59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избавиться от пристрас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слишком сладкой или солёной пи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717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ЁГКИЕ УПРАЖ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ёгкие упражнения до приёма пищи способствуют хорошему аппети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улка после еды способствует лучшему усвоению пищ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мните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отребление воды в промежутках между приёмами пищи, правильная осанка и удобная одежда – очень важны для хорошего пищевар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9532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УДЬТЕ БЛАГОДАР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ппу студентов, думавших о приятном во время приёма пищи, сравнили с группой студентов, пытавшихся решать математические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 студентов первой груп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ее выделение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ее сильная щелочная среда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ий уровень выделения ферм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3623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СОВЕТЫ ПО УПОТРЕБЛЕНИЮ ПИЩ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здерживайтесь от перекусы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отребляйте пищу тёпл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щательно пережёвывай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ёрдая и сухая консистенция предпочтительн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 ешьте много разных продуктов за один приё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неудачных сочет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продуктов, мешающих пищеваре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ед и после приёма пищи делайте лёгкие упражн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удьте благодар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2089080"/>
            <a:ext cx="4419720" cy="430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86000"/>
          <a:ext cx="8305920" cy="4059360"/>
        </p:xfrm>
        <a:graphic>
          <a:graphicData uri="http://schemas.openxmlformats.org/drawingml/2006/table">
            <a:tbl>
              <a:tblPr/>
              <a:tblGrid>
                <a:gridCol w="4397400"/>
                <a:gridCol w="3908520"/>
              </a:tblGrid>
              <a:tr h="98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вида пищи, принимаемой через 2 часа после завтрака, на его перевари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ы, принимаемые через 2 часа после завтр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, когда остатки завтрака всё ещё находятся в желу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стаканчик морожен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ба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часов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1752480" cy="222264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5029200"/>
            <a:ext cx="22100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819520"/>
            <a:ext cx="1752480" cy="222228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298600"/>
            <a:ext cx="2667240" cy="2806920"/>
          </a:xfrm>
          <a:custGeom>
            <a:avLst/>
            <a:gdLst/>
            <a:ahLst/>
            <a:rect l="l" t="t" r="r" b="b"/>
            <a:pathLst>
              <a:path w="1680" h="1768">
                <a:moveTo>
                  <a:pt x="0" y="1768"/>
                </a:moveTo>
                <a:cubicBezTo>
                  <a:pt x="72" y="1188"/>
                  <a:pt x="144" y="608"/>
                  <a:pt x="288" y="328"/>
                </a:cubicBezTo>
                <a:cubicBezTo>
                  <a:pt x="432" y="48"/>
                  <a:pt x="632" y="0"/>
                  <a:pt x="864" y="88"/>
                </a:cubicBezTo>
                <a:cubicBezTo>
                  <a:pt x="1096" y="176"/>
                  <a:pt x="1388" y="516"/>
                  <a:pt x="1680" y="8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362320"/>
            <a:ext cx="1600200" cy="130788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4936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28600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191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кусы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581280"/>
            <a:ext cx="3200400" cy="47016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48"/>
                </a:moveTo>
                <a:cubicBezTo>
                  <a:pt x="336" y="172"/>
                  <a:pt x="672" y="296"/>
                  <a:pt x="1008" y="288"/>
                </a:cubicBezTo>
                <a:cubicBezTo>
                  <a:pt x="1344" y="280"/>
                  <a:pt x="1680" y="140"/>
                  <a:pt x="2016" y="0"/>
                </a:cubicBezTo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9165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ОТРЕБЛЯЙТЕ ПИЩУ ТЁПЛ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е как горячей, так и холодной пищи задерживает пищева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щательно проведённом исследовании 2064 людей, больных раком желудка, были рассмотрены для определения возможной причины заболевания. Результаты исследования показали, что 17% из группы, предпочитающей горячую пищу, имели самый высокий риск заболевания раком желу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ФЛЕТЧЕРИЗ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чи хронически больным разработал методику же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00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ностью излечился     и издал несколько бестселл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4495680"/>
            <a:ext cx="358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забыт из-за утомительности и            малоэстетичности мет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14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ЩАТЕЛЬНО ПЕРЕЖЁВЫВАЙТЕ ПИЩ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Ешьте медленно, и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юна будет тщатель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мешиваться с пищ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лен Уай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«Советы по пище и питани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1:40:46Z</dcterms:created>
  <dc:creator>Ostapenco</dc:creator>
  <dc:description/>
  <dc:language>en-US</dc:language>
  <cp:lastModifiedBy>Черевичная Вера Петровна</cp:lastModifiedBy>
  <dcterms:modified xsi:type="dcterms:W3CDTF">2007-05-15T18:46:22Z</dcterms:modified>
  <cp:revision>40</cp:revision>
  <dc:subject/>
  <dc:title>СПОСОБ УПОТРЕБЛЕНИЯ ПИЩИ</dc:title>
</cp:coreProperties>
</file>