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3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DAF-B25E-4BC1-9EAC-E32BB06D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BF9-0998-476A-B42F-B09959DC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CC7-DA50-4DFF-8FC9-E6D253E7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1F5-CBB9-477E-90B1-B4DC3F05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E184-6FA6-4D70-BC94-4880584D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3A70-ABE3-46CD-ABCB-8E38A9AB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F0D0-C087-4AB0-9900-9784FE38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040D-3513-46B7-B399-7B4886B1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8C21-3309-4C10-9150-C166EF5F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FA57-E782-40AC-912C-6B3C2AE9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6E6A-613F-4D9C-A6D1-9CB5C087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F74-9C04-4346-98F4-431259F8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B3EA-7998-4D95-A87B-3AFFEDA9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B3E7-8C99-45D3-B0DD-E2E890F8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71BD-5DD2-40DB-A6E6-12A3B77C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F0B3-7F09-41CA-B185-F0ABAD85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4A6E-8425-47B9-A529-5351E220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BA5-1DC5-45E6-A31B-2DADBFE6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F09-740E-4CA2-A98C-E2901A54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9DF-4E48-4885-A994-D1F13A2D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08D-65B4-4F4B-98F4-C77EC908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221-406A-4FDF-BB3D-37F158ED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661-B6E7-427C-99BC-C8A90B79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341-492C-4803-BEF6-F272418D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2BF2-41FF-45E7-9192-21978C73BE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3641-E8C6-4D44-AE47-A9DCC119B0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166480"/>
            <a:ext cx="8762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67040"/>
            <a:ext cx="8915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МЫШ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7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ДУШЕВНЫЙ ПОКОЙ И ИСЦЕ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ОМОЩЬ ДРУГИМ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ДОВЕРИЕ БОГ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ХРИСТОС В СЕРДЦ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j0260360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СЕМЬ КЛЮЧЕЙ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121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24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РЕАКЦИЯ ОРГАНИЗМА НА ВНЕЗАПНЫЙ СТРЕССОР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hm00246_" descr=""/>
          <p:cNvPicPr/>
          <p:nvPr/>
        </p:nvPicPr>
        <p:blipFill>
          <a:blip r:embed="rId17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СТАДИИ СТРЕСС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ОЛЕЗНИ СВЯЗАННЫЕ СО СТРЕССОМ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83160"/>
            <a:ext cx="79246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РАЗУМНОЕ ПРИСПОСОБЛЕ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940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ЗДОРОВЫЙ ОБРАЗ </a:t>
            </a: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ЖИЗН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8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ЛАНИРОВА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НЕ БЕСПОКОЙТЕСЬ О БУДУЩЕМ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2:53:51Z</dcterms:created>
  <dc:creator>Ostapenco</dc:creator>
  <dc:description/>
  <dc:language>en-US</dc:language>
  <cp:lastModifiedBy>Our Home</cp:lastModifiedBy>
  <dcterms:modified xsi:type="dcterms:W3CDTF">2001-04-08T15:49:49Z</dcterms:modified>
  <cp:revision>30</cp:revision>
  <dc:subject/>
  <dc:title>СТРЕСС</dc:title>
</cp:coreProperties>
</file>