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07B2-E85D-4DE6-89F4-EFB2CDF87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1DB2-B1F3-4FD9-B97F-3B97C40DC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7527-5FC0-4FC8-ABE3-4DC93AB7E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C190-6C56-442D-AECE-9597A7EA4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B0A03-DF83-46AA-A73B-7CFC8071F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5D9BE-5D1D-4718-94F1-19D1197A9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EE41C-0DC4-4467-99A2-3E6464C11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9A64B-77CD-4F53-AE29-A391D6032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059FD-80FF-4C4E-A4A3-675BD027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8511B-0CCE-4078-9C16-8C2E5B80A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07109-DA37-4A70-8DD3-2A662962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66D1-E76F-4671-BA5F-4ED0CF7DA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8D823-1D0A-42C9-8F6B-3F53C847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17A60-D4A0-4300-A44E-699B63E9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211D0-BBAB-45CE-8F5B-C1CEC51CD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44CFD-9C91-47F6-923C-573E9EC04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7AD67-B0FA-4FD5-8730-70ADB4BCE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418F2-D688-4E7D-8D55-6D2DE1104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5C983-DB2B-4219-AC7A-3FBDD1DE4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60705-A5B2-4E67-8B33-3D09017BE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3A43C-5FF0-477C-927A-715708FF9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655EC-A114-4B16-AF0A-E3583D89C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10FF-CFF8-404A-8950-403E73885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2C3DD-40C7-46B3-B30D-31D30FF79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CC378-C5C6-4785-950C-E6C433E2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BF4AE-6816-475F-B1F1-23E5C93B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41759-63AF-42FB-A824-4FC435FD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4D813-769C-4FB3-83DD-14F5D6B2A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F748E-EDDA-4A07-B8D1-329EBAA48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AE201-470D-4AE3-BAC8-7453B2613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6D0C-EC1B-414B-9BB7-1E20B0C99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6472-02D2-468C-810C-2296D6CA2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799D-7DDB-4498-A51F-0C9A85A5E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AFDB-DDBF-4DB9-8FF9-B42F6C92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4494-77DD-4CD0-BD9E-E11CF50D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4426-CC24-40B9-A040-83F80B1D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15897-F6AF-4CC0-A7D2-FD9CDDCC38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273D4-2FC0-451D-9B4E-2183F7A4C9D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9F209-BF6A-4CC5-9F52-6662F98DE7A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258920" y="2349360"/>
            <a:ext cx="5977080" cy="21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ахарный дтабет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ешение проблем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ацион питания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тказ от употребления сахар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Употребление большого количества углевод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изкое содержание белка в диет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тказ от кофе и курен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Употребление сырых продуктов, в особенности лука и чеснок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Определ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Это эндокринно-обменное заболевание в основе которого лежит абсолютная или относительная инсулиновая недостаточнос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 вида диабет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 тип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ювенильный (юношеский).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нсулинозависимый – связан с поражением поджелудочной железы инфекцие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 тип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взрослый диабет.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нсулиннезависимый – у людей старше 40 лет. Обычно связан с избыточным весом и малоподвижным образом жизни. Доля - 85% всех больных диабето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ичины заболева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Наследственная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неполноценность островкового аппарат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Повреждение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поджелудочной железы опухолью, инфекционными заболеваниями (паротит, краснуха, грипп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Провоцирующие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факторы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ереедание, злоупотребление сладостью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Острые и повторные стрессовые воздействия в виде нервных перенапряжени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лидипсия (неестественная жажда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лиур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лифагия (чрезмерный аппетит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теря вес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достаток энерг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асположенность к инфекц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лабость, снижение работоспособност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уд и сухость кож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атаракты, риниты, гастриты с пониженной кислотностью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имптомы заболева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Осложн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Гипогликемия – потоотделение, ком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Атеросклероз коронарных и периферических сосудов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етинопатия (поражение сетчатки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фропатия – почечная недостаточность (встречается у половины больных 1-ым типом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йропатия – дистальная, симметричная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арушение белкового, жирового, минерального и витаминного обмен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Диабет 2-го типа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Факторы риска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аследственнос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жирени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ол (женский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Заболевание поджелудочной желез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ацион питания с преобладанием насыщенных жир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Как контролировать сахар в кров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Употребление отрубей (в них содержится хром, который помогает входить сахару в клетку и усваиваться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сключение употребления жирного мяса и животных жиров(т.к. препятствуют работе рецепторов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е переедать, не перекусыват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тказаться от обильного ужин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ешение проблем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онтроль за весо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Умеренная физическая активност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балансированный образ жизн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собый уход за нижними конечностям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02:30:10Z</dcterms:created>
  <dc:creator>cb</dc:creator>
  <dc:description/>
  <dc:language>en-US</dc:language>
  <cp:lastModifiedBy>cb</cp:lastModifiedBy>
  <dcterms:modified xsi:type="dcterms:W3CDTF">2006-08-02T16:59:32Z</dcterms:modified>
  <cp:revision>7</cp:revision>
  <dc:subject/>
  <dc:title>Слайд 1</dc:title>
</cp:coreProperties>
</file>