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E1196-5ED7-41CE-BDFA-9956E8A38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B583E-729C-4EBE-A858-EBA227C62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D3B0B-80BF-4127-8071-B8FE71CD0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AB680-B617-47CA-B7D5-99947B5A6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390982-95D5-4BD4-8406-D46D57516D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E0C62-ACDB-42AB-9A1C-A1F9BD416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DFC6D-E29B-45C9-A0ED-5BA01B474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DF947-5B85-4005-9A61-D7AF15AAB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67798-9461-481D-B058-5BB4988A2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0675B-EFB3-4ABD-81C8-AC9D5447C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355FD-7B9A-4476-AABA-FB29A53FE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030ED-1C16-4BD2-9752-4803160F8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B3367-F565-4BE3-999A-D4C02957C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BB316-7A1A-4FBC-AA4C-A288DC652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C75EC-3AAA-4212-805E-9EB41E43C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B7E35F-BE0D-4B48-9B88-2ABDEA008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F5A4BA-A67C-46E7-A55F-34B7F8C52B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304855-F840-4586-933B-423AFCD293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0C7434-4FC7-451C-BEE9-AEA2ED4EFF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0D52E8-5177-4D08-8D3A-7336CF1F51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29A890-CEBB-4450-A550-C53C192C61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8BA585-1A0D-4680-9CD4-842D0674C4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C9D0F-05A5-4ECE-83EC-075FDEDD4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F2D934-115E-4652-8842-5A9DC50265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83AB6-6A0E-4C87-B6B7-BE486FCB40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E74124-F90F-4B55-AE32-CAE2670E4B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E1A0EF-9550-46D4-8E74-E696F24DB8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09DEAC-259C-45A0-A4F0-D783F926FD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4BE91A-D76A-4646-B27E-84AB772072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17809F-7C0B-46CB-BCC9-F5F5D1D6BE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01541FE-8B7F-485E-85C5-20A59037F0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4D50885-E864-4C28-8C7E-063AA4B7CD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7489FD5-F90B-460A-96BE-EDC00CAEB7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C0048-473F-433F-A978-014E87454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86FE8FA-8B3B-436C-8EF6-382EE46DF4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9AD9463-DE19-499B-B021-375E0DD4FA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15022CB-250F-4CF0-88B8-E85CD9EC05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AA51808-DCA5-4F68-93D3-82BDAC582F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3C77F53-8969-4E37-B0ED-7C79E3B492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5D150F2-2865-4717-B0B6-043DB4A954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9617C09-CB75-4357-9687-6B394E4679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E16D297-40AF-41A6-AA7D-4A92722692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D205A22-DC89-48CC-B81A-3C3ADB4758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1B0B9D-2B95-4D34-8549-90B9B9D220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0D530-B8D4-47CA-847F-973172A93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C3651F-FF7C-4D86-AC89-067E6CBB88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1E1D6F-179C-4BC3-8B6D-3F389AD419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7A16CC-2EBB-4D4B-AA4A-A31B704B32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852CD8-1FF9-4E01-A846-30BCEF35B9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C910BF-D494-4E3B-9D18-B8B4B1DD23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AE3141-4485-4AD3-99D2-E69F4FBE99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D3E10B-5583-49DD-A9A0-C6B93A3DAC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98FB6E-6AE9-43C0-A7F2-FBDB63A936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56BE5D-4A21-4D4A-86ED-C175D849A2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16C870-9F8A-4D8A-81BC-C1AD4C1AD3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92312-E8E9-4EFB-B3FD-02CA43641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249A6C-1C73-45E7-A6A6-3B9C33B9B3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C71EBF-0DBE-4E91-A203-F675E97E47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A848B2-2C01-497B-91C1-6854617A27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036EC9-DB54-442A-ACD9-6DD04DCB85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0048F2-45AB-4B3A-AB0C-75A0EB83F5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E05896-4D42-4C3C-A489-783AF6A378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53181B-8113-4EB3-8041-74FBA1D9DA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0A9D97-0E11-48CF-8FB0-CDD56D2FE8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F6D628-7CAE-4139-B1D2-E018764027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9EA98F-DB58-4F97-9848-6B8E8CADEF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B03C2-5C6A-464E-BEAB-16DBB47BE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49FBAB-5084-431C-B73E-120BE4A4FA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DE44EF-D9A0-4011-9D56-385902BCC5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EED244-AF07-4AC2-815F-B43CA6DC31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9FD03-D1E5-4AA6-8E33-412D5934E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4F79A-38ED-4150-99C2-0004A294E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21DF9-161B-416E-862D-3B2DAF96A92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B2645-AFA3-4D3E-A051-4A4D0F7D6D7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5" name=""/>
          <p:cNvGrpSpPr/>
          <p:nvPr/>
        </p:nvGrpSpPr>
        <p:grpSpPr>
          <a:xfrm>
            <a:off x="0" y="0"/>
            <a:ext cx="9144000" cy="6858000"/>
            <a:chOff x="0" y="0"/>
            <a:chExt cx="9144000" cy="6858000"/>
          </a:xfrm>
        </p:grpSpPr>
        <p:sp>
          <p:nvSpPr>
            <p:cNvPr id="156"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8"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 name=""/>
          <p:cNvGrpSpPr/>
          <p:nvPr/>
        </p:nvGrpSpPr>
        <p:grpSpPr>
          <a:xfrm>
            <a:off x="0" y="6019920"/>
            <a:ext cx="7848720" cy="857160"/>
            <a:chOff x="0" y="6019920"/>
            <a:chExt cx="7848720" cy="857160"/>
          </a:xfrm>
        </p:grpSpPr>
        <p:sp>
          <p:nvSpPr>
            <p:cNvPr id="160"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1" name=""/>
            <p:cNvGrpSpPr/>
            <p:nvPr/>
          </p:nvGrpSpPr>
          <p:grpSpPr>
            <a:xfrm>
              <a:off x="3946680" y="6019920"/>
              <a:ext cx="3902040" cy="857160"/>
              <a:chOff x="3946680" y="6019920"/>
              <a:chExt cx="3902040" cy="857160"/>
            </a:xfrm>
          </p:grpSpPr>
          <p:sp>
            <p:nvSpPr>
              <p:cNvPr id="162"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7"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627120" y="6021360"/>
            <a:ext cx="5684760" cy="849240"/>
            <a:chOff x="627120" y="6021360"/>
            <a:chExt cx="5684760" cy="849240"/>
          </a:xfrm>
        </p:grpSpPr>
        <p:sp>
          <p:nvSpPr>
            <p:cNvPr id="16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7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BC7C8-170D-4DCA-A94F-6FB6CD125E4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16" name=""/>
          <p:cNvGrpSpPr/>
          <p:nvPr/>
        </p:nvGrpSpPr>
        <p:grpSpPr>
          <a:xfrm>
            <a:off x="-6480" y="20520"/>
            <a:ext cx="9144000" cy="6858000"/>
            <a:chOff x="-6480" y="20520"/>
            <a:chExt cx="9144000" cy="6858000"/>
          </a:xfrm>
        </p:grpSpPr>
        <p:sp>
          <p:nvSpPr>
            <p:cNvPr id="217"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9"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
          <p:cNvGrpSpPr/>
          <p:nvPr/>
        </p:nvGrpSpPr>
        <p:grpSpPr>
          <a:xfrm>
            <a:off x="-1440" y="6033960"/>
            <a:ext cx="7844400" cy="850680"/>
            <a:chOff x="-1440" y="6033960"/>
            <a:chExt cx="7844400" cy="850680"/>
          </a:xfrm>
        </p:grpSpPr>
        <p:sp>
          <p:nvSpPr>
            <p:cNvPr id="221"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
            <p:cNvGrpSpPr/>
            <p:nvPr/>
          </p:nvGrpSpPr>
          <p:grpSpPr>
            <a:xfrm>
              <a:off x="3944880" y="6033960"/>
              <a:ext cx="3898080" cy="850680"/>
              <a:chOff x="3944880" y="6033960"/>
              <a:chExt cx="3898080" cy="850680"/>
            </a:xfrm>
          </p:grpSpPr>
          <p:sp>
            <p:nvSpPr>
              <p:cNvPr id="223"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8"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9" name=""/>
          <p:cNvGrpSpPr/>
          <p:nvPr/>
        </p:nvGrpSpPr>
        <p:grpSpPr>
          <a:xfrm>
            <a:off x="627120" y="6021360"/>
            <a:ext cx="5684760" cy="849240"/>
            <a:chOff x="627120" y="6021360"/>
            <a:chExt cx="5684760" cy="849240"/>
          </a:xfrm>
        </p:grpSpPr>
        <p:sp>
          <p:nvSpPr>
            <p:cNvPr id="23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3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8"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9B2C-5754-4DCB-AE1B-36657F64774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77" name=""/>
          <p:cNvGrpSpPr/>
          <p:nvPr/>
        </p:nvGrpSpPr>
        <p:grpSpPr>
          <a:xfrm>
            <a:off x="0" y="0"/>
            <a:ext cx="9144000" cy="6934320"/>
            <a:chOff x="0" y="0"/>
            <a:chExt cx="9144000" cy="6934320"/>
          </a:xfrm>
        </p:grpSpPr>
        <p:sp>
          <p:nvSpPr>
            <p:cNvPr id="27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9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0C6BA-2EE4-485A-99A2-FF80385E5E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37" name=""/>
          <p:cNvGrpSpPr/>
          <p:nvPr/>
        </p:nvGrpSpPr>
        <p:grpSpPr>
          <a:xfrm>
            <a:off x="0" y="0"/>
            <a:ext cx="9144000" cy="6934320"/>
            <a:chOff x="0" y="0"/>
            <a:chExt cx="9144000" cy="6934320"/>
          </a:xfrm>
        </p:grpSpPr>
        <p:sp>
          <p:nvSpPr>
            <p:cNvPr id="33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357"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9"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BAEA9-E3C9-4974-A9D7-CAEFE0A21F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Истинный рецидив и «срыв»</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утренние расстройства</a:t>
            </a:r>
            <a:endParaRPr b="0" lang="en-US" sz="4400" spc="-1" strike="noStrike">
              <a:solidFill>
                <a:srgbClr val="ccecff"/>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ясности мышления</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способность управлять чувствами и эмоциям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памя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сна</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умение управлять стрессом</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Чувство стыда, вины, безнадежнос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врат к самообману.</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ешние расстройства</a:t>
            </a:r>
            <a:endParaRPr b="0" lang="en-US" sz="4400" spc="-1" strike="noStrike">
              <a:solidFill>
                <a:srgbClr val="ccecff"/>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становка на неудачу.</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ереход в оборону, капитуляция.</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Депрессия подавленность.</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адекватная реакция, раздражительность.</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Потеря контроля</a:t>
            </a:r>
            <a:endParaRPr b="0" lang="en-US" sz="4400" spc="-1" strike="noStrike">
              <a:solidFill>
                <a:srgbClr val="ccecff"/>
              </a:solidFill>
              <a:latin typeface="Arial"/>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арушение способности к суждению.</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еумение противостоять импульсам.</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отеря контроля над события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Сужение спектра возможностей (единственный путь – бросить все и поесть до отвал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моциональный или физический взры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Возвращение к старой привычке</a:t>
            </a:r>
            <a:endParaRPr b="0" lang="en-US" sz="4000" spc="-1" strike="noStrike">
              <a:solidFill>
                <a:srgbClr val="ccecff"/>
              </a:solidFill>
              <a:latin typeface="Arial"/>
            </a:endParaRPr>
          </a:p>
        </p:txBody>
      </p:sp>
      <p:sp>
        <p:nvSpPr>
          <p:cNvPr id="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Гнетущее чувство стыда, вины и угрызение совест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отеря контроля над собой.</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росшее число проблем со здоровье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рыв» – это неконтролируемый по количеству, составу и времени однократный прием пищи с последующим возвратом к правильному питанию.</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Рецидив» - это процесс систематического возврата к старой привычке (более двух дней).</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екрет успешного исцеления от зависимости – устремленность к конечной цели, т.е. истинной свободе в выборе полезной пищи.</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дельные «срывы» на этом пути могут быть. Но если вы остаетесь верны своему решению снизить вес, эти срывы не означают полного провала, если за первым перекусом не проследуют второй, третий, четвертый…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Если произошел срыв, не надо судорожно «прячась» запихивать в себя еду, а спокойно спросите себя: «Что произошло? Зачем я сейчас ем? Какие предупредительные сигналы могли остановить меня? Кто был со мной в это врем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веты на эти вопросы расскажут вам о внешних и внутренних причинах и сопутствующих факторах вашей привычк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читься на ошибках – в этом секрет успех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егодня наш девиз: «Поговори с собой по дружеск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бдумай срыв (если он произойдет) в конструктивном духе.</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кажи себе: «Я сделал свой выбор», забудь о неудаче и продолжай питаться как ни в чем не бывало.</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1" name=""/>
          <p:cNvSpPr txBox="1"/>
          <p:nvPr/>
        </p:nvSpPr>
        <p:spPr>
          <a:xfrm>
            <a:off x="611280" y="1916280"/>
            <a:ext cx="7993080" cy="3025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000000"/>
                </a:solidFill>
                <a:latin typeface="Impact"/>
              </a:rPr>
              <a:t>Процесс развития срыва</a:t>
            </a:r>
            <a:endParaRPr b="1" i="1" lang="en-US" sz="4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Самообман – непризнание того, что вы попали в мертвую зону.</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роцесс снижения веса – это не прямолинейное движение из пункта «А» в пункт «Б». На этом пути могут быть вынужденные остановки, или «мертвые зоны».</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Возможны отдельные срывы или переключение на другие виды зависимости.</a:t>
            </a:r>
            <a:endParaRPr b="0" lang="en-US" sz="2800" spc="-1" strike="noStrike">
              <a:solidFill>
                <a:srgbClr val="ffffff"/>
              </a:solidFill>
              <a:latin typeface="Times New Roman"/>
            </a:endParaRPr>
          </a:p>
        </p:txBody>
      </p:sp>
      <p:sp>
        <p:nvSpPr>
          <p:cNvPr id="403" name=""/>
          <p:cNvSpPr txBox="1"/>
          <p:nvPr/>
        </p:nvSpPr>
        <p:spPr>
          <a:xfrm>
            <a:off x="1692360" y="836640"/>
            <a:ext cx="547200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амообма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i="1" lang="en-US" sz="3200" spc="-1" strike="noStrike">
                <a:solidFill>
                  <a:srgbClr val="ffffff"/>
                </a:solidFill>
                <a:latin typeface="Times New Roman"/>
              </a:rPr>
              <a:t>- Особенности личности: </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Склонность к стрессу;</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редрасположенность к зависимости.</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i="1" lang="en-US" sz="3200" spc="-1" strike="noStrike">
                <a:solidFill>
                  <a:srgbClr val="ffffff"/>
                </a:solidFill>
                <a:latin typeface="Times New Roman"/>
              </a:rPr>
              <a:t>- Особенность образа жизни:</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еренапряжение, скука.</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Нездоровый образ жизни</a:t>
            </a:r>
            <a:r>
              <a:rPr b="0" lang="en-US" sz="3200" spc="-1" strike="noStrike">
                <a:solidFill>
                  <a:srgbClr val="ffffff"/>
                </a:solidFill>
                <a:latin typeface="Times New Roman"/>
              </a:rPr>
              <a:t> </a:t>
            </a:r>
            <a:r>
              <a:rPr b="0" lang="en-US" sz="2800" spc="-1" strike="noStrike">
                <a:solidFill>
                  <a:srgbClr val="ffffff"/>
                </a:solidFill>
                <a:latin typeface="Times New Roman"/>
              </a:rPr>
              <a:t>(злоупотребление алкоголем, недостаток сна и физической активности).</a:t>
            </a:r>
            <a:endParaRPr b="0" lang="en-US" sz="2800" spc="-1" strike="noStrike">
              <a:solidFill>
                <a:srgbClr val="ffffff"/>
              </a:solidFill>
              <a:latin typeface="Times New Roman"/>
            </a:endParaRPr>
          </a:p>
        </p:txBody>
      </p:sp>
      <p:sp>
        <p:nvSpPr>
          <p:cNvPr id="405" name=""/>
          <p:cNvSpPr txBox="1"/>
          <p:nvPr/>
        </p:nvSpPr>
        <p:spPr>
          <a:xfrm>
            <a:off x="1619280" y="692280"/>
            <a:ext cx="6229440" cy="1079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Факторы повышенного риска</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Факторы раздражители</a:t>
            </a:r>
            <a:endParaRPr b="0" lang="en-US" sz="4400" spc="-1" strike="noStrike">
              <a:solidFill>
                <a:srgbClr val="ccecff"/>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удные ситуации в общении с людь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яжелые воспоминания из прошлого</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евожные мысл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трицательные эмоции</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13:53:45Z</dcterms:created>
  <dc:creator>cb</dc:creator>
  <dc:description/>
  <dc:language>en-US</dc:language>
  <cp:lastModifiedBy>Черевичная Вера Петровна</cp:lastModifiedBy>
  <dcterms:modified xsi:type="dcterms:W3CDTF">2007-03-11T14:19:38Z</dcterms:modified>
  <cp:revision>4</cp:revision>
  <dc:subject/>
  <dc:title>Истинный рецидив и «срыв»</dc:title>
</cp:coreProperties>
</file>