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9A28-5094-4D00-B91A-C9A9546BE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52CD-FB4A-4C50-8C71-329846EE9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FC49-E5FE-423D-AA31-2666ED5BF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BAE2-5E53-4CD1-AA52-57F16BE29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BDFE-038A-42F3-B05E-A9B8B502E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4675-F645-4611-95D7-04A59BA6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6056-965A-4B9E-B7F6-39C8D3F26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89C55-8565-420E-8E0F-E7F4B25D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1820-7B45-43D1-AC4A-4180B6CBC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3FFAF-12A9-4FF4-8227-3DCFE481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B84F-6DE5-4593-9F22-3E6CE0ECE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F2CE-35EA-49F9-A065-414BA862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D847-CF4E-40CF-A024-CB7570BA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CFA6-BA89-498B-BC33-A24ACCBC9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8268-699B-49C3-8DE1-A7F192FE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6ED4-C779-4582-A969-488630335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82A4D-9D38-41BE-934F-A5BD0AA10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DF5C2-4CB5-43FC-A4A5-01BACCC60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61E4B-D653-4A6B-A9AB-7EAB5B37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9C7664-9380-4083-A384-A4FAF3061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812AFF-F5E9-4000-83D8-A531AE4A8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9696D-CA83-40B5-B387-8998307E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0B20-D257-4AE5-AA35-FB7A466D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6ACAF-4DA0-4619-86E3-50455007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84BDE-F973-4753-9AE2-19ECD185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6852F-AE7B-4B68-B952-47BF6BCA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992DD-BF04-475D-8DC2-10290F97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FDB9F-2A63-4813-ADF7-C0C95272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84C5F-85E5-463D-BAEA-525DEFFB6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99D07-E198-4258-92CA-C395FA719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6FD5-5585-4FE4-84F8-9766D752C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EDA8-50CA-4A09-905C-44EE7F3E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A5B4-049B-4FF5-8DA7-C515D1097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57A4-C700-444B-A002-4819F62B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C5F2-2833-4899-B6A6-E22515E3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C345-2664-4336-BF7A-6F8AF3A6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84246-2751-4A1F-8AE9-BAAFAEEB0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E527-2E35-4606-89F2-1ECB792670E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B776-1852-4CA1-868F-0BC6D79EE15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258920" y="2349360"/>
            <a:ext cx="5977080" cy="21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ахарный дтабе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пробле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цион питания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тказ от употребления саха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потребление большого количества углевод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изкое содержание белка в диет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тказ от кофе и куре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потребление сырых продуктов, в особенности лука и чесно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Это эндокринно-обменное заболевание в основе которого лежит абсолютная или относительная инсулиновая недостаточно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 вида диабе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 тип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ювенильный (юношеский).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нсулинозависимый – связан с поражением поджелудочной железы инфекцие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 тип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взрослый диабет.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нсулиннезависимый – у людей старше 40 лет. Обычно связан с избыточным весом и малоподвижным образом жизни. Доля - 85% всех больных диабет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ичины заболев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Наследственная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неполноценность островкового аппарат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овреждени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поджелудочной железы опухолью, инфекционными заболеваниями (паротит, краснуха, грипп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ровоцирующи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факторы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ереедание, злоупотребление сладостью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стрые и повторные стрессовые воздействия в виде нервных перенапряжен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лидипсия (неестественная жажда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лиур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лифагия (чрезмерный аппетит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теря вес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достаток энерг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асположенность к инфекц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лабость, снижение работоспособно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уд и сухость кож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атаракты, риниты, гастриты с пониженной кислотностью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имптомы заболев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Осложн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ипогликемия – потоотделение, ком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теросклероз коронарных и периферических сосудов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тинопатия (поражение сетчатки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фропатия – почечная недостаточность (встречается у половины больных 1-ым типом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йропатия – дистальная, симметричная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рушение белкового, жирового, минерального и витаминного обмен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иабет 2-го типа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Факторы риска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следственнос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жире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л (женский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Заболевание поджелудочной желез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ацион питания с преобладанием насыщенных жир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ак контролировать сахар в кров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потребление отрубей (в них содержится хром, который помогает входить сахару в клетку и усваиваться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сключение употребления жирного мяса и животных жиров(т.к. препятствуют работе рецепторов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е переедать, не перекусыва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тказаться от обильного ужин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пробле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нтроль за вес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Умеренная физическая активност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балансированный образ жизн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собый уход за нижними конечностя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02:30:10Z</dcterms:created>
  <dc:creator>cb</dc:creator>
  <dc:description/>
  <dc:language>en-US</dc:language>
  <cp:lastModifiedBy>cb</cp:lastModifiedBy>
  <dcterms:modified xsi:type="dcterms:W3CDTF">2006-08-02T16:59:32Z</dcterms:modified>
  <cp:revision>7</cp:revision>
  <dc:subject/>
  <dc:title>Слайд 1</dc:title>
</cp:coreProperties>
</file>