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95D4-EDE9-4117-A8CD-A895236C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28D-2E77-41CB-9D1B-F2A18EDA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AF3F2-39A1-46D5-AA17-E092DD12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23852-37F4-49A3-9B17-BB78981A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E27ED-5EF1-4B25-BD2C-1D8A3BDA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576C5-9BC4-42A3-A5CA-C43E93AC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EEE5D-0B5B-4619-BCB3-E2E4D717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D2C1F-9729-4667-AE2F-30D2FC02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1E657-A3DB-44F0-9574-5B148C21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6C7CC-7243-4252-84A3-96D5773F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A82A5-8A8A-430D-9890-8473F39D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547233-C545-406B-8F3E-FF5F3D21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B909-9F60-46CF-BA31-21761E69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4E4803-D418-441E-94ED-317823EC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A6769B-F527-4303-A8D6-9D2946DD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E3577F-A9C8-44D6-B15E-BDD179CB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F94711-5309-42F1-9408-2873FD85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040E25-4975-4459-B108-99A358AA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BB6593-6BA0-448B-A794-88A0F02E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F4F434-6718-4CC6-A9A7-A163F435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7EF762-8FB8-4F57-87B9-136DB04F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7757B7-1DC4-4F06-9B33-E62C1A97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5862EC-CD6D-4AAF-8081-CBAFC5AE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F7F-02ED-4928-BE62-4CD1F4BC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4546BA-CABE-45F0-BEDD-E5D46EB1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A35A-2D53-4DE8-B92D-543E19C3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075D-3D11-46A7-907E-944C7234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55BE-0CFB-41A5-A2A7-FB89176E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97B8-16A4-4AA9-B7AB-9EF6FEF9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C647-8015-42EC-A845-E7536D7E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1ACB-067B-4A06-B08A-53845AD4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BCFA-A691-4461-94A3-81BBD353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D45-FCCA-4C34-A521-DF47C17D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A76A-E364-475E-B79D-B61EEA66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47FD-6B08-4865-B2AE-1BF5266A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28FB-BB73-43D9-9F06-DDA0B6EC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5677-0860-4DEC-9938-05E83D06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CCF3-91F7-4558-881E-CD1BE45F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B5F75-B526-4632-A959-7A9FBD80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20C8D-BEB8-4330-9D59-A66C7FFE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FEB6B-F092-44DE-80B9-AB38BF61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2094-A4E5-4E31-BCB8-333523D0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063B6-C81C-4F1B-8E38-7BA9946D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575-C848-4AD5-AD07-8159026D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B4F33-1C4F-4E88-9845-3307CF6E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FEB81-F3AF-4FC6-B1D7-769FADAA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92895-7E20-4CDA-8A71-B48C2B8C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08E82-843C-460A-BAEA-60BFF69A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82CC6-CA7C-4943-B8C9-4CBEDC75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20C98-BE57-45CB-88E4-1999A920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8EFC5-0C8F-4786-9A60-5EBA2897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1ABC5-F563-4255-978C-206666B0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6DF93-921E-4400-A8D6-A9442BF6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5E5CF-DFB4-4E31-B787-95A8C9C6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7DB8-C448-4A59-BCC4-2953EFE7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35344-6E34-40ED-9A5A-FB16865B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D9244-B794-4EF5-81F8-1C49CD06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0A223-8981-4A9D-BC24-A0860A84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624F1-E0CE-48D5-84AB-3E72A5E7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FFEB8-8E41-4598-8D75-605ADE64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5E056-972C-4A8E-AB6B-AC912D68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0C60E-CA9A-4163-9D2D-A2E466CF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6BEB8-D4C6-40E0-B8DA-6BC4C6AB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EFA1D-BAE3-4C8B-839F-9F1A55B2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DA31E-4418-47A2-B30C-2D1605E3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609-1750-48FF-A7F4-3A1EC4C9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880EF-2A57-464A-9CFC-D5E6E83C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F917B-023A-4224-9112-706A6DFD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3ADA3-4548-422F-86C9-4945BDC0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0337E-FE69-4F7E-BD4E-5740A572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BCE76-D973-48DE-A5D7-701FF9F1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68ECF-DD92-4F19-BE99-586D4927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A6837-4106-48C8-A283-D2B50779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81607-976C-4A30-A6F7-042DF5BA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284BE-4757-4800-A656-0B5914D2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1D95E-BC4F-47A0-B3B8-A16C2A3C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07F-F92E-45F5-9EA9-FD819655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AE62F-AB63-453B-B830-2625B3E4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E2441-0BA6-4322-B4B9-DAE0EE55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5C5B2-945E-4769-9817-4DBA9748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4EFEE-2464-4376-9018-4C8E5598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9E905-B59E-4CED-BE75-D4CACDC6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BA368-1DF3-413B-8F6C-B546BA9D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441DC-9FD1-4284-8875-B53EA06A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B1D4A-A568-44DE-B2F1-AB3FDB96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28110-1F10-4366-BE4B-F5E8AF72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13E66-535C-4C6A-8C46-2B6E1962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393-BFB6-40DB-8C5E-6A529F8C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A6BF4-234C-40C0-B671-84C30358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E1A58-647E-499C-815B-C8A4E164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A3D33-09CF-4EF3-AE1A-57A4FA96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414C0-964E-4A16-8EFF-D56F007B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3C9BF-B251-4ED6-9A7E-376A9880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37963-8A33-4B7E-8362-902859ED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0B446-7D59-4D89-B4B3-C6513D2D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AFB53-97C3-496E-B398-8A446538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6945E-02C7-4C9A-B2B9-527AA7F5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4B555-6032-4CA6-AD98-EF8C8F6E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286-3C3C-4BD5-BC2D-EDE63324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195D3-563B-4675-A995-32C78DD9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F366D-4E45-4F74-A85F-CB3076FA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2B23A-409D-4192-BE7B-6C69CB1C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955F1-EAA0-40B9-A65B-A42C34CD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B6609-016B-4C7F-A0A0-F99F13F4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02214-0366-4D9F-8044-C188AFB1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F6674-1BF8-4706-A63D-F9609431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99D78-2512-41F5-B08F-2A877C0B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5D2B7-4185-467A-8C80-42DA75C5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01D82-1EA0-4CF7-9670-E3748C8E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469-2138-4C55-A279-34509ED9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EFDC9-A9E5-4B30-B021-1360B530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02BFB-87A9-4561-AC8B-C7468993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72D67-62E5-4B48-8FE4-7A68F611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5D82A-6231-46AD-A755-A7FA5535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BC030-28BC-4133-B671-B8F0D745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7435A-E2C6-4F68-AAE5-DE7B75DC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CDD7B-3B92-4013-AB28-575D2485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516C0-96E7-4261-B8B9-D36E6DD6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44C46-8D65-4492-A1B8-7C8FDE1C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D7685-EDEA-4D06-BC48-D4AB8067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3580-4BA8-4BE4-9BF0-FB8A9425788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8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8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8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9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A737-3CAF-4B4F-BC91-2A63FA3E2E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F29F-D7DC-4A34-BD80-B286CEB5024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245E-E4CB-49CF-BD11-FBE4E32AC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D7E6-82CA-42FB-8244-8E672C033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B0AD-DD55-45CA-B422-6A5E71EF1F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4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4465-9822-4F1E-A452-9A3602CE75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D639-AFAB-472F-AF3A-538DDFE63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7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C71E-B8E0-40B2-90DC-1BDF3157C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2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2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3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BA80-3F71-4A14-8621-6A93E5E832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Формирование самооцен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Мнение окружающих люд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Собственный жизненный опы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Степень воздействия на формирование нашей самооценки имеет значимость для нас мнения того или иного челове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 txBox="1"/>
          <p:nvPr/>
        </p:nvSpPr>
        <p:spPr>
          <a:xfrm rot="297000">
            <a:off x="726840" y="1123560"/>
            <a:ext cx="705636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оц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685800" y="2142720"/>
            <a:ext cx="769608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здоровое отношение человека к самому 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чувство собственного достоинства и уверенности в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актор признания или непризнания человека окружающими людьми оказывает влияние на формирование у него правильного отношения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 txBox="1"/>
          <p:nvPr/>
        </p:nvSpPr>
        <p:spPr>
          <a:xfrm rot="183000">
            <a:off x="826920" y="744120"/>
            <a:ext cx="71866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ува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 негативным подтексто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никогда не сможешь ничего добиться в своей жизн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полная копия своего отц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Позитивное высказывание: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Вы напоминаете мне … Вы энергичны и решительн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Я ценю ваше умение выполнять поручаемую работу. Вы очень эффективный работник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619280" y="1197000"/>
            <a:ext cx="626580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269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говорят о на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ладающего чувством самоуваж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крытый взгля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лова поднята; походка прям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разговоре выражает позитивное отношение к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корит себя; ощущает принятие со стороны окружающих люд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увствует себя способным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рет на себя ответственность и заботится о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меет здоровые привыч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042920" y="1052640"/>
            <a:ext cx="7201080" cy="71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5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С низкой самооценко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чет глаза, старается отвести взгля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ходьбе сутулится, вжимает голову в пл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нижает собственное досто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оянно ощущает чувство в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способен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заботится о себе, не несет ответственности за себя и свои действ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меет вредные привыч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755640" y="1052640"/>
            <a:ext cx="74167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844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ие используют еду как средство снятия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удачные попытки сбросить вес ведут к  потери самоува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ьная самооценка и уважительное отношение к себе помогает человеку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бросить вес, удержать его и полностью изменить свой стиль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55640" y="1052640"/>
            <a:ext cx="725472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89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зиимосвязь ожирения и самооцен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еобходим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ить в возможность повышения самооц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ть пути повышения самооце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47640" y="836640"/>
            <a:ext cx="640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к повысить самооценку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Сознательно формируйте чувство самоуважения и верьте в собственную значим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Анализируйте свои чувства и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Постарайтесь осознать, что эмоции и чувства являются продуктом ваших мыс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Определите мысли вызывающие негативные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имер: «Я – полный неудачник» или «эта задача мне не по силам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еняйте негативные мысли на позитивные: «Я не считаю себя неудачником, моя зависимость от еды – временное явление. Я смогу похуде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Помните, что вы можете изменить себя, если измените свои мыс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Научитесь прощать себя и друг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Окружите себя людьми, которые понимают и поддерживают ва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Находите для себя возможность ежедневно заниматься любимым д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) чтение, занятие спортом, прогулка на свежем воздухе, прослушивание музыки, работа в са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) помните о том, что утомление часто является скрытой формой депр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0:32:42Z</dcterms:created>
  <dc:creator>Черевичная Вера Петровна</dc:creator>
  <dc:description/>
  <dc:language>en-US</dc:language>
  <cp:lastModifiedBy>Черевичная Вера Петровна</cp:lastModifiedBy>
  <dcterms:modified xsi:type="dcterms:W3CDTF">2007-02-08T10:59:59Z</dcterms:modified>
  <cp:revision>2</cp:revision>
  <dc:subject/>
  <dc:title>Слайд 1</dc:title>
</cp:coreProperties>
</file>