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0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31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8D8-0F2C-4A03-95B5-C2FA091D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D56-AF14-470C-A273-47CEF754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FCD-B433-4082-9AD9-43F3DD3F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ADD-7151-4209-A589-62A9A68F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BC3-B781-4672-82D3-1CAE6F5C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F1D-F7FE-479C-9A72-6F074578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424-5E04-4508-940E-83889C02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D82-C37A-47F1-B519-0EFFB704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6F6-7FA3-471D-AA16-FFCBD08D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4F3-70CC-4120-AFC3-D9539DE9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80F-6B98-40E4-9B26-77009165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D22-C1F9-44B8-95E9-36AD9ECF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17D1-D5AD-4050-989B-991BF523F9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ПОСОБ УПОТРЕБЛЕНИЯ ПИЩ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5638680" y="2514240"/>
            <a:ext cx="1779840" cy="204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ДУКТЫ, МЕШАЮЩИЕ ПИЩЕВАРЕН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3809880" cy="289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су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трые спе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3352680"/>
            <a:ext cx="14032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05720" y="3962520"/>
            <a:ext cx="1425600" cy="15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553080" y="5562720"/>
            <a:ext cx="1219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5073480"/>
            <a:ext cx="1687320" cy="1327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1981080" y="5407200"/>
            <a:ext cx="1067040" cy="84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71600" y="5715000"/>
            <a:ext cx="762120" cy="66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38080" y="5715000"/>
            <a:ext cx="482760" cy="75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95480" y="5334120"/>
            <a:ext cx="1524240" cy="127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620120" y="4114800"/>
            <a:ext cx="1057320" cy="1992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5257800" y="5345280"/>
            <a:ext cx="2286000" cy="136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5867280" y="4724280"/>
            <a:ext cx="1521000" cy="514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УДАЧНЫЕ СОЧЕ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рукты и овощ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ахар, молоко и яй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вощи и обильные десер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809880" y="5715000"/>
            <a:ext cx="137160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3048120" y="5867280"/>
            <a:ext cx="593640" cy="75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2362320" y="6095880"/>
            <a:ext cx="990360" cy="60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914400" y="5715000"/>
            <a:ext cx="1219320" cy="77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3505320" y="6172200"/>
            <a:ext cx="990360" cy="528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2057400" y="6172200"/>
            <a:ext cx="411120" cy="4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2438280" y="6400800"/>
            <a:ext cx="38412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943600" cy="310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 БОЛЬШОЕ РАЗНООБРАЗ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должно быть от приёма пищи к приёму, а не за один раз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о различных питательных веществ конкурируют за доступ к пищеварительным фермент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, слишком сложные блюда вызывают войну в желу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СИСТЕНЦИЯ ПИЩ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ёрдая и сухая пища предпочтительн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ствует тщательному пережёвы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7339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епляет зубы и 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281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контролировать аппет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59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избавиться от пристраст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слишком сладкой или солёной пи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717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ЁГКИЕ УПРАЖ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ёгкие упражнения до приёма пищи способствуют хорошему аппети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улка после еды способствует лучшему усвоению пищ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мните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отребление воды в промежутках между приёмами пищи, правильная осанка и удобная одежда – очень важны для хорошего пищевар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9532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УДЬТЕ БЛАГОДАР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ппу студентов, думавших о приятном во время приёма пищи, сравнили с группой студентов, пытавшихся решать математические зада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 студентов первой груп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ее выделение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ее сильная щелочная среда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ий уровень выделения ферм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3623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СОВЕТЫ ПО УПОТРЕБЛЕНИЮ ПИЩ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оздерживайтесь от перекусы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потребляйте пищу тёпл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щательно пережёвывайт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ёрдая и сухая консистенция предпочтительн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 ешьте много разных продуктов за один приё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неудачных сочет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продуктов, мешающих пищеварен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ед и после приёма пищи делайте лёгкие упражн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удьте благодар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66880" y="2089080"/>
            <a:ext cx="4419720" cy="4300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86000"/>
          <a:ext cx="8305920" cy="4059360"/>
        </p:xfrm>
        <a:graphic>
          <a:graphicData uri="http://schemas.openxmlformats.org/drawingml/2006/table">
            <a:tbl>
              <a:tblPr/>
              <a:tblGrid>
                <a:gridCol w="4397400"/>
                <a:gridCol w="3908520"/>
              </a:tblGrid>
              <a:tr h="98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вида пищи, принимаемой через 2 часа после завтрака, на его перевари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ы, принимаемые через 2 часа после завтр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, когда остатки завтрака всё ещё находятся в желу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стаканчик морожен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бан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часов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1752480" cy="222264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5029200"/>
            <a:ext cx="22100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819520"/>
            <a:ext cx="1752480" cy="222228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298600"/>
            <a:ext cx="2667240" cy="2806920"/>
          </a:xfrm>
          <a:custGeom>
            <a:avLst/>
            <a:gdLst/>
            <a:ahLst/>
            <a:rect l="l" t="t" r="r" b="b"/>
            <a:pathLst>
              <a:path w="1680" h="1768">
                <a:moveTo>
                  <a:pt x="0" y="1768"/>
                </a:moveTo>
                <a:cubicBezTo>
                  <a:pt x="72" y="1188"/>
                  <a:pt x="144" y="608"/>
                  <a:pt x="288" y="328"/>
                </a:cubicBezTo>
                <a:cubicBezTo>
                  <a:pt x="432" y="48"/>
                  <a:pt x="632" y="0"/>
                  <a:pt x="864" y="88"/>
                </a:cubicBezTo>
                <a:cubicBezTo>
                  <a:pt x="1096" y="176"/>
                  <a:pt x="1388" y="516"/>
                  <a:pt x="1680" y="8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362320"/>
            <a:ext cx="1600200" cy="130788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34936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28600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1911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кусы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3581280"/>
            <a:ext cx="3200400" cy="47016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48"/>
                </a:moveTo>
                <a:cubicBezTo>
                  <a:pt x="336" y="172"/>
                  <a:pt x="672" y="296"/>
                  <a:pt x="1008" y="288"/>
                </a:cubicBezTo>
                <a:cubicBezTo>
                  <a:pt x="1344" y="280"/>
                  <a:pt x="1680" y="140"/>
                  <a:pt x="2016" y="0"/>
                </a:cubicBezTo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9165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ОТРЕБЛЯЙТЕ ПИЩУ ТЁПЛ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е как горячей, так и холодной пищи задерживает пищева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щательно проведённом исследовании 2064 людей, больных раком желудка, были рассмотрены для определения возможной причины заболевания. Результаты исследования показали, что 17% из группы, предпочитающей горячую пищу, имели самый высокий риск заболевания раком желуд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ФЛЕТЧЕРИЗ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чи хронически больным разработал методику же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00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ностью излечился     и издал несколько бестселл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4495680"/>
            <a:ext cx="358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забыт из-за утомительности и            малоэстетичности мет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14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ЩАТЕЛЬНО ПЕРЕЖЁВЫВАЙТЕ ПИЩ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Ешьте медленно, и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юна будет тщатель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мешиваться с пище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Элен Уай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«Советы по пище и питани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1:40:46Z</dcterms:created>
  <dc:creator>Ostapenco</dc:creator>
  <dc:description/>
  <dc:language>en-US</dc:language>
  <cp:lastModifiedBy>Черевичная Вера Петровна</cp:lastModifiedBy>
  <dcterms:modified xsi:type="dcterms:W3CDTF">2007-05-15T18:46:22Z</dcterms:modified>
  <cp:revision>40</cp:revision>
  <dc:subject/>
  <dc:title>СПОСОБ УПОТРЕБЛЕНИЯ ПИЩИ</dc:title>
</cp:coreProperties>
</file>