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BC1433-86B5-4760-8960-A9F449AC4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1920" y="476280"/>
            <a:ext cx="2894040" cy="2170080"/>
          </a:xfrm>
          <a:prstGeom prst="rect">
            <a:avLst/>
          </a:prstGeom>
          <a:ln w="0">
            <a:noFill/>
          </a:ln>
        </p:spPr>
      </p:sp>
      <p:sp>
        <p:nvSpPr>
          <p:cNvPr id="21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ЕНЩИЩНЫ-РУКОВОД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иль управления Альфа, который базируется на мужском диктаторском использовании власти очень широко известен во всем мире. К сожалению, мы очень редко слышим о стиле управления Бета, который основывается на женском дружелюбном использовании власти. Фактически во многих организациях по всему миру женщины не представлены в управлении и управленческой роли наравне в мужчинами. Такими организациями являются церкви и другие компании, которые зависят во многом от финансовых, духовных и физически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ишком многие организации недостаточно осознают, диагностируют или привлекают энергию и таланты женщин. Некоторые до сих пор препятствуют и активно запрещают женщинам занимать руководящие позиции, не смотря на то, что женщины являются самым быстро растущим сегментом владельцев бизнеса не только в Америке, но также и во всем мире.</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36760" y="401760"/>
            <a:ext cx="2114640" cy="1585800"/>
          </a:xfrm>
          <a:prstGeom prst="rect">
            <a:avLst/>
          </a:prstGeom>
          <a:ln w="0">
            <a:noFill/>
          </a:ln>
        </p:spPr>
      </p:sp>
      <p:sp>
        <p:nvSpPr>
          <p:cNvPr id="236"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много лет назад говорила, что «хорошие дела приносят пользу как принимающему, так и дающему» (6). Доктор Шелдон Сохен и его коллеги из университета Карнеги-Меллон и университета Питбурга провели очень интересное исследование о том, как социальные связи и хорошие взаимоотношения с другими людьми помогают защищать организм человека от инфекционных заболеваний. Были опрошены 276 добровольцев в возрасте от 18 до 55 лет. Эти добровольцы получили назальные капли, сдерживающие вирус группа, который порождает обычную простуду. За обследование испытуемые получили денежное вознаграж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тем исследователи диагностировали участников по 12 типам социальных взаимоотношений, которые включают в себя: взаимоотношения с супругом, родителями, родителями супругов, детьми, другими близкими членами семьи, близкими соседями, друзьями, коллегами, одноклассниками, добровольцами по благотворительности или церковной работе, членами групп без религиозного самоопределения – социальных, развлекательных или профессиональных, - и членами религиозных групп. Участникам независимо от того, участвовали ли в обследовании они лично или по телефону, был задан только один вопрос: общались ли они хоть с одним человеком из каждой группы, по крайней мере, один раз в две недели. Каждая категория оценивалась по 12 бальной шкале. Также подсчитывалось количество людей, с которыми они общались каждые две не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ти все обследуемые, которые принимали риновирус, были инфицированы, но не у каждого из них развивались признаки и симптомы простуды. Количество социальных взаимоотношений играло важную роль в профилактике людей, которые были инфицированы и заболели простуд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 у кого были определены всего лишь 1-3 вида взаимоотношений в четыре раза больше обладали риском заболевания простудными заболеваниями, чем те, которые говорили о шести или более различных видах взаимоотношений. Эти различия объясняются не только уровнем антител, употреблением табака, физическими упражнениями, количеством времени сна, употреблением спиртных напитков, витамина С или другими различными фактор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исследователи открыли, что разнообразие взаимоотношений является более важным, чем общее количество людей, с которыми обследуемые общались раз в две недели. Короче говоря, те, кто вовлечен в самые разнообразные поддерживающие взаимоотношения с различными людьми, увеличивали свое сопротивление развитию простуды, даже когда у них был инфицирован риновирус (7).</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05080" y="401760"/>
            <a:ext cx="2601720" cy="1950840"/>
          </a:xfrm>
          <a:prstGeom prst="rect">
            <a:avLst/>
          </a:prstGeom>
          <a:ln w="0">
            <a:noFill/>
          </a:ln>
        </p:spPr>
      </p:sp>
      <p:sp>
        <p:nvSpPr>
          <p:cNvPr id="238"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097000" y="328680"/>
            <a:ext cx="2503440" cy="1878120"/>
          </a:xfrm>
          <a:prstGeom prst="rect">
            <a:avLst/>
          </a:prstGeom>
          <a:ln w="0">
            <a:noFill/>
          </a:ln>
        </p:spPr>
      </p:sp>
      <p:sp>
        <p:nvSpPr>
          <p:cNvPr id="240"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НЦИПЫ ВЗАИМО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79600" y="549360"/>
            <a:ext cx="2309760" cy="1731960"/>
          </a:xfrm>
          <a:prstGeom prst="rect">
            <a:avLst/>
          </a:prstGeom>
          <a:ln w="0">
            <a:noFill/>
          </a:ln>
        </p:spPr>
      </p:sp>
      <p:sp>
        <p:nvSpPr>
          <p:cNvPr id="24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Следовать за Христ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ще задолго до того, как современные психологи наводнили рынок книгами о влияющем поведении, Иисус Христос показал правила поведения и пример хорошего руководителя. Его пример служит богатым наследием в области личных взаимоотношений для последователей Иисуса Христ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031840" y="549360"/>
            <a:ext cx="2503800" cy="1877760"/>
          </a:xfrm>
          <a:prstGeom prst="rect">
            <a:avLst/>
          </a:prstGeom>
          <a:ln w="0">
            <a:noFill/>
          </a:ln>
        </p:spPr>
      </p:sp>
      <p:sp>
        <p:nvSpPr>
          <p:cNvPr id="24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у мы можем научиться у Христ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исус очень хорошо осознавал интересы и нужды люд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показал нам пример как приобретать людей для Царствия Небесного. Когда Его апостолы говорили о нуждах толпы голодных людей, Он сказал: Я проникся сердцем к этим людям. Они были со мной три дня, и теперь у них нет еды. Я не хочу отправлять людей домой без пропитания, чтобы они не умерли по дороге, Мтф. 5:32. Христос чувствовал физическое страдание людей. Христос выражал Свои чувства симпатии, Он отвечал на нужды людей. Он давал им надежду и радость, и трудности отходили от них. Они  продолжительное время были в обществе Иисуса Христа, и Он всячески показывал, что ценит и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мы полностью последуем примеру Иисуса Христа, мы будем проявлять большой интерес к тем, кто окружает нас. Такие действия принесут большую пользу как  для приобретения душ, так и для построения рабочих отношений.</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019240" y="914400"/>
            <a:ext cx="2603520" cy="1952640"/>
          </a:xfrm>
          <a:prstGeom prst="rect">
            <a:avLst/>
          </a:prstGeom>
          <a:ln w="0">
            <a:noFill/>
          </a:ln>
        </p:spPr>
      </p:sp>
      <p:sp>
        <p:nvSpPr>
          <p:cNvPr id="24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Иисус Христос старался не обижать людей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оявил этот принцип, когда Он обсуждал оплату налогов с Петром. Христос сказал: чтобы нам не соблазнить их, пойди на море, брось уду, и первую рыбу, которая попадется, возьми, и, открыв у ней рот, найдешь статир; возьми его и отдай им за Меня и за себя. Елена Уайт говорила: мягкий, кроткий и деликатный в обхождении, Иисус старался нести радость всем, с кем Ему приходилось общаться (9).</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я примеру Иисуса Христа, Елена Уайт также предлагает всем руководител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 (1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и взаимоотношения с другими людьми могут быть более сплоченными, если мы «устраним случаи недоразумения». Это важный принцип, данный нам Христо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71880" y="914400"/>
            <a:ext cx="2503440" cy="1878120"/>
          </a:xfrm>
          <a:prstGeom prst="rect">
            <a:avLst/>
          </a:prstGeom>
          <a:ln w="0">
            <a:noFill/>
          </a:ln>
        </p:spPr>
      </p:sp>
      <p:sp>
        <p:nvSpPr>
          <p:cNvPr id="24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исус Христос притягивал людей своей дружелюбностью</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Иисус встретил богатого юношу, который хотел попасть в Его Царство, Библия говорит, что Иисус, взглянув на него, полюбил его и сказал ему: одного тебе недостает: пойди, всё, что имеешь, продай и раздай нищим, и будешь иметь сокровище на небесах; и приходи, последуй за Мною, взяв крест, Мк. 10:21. 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263680" y="476280"/>
            <a:ext cx="2406600" cy="1805040"/>
          </a:xfrm>
          <a:prstGeom prst="rect">
            <a:avLst/>
          </a:prstGeom>
          <a:ln w="0">
            <a:noFill/>
          </a:ln>
        </p:spPr>
      </p:sp>
      <p:sp>
        <p:nvSpPr>
          <p:cNvPr id="250"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Иисус Христос принимал чувства других людей</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ишет: Смотрите на Иисуса Христа как вашего руководителя и образец…. Исследуйте себя, насколько вы можете быть подобным Ему в чувствовании других людей… Таким образом, вы можете возрастать в Нем во всех сферах, вы можете отражать Его образ и быть принятыми Им Своими в Его славное пришествие (11).</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вы научитесь кормить людей, когда они голодны. Он позволил апостолам отдыхать, когда они устали. Когда они были разочарованы, Христос поддерживал их, и когда они страдали, Он говорил им словам поддержки. В каждой нужде Творец принимал чувства Своих помощников. Он никогда не грубил, никогда не говорил ненужных слов, никогда не причинял ненужную боль чувствительным душам (12).</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тересен тот факт, что слова одобрения, похожие на те слова, которые произносил Христос, влияют на здоровье позитивно. Доктор Джанис Киеколт-Гласер и доктор Рональд Гласер в своем докладе на четвертом международном конгрессе по медицине поведения указывают на взаимосвязь добрых слов и иммунной системы человека. В одном исследовании они диагностировали пары, которые были женаты более сорока двух лет, при этом постоянно ругались и говорили недобрые слова вместо слов поддержки. У этих ругающихся пар диагностирована слабая иммунная система. Казалось бы, влияние негативных чувств должно уменьшаться, потому что эти пары проходили через разочарование множество раз. Однако, этого не происходит</a:t>
            </a:r>
            <a:r>
              <a:rPr b="1"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3</a:t>
            </a:r>
            <a:r>
              <a:rPr b="1"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акже они обследовали девяносто только что зарегистрированных пар, которые находились под наблюдение двадцать четыре часа. Некоторые супруги говорили: Хм…. Я не знаю вас, но я уверен, что не желаю проводить медовый месяц, находясь под вашим обследованием в больнице… Вот что они установили в исследовании: те, кто проявляли более негативные или враждебные манеры поведения на протяжении тридцати минутной дискуссии о супружеских проблемах, показывали ослабление иммунной системы.</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87720" y="476280"/>
            <a:ext cx="2698560" cy="2023920"/>
          </a:xfrm>
          <a:prstGeom prst="rect">
            <a:avLst/>
          </a:prstGeom>
          <a:ln w="0">
            <a:noFill/>
          </a:ln>
        </p:spPr>
      </p:sp>
      <p:sp>
        <p:nvSpPr>
          <p:cNvPr id="252"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27400" y="401760"/>
            <a:ext cx="2501640" cy="1876320"/>
          </a:xfrm>
          <a:prstGeom prst="rect">
            <a:avLst/>
          </a:prstGeom>
          <a:ln w="0">
            <a:noFill/>
          </a:ln>
        </p:spPr>
      </p:sp>
      <p:sp>
        <p:nvSpPr>
          <p:cNvPr id="254"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Следуйте Слову Божьему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Следуйте Золотому правил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Для того, чтобы руководители были успешными, они должны проявлять конфиденциальность и поддержку людям. Руководители должны быть способными вдохновлять и ободрять тех, кто им служит. Золотое правило очень важно в проявлении конфиденциальности и поддержки. Елена Уайт приглашает нас практиковать золотое правило, когда она говорит: используйте любую возможность, чтобы распространять атмосферу благополучия вокруг вас, выражайте свои теплые чувства. Слова доброты, взгляд симпатии, выражение одобрения для многих страдающих и одиноких как чашка холодной воды для жаждущей души. Слово ободрения, действие доброты могут облегчить бремя изнуренным</a:t>
            </a:r>
            <a:r>
              <a:rPr b="0"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5</a:t>
            </a:r>
            <a:r>
              <a:rPr b="1"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как руководитель оцените других людей очень высоко, вы сможете стать ближе к ним, ваша дружба будет крепкой и ваше влияние доброты будет усиливатьс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290680" y="476280"/>
            <a:ext cx="2502000" cy="1876320"/>
          </a:xfrm>
          <a:prstGeom prst="rect">
            <a:avLst/>
          </a:prstGeom>
          <a:ln w="0">
            <a:noFill/>
          </a:ln>
        </p:spPr>
      </p:sp>
      <p:sp>
        <p:nvSpPr>
          <p:cNvPr id="220"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 </a:t>
            </a:r>
            <a:r>
              <a:rPr b="1" lang="ru-RU" sz="1200" spc="-1" strike="noStrike">
                <a:solidFill>
                  <a:srgbClr val="000000"/>
                </a:solidFill>
                <a:latin typeface="Arial"/>
              </a:rPr>
              <a:t>(1)</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255600"/>
            <a:ext cx="2405160" cy="1803240"/>
          </a:xfrm>
          <a:prstGeom prst="rect">
            <a:avLst/>
          </a:prstGeom>
          <a:ln w="0">
            <a:noFill/>
          </a:ln>
        </p:spPr>
      </p:sp>
      <p:sp>
        <p:nvSpPr>
          <p:cNvPr id="256"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Б. </a:t>
            </a:r>
            <a:r>
              <a:rPr b="1" lang="ru-RU" sz="1200" spc="-1" strike="noStrike">
                <a:solidFill>
                  <a:srgbClr val="000000"/>
                </a:solidFill>
                <a:latin typeface="Arial"/>
              </a:rPr>
              <a:t>Любите сво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учные открытия показывают, что в любви выигрывают оба: как дающий, так и принимающий. Позвольте мне поделиться с вами двумя исследованиями о влиянии любви на мужчин, а также и на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следование проводилось в университете Кейс вестерн ресерв и опубликовано в Американском медицинском журнале. В нем принимали участие 10000 женатых мужчин, у которых не была диагностирована стенокардия, боль в груди, но были диагностированы многие факторы риска, такие как: повышенный холестерин, высокое кровяное давление, пожилой возраст, диабет и отклонения ЭКГ. У этих мужчин в 20 раз чаще развивается стенокардия на протяжении последующих пяти лет. Интересно заметить, что те, кто отвечали «Нет» на простой вопрос: Ваша жена проявляет к вам любовь? – в два раза чаще болеют стенокардией, чем те, кто ответили на этот вопрос положительно. Для погашения таких факторов риска как высокий уровень холестерина и кровяного давления и высокая вероятность беспокойства и стресса очень важная любовь супруги. Исследователи делают заключение, что: любовь и поддержка жены являются важным балансирующим фактором, который очевидно снижает риск стенокардии, даже при наличии высоких факторов риска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Ненси Коллинс из университета Калифорнии штата Лос Анжелес изучала этнически различных, малоимущих, беременных женщин. Коллинс исследовала насколько социальная поддержка улучшает физическое и умственное состояние беременной женщины. Те, кто получали квалифицированную пренатальную социальную поддержку, испытывали лишь небольшие трудности во время родов, рожали более здоровых, и как указывает доктор Вирджиния Аргар, курирующая данный метод, у детей этой категории матерей наблюдался больший вес. У обследуемых женщин из этой группы наблюдалась пониженная материнская депрессия после родов (1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09960" y="255600"/>
            <a:ext cx="2698560" cy="2023920"/>
          </a:xfrm>
          <a:prstGeom prst="rect">
            <a:avLst/>
          </a:prstGeom>
          <a:ln w="0">
            <a:noFill/>
          </a:ln>
        </p:spPr>
      </p:sp>
      <p:sp>
        <p:nvSpPr>
          <p:cNvPr id="25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3520" y="476280"/>
            <a:ext cx="2309760" cy="1731960"/>
          </a:xfrm>
          <a:prstGeom prst="rect">
            <a:avLst/>
          </a:prstGeom>
          <a:ln w="0">
            <a:noFill/>
          </a:ln>
        </p:spPr>
      </p:sp>
      <p:sp>
        <p:nvSpPr>
          <p:cNvPr id="260"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пользуйте все возможности, чтобы помочь вашим коллега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 «Сбалансированный бюджет» кажется главной концепцией. Однако, самый мудрый человек на земле сказал, что ни это самое главное. Павел говорит: Итак, доколе есть время, будем делать добро всем, а наипаче своим по вере, Гал. 6:10. Руководители получат полную поддержку и возможность взаимодействия с подчиненными, если подчиненные почувствуют помощь в любой ситуац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260440" y="549360"/>
            <a:ext cx="2405160" cy="1803240"/>
          </a:xfrm>
          <a:prstGeom prst="rect">
            <a:avLst/>
          </a:prstGeom>
          <a:ln w="0">
            <a:noFill/>
          </a:ln>
        </p:spPr>
      </p:sp>
      <p:sp>
        <p:nvSpPr>
          <p:cNvPr id="262"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Советуйтесь с вашими сотрудникам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 Павел спрашивал совета у других людей, прежде чем принять решение: Ходил же по откровению, и предложил там, и особо знаменитейшим, благовествование, проповедуемое мною язычникам, не напрасно ли я подвизаюсь или подвизался, Гал.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27400" y="987480"/>
            <a:ext cx="2506680" cy="1879560"/>
          </a:xfrm>
          <a:prstGeom prst="rect">
            <a:avLst/>
          </a:prstGeom>
          <a:ln w="0">
            <a:noFill/>
          </a:ln>
        </p:spPr>
      </p:sp>
      <p:sp>
        <p:nvSpPr>
          <p:cNvPr id="264"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Не бойтесь признавать, что вы не правы.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 Когда мы оправдываем или рационализируем наши неверных поступки, раньше или позже люди узнают об этом, и мы потеряем их уважение.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279520" y="1135080"/>
            <a:ext cx="2211480" cy="1658880"/>
          </a:xfrm>
          <a:prstGeom prst="rect">
            <a:avLst/>
          </a:prstGeom>
          <a:ln w="0">
            <a:noFill/>
          </a:ln>
        </p:spPr>
      </p:sp>
      <p:sp>
        <p:nvSpPr>
          <p:cNvPr id="26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 Доверяйте люд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 Как руководителям нам необходимо помнить, что нам необходимо доверять нашим подчиненным соответственно их участию или способностям. Интересно, что в послании Римлянам 12:10 записано: будьте братолюбивы друг к другу с нежностью; в почтительности друг друга предупреждайте. Руководители, которые всегда оказывают доверие своим соработникам, также получают и поддержку от ни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259000" y="401760"/>
            <a:ext cx="2406600" cy="1805040"/>
          </a:xfrm>
          <a:prstGeom prst="rect">
            <a:avLst/>
          </a:prstGeom>
          <a:ln w="0">
            <a:noFill/>
          </a:ln>
        </p:spPr>
      </p:sp>
      <p:sp>
        <p:nvSpPr>
          <p:cNvPr id="268"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 Предоставляйте людям второй шанс.</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 Мы должны помнить пример Джона Марка, который совершил ошибку. Варнава, однако, был руководителем, который мог дать людям второй шаг: Ему крайне не хотелось, чтобы Марк оставил служение, поскольку он видел в нем качества, благодаря которым тот мог стать полезным работником на ниве Божьей. В последующие годы его забота о Марке была щедро вознаграждена, ибо молодой человек отдавал Господу и делу проповеди Евангелия все силы, работая именно в трудных условиях. При благословении Божьем и мудром руководстве со стороны Варнавы он со временем стал ценным работником </a:t>
            </a:r>
            <a:r>
              <a:rPr b="1" lang="ru-RU" sz="1200" spc="-1" strike="noStrike">
                <a:solidFill>
                  <a:srgbClr val="000000"/>
                </a:solidFill>
                <a:latin typeface="Arial"/>
              </a:rPr>
              <a:t>(18)</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0000" y="1135080"/>
            <a:ext cx="2211480" cy="1658880"/>
          </a:xfrm>
          <a:prstGeom prst="rect">
            <a:avLst/>
          </a:prstGeom>
          <a:ln w="0">
            <a:noFill/>
          </a:ln>
        </p:spPr>
      </p:sp>
      <p:sp>
        <p:nvSpPr>
          <p:cNvPr id="27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a:t>
            </a:r>
            <a:r>
              <a:rPr b="1" i="1" lang="ru-RU" sz="1200" spc="-1" strike="noStrike">
                <a:solidFill>
                  <a:srgbClr val="000000"/>
                </a:solidFill>
                <a:latin typeface="Arial"/>
              </a:rPr>
              <a:t>(19)</a:t>
            </a:r>
            <a:r>
              <a:rPr b="0" i="1" lang="ru-RU"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57280" y="328680"/>
            <a:ext cx="2311560" cy="1733400"/>
          </a:xfrm>
          <a:prstGeom prst="rect">
            <a:avLst/>
          </a:prstGeom>
          <a:ln w="0">
            <a:noFill/>
          </a:ln>
        </p:spPr>
      </p:sp>
      <p:sp>
        <p:nvSpPr>
          <p:cNvPr id="272"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 </a:t>
            </a:r>
            <a:r>
              <a:rPr b="1" lang="ru-RU" sz="1200" spc="-1" strike="noStrike">
                <a:solidFill>
                  <a:srgbClr val="000000"/>
                </a:solidFill>
                <a:latin typeface="Arial"/>
              </a:rPr>
              <a:t>Не заставляйте других делать то, что вы можете сделать, но просто не хотите.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174760" y="620640"/>
            <a:ext cx="2440080" cy="1830600"/>
          </a:xfrm>
          <a:prstGeom prst="rect">
            <a:avLst/>
          </a:prstGeom>
          <a:ln w="0">
            <a:noFill/>
          </a:ln>
        </p:spPr>
      </p:sp>
      <p:sp>
        <p:nvSpPr>
          <p:cNvPr id="274"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Поддерживайте ваших сотрудник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70080" y="401760"/>
            <a:ext cx="2503440" cy="1877760"/>
          </a:xfrm>
          <a:prstGeom prst="rect">
            <a:avLst/>
          </a:prstGeom>
          <a:ln w="0">
            <a:noFill/>
          </a:ln>
        </p:spPr>
      </p:sp>
      <p:sp>
        <p:nvSpPr>
          <p:cNvPr id="22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ой организации руководители чрезвычайно важны. 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241720" y="549360"/>
            <a:ext cx="2309760" cy="1731960"/>
          </a:xfrm>
          <a:prstGeom prst="rect">
            <a:avLst/>
          </a:prstGeom>
          <a:ln w="0">
            <a:noFill/>
          </a:ln>
        </p:spPr>
      </p:sp>
      <p:sp>
        <p:nvSpPr>
          <p:cNvPr id="276"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 Встаньте на место другого человека.</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244600" y="841320"/>
            <a:ext cx="2502000" cy="1876320"/>
          </a:xfrm>
          <a:prstGeom prst="rect">
            <a:avLst/>
          </a:prstGeom>
          <a:ln w="0">
            <a:noFill/>
          </a:ln>
        </p:spPr>
      </p:sp>
      <p:sp>
        <p:nvSpPr>
          <p:cNvPr id="278"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112840" y="328680"/>
            <a:ext cx="2603520" cy="1952640"/>
          </a:xfrm>
          <a:prstGeom prst="rect">
            <a:avLst/>
          </a:prstGeom>
          <a:ln w="0">
            <a:noFill/>
          </a:ln>
        </p:spPr>
      </p:sp>
      <p:sp>
        <p:nvSpPr>
          <p:cNvPr id="280"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мы предлагаем вам «Заповеди взаимо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те друг друга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айте друг друга Кол.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йте друг друга Рим.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итесь друг о друге Иак.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йте друг друга 1 Фес.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айтесь друг с другом 1 Иоан.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добры друг ко другу Еф.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йте сострадание друг ко другу 1 Пет.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гостеприимны друг ко другу 1 Пет.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я этим Библейским правилам, руководитель может быть уверен в том, что он выстроит хорошие взаимоотношения с подчиненными. Выше перечисленные принципы помогут сделать ваше руководством успешным и здоровым.</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87720" y="401760"/>
            <a:ext cx="2503440" cy="1877760"/>
          </a:xfrm>
          <a:prstGeom prst="rect">
            <a:avLst/>
          </a:prstGeom>
          <a:ln w="0">
            <a:noFill/>
          </a:ln>
        </p:spPr>
      </p:sp>
      <p:sp>
        <p:nvSpPr>
          <p:cNvPr id="282"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И РАБОТА В КОМАНД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к этому определению Франк Джонсон говорит: «построение команды основывается на методе, в котором группы на практике обучаются как развивать свои навыки для эффективной командной работы, с помощью изучения своей структуры,  общих целей и разработки процедуры и оценивания динамики. Это изучение осуществляется членами группы сотрудников в организации, обычно созданной из начальников и подчиненных… Благодаря участию в команде, а именно эффективному процессу передачи и разделения руководящих аспектов, навыкам принятия решения, совместному формулированию целей, которым все будут посвящены и возможностям квалифицированной работы и личной ответственности, значение и ценность организации снова возвращаются в жизнь человека (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463840" y="768240"/>
            <a:ext cx="2209680" cy="1657440"/>
          </a:xfrm>
          <a:prstGeom prst="rect">
            <a:avLst/>
          </a:prstGeom>
          <a:ln w="0">
            <a:noFill/>
          </a:ln>
        </p:spPr>
      </p:sp>
      <p:sp>
        <p:nvSpPr>
          <p:cNvPr id="284"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ство воспитывает характерные черты команды чере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ко определенные цели для каждого члена команд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евременный и эффективный обмен информацией об идеях и чувст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еделение участия и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ующую и эффективную дискуссию, способствующую продвижению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структивное разрешение разноглас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сокий уровень доверия, принятия, поддержки и сплоч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етентные процедуры разрешения трудных ситуаци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87720" y="841320"/>
            <a:ext cx="2406600" cy="1805040"/>
          </a:xfrm>
          <a:prstGeom prst="rect">
            <a:avLst/>
          </a:prstGeom>
          <a:ln w="0">
            <a:noFill/>
          </a:ln>
        </p:spPr>
      </p:sp>
      <p:sp>
        <p:nvSpPr>
          <p:cNvPr id="28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ЦИПЫ МЕЖЛИЧНОС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184480" y="401760"/>
            <a:ext cx="2698560" cy="2023920"/>
          </a:xfrm>
          <a:prstGeom prst="rect">
            <a:avLst/>
          </a:prstGeom>
          <a:ln w="0">
            <a:noFill/>
          </a:ln>
        </p:spPr>
      </p:sp>
      <p:sp>
        <p:nvSpPr>
          <p:cNvPr id="288"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того, что выслушайте историю жизни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жите неподдельный интерес к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их достоинства и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какие у них есть цели и каковы мот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какой у них темпера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аблюдайте за людьми, когда они находятся вне бизнесе,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8680" y="476280"/>
            <a:ext cx="2603520" cy="1952640"/>
          </a:xfrm>
          <a:prstGeom prst="rect">
            <a:avLst/>
          </a:prstGeom>
          <a:ln w="0">
            <a:noFill/>
          </a:ln>
        </p:spPr>
      </p:sp>
      <p:sp>
        <p:nvSpPr>
          <p:cNvPr id="290"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ФФЕКТИВНЫЕ КОММУНИКАЦИОННЫЕ НАВЫ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1200"/>
            </a:b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255760" y="476280"/>
            <a:ext cx="2309760" cy="1731960"/>
          </a:xfrm>
          <a:prstGeom prst="rect">
            <a:avLst/>
          </a:prstGeom>
          <a:ln w="0">
            <a:noFill/>
          </a:ln>
        </p:spPr>
      </p:sp>
      <p:sp>
        <p:nvSpPr>
          <p:cNvPr id="292"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велл напомнил пять важных характеристик эффективной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реннее интересуйтесь тем, что человек говорит. Когда люди чувствуют, что вы как руководитель заинтересованы в своих последователях, они будут слушать все, что вы будете говорить им. Симпатия – начало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фокусироваться на отвечающем. Во многих случаях люди, которые плохо передают и воспринимают информацию, более сосредотачиваются на своих собственных точках зрения. Те, кто хорошо передают и воспринимают информацию, обращают внимание на ответ человека, с которым они говоря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общаться с разными людьми. Человек, который хорошо передает и воспринимает информацию, обладает способностью легко устанавливать контакт с человеком. Он или она могут найти способ взаимодействия с любым человеком, с любыми личным и профессиональным характеристика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ите в глаза человеку, с которым вы говорите. Большинство людей, которые честны перед вами, смотрят вам в глаза. Личная чистота и верность делают коммуникацию надежн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лая улыбка. Самый быстрый способ выстроить отношения – улыбнуться. Улыбка ломает бесчисленное количество коммуникационных барьеров, преодолевая барьеры культуры, расы, возраста, класса, пола, образования и экономического статуса.</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187720" y="695160"/>
            <a:ext cx="2603520" cy="1952640"/>
          </a:xfrm>
          <a:prstGeom prst="rect">
            <a:avLst/>
          </a:prstGeom>
          <a:ln w="0">
            <a:noFill/>
          </a:ln>
        </p:spPr>
      </p:sp>
      <p:sp>
        <p:nvSpPr>
          <p:cNvPr id="294"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ВЗАИМОДЕЙСТВИЯ В КОНФЛИК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личных аспектах деятельности руководителя может возникнуть конфликтная ситуация. Согласно доктору Даниэлу Аугсбургеру: «повсюду, касается ли вопрос самых незначительных ресурсов, разделения функций в обществе, различных уровней власти, борьбы за ограниченную поставку товаров, статус или власть как апогею всего можно встретить конфликты». Этот факт показывает, что конфликт - универсальная проблема, которую невозможно избежать. Что руководитель можно предпринимать в конфликтной ситуации? Удивительно, но Библия говорит о некоторых принципах как руководить конфликтом. Прочитайте нижеприведенные стих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илипийцам 2:5. Постарайтесь сохранять самооблад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18:15, 16. Разговаривайте с человеком один на оди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имлянм 12:17-19. Живите в мире со все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латам 6:1-10. Восстанавливайте отношения с мягк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5:38-48. Любите врагов ваших.</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36880" y="768240"/>
            <a:ext cx="2990880" cy="2243160"/>
          </a:xfrm>
          <a:prstGeom prst="rect">
            <a:avLst/>
          </a:prstGeom>
          <a:ln w="0">
            <a:noFill/>
          </a:ln>
        </p:spPr>
      </p:sp>
      <p:sp>
        <p:nvSpPr>
          <p:cNvPr id="224"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ЖНАЯ РОЛЬ ОТНОШЕНИЙ В РУКОВОД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 Бог создал мужчин и женщин социальными. Никто не может жить один, мы нужны друг другу. Фактически, Библия говорит: Ибо никто из нас не живет для себя, и никто не умирает для себя; Рим. 14:7. Мы нужны друг другу пока мы живы, и даже если мы умираем, нам нужен тот, кто нас похорон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и чрезвычайно важны для людей, особенно для руководителей, по следующим причинам:</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182680" y="401760"/>
            <a:ext cx="2308320" cy="1731960"/>
          </a:xfrm>
          <a:prstGeom prst="rect">
            <a:avLst/>
          </a:prstGeom>
          <a:ln w="0">
            <a:noFill/>
          </a:ln>
        </p:spPr>
      </p:sp>
      <p:sp>
        <p:nvSpPr>
          <p:cNvPr id="296"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КТИЧЕСКОЕ РУКОВОДСТВО ПО ПОСТРОЕНИЮ ОТНОШЕНИЙ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479680" y="328680"/>
            <a:ext cx="2211480" cy="1658880"/>
          </a:xfrm>
          <a:prstGeom prst="rect">
            <a:avLst/>
          </a:prstGeom>
          <a:ln w="0">
            <a:noFill/>
          </a:ln>
        </p:spPr>
      </p:sp>
      <p:sp>
        <p:nvSpPr>
          <p:cNvPr id="298"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иже предложены несколько аспектов, которые помогут вам построить хорошие отнош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бюллете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можете запланировать выпуск церковных бюллетеней и рассылать их еженедельно или ежемесячно. Бюллетень может улучшить отношения между членами и руководителями церкви. Церковные программы и планы могут включать в себя церковные бюллетени. Подобные информационные письма могут включать в себя такие аспекты, как запланированные мероприятия на месяц, сведения о днях рождения, сведения о смерти, объявления о миссионерской деятельности. Ценность такого письма заключается не только в обращении внимания на цели церкви, но они также очень ценны и для замкнутых членов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газет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зеты очень эффективны во многих церквях, и они улучшают информированность о церковных программах, освещая также и финансовые нужды. Некоторые руководители церкви используют газеты, чтобы распространять информацию о способах богослужения, христианском доме, семейном богослужении и о многих других вопросах. Чем более хорошо осведомлены члены церкви, тем лучше действует церковь, тем более хорошие взаимоотношения они могут построить и больше поддерживать друг дру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альбом о деятельности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Альбом с фотографиями о деятельности Церкви находится в фойе. Особый альбом, в который время от времени вносятся изменения, распределен по темам, интересным для членов церкви. Примеры: фотографии недавнего миссионерского путешествия в Боливии; фотографии младенцев, рожденных в церкви; фотографии местных следопытов, участвующих в сборе пожертвований для отдела Следопытов. Любые новости церкви, которые вы будете оформлять, могут стать живой память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рамма «Служба информации «Добро пожалова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ысячи людей совершают переезды и существуют способы для того, чтобы приблизить их к Евангелию. Многие церкви проводят служение «Служба информации «Добро пожаловать», которое спонсируется бизнесменами и людьми, заинтересованными в новых членах церкви. Хозяйка службы звонит по телефону и предлагает новому человеку или семье список бизнесменов, информацию об общественных и социальных службах, местных церквях и школах. Если человек не имеет собственных религиозных предпочтений, ему предлагаются приглашения в церкви. По крайней мере, один из пасторов церкви АСД может предложить свои возможности. Он должен приготовить специальный буклет с предложением: «Если вы придете в церковь, получите бесплатный подарок». Этот способ заимствован из сферы бизнеса. В качестве подарка церковь может предложить книгу или репродукцию на духовную тему. Каждый год пастор готовит 250 подобных приглашений, которые необходимо распространить. Стоимость данного проекта не высока.</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ки для особых случае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пасторы рассылают открытки для особых случаев – купите хорошие открытки для больных, открытки-соболезнования скорбящим и открытки-поздравления молодоженам и родителям. Даже госпитализированные члены церкви могут участвовать в этом проекте. Как руководитель вы можете делегировать эту ответственность им; они могут изучать местные газеты в хронологическом порядке и отправлять открытки от имени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 Программа помощи молодым матеря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руппа молодых девушек в церкви может постирать использованную одежду и отобрать книги в хорошем состоянии. Аккуратно завернуть их и положить особую открытку от имени церкви. Такие подарки можно распространить женщинам, которые только что родили детей в местном роддоме. Никто не знает, какие результаты и когда может принести такая забот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 Добро пожаловать новосела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из наших церквей расположены на территориях, где растет очень много грибов, и покупатели постоянно переезжают в эти места. Пастор разрабатывает материалы, в которых перечисляются служения, предлагаемые церковью. Папка с материалами включает приглашение, которое говорит о том, что по воскресеньям вечером проводится «Час семейного церковного общения». Также в папки вложено личное приветствие каждому дому.</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ветствуйте нов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есть хорошая традиция – дарить подарки только что крещенным членам: будь-то Библия и сборник песен или другая духовная книга, которая поможет укреплению их духовной жизни. Такая практика помогает членам церкви чувствовать себя принятыми в церковь, и в то же время питает их духовную жизнь.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членов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ует очень хорошая традиция – посещать членов церкви. Посещение может быть коротким. Просто спросите и выслушайте как складывается жизнь. Затем помолитесь о людях, вручая их индивидуальные нужды Господу. Такое общение  поможет построить близкие отношения с членами церкви. Они будут чувствовать сильное единение церковного сообществ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потерянн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уя классы субботней школы, вы можете получить информацию о потерянных членах церкви. По мере того, как члены субботней школы будут посещать потерянных членов церкви, они могут предоставлять информацию руководителям церкви. Руководители затем смогут составить план посещения. Такого рода забота о потерянных членах церкви укрепит взаимоотношения между руководителями церкви и ее членами.</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154240" y="401760"/>
            <a:ext cx="2408400" cy="1806480"/>
          </a:xfrm>
          <a:prstGeom prst="rect">
            <a:avLst/>
          </a:prstGeom>
          <a:ln w="0">
            <a:noFill/>
          </a:ln>
        </p:spPr>
      </p:sp>
      <p:sp>
        <p:nvSpPr>
          <p:cNvPr id="301"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60640" y="476280"/>
            <a:ext cx="2798640" cy="2098800"/>
          </a:xfrm>
          <a:prstGeom prst="rect">
            <a:avLst/>
          </a:prstGeom>
          <a:ln w="0">
            <a:noFill/>
          </a:ln>
        </p:spPr>
      </p:sp>
      <p:sp>
        <p:nvSpPr>
          <p:cNvPr id="22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Руководитель без взаимоотношений или человеко-ориентированных навыков скорее останется без последовател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Барри Роснер, декан и профессор администрирования школы бизнеса Леавели университета Санта Клары в городе Санта Клара штата Калифорния задал очень практический вопрос: «Как вы узнаете руководителя?» Несмотря на то, что существует множество примеров руководителей в литературе, самый распространенный и простой ответ: «у руководителя есть последователи». Поэтому руководителей можно определить по наличию последователей. 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напоминает нам об Андрю Карнеги, удивительном руководителе, который платил Чарльзу Швабу зарплату - 1 миллион долларов в год, просто за его удивительный человеческие качества. Карнеги нанял на работу также и других руководителей, которые лучше, чем Шваб понимали производственные задачи, были опытными и обученными. Однако, им недоставало очень важного человеческого качества – принимать помощь от других людей, а Шваб смог добиться от своих последователей самого лучшего, что от них зависело (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3760" y="549360"/>
            <a:ext cx="2602080" cy="1950840"/>
          </a:xfrm>
          <a:prstGeom prst="rect">
            <a:avLst/>
          </a:prstGeom>
          <a:ln w="0">
            <a:noFill/>
          </a:ln>
        </p:spPr>
      </p:sp>
      <p:sp>
        <p:nvSpPr>
          <p:cNvPr id="228"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81320" y="841320"/>
            <a:ext cx="2501640" cy="1876320"/>
          </a:xfrm>
          <a:prstGeom prst="rect">
            <a:avLst/>
          </a:prstGeom>
          <a:ln w="0">
            <a:noFill/>
          </a:ln>
        </p:spPr>
      </p:sp>
      <p:sp>
        <p:nvSpPr>
          <p:cNvPr id="23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2. </a:t>
            </a:r>
            <a:r>
              <a:rPr b="1" lang="ru-RU" sz="1200" spc="-1" strike="noStrike">
                <a:solidFill>
                  <a:srgbClr val="000000"/>
                </a:solidFill>
                <a:latin typeface="Arial"/>
              </a:rPr>
              <a:t>Взаимоотношения – секрет успешных руководителей.</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Интересно уделить внимание важным переменным успеха, характерным особенно для самых высших трех руководящих должностей большой организации. Джоди Тэйлор и ее коллеги в Центре креативного руководства установили, что фактор успеха руководителя номер один это «взаимоотношения с подчиненными»</a:t>
            </a:r>
            <a:r>
              <a:rPr b="1" lang="ru-RU" sz="1200" spc="-1" strike="noStrike">
                <a:solidFill>
                  <a:srgbClr val="000000"/>
                </a:solidFill>
                <a:latin typeface="Arial"/>
              </a:rPr>
              <a:t> (3)</a:t>
            </a:r>
            <a:r>
              <a:rPr b="0" lang="ru-RU" sz="1200" spc="-1" strike="noStrike">
                <a:solidFill>
                  <a:srgbClr val="000000"/>
                </a:solidFill>
                <a:latin typeface="Arial"/>
              </a:rPr>
              <a:t>. Изучая руководящие техники Иисуса Христа, Джонс рассмотрел три аспекта Его руководящей сил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самодисциплин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действ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взаимоотношений </a:t>
            </a:r>
            <a:r>
              <a:rPr b="1" lang="ru-RU"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шное руководство требует присутствия всех трех аспектов, изложенных выше. Например, врач, который умеет владеть собой и обладает профессиональными навыками, но у него недостаток навыков взаимоотношений, будет ограничен в своей карьере. Интересно отметить, этот принцип относится к любой профессии в мире бизнеса, в церкви и даже если вы занимаетесь бизнесом по Интернету.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1800" y="695160"/>
            <a:ext cx="2698560" cy="2024280"/>
          </a:xfrm>
          <a:prstGeom prst="rect">
            <a:avLst/>
          </a:prstGeom>
          <a:ln w="0">
            <a:noFill/>
          </a:ln>
        </p:spPr>
      </p:sp>
      <p:sp>
        <p:nvSpPr>
          <p:cNvPr id="23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н-лайн исследовании читателей журнала ‘</a:t>
            </a:r>
            <a:r>
              <a:rPr b="0" lang="en-US" sz="1200" spc="-1" strike="noStrike">
                <a:solidFill>
                  <a:srgbClr val="000000"/>
                </a:solidFill>
                <a:latin typeface="Arial"/>
              </a:rPr>
              <a:t>Fast Company</a:t>
            </a:r>
            <a:r>
              <a:rPr b="0" lang="ru-RU" sz="12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ожие результаты были обнаружены в исследовании организацией </a:t>
            </a:r>
            <a:r>
              <a:rPr b="0" lang="en-US" sz="1200" spc="-1" strike="noStrike">
                <a:solidFill>
                  <a:srgbClr val="000000"/>
                </a:solidFill>
                <a:latin typeface="Arial"/>
              </a:rPr>
              <a:t>Public Allies</a:t>
            </a:r>
            <a:r>
              <a:rPr b="0" lang="ru-RU" sz="1200" spc="-1" strike="noStrike">
                <a:solidFill>
                  <a:srgbClr val="000000"/>
                </a:solidFill>
                <a:latin typeface="Arial"/>
              </a:rPr>
              <a:t>. Она исследовала мнения о руководстве у людей в возрасте 18-30 лет. Среди вопросов были вопросы о качествах, важных для хорошего руководителя. Список качеств возглавила «способность увидеть ситуацию с точки зрения другого человека». На втором месте «хорошее взаимодействие с другими людьми». Молодые люди, а также люди постарше соглашаются с тем, что успех в руководстве, успех в бизнесе и успех в жизни зависит от того, как мы работаем и взаимодействуем друг с друг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71880" y="1060560"/>
            <a:ext cx="2501640" cy="1876320"/>
          </a:xfrm>
          <a:prstGeom prst="rect">
            <a:avLst/>
          </a:prstGeom>
          <a:ln w="0">
            <a:noFill/>
          </a:ln>
        </p:spPr>
      </p:sp>
      <p:sp>
        <p:nvSpPr>
          <p:cNvPr id="234"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3. </a:t>
            </a:r>
            <a:r>
              <a:rPr b="1" lang="ru-RU" sz="1200" spc="-1" strike="noStrike">
                <a:solidFill>
                  <a:srgbClr val="000000"/>
                </a:solidFill>
                <a:latin typeface="Arial"/>
              </a:rPr>
              <a:t>Взаимоотношения способствуют становлению здорового руководител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ое исследование было представлено в журнале Новый английский журнал по медицине (</a:t>
            </a:r>
            <a:r>
              <a:rPr b="0" lang="en-US" sz="1200" spc="-1" strike="noStrike">
                <a:solidFill>
                  <a:srgbClr val="000000"/>
                </a:solidFill>
                <a:latin typeface="Arial"/>
              </a:rPr>
              <a:t>New England Journal of Medicine</a:t>
            </a:r>
            <a:r>
              <a:rPr b="0" lang="ru-RU" sz="1200" spc="-1" strike="noStrike">
                <a:solidFill>
                  <a:srgbClr val="000000"/>
                </a:solidFill>
                <a:latin typeface="Arial"/>
              </a:rPr>
              <a:t>), известное как «Исследование Бета-адреноблокираторов приступов сердца»</a:t>
            </a:r>
            <a:r>
              <a:rPr b="1" lang="ru-RU" sz="1200" spc="-1" strike="noStrike">
                <a:solidFill>
                  <a:srgbClr val="000000"/>
                </a:solidFill>
                <a:latin typeface="Arial"/>
              </a:rPr>
              <a:t> (5)</a:t>
            </a:r>
            <a:r>
              <a:rPr b="0" lang="ru-RU" sz="1200" spc="-1" strike="noStrike">
                <a:solidFill>
                  <a:srgbClr val="000000"/>
                </a:solidFill>
                <a:latin typeface="Arial"/>
              </a:rPr>
              <a:t>. Исследователи опросили 2300 мужчин, которые испытывают сердечные приступы и принимают бета-адреноблокираторы, чтобы снизить риск смертельного исхода. Исследователи предполагали, что бета-адреноблокираторы предотвратят сердечные приступы в будущем. Однако, результаты исследования говорят о том, что у тех мужчин, которые указали на свою социальную изоляцию (у них не было хороших отношений с другими людьми), диагностирована высокая степень жизненного стресса. Они более чем в четыре раза приближены к риску смерти, чем мужчины, у которых диагностированы и низкий уровень стресса, и низкий уровень изоляции. Эти открытия не зависят от других сопутствующих факторов, таких как генетика, курение, диета, употребление алкоголя, физические упражнения, вес и так далее. Возрастающий риск связан со стрессом и социальной изоляцией, которые могут привести как к приступам, угрожающим смертельным исходом, так и к внезапной остановке сердц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E8A79-3259-43CD-B1B0-8E6E4D6E6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07D3D-5FC9-466E-AFA3-5ED60C947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C3DAB-8EBD-4151-A961-84E81ED8E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959C2-0BB2-47EF-BD11-451FB2962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801A1-BED4-42D3-881F-B4CB47FD4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020D-DE6F-4372-BA79-6262CCE50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5B222-435A-4624-A4C5-261DF2F3F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4BB5C-E4C4-49AD-9CDA-E12BFFD9D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550E7-43AC-4C5C-B05D-7BC011414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46090-7DF5-4FA0-8AE4-44B0DB7F5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4601A-A15B-4F99-8CDC-C9A32354A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87F33-2D8D-4967-891B-7F2876E50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3795-5646-4BB5-AAA6-8C33FEF0C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1619280" y="549360"/>
            <a:ext cx="561672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Природа отношений в руководстве</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 descr=""/>
          <p:cNvPicPr/>
          <p:nvPr/>
        </p:nvPicPr>
        <p:blipFill>
          <a:blip r:embed="rId2"/>
          <a:stretch/>
        </p:blipFill>
        <p:spPr>
          <a:xfrm>
            <a:off x="6372360" y="4581360"/>
            <a:ext cx="1008000" cy="689040"/>
          </a:xfrm>
          <a:prstGeom prst="rect">
            <a:avLst/>
          </a:prstGeom>
          <a:ln w="0">
            <a:noFill/>
          </a:ln>
        </p:spPr>
      </p:pic>
      <p:sp>
        <p:nvSpPr>
          <p:cNvPr id="53" name=""/>
          <p:cNvSpPr/>
          <p:nvPr/>
        </p:nvSpPr>
        <p:spPr>
          <a:xfrm>
            <a:off x="5075280" y="5373720"/>
            <a:ext cx="3744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Генеральная конференц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Отдел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Сертификационная програм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Уровень 4</a:t>
            </a:r>
            <a:endParaRPr b="0" lang="en-US" sz="2000" spc="-1" strike="noStrike">
              <a:solidFill>
                <a:srgbClr val="000000"/>
              </a:solidFill>
              <a:latin typeface="Arial"/>
            </a:endParaRPr>
          </a:p>
        </p:txBody>
      </p:sp>
      <p:sp>
        <p:nvSpPr>
          <p:cNvPr id="54" name=""/>
          <p:cNvSpPr/>
          <p:nvPr/>
        </p:nvSpPr>
        <p:spPr>
          <a:xfrm>
            <a:off x="5424840" y="2982960"/>
            <a:ext cx="250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Подготовлен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Кэтлин Кунтара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3200" spc="-1" strike="noStrike">
              <a:solidFill>
                <a:srgbClr val="000000"/>
              </a:solidFill>
              <a:latin typeface="Arial"/>
            </a:endParaRPr>
          </a:p>
        </p:txBody>
      </p:sp>
      <p:sp>
        <p:nvSpPr>
          <p:cNvPr id="102" name=""/>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ИБЛЕЙСКИЕ ПРИНЦИПЫ ВЗАИМООТНОШЕНИЙ</a:t>
            </a:r>
            <a:br>
              <a:rPr sz="2400"/>
            </a:br>
            <a:endParaRPr b="0" lang="en-US" sz="2400" spc="-1" strike="noStrike">
              <a:solidFill>
                <a:srgbClr val="000000"/>
              </a:solidFill>
              <a:latin typeface="Arial"/>
            </a:endParaRPr>
          </a:p>
        </p:txBody>
      </p:sp>
      <p:sp>
        <p:nvSpPr>
          <p:cNvPr id="10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70128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ru-RU" sz="4000" spc="-1" strike="noStrike">
                <a:solidFill>
                  <a:srgbClr val="000000"/>
                </a:solidFill>
                <a:latin typeface="Tw Cen MT Condensed Extra Bold"/>
              </a:rPr>
              <a:t>Следовать за Христом</a:t>
            </a:r>
            <a:endParaRPr b="0" lang="en-US" sz="4000" spc="-1" strike="noStrike">
              <a:solidFill>
                <a:srgbClr val="000000"/>
              </a:solidFill>
              <a:latin typeface="Arial"/>
            </a:endParaRPr>
          </a:p>
        </p:txBody>
      </p:sp>
      <p:sp>
        <p:nvSpPr>
          <p:cNvPr id="106" name="PlaceHolder 2"/>
          <p:cNvSpPr>
            <a:spLocks noGrp="1"/>
          </p:cNvSpPr>
          <p:nvPr>
            <p:ph/>
          </p:nvPr>
        </p:nvSpPr>
        <p:spPr>
          <a:xfrm>
            <a:off x="446040" y="2430000"/>
            <a:ext cx="82296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0" y="2143080"/>
            <a:ext cx="91440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Иисус очень хорошо осознавал интересы и нужды людей.</a:t>
            </a:r>
            <a:endParaRPr b="0" lang="en-US" sz="24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4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Чему мы можем научиться у Христа?</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1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733920" y="47592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Иисус Христос старался не обижать людей</a:t>
            </a:r>
            <a:r>
              <a:rPr b="1" lang="ru-RU" sz="4000" spc="-1" strike="noStrike">
                <a:solidFill>
                  <a:srgbClr val="000000"/>
                </a:solidFill>
                <a:latin typeface="Arial"/>
              </a:rPr>
              <a:t> </a:t>
            </a:r>
            <a:br>
              <a:rPr sz="3200"/>
            </a:br>
            <a:endParaRPr b="0" lang="en-US" sz="40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я примеру Иисуса Христа, Елена Уайт также предлагает всем руководителям: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a:t>
            </a:r>
            <a:endParaRPr b="0" lang="en-US" sz="2400" spc="-1" strike="noStrike">
              <a:solidFill>
                <a:srgbClr val="000000"/>
              </a:solidFill>
              <a:latin typeface="Arial"/>
            </a:endParaRPr>
          </a:p>
        </p:txBody>
      </p:sp>
      <p:sp>
        <p:nvSpPr>
          <p:cNvPr id="116"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исус Христос притягивал людей своей дружелюбностью</a:t>
            </a:r>
            <a:br>
              <a:rPr sz="4000"/>
            </a:br>
            <a:endParaRPr b="0" lang="en-US" sz="2400" spc="-1" strike="noStrike">
              <a:solidFill>
                <a:srgbClr val="000000"/>
              </a:solidFill>
              <a:latin typeface="Arial"/>
            </a:endParaRPr>
          </a:p>
        </p:txBody>
      </p:sp>
      <p:sp>
        <p:nvSpPr>
          <p:cNvPr id="119" name="PlaceHolder 2"/>
          <p:cNvSpPr>
            <a:spLocks noGrp="1"/>
          </p:cNvSpPr>
          <p:nvPr>
            <p:ph/>
          </p:nvPr>
        </p:nvSpPr>
        <p:spPr>
          <a:xfrm>
            <a:off x="960120" y="2637000"/>
            <a:ext cx="7643880" cy="2620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2400" spc="-1" strike="noStrike">
              <a:solidFill>
                <a:srgbClr val="000000"/>
              </a:solidFill>
              <a:latin typeface="Arial"/>
            </a:endParaRPr>
          </a:p>
        </p:txBody>
      </p:sp>
      <p:sp>
        <p:nvSpPr>
          <p:cNvPr id="120" name=""/>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91728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Иисус Христос принимал чувства других людей</a:t>
            </a:r>
            <a:endParaRPr b="0" lang="en-US" sz="2400" spc="-1" strike="noStrike">
              <a:solidFill>
                <a:srgbClr val="000000"/>
              </a:solidFill>
              <a:latin typeface="Arial"/>
            </a:endParaRPr>
          </a:p>
        </p:txBody>
      </p:sp>
      <p:sp>
        <p:nvSpPr>
          <p:cNvPr id="123" name="PlaceHolder 2"/>
          <p:cNvSpPr>
            <a:spLocks noGrp="1"/>
          </p:cNvSpPr>
          <p:nvPr>
            <p:ph/>
          </p:nvPr>
        </p:nvSpPr>
        <p:spPr>
          <a:xfrm>
            <a:off x="457200" y="2647800"/>
            <a:ext cx="8229600" cy="30132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lang="ru-RU" sz="2800" spc="-1" strike="noStrike">
                <a:solidFill>
                  <a:srgbClr val="000000"/>
                </a:solidFill>
                <a:latin typeface="Arial"/>
              </a:rPr>
              <a:t>Он никогда не грубил, никогда не говорил ненужных слов, никогда не причинял ненужную боль чувствительным душам.</a:t>
            </a:r>
            <a:endParaRPr b="0" lang="en-US" sz="2800" spc="-1" strike="noStrike">
              <a:solidFill>
                <a:srgbClr val="000000"/>
              </a:solidFill>
              <a:latin typeface="Arial"/>
            </a:endParaRPr>
          </a:p>
        </p:txBody>
      </p:sp>
      <p:sp>
        <p:nvSpPr>
          <p:cNvPr id="124"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95280" y="2576160"/>
            <a:ext cx="8229600" cy="315756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этому руководителю полезно следовать примеру Иисуса Христа. Говорите одобряющие слова, вместо унижающих, которые негативно влияют на иммунную систему других людей, включая ваших подчиненных.</a:t>
            </a:r>
            <a:endParaRPr b="0" lang="en-US" sz="2400" spc="-1" strike="noStrike">
              <a:solidFill>
                <a:srgbClr val="000000"/>
              </a:solidFill>
              <a:latin typeface="Arial"/>
            </a:endParaRPr>
          </a:p>
        </p:txBody>
      </p:sp>
      <p:sp>
        <p:nvSpPr>
          <p:cNvPr id="12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701280"/>
            <a:ext cx="655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2. Следуйте Слову Божьему </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lvl="1" marL="990720" indent="0">
              <a:lnSpc>
                <a:spcPct val="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Следуйте Золотому правилу</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руководители были успешными, они должны проявлять конфиденциальность и поддержку людям.</a:t>
            </a:r>
            <a:endParaRPr b="0" lang="en-US" sz="2800" spc="-1" strike="noStrike">
              <a:solidFill>
                <a:srgbClr val="000000"/>
              </a:solidFill>
              <a:latin typeface="Arial"/>
            </a:endParaRPr>
          </a:p>
        </p:txBody>
      </p:sp>
      <p:sp>
        <p:nvSpPr>
          <p:cNvPr id="132"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519120" y="2215800"/>
            <a:ext cx="8229600" cy="3660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a:t>
            </a:r>
            <a:r>
              <a:rPr b="0" lang="ru-RU" sz="2400" spc="-1" strike="noStrike">
                <a:solidFill>
                  <a:srgbClr val="000000"/>
                </a:solidFill>
                <a:latin typeface="Arial"/>
              </a:rPr>
              <a:t>  (1).</a:t>
            </a:r>
            <a:endParaRPr b="0" lang="en-US" sz="2400" spc="-1" strike="noStrike">
              <a:solidFill>
                <a:srgbClr val="000000"/>
              </a:solidFill>
              <a:latin typeface="Arial"/>
            </a:endParaRPr>
          </a:p>
        </p:txBody>
      </p:sp>
      <p:sp>
        <p:nvSpPr>
          <p:cNvPr id="5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24000" y="214308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Б. </a:t>
            </a:r>
            <a:r>
              <a:rPr b="1" lang="ru-RU" sz="2800" spc="-1" strike="noStrike">
                <a:solidFill>
                  <a:srgbClr val="000000"/>
                </a:solidFill>
                <a:latin typeface="Arial"/>
              </a:rPr>
              <a:t>Любите своих людей.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2800" spc="-1" strike="noStrike">
              <a:solidFill>
                <a:srgbClr val="000000"/>
              </a:solidFill>
              <a:latin typeface="Arial"/>
            </a:endParaRPr>
          </a:p>
        </p:txBody>
      </p:sp>
      <p:sp>
        <p:nvSpPr>
          <p:cNvPr id="13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2276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2" name="PlaceHolder 1"/>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пользуйте все возможности, чтобы помочь вашим коллегам.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a:t>
            </a:r>
            <a:endParaRPr b="0" lang="en-US" sz="2400" spc="-1" strike="noStrike">
              <a:solidFill>
                <a:srgbClr val="000000"/>
              </a:solidFill>
              <a:latin typeface="Arial"/>
            </a:endParaRPr>
          </a:p>
        </p:txBody>
      </p:sp>
      <p:sp>
        <p:nvSpPr>
          <p:cNvPr id="14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5" name="PlaceHolder 1"/>
          <p:cNvSpPr>
            <a:spLocks noGrp="1"/>
          </p:cNvSpPr>
          <p:nvPr>
            <p:ph/>
          </p:nvPr>
        </p:nvSpPr>
        <p:spPr>
          <a:xfrm>
            <a:off x="303120" y="20718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Советуйтесь с вашими сотрудниками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a:t>
            </a:r>
            <a:endParaRPr b="0" lang="en-US" sz="2400" spc="-1" strike="noStrike">
              <a:solidFill>
                <a:srgbClr val="000000"/>
              </a:solidFill>
              <a:latin typeface="Arial"/>
            </a:endParaRPr>
          </a:p>
        </p:txBody>
      </p:sp>
      <p:sp>
        <p:nvSpPr>
          <p:cNvPr id="146"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8" name="PlaceHolder 1"/>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Не бойтесь признавать, что вы не правы.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a:t>
            </a:r>
            <a:endParaRPr b="0" lang="en-US" sz="2400" spc="-1" strike="noStrike">
              <a:solidFill>
                <a:srgbClr val="000000"/>
              </a:solidFill>
              <a:latin typeface="Arial"/>
            </a:endParaRPr>
          </a:p>
        </p:txBody>
      </p:sp>
      <p:sp>
        <p:nvSpPr>
          <p:cNvPr id="149"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1" name="PlaceHolder 1"/>
          <p:cNvSpPr>
            <a:spLocks noGrp="1"/>
          </p:cNvSpPr>
          <p:nvPr>
            <p:ph/>
          </p:nvPr>
        </p:nvSpPr>
        <p:spPr>
          <a:xfrm>
            <a:off x="324000" y="199872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 Доверяйте людям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a:t>
            </a:r>
            <a:endParaRPr b="0" lang="en-US" sz="2800" spc="-1" strike="noStrike">
              <a:solidFill>
                <a:srgbClr val="000000"/>
              </a:solidFill>
              <a:latin typeface="Arial"/>
            </a:endParaRPr>
          </a:p>
        </p:txBody>
      </p:sp>
      <p:sp>
        <p:nvSpPr>
          <p:cNvPr id="152"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4" name="PlaceHolder 1"/>
          <p:cNvSpPr>
            <a:spLocks noGrp="1"/>
          </p:cNvSpPr>
          <p:nvPr>
            <p:ph/>
          </p:nvPr>
        </p:nvSpPr>
        <p:spPr>
          <a:xfrm>
            <a:off x="108000" y="1998720"/>
            <a:ext cx="8229600" cy="452592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 Предоставляйте людям второй шанс.</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a:t>
            </a:r>
            <a:endParaRPr b="0" lang="en-US" sz="2800" spc="-1" strike="noStrike">
              <a:solidFill>
                <a:srgbClr val="000000"/>
              </a:solidFill>
              <a:latin typeface="Arial"/>
            </a:endParaRPr>
          </a:p>
        </p:txBody>
      </p:sp>
      <p:sp>
        <p:nvSpPr>
          <p:cNvPr id="155"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7" name="PlaceHolder 1"/>
          <p:cNvSpPr>
            <a:spLocks noGrp="1"/>
          </p:cNvSpPr>
          <p:nvPr>
            <p:ph/>
          </p:nvPr>
        </p:nvSpPr>
        <p:spPr>
          <a:xfrm>
            <a:off x="457200" y="2276640"/>
            <a:ext cx="8229600" cy="4525920"/>
          </a:xfrm>
          <a:prstGeom prst="rect">
            <a:avLst/>
          </a:prstGeom>
          <a:noFill/>
          <a:ln w="0">
            <a:noFill/>
          </a:ln>
        </p:spPr>
        <p:txBody>
          <a:bodyPr lIns="90000" rIns="90000" tIns="46800" bIns="46800" anchor="t">
            <a:normAutofit fontScale="99000"/>
          </a:bodyPr>
          <a:p>
            <a:pPr marL="339480" indent="-3394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19).</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0" name="PlaceHolder 1"/>
          <p:cNvSpPr>
            <a:spLocks noGrp="1"/>
          </p:cNvSpPr>
          <p:nvPr>
            <p:ph/>
          </p:nvPr>
        </p:nvSpPr>
        <p:spPr>
          <a:xfrm>
            <a:off x="25092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З. </a:t>
            </a:r>
            <a:r>
              <a:rPr b="1" lang="ru-RU" sz="2400" spc="-1" strike="noStrike">
                <a:solidFill>
                  <a:srgbClr val="000000"/>
                </a:solidFill>
                <a:latin typeface="Arial"/>
              </a:rPr>
              <a:t>Не заставляйте других делать то, что вы можете сделать, но просто не хотит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2400" spc="-1" strike="noStrike">
              <a:solidFill>
                <a:srgbClr val="000000"/>
              </a:solidFill>
              <a:latin typeface="Arial"/>
            </a:endParaRPr>
          </a:p>
        </p:txBody>
      </p:sp>
      <p:sp>
        <p:nvSpPr>
          <p:cNvPr id="16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3" name="PlaceHolder 1"/>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ддерживайте ваших сотрудников.</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2800" spc="-1" strike="noStrike">
              <a:solidFill>
                <a:srgbClr val="000000"/>
              </a:solidFill>
              <a:latin typeface="Arial"/>
            </a:endParaRPr>
          </a:p>
        </p:txBody>
      </p:sp>
      <p:sp>
        <p:nvSpPr>
          <p:cNvPr id="164"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2400" spc="-1" strike="noStrike">
              <a:solidFill>
                <a:srgbClr val="000000"/>
              </a:solidFill>
              <a:latin typeface="Arial"/>
            </a:endParaRPr>
          </a:p>
        </p:txBody>
      </p:sp>
      <p:sp>
        <p:nvSpPr>
          <p:cNvPr id="62" name=""/>
          <p:cNvSpPr/>
          <p:nvPr/>
        </p:nvSpPr>
        <p:spPr>
          <a:xfrm>
            <a:off x="2627280" y="476280"/>
            <a:ext cx="63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каждой организации руководители чрезвычайно важны</a:t>
            </a:r>
            <a:endParaRPr b="0" lang="en-US" sz="2800" spc="-1" strike="noStrike">
              <a:solidFill>
                <a:srgbClr val="000000"/>
              </a:solidFill>
              <a:latin typeface="Arial"/>
            </a:endParaRPr>
          </a:p>
        </p:txBody>
      </p:sp>
      <p:sp>
        <p:nvSpPr>
          <p:cNvPr id="63"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6" name="PlaceHolder 1"/>
          <p:cNvSpPr>
            <a:spLocks noGrp="1"/>
          </p:cNvSpPr>
          <p:nvPr>
            <p:ph/>
          </p:nvPr>
        </p:nvSpPr>
        <p:spPr>
          <a:xfrm>
            <a:off x="250920" y="221616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Встаньте на место другого человека.</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2800" spc="-1" strike="noStrike">
              <a:solidFill>
                <a:srgbClr val="000000"/>
              </a:solidFill>
              <a:latin typeface="Arial"/>
            </a:endParaRPr>
          </a:p>
        </p:txBody>
      </p:sp>
      <p:sp>
        <p:nvSpPr>
          <p:cNvPr id="167"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503440"/>
            <a:ext cx="8229600" cy="3446640"/>
          </a:xfrm>
          <a:prstGeom prst="rect">
            <a:avLst/>
          </a:prstGeom>
          <a:noFill/>
          <a:ln w="0">
            <a:noFill/>
          </a:ln>
        </p:spPr>
        <p:txBody>
          <a:bodyPr lIns="90000" rIns="90000" tIns="46800" bIns="46800"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7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3" name="PlaceHolder 1"/>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юбите друг друга Иоанн. 13:3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щайте друг друга Кол. 3: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имайте друг друга Рим. 15: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итесь друг о друге Иак. 5:16</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йте друг друга 1 Фес. 4:1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айтесь друг с другом 1 Иоан.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добры друг ко другу Еф. 4:3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азывайте сострадание друг ко другу 1 Пет. 3: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гостеприимны друг ко другу 1 Пет. 4: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6" name="PlaceHolder 1"/>
          <p:cNvSpPr>
            <a:spLocks noGrp="1"/>
          </p:cNvSpPr>
          <p:nvPr>
            <p:ph type="title"/>
          </p:nvPr>
        </p:nvSpPr>
        <p:spPr>
          <a:xfrm>
            <a:off x="2916000" y="701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отношения и работа в команд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7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a:t>
            </a:r>
            <a:endParaRPr b="0" lang="en-US" sz="2800" spc="-1" strike="noStrike">
              <a:solidFill>
                <a:srgbClr val="000000"/>
              </a:solidFill>
              <a:latin typeface="Arial"/>
            </a:endParaRPr>
          </a:p>
        </p:txBody>
      </p:sp>
      <p:sp>
        <p:nvSpPr>
          <p:cNvPr id="17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0" name="PlaceHolder 1"/>
          <p:cNvSpPr>
            <a:spLocks noGrp="1"/>
          </p:cNvSpPr>
          <p:nvPr>
            <p:ph type="title"/>
          </p:nvPr>
        </p:nvSpPr>
        <p:spPr>
          <a:xfrm>
            <a:off x="2916000" y="485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w Cen MT Condensed Extra Bold"/>
              </a:rPr>
              <a:t>Руководство воспитывает характерные черты команды через</a:t>
            </a:r>
            <a:r>
              <a:rPr b="0" lang="en-US" sz="3200" spc="-1" strike="noStrike">
                <a:solidFill>
                  <a:srgbClr val="000000"/>
                </a:solidFill>
                <a:latin typeface="Tw Cen MT Condensed Extra Bold"/>
              </a:rPr>
              <a:t>:</a:t>
            </a:r>
            <a:endParaRPr b="0" lang="en-US" sz="3200" spc="-1" strike="noStrike">
              <a:solidFill>
                <a:srgbClr val="000000"/>
              </a:solidFill>
              <a:latin typeface="Arial"/>
            </a:endParaRPr>
          </a:p>
        </p:txBody>
      </p:sp>
      <p:sp>
        <p:nvSpPr>
          <p:cNvPr id="181" name="PlaceHolder 2"/>
          <p:cNvSpPr>
            <a:spLocks noGrp="1"/>
          </p:cNvSpPr>
          <p:nvPr>
            <p:ph/>
          </p:nvPr>
        </p:nvSpPr>
        <p:spPr>
          <a:xfrm>
            <a:off x="250560" y="2287080"/>
            <a:ext cx="8569080" cy="4526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тко определенные цели для каждого члена команды</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воевременный и эффективный обмен информацией об идеях и чувствах</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аспределение участия и руководств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ответствующую и эффективную дискуссию, способствующую продвижению процесс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нструктивное разрешение разногласий</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сокий уровень доверия, принятия, поддержки и сплоченност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мпетентные процедуры разрешения трудных ситуаций</a:t>
            </a:r>
            <a:endParaRPr b="0" lang="en-US" sz="2400" spc="-1" strike="noStrike">
              <a:solidFill>
                <a:srgbClr val="000000"/>
              </a:solidFill>
              <a:latin typeface="Arial"/>
            </a:endParaRPr>
          </a:p>
        </p:txBody>
      </p:sp>
      <p:sp>
        <p:nvSpPr>
          <p:cNvPr id="182"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4" name="PlaceHolder 1"/>
          <p:cNvSpPr>
            <a:spLocks noGrp="1"/>
          </p:cNvSpPr>
          <p:nvPr>
            <p:ph type="title"/>
          </p:nvPr>
        </p:nvSpPr>
        <p:spPr>
          <a:xfrm>
            <a:off x="2987280" y="63000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НЦИПЫ МЕЖЛИЧНОСТНЫХ ОТНОШЕНИЙ</a:t>
            </a:r>
            <a:endParaRPr b="0" lang="en-US" sz="4000" spc="-1" strike="noStrike">
              <a:solidFill>
                <a:srgbClr val="000000"/>
              </a:solidFill>
              <a:latin typeface="Arial"/>
            </a:endParaRPr>
          </a:p>
        </p:txBody>
      </p:sp>
      <p:sp>
        <p:nvSpPr>
          <p:cNvPr id="18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8" name="PlaceHolder 1"/>
          <p:cNvSpPr>
            <a:spLocks noGrp="1"/>
          </p:cNvSpPr>
          <p:nvPr>
            <p:ph type="title"/>
          </p:nvPr>
        </p:nvSpPr>
        <p:spPr>
          <a:xfrm>
            <a:off x="2410920" y="41400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ните с того, что выслушайте историю жизни челове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жите неподдельный интерес к люд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их достоинства и недостат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какие у них есть цели и каковы мотив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ите, какой у них темперамен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аблюдайте за людьми, когда они находятся вне бизнесе, церкв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2" name="PlaceHolder 1"/>
          <p:cNvSpPr>
            <a:spLocks noGrp="1"/>
          </p:cNvSpPr>
          <p:nvPr>
            <p:ph type="title"/>
          </p:nvPr>
        </p:nvSpPr>
        <p:spPr>
          <a:xfrm>
            <a:off x="3203640" y="404280"/>
            <a:ext cx="533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ФФЕКТИВНЫЕ КОММУНИКАЦИОННЫЕ НАВЫКИ </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2400"/>
            </a:b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94"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6" name="PlaceHolder 1"/>
          <p:cNvSpPr>
            <a:spLocks noGrp="1"/>
          </p:cNvSpPr>
          <p:nvPr>
            <p:ph type="title"/>
          </p:nvPr>
        </p:nvSpPr>
        <p:spPr>
          <a:xfrm>
            <a:off x="2843280" y="55692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ксвелл напомнил пять важных характеристик эффективной коммуникации:</a:t>
            </a:r>
            <a:br>
              <a:rPr sz="2800"/>
            </a:br>
            <a:endParaRPr b="0" lang="en-US" sz="2800" spc="-1" strike="noStrike">
              <a:solidFill>
                <a:srgbClr val="000000"/>
              </a:solidFill>
              <a:latin typeface="Arial"/>
            </a:endParaRPr>
          </a:p>
        </p:txBody>
      </p:sp>
      <p:sp>
        <p:nvSpPr>
          <p:cNvPr id="197" name="PlaceHolder 2"/>
          <p:cNvSpPr>
            <a:spLocks noGrp="1"/>
          </p:cNvSpPr>
          <p:nvPr>
            <p:ph/>
          </p:nvPr>
        </p:nvSpPr>
        <p:spPr>
          <a:xfrm>
            <a:off x="395280" y="227664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креннее интересуйтесь тем, что человек говорит.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фокусироваться на отвечающем.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общаться с разными людьми.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отрите в глаза человеку, с которым вы говорите.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плая улыб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8"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0" name="PlaceHolder 1"/>
          <p:cNvSpPr>
            <a:spLocks noGrp="1"/>
          </p:cNvSpPr>
          <p:nvPr>
            <p:ph type="title"/>
          </p:nvPr>
        </p:nvSpPr>
        <p:spPr>
          <a:xfrm>
            <a:off x="3419280" y="845640"/>
            <a:ext cx="52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действия в конфликт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20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Удивительно, но Библия говорит о некоторых принципах как руководить конфликтом. Прочитайте нижеприведенные стих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ипийцам 2:5. Постарайтесь сохранять самооблада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18:15, 16. Разговаривайте с человеком один на од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млянм 12:17-19. Живите в мире со все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алатам 6:1-10. Восстанавливайте отношения с мягк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5:38-48. Любите врагов ваши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ru-RU" sz="4000" spc="-1" strike="noStrike">
                <a:solidFill>
                  <a:srgbClr val="000000"/>
                </a:solidFill>
                <a:latin typeface="Arial"/>
              </a:rPr>
              <a:t>ВАЖНАЯ РОЛЬ ОТНОШЕНИЙ В РУКОВОДСТВЕ</a:t>
            </a:r>
            <a:endParaRPr b="0" lang="en-US" sz="4000" spc="-1" strike="noStrike">
              <a:solidFill>
                <a:srgbClr val="000000"/>
              </a:solidFill>
              <a:latin typeface="Arial"/>
            </a:endParaRPr>
          </a:p>
        </p:txBody>
      </p:sp>
      <p:sp>
        <p:nvSpPr>
          <p:cNvPr id="66" name="PlaceHolder 2"/>
          <p:cNvSpPr>
            <a:spLocks noGrp="1"/>
          </p:cNvSpPr>
          <p:nvPr>
            <p:ph/>
          </p:nvPr>
        </p:nvSpPr>
        <p:spPr>
          <a:xfrm>
            <a:off x="0" y="2575080"/>
            <a:ext cx="8964720" cy="3301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a:t>
            </a:r>
            <a:endParaRPr b="0" lang="en-US" sz="2400" spc="-1" strike="noStrike">
              <a:solidFill>
                <a:srgbClr val="000000"/>
              </a:solidFill>
              <a:latin typeface="Arial"/>
            </a:endParaRPr>
          </a:p>
        </p:txBody>
      </p:sp>
      <p:sp>
        <p:nvSpPr>
          <p:cNvPr id="67"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4" name="PlaceHolder 1"/>
          <p:cNvSpPr>
            <a:spLocks noGrp="1"/>
          </p:cNvSpPr>
          <p:nvPr>
            <p:ph type="title"/>
          </p:nvPr>
        </p:nvSpPr>
        <p:spPr>
          <a:xfrm>
            <a:off x="2906280" y="63000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w Cen MT Condensed Extra Bold"/>
              </a:rPr>
              <a:t>Практическое руководство по построению отношений в церкви</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5"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8" name="PlaceHolder 1"/>
          <p:cNvSpPr>
            <a:spLocks noGrp="1"/>
          </p:cNvSpPr>
          <p:nvPr>
            <p:ph type="title"/>
          </p:nvPr>
        </p:nvSpPr>
        <p:spPr>
          <a:xfrm>
            <a:off x="2484000" y="77292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w Cen MT Condensed Extra Bold"/>
              </a:rPr>
              <a:t>Ниже предложены несколько аспектов, которые помогут вам построить хорошие отношения в церкви</a:t>
            </a:r>
            <a:r>
              <a:rPr b="0" lang="ru-RU" sz="3600" spc="-1" strike="noStrike">
                <a:solidFill>
                  <a:srgbClr val="000000"/>
                </a:solidFill>
                <a:latin typeface="Tw Cen MT Condensed Extra Bold"/>
              </a:rPr>
              <a:t>:</a:t>
            </a:r>
            <a:endParaRPr b="0" lang="en-US" sz="3600" spc="-1" strike="noStrike">
              <a:solidFill>
                <a:srgbClr val="000000"/>
              </a:solidFill>
              <a:latin typeface="Arial"/>
            </a:endParaRPr>
          </a:p>
        </p:txBody>
      </p:sp>
      <p:sp>
        <p:nvSpPr>
          <p:cNvPr id="20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бюллетени</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газеты </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Фотоальбом о деятельности Церкви</a:t>
            </a:r>
            <a:endParaRPr b="0" lang="en-US" sz="28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Служба информации «Добро пожаловать»</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крытки для особых случае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помощи молодым матерям</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 пожаловать новоселам</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иветствуйте новых члено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членов церкви</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потерянных членов</a:t>
            </a:r>
            <a:endParaRPr b="0" lang="en-US" sz="2400" spc="-1" strike="noStrike">
              <a:solidFill>
                <a:srgbClr val="000000"/>
              </a:solidFill>
              <a:latin typeface="Arial"/>
            </a:endParaRPr>
          </a:p>
        </p:txBody>
      </p:sp>
      <p:sp>
        <p:nvSpPr>
          <p:cNvPr id="210"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250920" y="2216160"/>
            <a:ext cx="86868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2400" spc="-1" strike="noStrike">
              <a:solidFill>
                <a:srgbClr val="000000"/>
              </a:solidFill>
              <a:latin typeface="Arial"/>
            </a:endParaRPr>
          </a:p>
        </p:txBody>
      </p:sp>
      <p:sp>
        <p:nvSpPr>
          <p:cNvPr id="216"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4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3200" spc="-1" strike="noStrike">
              <a:solidFill>
                <a:srgbClr val="000000"/>
              </a:solidFill>
              <a:latin typeface="Arial"/>
            </a:endParaRPr>
          </a:p>
        </p:txBody>
      </p:sp>
      <p:sp>
        <p:nvSpPr>
          <p:cNvPr id="71" name=""/>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Руководитель без взаимоотношений или человеко-ориентированных навыков скорее останется без последователей</a:t>
            </a:r>
            <a:endParaRPr b="0" lang="en-US" sz="2400" spc="-1" strike="noStrike">
              <a:solidFill>
                <a:srgbClr val="000000"/>
              </a:solidFill>
              <a:latin typeface="Arial"/>
            </a:endParaRPr>
          </a:p>
        </p:txBody>
      </p:sp>
      <p:sp>
        <p:nvSpPr>
          <p:cNvPr id="72" name=""/>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2400" spc="-1" strike="noStrike">
              <a:solidFill>
                <a:srgbClr val="000000"/>
              </a:solidFill>
              <a:latin typeface="Arial"/>
            </a:endParaRPr>
          </a:p>
        </p:txBody>
      </p:sp>
      <p:sp>
        <p:nvSpPr>
          <p:cNvPr id="7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учая руководящие техники Иисуса Христа, Джонс рассмотрел три аспекта Его руководящей си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самодисципли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взаимоотношений</a:t>
            </a:r>
            <a:endParaRPr b="0" lang="en-US" sz="3200" spc="-1" strike="noStrike">
              <a:solidFill>
                <a:srgbClr val="000000"/>
              </a:solidFill>
              <a:latin typeface="Arial"/>
            </a:endParaRPr>
          </a:p>
        </p:txBody>
      </p:sp>
      <p:sp>
        <p:nvSpPr>
          <p:cNvPr id="80"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Взаимоотношения – секрет успешных руководител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он-лайн исследовании читателей журнала ‘</a:t>
            </a:r>
            <a:r>
              <a:rPr b="0" i="1" lang="en-US" sz="2400" spc="-1" strike="noStrike">
                <a:solidFill>
                  <a:srgbClr val="000000"/>
                </a:solidFill>
                <a:latin typeface="Arial"/>
              </a:rPr>
              <a:t>Fast Company</a:t>
            </a:r>
            <a:r>
              <a:rPr b="0" i="1" lang="ru-RU" sz="24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2400" spc="-1" strike="noStrike">
              <a:solidFill>
                <a:srgbClr val="000000"/>
              </a:solidFill>
              <a:latin typeface="Arial"/>
            </a:endParaRPr>
          </a:p>
        </p:txBody>
      </p:sp>
      <p:sp>
        <p:nvSpPr>
          <p:cNvPr id="85" name=""/>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503080"/>
            <a:ext cx="8229600" cy="2870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3200" spc="-1" strike="noStrike">
              <a:solidFill>
                <a:srgbClr val="000000"/>
              </a:solidFill>
              <a:latin typeface="Arial"/>
            </a:endParaRPr>
          </a:p>
        </p:txBody>
      </p:sp>
      <p:sp>
        <p:nvSpPr>
          <p:cNvPr id="89"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ru-RU" sz="2400" spc="-1" strike="noStrike">
                <a:solidFill>
                  <a:srgbClr val="000000"/>
                </a:solidFill>
                <a:latin typeface="Garamond"/>
              </a:rPr>
              <a:t>3. </a:t>
            </a:r>
            <a:r>
              <a:rPr b="1" lang="ru-RU" sz="2400" spc="-1" strike="noStrike">
                <a:solidFill>
                  <a:srgbClr val="000000"/>
                </a:solidFill>
                <a:latin typeface="Arial"/>
              </a:rPr>
              <a:t>Взаимоотношения способствуют становлению здорового руководителя.</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Irina Romashkina</cp:lastModifiedBy>
  <dcterms:modified xsi:type="dcterms:W3CDTF">2008-01-14T16:28:46Z</dcterms:modified>
  <cp:revision>61</cp:revision>
  <dc:subject/>
  <dc:title>Slide 1</dc:title>
</cp:coreProperties>
</file>