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5336-E645-49E7-B764-825C8DD51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770120" y="611280"/>
            <a:ext cx="3228840" cy="2422440"/>
          </a:xfrm>
          <a:prstGeom prst="rect">
            <a:avLst/>
          </a:prstGeom>
          <a:ln w="0">
            <a:noFill/>
          </a:ln>
        </p:spPr>
      </p:sp>
      <p:sp>
        <p:nvSpPr>
          <p:cNvPr id="175" name="PlaceHolder 2"/>
          <p:cNvSpPr>
            <a:spLocks noGrp="1"/>
          </p:cNvSpPr>
          <p:nvPr>
            <p:ph type="body"/>
          </p:nvPr>
        </p:nvSpPr>
        <p:spPr>
          <a:xfrm>
            <a:off x="685800" y="3131640"/>
            <a:ext cx="548640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Е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отдал себя на служение нуждам людей, исцеляя больных, питая голодных, давая им надежду на Царствие Небесное. Он освободил людей от зла, греха и сатаны силой Своего Слова и Святого Духа. Иисус Христос обучил апостолов, и как руководитель Он наставил работников, которые продолжили служение, когда Он покинул Зем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проявил как великодушие, так и сострадание, взаимодействуя с людьми. Множество людей последовало за Ним, но  Христос наставлял сравнительно немногих, чтобы продолжалось качественное распространение Его миссии. Христос проявлял человеколюбие и придерживался позиции слуги-руководителя, которая не является параллельной. Он смоделировал особую концепцию руководства для на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можем найти множество примеров для руководства в Его жизни. В действительности, модель руководства Иисуса Христа отличалась и отличается от многих современных моделей руководства. Кроме того, Его жизнь  принесла удивительные результаты, которые сделали жизнь многих людей лучше. Если мы будем изучать Его жизнь, она может послужить для нас образцом поиска в развитии наших даров руководства.</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81280" y="324000"/>
            <a:ext cx="3133800" cy="2350800"/>
          </a:xfrm>
          <a:prstGeom prst="rect">
            <a:avLst/>
          </a:prstGeom>
          <a:ln w="0">
            <a:noFill/>
          </a:ln>
        </p:spPr>
      </p:sp>
      <p:sp>
        <p:nvSpPr>
          <p:cNvPr id="192"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инные цели. Правила счастливой жизни, стр. ориг. 107, 108. Бог, любящий Отец, заботящийся о нас, как о детях, в то же самое время есть Царь всей вселенной. Интересы Его Царства являются и нашими интересами, и поэтому мы должны содействовать установлению Его Царства.</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рпение. Ученики Христа ожидали скорого восстановления на земле Его Царства славы; но, уча их этой молитве, Иисус указывал им, что оно придет не сразу; они должны молиться о его приближении, как о будущем событии.</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96920" y="468360"/>
            <a:ext cx="2845080" cy="2135160"/>
          </a:xfrm>
          <a:prstGeom prst="rect">
            <a:avLst/>
          </a:prstGeom>
          <a:ln w="0">
            <a:noFill/>
          </a:ln>
        </p:spPr>
      </p:sp>
      <p:sp>
        <p:nvSpPr>
          <p:cNvPr id="19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б.</a:t>
            </a:r>
            <a:r>
              <a:rPr b="0" lang="ru-RU" sz="1200" spc="-1" strike="noStrike">
                <a:solidFill>
                  <a:srgbClr val="000000"/>
                </a:solidFill>
                <a:latin typeface="Arial"/>
              </a:rPr>
              <a:t> Мтф. 6:11. Хлеб наш насущный дай нам на сей день</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оритеты. </a:t>
            </a:r>
            <a:r>
              <a:rPr b="0" lang="ru-RU" sz="1200" spc="-1" strike="noStrike">
                <a:solidFill>
                  <a:srgbClr val="000000"/>
                </a:solidFill>
                <a:latin typeface="Arial"/>
              </a:rPr>
              <a:t>Правила счастливой жизни, стр. ориг. 112. Молитва о насущном хлебе имеет отношение не только к пище, необходимой для поддержания физических сил, но включает в себя и прошение о духовном хлебе, необходимом душе для вечной жизни. Иисус говорит нам: "Старайтесь не о пище тленной, но о пище, пребывающей в жизнь вечную". "Я - хлеб живый, сшедший с небес: ядущий хлеб сей будет жить вовек" (Ин. 6:27, 51). Наш Спаситель есть этот Хлеб жизни; ощущая Его любовь, размышляя о ней, воспринимая ее внутрь себя, мы едим от хлеба, сшедшего с небес.</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висимость от Бога</a:t>
            </a:r>
            <a:r>
              <a:rPr b="0" lang="ru-RU" sz="1200" spc="-1" strike="noStrike">
                <a:solidFill>
                  <a:srgbClr val="000000"/>
                </a:solidFill>
                <a:latin typeface="Arial"/>
              </a:rPr>
              <a:t>, Правила счастливой жизни, стр. ориг. 1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изучении слова Божия мы ежедневно должны молиться, чтобы Господь дал нам Духа Святого, раскрывающего нам истину и подкрепляющего нашу душу для настоящего дня.</a:t>
            </a:r>
            <a:br>
              <a:rPr sz="1200"/>
            </a:br>
            <a:r>
              <a:rPr b="0" lang="ru-RU" sz="1200" spc="-1" strike="noStrike">
                <a:solidFill>
                  <a:srgbClr val="000000"/>
                </a:solidFill>
                <a:latin typeface="Arial"/>
              </a:rPr>
              <a:t>По отношению к нам Господь имеет наилучшие намерения, уча нас ежедневно просить как о духовной, так и о телесной пище. Он хочет, чтобы мы поняли свою зависимость от Его постоянного попечения; таким образом, Он старается привести нас в общение с Собой, и благодаря такому общению со Христом через молитву и постоянному изучению великих и драгоценных истин Его слова, мы, как голодные души, насыщаемся и как жаждущие освежаемся из источника вечной жизни.</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889280" y="324000"/>
            <a:ext cx="2844720" cy="2135160"/>
          </a:xfrm>
          <a:prstGeom prst="rect">
            <a:avLst/>
          </a:prstGeom>
          <a:ln w="0">
            <a:noFill/>
          </a:ln>
        </p:spPr>
      </p:sp>
      <p:sp>
        <p:nvSpPr>
          <p:cNvPr id="196"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     </a:t>
            </a:r>
            <a:r>
              <a:rPr b="1" lang="ru-RU" sz="1200" spc="-1" strike="noStrike">
                <a:solidFill>
                  <a:srgbClr val="000000"/>
                </a:solidFill>
                <a:latin typeface="Arial"/>
              </a:rPr>
              <a:t>в.</a:t>
            </a:r>
            <a:r>
              <a:rPr b="0" lang="ru-RU" sz="1200" spc="-1" strike="noStrike">
                <a:solidFill>
                  <a:srgbClr val="000000"/>
                </a:solidFill>
                <a:latin typeface="Arial"/>
              </a:rPr>
              <a:t> Мтф. 6:12. Прости нам долги наши, как и мы прощаем должникам нашим</a:t>
            </a:r>
            <a:r>
              <a:rPr b="1"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Правила счастливой жизни, стр. ориг. 113. Иисус учил нас, что мы можем ожидать прощения от Бога только тогда, когда сами прощаем другим. Любовь есть сила, привлекающая нас к Нему; коснувшись нашего сердца, любовь должна возбудить в нас любовь к нашему ближн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радание. Елена Уайт, Свидетельства для Церкви, том 5, стр. ориг. 171.  Хотя христианин всегда должен быть вежливым, милосердным и прощающим, но в то же время, он не может иметь единства с грехом. Он будет отвращаться от зла и все ближе и ближе соединяться с добром, даже жертвуя дружественными связями. Дух Христа будет вызывать у нас ненависть к греху, и в то же время мы будем готовы принести любую жертву ради спасения грешника.</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96920" y="395280"/>
            <a:ext cx="2845080" cy="2135160"/>
          </a:xfrm>
          <a:prstGeom prst="rect">
            <a:avLst/>
          </a:prstGeom>
          <a:ln w="0">
            <a:noFill/>
          </a:ln>
        </p:spPr>
      </p:sp>
      <p:sp>
        <p:nvSpPr>
          <p:cNvPr id="19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г.</a:t>
            </a:r>
            <a:r>
              <a:rPr b="0" lang="ru-RU" sz="1200" spc="-1" strike="noStrike">
                <a:solidFill>
                  <a:srgbClr val="000000"/>
                </a:solidFill>
                <a:latin typeface="Arial"/>
              </a:rPr>
              <a:t> Мтф. 6:13. Не введи нас в искушение, но избавь нас от лукавого</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вердое следование принципу</a:t>
            </a:r>
            <a:r>
              <a:rPr b="0" lang="ru-RU" sz="1200" spc="-1" strike="noStrike">
                <a:solidFill>
                  <a:srgbClr val="000000"/>
                </a:solidFill>
                <a:latin typeface="Arial"/>
              </a:rPr>
              <a:t>. Елена Уайт, Свидетельства для Церкви, том 5, стр. ориг. 293-294. Сатана постоянно занят работой, но только немногие имеют представление о его активности и коварстве. Народ Божий должен быть приготовлен к тому, чтобы противостоять такому хитрому врагу. Сатана боится этого сопротивления… Только Христос может ограничить силу сатаны. Все должны понимать эту важную истину.</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973160" y="468360"/>
            <a:ext cx="3036960" cy="2279520"/>
          </a:xfrm>
          <a:prstGeom prst="rect">
            <a:avLst/>
          </a:prstGeom>
          <a:ln w="0">
            <a:noFill/>
          </a:ln>
        </p:spPr>
      </p:sp>
      <p:sp>
        <p:nvSpPr>
          <p:cNvPr id="200" name="PlaceHolder 2"/>
          <p:cNvSpPr>
            <a:spLocks noGrp="1"/>
          </p:cNvSpPr>
          <p:nvPr>
            <p:ph type="body"/>
          </p:nvPr>
        </p:nvSpPr>
        <p:spPr>
          <a:xfrm>
            <a:off x="685440" y="2771640"/>
            <a:ext cx="5767560" cy="5686560"/>
          </a:xfrm>
          <a:prstGeom prst="rect">
            <a:avLst/>
          </a:prstGeom>
          <a:noFill/>
          <a:ln w="0">
            <a:noFill/>
          </a:ln>
        </p:spPr>
        <p:txBody>
          <a:bodyPr lIns="90000" rIns="90000" tIns="46800" bIns="4680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 Мтф. 6:14.  Ибо если вы будете прощать людям согрешения их,</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то простит и вам Отец ваш Небесный.</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ознавание Бога как правила. Елена Уайт, Правила счастливой жизни, стр. ориг. 120. Последнее предложение в молитве Господней подобно первому указывает на Отца, как на Того, Кто имеет господство и власть над всем существующим, и имя Которого выше всех имен…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ой молитвой Христос побуждает учеников, невзирая на силу и могущество лукавого, неизменно смотреть на Господа Бога, царство Которого возвышается над всеми, и Который во всякое время является их неизменным Отцом и Другом.</a:t>
            </a:r>
            <a:br>
              <a:rPr sz="1200"/>
            </a:br>
            <a:br>
              <a:rPr sz="1200"/>
            </a:b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058840" y="324000"/>
            <a:ext cx="2940120" cy="2206440"/>
          </a:xfrm>
          <a:prstGeom prst="rect">
            <a:avLst/>
          </a:prstGeom>
          <a:ln w="0">
            <a:noFill/>
          </a:ln>
        </p:spPr>
      </p:sp>
      <p:sp>
        <p:nvSpPr>
          <p:cNvPr id="202" name="PlaceHolder 2"/>
          <p:cNvSpPr>
            <a:spLocks noGrp="1"/>
          </p:cNvSpPr>
          <p:nvPr>
            <p:ph type="body"/>
          </p:nvPr>
        </p:nvSpPr>
        <p:spPr>
          <a:xfrm>
            <a:off x="685440" y="2555640"/>
            <a:ext cx="562284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пример непристанной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к. 1:35. А утром, встав весьма рано, вышел и удалился в пустынное место, и там моли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дежда на Бога</a:t>
            </a:r>
            <a:r>
              <a:rPr b="0" lang="ru-RU" sz="1200" spc="-1" strike="noStrike">
                <a:solidFill>
                  <a:srgbClr val="000000"/>
                </a:solidFill>
                <a:latin typeface="Arial"/>
              </a:rPr>
              <a:t>. Елена Уайт, Служители Евангелия, стр. 255-257. Поскольку жизнь Иисуса была исполнена доверия к Отцу и поддерживалась постоянным общением с Ним, Его служение было непоколебимым и безошибочным. Ежедневно искушаемый, постоянно испытывающий противодействие со стороны сильных мира сего, Христос знал, что Он должен укреплять Свое человеческое естество молитвой. Чтобы быть благословением для людей, Он должен общаться с Богом, получая от Него энергию, настойчивость и твердость…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816200" y="539640"/>
            <a:ext cx="3133800" cy="2351160"/>
          </a:xfrm>
          <a:prstGeom prst="rect">
            <a:avLst/>
          </a:prstGeom>
          <a:ln w="0">
            <a:noFill/>
          </a:ln>
        </p:spPr>
      </p:sp>
      <p:sp>
        <p:nvSpPr>
          <p:cNvPr id="204"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знь истинного христианина - это жизнь постоянной молитвы. Он знает, что света и силы одного дня недостаточно для борьбы и испытаний дня грядущего. Сатана непрестанно меняет свои иску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ная зависимость от Бога. Елена Уайт, Правила счастливой жизни, стр. 19. Подобно тому, как для поддержания наших физических сил мы нуждаемся в пище, так и для поддержания духовной жизни и обретения силы творить дела Божьи нам необходим Иисус Христос - Хлеб, сшедший с небес. Как тело постоянно получает питание для поддержания жизни и энергии, так и душа должна быть постоянно связана со Христом, покоряясь Ему и всецело полагаясь на Него.</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лена Уайт, Воспитание, стр. ориг. 80. Только доверие Богу и тесное общение с Ним подкрепляли Его силы.</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84320" y="468360"/>
            <a:ext cx="2941560" cy="2206440"/>
          </a:xfrm>
          <a:prstGeom prst="rect">
            <a:avLst/>
          </a:prstGeom>
          <a:ln w="0">
            <a:noFill/>
          </a:ln>
        </p:spPr>
      </p:sp>
      <p:sp>
        <p:nvSpPr>
          <p:cNvPr id="206"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пример ходатайственной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ва за соработников</a:t>
            </a:r>
            <a:r>
              <a:rPr b="0" lang="ru-RU" sz="1200" spc="-1" strike="noStrike">
                <a:solidFill>
                  <a:srgbClr val="000000"/>
                </a:solidFill>
                <a:latin typeface="Arial"/>
              </a:rPr>
              <a:t>. Иоанн. 17:9-11, 20. Я о них молю: не о всем мире молю, но о тех, которых Ты дал Мне, потому что они Твои… Не о них же только молю, но и о верующих в Меня по слову их.</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996920" y="349200"/>
            <a:ext cx="2845080" cy="2135160"/>
          </a:xfrm>
          <a:prstGeom prst="rect">
            <a:avLst/>
          </a:prstGeom>
          <a:ln w="0">
            <a:noFill/>
          </a:ln>
        </p:spPr>
      </p:sp>
      <p:sp>
        <p:nvSpPr>
          <p:cNvPr id="20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ва за слабых. Елена Уайт. Рукописи, том 8, стр. 197. Разве не следует нам уничижать себя перед Богом в пользу тех, кто очевидно ведет скудную духовную жизнь. Разве мы не должны постоянно молиться о них. Разве мы не должны каждый  день переживать о тех, кто грешит. Если мы будем умалять Бога растопить сердце каменное, наши сердца будут более чувствительны. Нам следует очень быстро осознавать наши грех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973160" y="324000"/>
            <a:ext cx="3036960" cy="2279520"/>
          </a:xfrm>
          <a:prstGeom prst="rect">
            <a:avLst/>
          </a:prstGeom>
          <a:ln w="0">
            <a:noFill/>
          </a:ln>
        </p:spPr>
      </p:sp>
      <p:sp>
        <p:nvSpPr>
          <p:cNvPr id="21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ься во Имя 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емление к славе Божьей, Ин. 14:13, 14. И если чего попросите у Отца во имя Мое, то сделаю, да прославится Отец в Сыне. </a:t>
            </a:r>
            <a:br>
              <a:rPr sz="1200"/>
            </a:br>
            <a:r>
              <a:rPr b="1" lang="ru-RU" sz="1200" spc="-1" strike="noStrike">
                <a:solidFill>
                  <a:srgbClr val="000000"/>
                </a:solidFill>
                <a:latin typeface="Arial"/>
              </a:rPr>
              <a:t>Если чего попросите во имя Мое, Я то сдела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ражая Христа. Елена</a:t>
            </a:r>
            <a:r>
              <a:rPr b="1" lang="en-US" sz="1200" spc="-1" strike="noStrike">
                <a:solidFill>
                  <a:srgbClr val="000000"/>
                </a:solidFill>
                <a:latin typeface="Arial"/>
              </a:rPr>
              <a:t> </a:t>
            </a:r>
            <a:r>
              <a:rPr b="1" lang="ru-RU" sz="1200" spc="-1" strike="noStrike">
                <a:solidFill>
                  <a:srgbClr val="000000"/>
                </a:solidFill>
                <a:latin typeface="Arial"/>
              </a:rPr>
              <a:t>Уайт</a:t>
            </a:r>
            <a:r>
              <a:rPr b="1" lang="en-US" sz="1200" spc="-1" strike="noStrike">
                <a:solidFill>
                  <a:srgbClr val="000000"/>
                </a:solidFill>
                <a:latin typeface="Arial"/>
              </a:rPr>
              <a:t>,  Review and Herald, 14 </a:t>
            </a:r>
            <a:r>
              <a:rPr b="1" lang="ru-RU" sz="1200" spc="-1" strike="noStrike">
                <a:solidFill>
                  <a:srgbClr val="000000"/>
                </a:solidFill>
                <a:latin typeface="Arial"/>
              </a:rPr>
              <a:t>июля</a:t>
            </a:r>
            <a:r>
              <a:rPr b="1" lang="en-US" sz="1200" spc="-1" strike="noStrike">
                <a:solidFill>
                  <a:srgbClr val="000000"/>
                </a:solidFill>
                <a:latin typeface="Arial"/>
              </a:rPr>
              <a:t> 1910. </a:t>
            </a:r>
            <a:r>
              <a:rPr b="1" lang="ru-RU" sz="1200" spc="-1" strike="noStrike">
                <a:solidFill>
                  <a:srgbClr val="000000"/>
                </a:solidFill>
                <a:latin typeface="Arial"/>
              </a:rPr>
              <a:t>Это означает, что мы принимаем Его характер, провозглашаем Его дух и трудимся ради Его дел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155680" y="324000"/>
            <a:ext cx="2273400" cy="1704960"/>
          </a:xfrm>
          <a:prstGeom prst="rect">
            <a:avLst/>
          </a:prstGeom>
          <a:ln w="0">
            <a:noFill/>
          </a:ln>
        </p:spPr>
      </p:sp>
      <p:sp>
        <p:nvSpPr>
          <p:cNvPr id="177" name="PlaceHolder 2"/>
          <p:cNvSpPr>
            <a:spLocks noGrp="1"/>
          </p:cNvSpPr>
          <p:nvPr>
            <p:ph type="body"/>
          </p:nvPr>
        </p:nvSpPr>
        <p:spPr>
          <a:xfrm>
            <a:off x="685800" y="2050560"/>
            <a:ext cx="5695920" cy="590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1.   ЕГО ВЗРОСЛ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жде всего, обратимся к детству Иисуса Христа. Даже в самом раннем возрасте Он показывает нам многие характерные черты настоящего руководства. Детство Христа может научить нас человеколюбию, старательности, ответственности и этике. Он жил в бедности, но был приветливым и добросовестным тружеником. Он рассматривал труд как благословение и с удовольствием нес свою ношу. Он был практичным, основательным, заботливым работником, терпеливо ожидающим полноты Божьего времени. Когда мы думаем о руководителях, которыми мы восхищаемся, находим ли мы в них подобные качества? И поскольку мы следуем за Христом как нашим примером, мы можем стать руководителями, которых Бог может благословить. Давайте посмотрим, чему мы можем научиться из детства Иисуса Хр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а. Как ребе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u="sng">
                <a:solidFill>
                  <a:srgbClr val="000000"/>
                </a:solidFill>
                <a:uFillTx/>
                <a:latin typeface="Arial"/>
              </a:rPr>
              <a:t>Этичность</a:t>
            </a:r>
            <a:r>
              <a:rPr b="1" lang="ru-RU" sz="1200" spc="-1" strike="noStrike">
                <a:solidFill>
                  <a:srgbClr val="000000"/>
                </a:solidFill>
                <a:latin typeface="Arial"/>
              </a:rPr>
              <a:t>. Желание веков, стр. ориг. 71. Иисус жил в согласии с Богом. Когда Он был ребенком, то думал и говорил как ребенок и ни одно пятнышко греха не искажало в Нем образ Божий. Но и Он не был свободен от искушений… Иисус жил там, где характер Его мог быть подвержен испытанию. Ему надлежало быть постоянно на страже, чтобы сохранить Свою чистоту. Он вынужден был переносить те же трудности, с которыми сталкиваемся и мы, чтобы сделаться примером для нас в дет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дость</a:t>
            </a:r>
            <a:r>
              <a:rPr b="1" lang="ru-RU" sz="1200" spc="-1" strike="noStrike">
                <a:solidFill>
                  <a:srgbClr val="000000"/>
                </a:solidFill>
                <a:latin typeface="Arial"/>
              </a:rPr>
              <a:t>. Иисус жил в крестьянской хижине, неуклонно и бодро неся Свое брем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Практичность</a:t>
            </a:r>
            <a:r>
              <a:rPr b="1" lang="ru-RU" sz="1200" spc="-1" strike="noStrike">
                <a:solidFill>
                  <a:srgbClr val="000000"/>
                </a:solidFill>
                <a:latin typeface="Arial"/>
              </a:rPr>
              <a:t>. Он был исполнительным, любящим и послушным сыном. Он научился ремеслу, трудясь в плотницкой мастерской вместе с Иосиф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сесторонность</a:t>
            </a:r>
            <a:r>
              <a:rPr b="1" lang="ru-RU" sz="1200" spc="-1" strike="noStrike">
                <a:solidFill>
                  <a:srgbClr val="000000"/>
                </a:solidFill>
                <a:latin typeface="Arial"/>
              </a:rPr>
              <a:t>. Своим примером Он учит нас быть прилежными, выполнять работу аккуратно и тщательно, ибо честный труд почетен. Упражнения, благодаря которым руки становятся более умелыми, готовят молодежь к перенесению жизненных тягот, развивают физическую силу и способности человека. Каждый должен найти какое-нибудь дело, полезное для себя и для других. Бог предназначил труд в благословение человеку, и только прилежный работник обретает истинную радость жизни. На детях и молодежи, добросовестно выполняющих свои обязанности по дому, покоится Божье благословение и Божья любовь. Такие дети, оставив дом, станут полезными членами общества.</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86120" y="468360"/>
            <a:ext cx="2939760" cy="2206440"/>
          </a:xfrm>
          <a:prstGeom prst="rect">
            <a:avLst/>
          </a:prstGeom>
          <a:ln w="0">
            <a:noFill/>
          </a:ln>
        </p:spPr>
      </p:sp>
      <p:sp>
        <p:nvSpPr>
          <p:cNvPr id="212"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a:t>
            </a:r>
            <a:r>
              <a:rPr b="1" lang="en-US" sz="1200" spc="-1" strike="noStrike">
                <a:solidFill>
                  <a:srgbClr val="000000"/>
                </a:solidFill>
                <a:latin typeface="Arial"/>
              </a:rPr>
              <a:t> </a:t>
            </a:r>
            <a:r>
              <a:rPr b="1" lang="ru-RU" sz="1200" spc="-1" strike="noStrike">
                <a:solidFill>
                  <a:srgbClr val="000000"/>
                </a:solidFill>
                <a:latin typeface="Arial"/>
              </a:rPr>
              <a:t>Уайт</a:t>
            </a:r>
            <a:r>
              <a:rPr b="1" lang="en-US" sz="1200" spc="-1" strike="noStrike">
                <a:solidFill>
                  <a:srgbClr val="000000"/>
                </a:solidFill>
                <a:latin typeface="Arial"/>
              </a:rPr>
              <a:t>, Review and Herald, 30 </a:t>
            </a:r>
            <a:r>
              <a:rPr b="1" lang="ru-RU" sz="1200" spc="-1" strike="noStrike">
                <a:solidFill>
                  <a:srgbClr val="000000"/>
                </a:solidFill>
                <a:latin typeface="Arial"/>
              </a:rPr>
              <a:t>октября</a:t>
            </a:r>
            <a:r>
              <a:rPr b="1" lang="en-US" sz="1200" spc="-1" strike="noStrike">
                <a:solidFill>
                  <a:srgbClr val="000000"/>
                </a:solidFill>
                <a:latin typeface="Arial"/>
              </a:rPr>
              <a:t> 1894. </a:t>
            </a:r>
            <a:r>
              <a:rPr b="1" lang="ru-RU" sz="1200" spc="-1" strike="noStrike">
                <a:solidFill>
                  <a:srgbClr val="000000"/>
                </a:solidFill>
                <a:latin typeface="Arial"/>
              </a:rPr>
              <a:t>«Если вы начнете доверять Богу, если вы призовете Его всем сердцем, вы найдете Его».</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044800" y="611280"/>
            <a:ext cx="2751120" cy="2063520"/>
          </a:xfrm>
          <a:prstGeom prst="rect">
            <a:avLst/>
          </a:prstGeom>
          <a:ln w="0">
            <a:noFill/>
          </a:ln>
        </p:spPr>
      </p:sp>
      <p:sp>
        <p:nvSpPr>
          <p:cNvPr id="21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a:solidFill>
                  <a:srgbClr val="000000"/>
                </a:solidFill>
                <a:latin typeface="Arial"/>
              </a:rPr>
              <a:t>2 (б) Знание Священного Пис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уки 2:40. Младенец же возрастал и укреплялся духом, исполняясь премудрости, и благодать Божия была на Нем.</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2211480" y="468360"/>
            <a:ext cx="2560680" cy="1919160"/>
          </a:xfrm>
          <a:prstGeom prst="rect">
            <a:avLst/>
          </a:prstGeom>
          <a:ln w="0">
            <a:noFill/>
          </a:ln>
        </p:spPr>
      </p:sp>
      <p:sp>
        <p:nvSpPr>
          <p:cNvPr id="216" name="PlaceHolder 2"/>
          <p:cNvSpPr>
            <a:spLocks noGrp="1"/>
          </p:cNvSpPr>
          <p:nvPr>
            <p:ph type="body"/>
          </p:nvPr>
        </p:nvSpPr>
        <p:spPr>
          <a:xfrm>
            <a:off x="685800" y="2410920"/>
            <a:ext cx="5486400" cy="6046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спитание на Слове Божьем. Елена Уайт, Желание веков, стр. ориг. 69. Отрок Иисус не обучался в школе при синагоге. Мать была Его первым учителем. Он постигал истину из ее уст и из Писаний пророков. Сидя на коленях у Своей матери, Он теперь учился тому, что Сам некогда говорил Израилю через Моисея. Юноша Иисус тоже не стремился учиться в школах раввинов. Он не нуждался в образовании, которое можно было получить там, потому что Сам Бог был Его наставником.</a:t>
            </a:r>
            <a:r>
              <a:rPr b="0" lang="ru-RU" sz="1200" spc="-1" strike="noStrike">
                <a:solidFill>
                  <a:srgbClr val="000000"/>
                </a:solidFill>
                <a:latin typeface="Arial"/>
              </a:rPr>
              <a:t> </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ния, полученные Им, можем приобрести и мы. Он прекрасно разбирался в Писаниях - это показывает, как прилежно Он изучил их в молодые годы, открывая для себя великую сокровищницу творений Божьих.</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900080" y="324000"/>
            <a:ext cx="3038760" cy="2279520"/>
          </a:xfrm>
          <a:prstGeom prst="rect">
            <a:avLst/>
          </a:prstGeom>
          <a:ln w="0">
            <a:noFill/>
          </a:ln>
        </p:spPr>
      </p:sp>
      <p:sp>
        <p:nvSpPr>
          <p:cNvPr id="218"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изывал исследовать Священное Пис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22:29 Иисус сказал им в ответ: заблуждаетесь, не зная Писаний, ни силы Божи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оанн. 5:39. Исследуйте Писания, ибо вы думаете чрез них иметь жизнь вечную; а они свидетельствуют о М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a:t>
            </a:r>
            <a:r>
              <a:rPr b="0" lang="en-US" sz="1200" spc="-1" strike="noStrike">
                <a:solidFill>
                  <a:srgbClr val="000000"/>
                </a:solidFill>
                <a:latin typeface="Arial"/>
              </a:rPr>
              <a:t> </a:t>
            </a:r>
            <a:r>
              <a:rPr b="0" lang="ru-RU" sz="1200" spc="-1" strike="noStrike">
                <a:solidFill>
                  <a:srgbClr val="000000"/>
                </a:solidFill>
                <a:latin typeface="Arial"/>
              </a:rPr>
              <a:t>Уайт</a:t>
            </a:r>
            <a:r>
              <a:rPr b="0" lang="en-US" sz="1200" spc="-1" strike="noStrike">
                <a:solidFill>
                  <a:srgbClr val="000000"/>
                </a:solidFill>
                <a:latin typeface="Arial"/>
              </a:rPr>
              <a:t>, Review and Herald, 3 </a:t>
            </a:r>
            <a:r>
              <a:rPr b="0" lang="ru-RU" sz="1200" spc="-1" strike="noStrike">
                <a:solidFill>
                  <a:srgbClr val="000000"/>
                </a:solidFill>
                <a:latin typeface="Arial"/>
              </a:rPr>
              <a:t>апреля</a:t>
            </a:r>
            <a:r>
              <a:rPr b="0" lang="en-US" sz="1200" spc="-1" strike="noStrike">
                <a:solidFill>
                  <a:srgbClr val="000000"/>
                </a:solidFill>
                <a:latin typeface="Arial"/>
              </a:rPr>
              <a:t> 1888. </a:t>
            </a:r>
            <a:r>
              <a:rPr b="0" lang="ru-RU" sz="1200" spc="-1" strike="noStrike">
                <a:solidFill>
                  <a:srgbClr val="000000"/>
                </a:solidFill>
                <a:latin typeface="Arial"/>
              </a:rPr>
              <a:t>Поэтому мы видим, что люди, претендующие на водительство Божье, но не исследующие Писания, удаляются от Бога и Его Закона. Господь Сам поведет Свой народ, ибо Он говорит, что Его овцы пойдут за Ним, услышав Его голос, а за чужим не пойдут. Следовательно, нам необходимо тщательно исследовать Писания. И тогда мы не будем спрашивать, обладают ли люди истиной, но сами поймем это по их характеру… и если вы не будете утверждены в Божьей истине, то лишитесь основания веры. В безопасности мы будем только в том случае, если станем исследовать истину как скрытое сокровище.</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971720" y="539640"/>
            <a:ext cx="3132000" cy="2351160"/>
          </a:xfrm>
          <a:prstGeom prst="rect">
            <a:avLst/>
          </a:prstGeom>
          <a:ln w="0">
            <a:noFill/>
          </a:ln>
        </p:spPr>
      </p:sp>
      <p:sp>
        <p:nvSpPr>
          <p:cNvPr id="220" name="PlaceHolder 2"/>
          <p:cNvSpPr>
            <a:spLocks noGrp="1"/>
          </p:cNvSpPr>
          <p:nvPr>
            <p:ph type="body"/>
          </p:nvPr>
        </p:nvSpPr>
        <p:spPr>
          <a:xfrm>
            <a:off x="685440" y="2916360"/>
            <a:ext cx="562284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Рукописи, том 21. стр. 131-132. Те, кто находятся на самом дне, могут открыть драгоценности истины… Истинные искатели Слова Божьего откроют свои сердца для Бога, умоляя о помощи Духа Свят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Наглядные уроки Христа. стр. ориг. 38-40. Во дни Христа раввины обременяли многие части Писания своими надуманными, мистическими построениями. Поскольку простое и ясное учение Слова Божьего изобличало их, они пытались подорвать его силу. То же самое совершается и поныне. Слово Божье пытаются часто представить таинственным и неясным. Это делается для того, чтобы оправдать нарушение Его закона. Христос во время Своего земного служения отвергал подобные уловки. Он учил, что Слово Божье должно быть понятно каждому. Он указывал на Писания как на неоспоримый авторитет, и мы должны следовать Его примеру в этом. Библия должна быть признана Словом бесконечного Бога, решением всех противоречий и основанием в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Советы по здоровью, стр. ориг. 372. Не только студент приобретает пользу от изучения Слова Божьего. Его изучение является жизнью и спасением для всех людей, с которыми он взаимодействует. Он будет чувствовать ответственность за то, чтобы поделиться знаниями, которые он получил. Его жизнь будет проявлять помощь и силу, которую он получил от общения со Словом Божьим. Посвящение Духу Святому будет явлено в мыслях, слове и деле.</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019240" y="395280"/>
            <a:ext cx="3036960" cy="2279520"/>
          </a:xfrm>
          <a:prstGeom prst="rect">
            <a:avLst/>
          </a:prstGeom>
          <a:ln w="0">
            <a:noFill/>
          </a:ln>
        </p:spPr>
      </p:sp>
      <p:sp>
        <p:nvSpPr>
          <p:cNvPr id="222" name="PlaceHolder 2"/>
          <p:cNvSpPr>
            <a:spLocks noGrp="1"/>
          </p:cNvSpPr>
          <p:nvPr>
            <p:ph type="body"/>
          </p:nvPr>
        </p:nvSpPr>
        <p:spPr>
          <a:xfrm>
            <a:off x="685800" y="2771640"/>
            <a:ext cx="5486400" cy="547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3. ВЗАИМООТНОШЕНИЯ С ДРУГИМИ ЛЮДЬ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ая жизнь Иисуса Христа, мы можем найти множество примеров того, как Он взаимодействовал с другими людьми. Обращая внимание на Его руководство, мы будем учиться тому, как нам необходимо ценить других людей. Время, проведенное в изучении Великого примера, поможет нам победить такие качества как нетерпение, грубость, критицизм и непослушание. Давайте посмотрим на наш Величайших пример и научимся доброте и состраданию. Ниже предложен образец для нашего руководства в современном мире того, как Иисус Христос ценил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а. Краткое описание Его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a:t>
            </a:r>
            <a:r>
              <a:rPr b="1" lang="en-US" sz="1200" spc="-1" strike="noStrike">
                <a:solidFill>
                  <a:srgbClr val="000000"/>
                </a:solidFill>
                <a:latin typeface="Arial"/>
              </a:rPr>
              <a:t>Review and Herald</a:t>
            </a:r>
            <a:r>
              <a:rPr b="1" lang="ru-RU" sz="1200" spc="-1" strike="noStrike">
                <a:solidFill>
                  <a:srgbClr val="000000"/>
                </a:solidFill>
                <a:latin typeface="Arial"/>
              </a:rPr>
              <a:t> 20 августа 1959 года. Те, кто трудятся для Иисуса Христа должны быть чистыми, честными и надежными, и они также должны быть отзывчивыми, сострадательными и вежливыми… Добрые слова, доброжелательный взгляд, вежливое поведение – неоценимые качества. Невежливые христиане своим отвержением других людей показывают, что не находятся в союзе со Христом. Невозможно быть в союзе со Христом и одновременно груби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925640" y="250920"/>
            <a:ext cx="3133800" cy="2351160"/>
          </a:xfrm>
          <a:prstGeom prst="rect">
            <a:avLst/>
          </a:prstGeom>
          <a:ln w="0">
            <a:noFill/>
          </a:ln>
        </p:spPr>
      </p:sp>
      <p:sp>
        <p:nvSpPr>
          <p:cNvPr id="22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ой была жизнь Иисуса Христа на земле, такой должна быть жизнь каждого христианина. Он – наш пример, не только Его безупречная святость, но и Его терпение, нежность и доброжелательное расположение. Он был крепким как скала, на которой истина и уважение соединились, но Он был удивительно добр и вежлив.</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21040" y="250920"/>
            <a:ext cx="3228840" cy="2422440"/>
          </a:xfrm>
          <a:prstGeom prst="rect">
            <a:avLst/>
          </a:prstGeom>
          <a:ln w="0">
            <a:noFill/>
          </a:ln>
        </p:spPr>
      </p:sp>
      <p:sp>
        <p:nvSpPr>
          <p:cNvPr id="22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выражал слова симпатии, если видел людей усталых и покорившихся нести тяжелые бремена. Он разделял их бремена и снова и снова повторял для них уроки истинной любви, доброты и великодушия, которым Он научился у Бога.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54160" y="395280"/>
            <a:ext cx="2749680" cy="2062080"/>
          </a:xfrm>
          <a:prstGeom prst="rect">
            <a:avLst/>
          </a:prstGeom>
          <a:ln w="0">
            <a:noFill/>
          </a:ln>
        </p:spPr>
      </p:sp>
      <p:sp>
        <p:nvSpPr>
          <p:cNvPr id="22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Желание веков», стр. 89. Иисус никогда не отстаивал Свои права и часто вынужден был из-за Своей безропотности и безотказности трудиться без меры. Но Он никогда не падал духом и не унывал. Он был выше этих трудностей и жил, словно согретый светом Божьего венца. Он не мстил, когда с Ним грубо обращались, но с терпением переносил всякое оскорбление.</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260440" y="395280"/>
            <a:ext cx="2751120" cy="2063880"/>
          </a:xfrm>
          <a:prstGeom prst="rect">
            <a:avLst/>
          </a:prstGeom>
          <a:ln w="0">
            <a:noFill/>
          </a:ln>
        </p:spPr>
      </p:sp>
      <p:sp>
        <p:nvSpPr>
          <p:cNvPr id="23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чества, которые Бог хочет в нас виде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620640" y="901800"/>
            <a:ext cx="5486400" cy="7702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 </a:t>
            </a:r>
            <a:r>
              <a:rPr b="1" lang="ru-RU" sz="1200" spc="-1" strike="noStrike" u="sng">
                <a:solidFill>
                  <a:srgbClr val="000000"/>
                </a:solidFill>
                <a:uFillTx/>
                <a:latin typeface="Arial"/>
              </a:rPr>
              <a:t>Принципиальность</a:t>
            </a:r>
            <a:r>
              <a:rPr b="1" lang="ru-RU" sz="1200" spc="-1" strike="noStrike">
                <a:solidFill>
                  <a:srgbClr val="000000"/>
                </a:solidFill>
                <a:latin typeface="Arial"/>
              </a:rPr>
              <a:t>. Желание веков, стр. ориг. 86. С ранних лет Иисус начал совершенствовать Свой характер, и даже уважение и любовь к родителям не могли заставить Его уклониться от повиновения Слову Божье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ерность</a:t>
            </a:r>
            <a:r>
              <a:rPr b="1" lang="ru-RU" sz="1200" spc="-1" strike="noStrike">
                <a:solidFill>
                  <a:srgbClr val="000000"/>
                </a:solidFill>
                <a:latin typeface="Arial"/>
              </a:rPr>
              <a:t>. Желание веков, стр. ориг. 87. Иисус любил Своих братьев и относился к ним с неизменной добротой.</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149560" y="539640"/>
            <a:ext cx="2847960" cy="2136960"/>
          </a:xfrm>
          <a:prstGeom prst="rect">
            <a:avLst/>
          </a:prstGeom>
          <a:ln w="0">
            <a:noFill/>
          </a:ln>
        </p:spPr>
      </p:sp>
      <p:sp>
        <p:nvSpPr>
          <p:cNvPr id="232"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лушание Богу. Иоанн. 14:15. Если любите Меня, соблюдите Мои запове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Знамения времени, 17 апреля 1893 года. Христос не только показал нам, как мы можем стать послушными детьми, но Он показал Своей жизнью и характером как совершать правильные и угодные Богу поступки, поэтому нам необходимо так и поступать.</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863720" y="611280"/>
            <a:ext cx="3038400" cy="2279520"/>
          </a:xfrm>
          <a:prstGeom prst="rect">
            <a:avLst/>
          </a:prstGeom>
          <a:ln w="0">
            <a:noFill/>
          </a:ln>
        </p:spPr>
      </p:sp>
      <p:sp>
        <p:nvSpPr>
          <p:cNvPr id="234"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Любовь. Мтф. 22:39. Вторая же подобная ей: возлюби ближнего твоего, как самого себ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94040" y="468360"/>
            <a:ext cx="2941560" cy="2206440"/>
          </a:xfrm>
          <a:prstGeom prst="rect">
            <a:avLst/>
          </a:prstGeom>
          <a:ln w="0">
            <a:noFill/>
          </a:ln>
        </p:spPr>
      </p:sp>
      <p:sp>
        <p:nvSpPr>
          <p:cNvPr id="23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Библейский комментарий, том 5, стр. 1097.  Закон Божий требует, чтобы человек любил прежде всего Бога, а затем своего ближнего как самого себя. В жизни Христа этот закон совершился, а нам необходимо быть совершенными во Христе.</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044800" y="324000"/>
            <a:ext cx="2751120" cy="2063520"/>
          </a:xfrm>
          <a:prstGeom prst="rect">
            <a:avLst/>
          </a:prstGeom>
          <a:ln w="0">
            <a:noFill/>
          </a:ln>
        </p:spPr>
      </p:sp>
      <p:sp>
        <p:nvSpPr>
          <p:cNvPr id="23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Чистота,</a:t>
            </a:r>
            <a:r>
              <a:rPr b="0" lang="ru-RU" sz="1200" spc="-1" strike="noStrike">
                <a:solidFill>
                  <a:srgbClr val="000000"/>
                </a:solidFill>
                <a:latin typeface="Arial"/>
              </a:rPr>
              <a:t> Мтф. 5:8. Блаженны чистые сердцем, ибо они Бога узрят.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ru-RU" sz="1200" spc="-1" strike="noStrike">
                <a:solidFill>
                  <a:srgbClr val="000000"/>
                </a:solidFill>
                <a:latin typeface="Arial"/>
              </a:rPr>
              <a:t>Елена Уайт, Нагорная проповедь Христа, стр. ориг. 26, 27. Чистые сердцем смотрят на Него, как на Отца, желающего обнять Своего кающегося сына, и сердца их преисполнены неописуемой радости и полны славы. Чистые сердцем познают своего Творца в делах рук Его, в красоте природы и всей вселенной. Еще яснее они видят откровение Его милости, благости и благодати на страницах Священного Писания. Истины, сокрытые от мудрых и разумных, открываются младенцам. Прекрасные, облагораживающие истины, не признанные мудрыми мира сего, постоянно раскрываются перед теми, кто с детской доверчивостью стремится познать и исполнить волю Божью. Познавая истину, мы становимся причастниками Божеского естества. </a:t>
            </a:r>
            <a:endParaRPr b="0" lang="en-US" sz="1200" spc="-1" strike="noStrike">
              <a:solidFill>
                <a:srgbClr val="000000"/>
              </a:solidFill>
              <a:latin typeface="Arial"/>
            </a:endParaRPr>
          </a:p>
        </p:txBody>
      </p:sp>
      <p:sp>
        <p:nvSpPr>
          <p:cNvPr id="240" name="PlaceHolder 2"/>
          <p:cNvSpPr>
            <a:spLocks noGrp="1"/>
          </p:cNvSpPr>
          <p:nvPr>
            <p:ph type="sldImg"/>
          </p:nvPr>
        </p:nvSpPr>
        <p:spPr>
          <a:xfrm>
            <a:off x="1792440" y="539640"/>
            <a:ext cx="3038400" cy="22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805040" y="395280"/>
            <a:ext cx="3228840" cy="2422440"/>
          </a:xfrm>
          <a:prstGeom prst="rect">
            <a:avLst/>
          </a:prstGeom>
          <a:ln w="0">
            <a:noFill/>
          </a:ln>
        </p:spPr>
      </p:sp>
      <p:sp>
        <p:nvSpPr>
          <p:cNvPr id="24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щение. Мтф. 18:21, 22. Тогда Петр приступил к Нему и сказал: Господи! сколько раз прощать брату моему, согрешающему против меня? до семи ли раз? </a:t>
            </a:r>
            <a:br>
              <a:rPr sz="1200"/>
            </a:br>
            <a:r>
              <a:rPr b="1" lang="ru-RU" sz="1200" spc="-1" strike="noStrike">
                <a:solidFill>
                  <a:srgbClr val="000000"/>
                </a:solidFill>
                <a:latin typeface="Arial"/>
              </a:rPr>
              <a:t>Иисус говорит ему: не говорю тебе: до семи раз, но до седмижды семидесяти раз.</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101680" y="395280"/>
            <a:ext cx="2656080" cy="1992240"/>
          </a:xfrm>
          <a:prstGeom prst="rect">
            <a:avLst/>
          </a:prstGeom>
          <a:ln w="0">
            <a:noFill/>
          </a:ln>
        </p:spPr>
      </p:sp>
      <p:sp>
        <p:nvSpPr>
          <p:cNvPr id="244" name="PlaceHolder 2"/>
          <p:cNvSpPr>
            <a:spLocks noGrp="1"/>
          </p:cNvSpPr>
          <p:nvPr>
            <p:ph type="body"/>
          </p:nvPr>
        </p:nvSpPr>
        <p:spPr>
          <a:xfrm>
            <a:off x="549000" y="2410920"/>
            <a:ext cx="5838840" cy="604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Наглядные уроки Христа, стр. ориг. 243-245. Раввины считали достаточным прощать до трех раз. Петр, следуя, как он считал, учению Христа, счел возможным увеличить число прощаемых обид до семи. Число это почиталось за символ совершенства. Христос же учил, что прощение никогда не должно нам надоесть. "Не до семи, - говорит Он, - но до седмижды семидесяти р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далее Он показывает, на чем зиждется истинное прощение, а также говорит об опасности, которой подвергает себя человек, лелеющий дух непро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а притча содержит немало деталей, необходимых лишь для создания общей картины, но не имеющих прямого отношения к духовной истине, извлекаемой из повествования. Не стоит слишком задерживаться на этих деталях. Эта притча иллюстрирует определенные великие истины, на которых нам следует сосредоточить наши мыс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ощение, дарованное этим царем, символизирует Божественное прощение всего греха. Христос представлен здесь царем, который, умилосердившись, прощает долг своему рабу. Человек находится под проклятием нарушенного закона. Он не в состоянии спасти себя сам. По этой причине в наш мир пришел Христос. Он облек Свою Божественность в человеческую плоть и отдал Свою жизнь, праведник - за неправедных. Он отдал Себя за наши грехи, и каждой душе Он дает даром прощение, купленное Его святою кровью. "У Господа милость и многое у Него избавление" (</a:t>
            </a:r>
            <a:r>
              <a:rPr b="1" i="1" lang="ru-RU" sz="1200" spc="-1" strike="noStrike">
                <a:solidFill>
                  <a:srgbClr val="000000"/>
                </a:solidFill>
                <a:latin typeface="Arial"/>
              </a:rPr>
              <a:t>Пс. 129:7</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должник стал молить об отсрочке платежа, обещая царю: "Потерпи на мне, и все отдам тебе", вынесенный ему приговор был отменен. Весь долг был прощен. Вскоре ему самому представилась возможность последовать примеру своего господина, простившего его. Выйдя от царя, он встретил своего сотоварища, который задолжал ему совсем небольшую сумму - всего сто динариев. Но тот, с кем недавно обошлись так милостиво, отнесся к своему должнику совершенно по-другому. Его товарищ обратился к нему с такой же просьбой, с какой он сам недавно стоял перед царем, но на этот раз результат был другим. Тот, кто совсем недавно был сам прощен, не был таким мягкосердечным и сострадательным, как его господин. Милосердие, проявленное к нему, он не проявил к своему товарищу. Он не соглашается проявить терпение. Этот неблагодарный слуга видит перед собой лишь ту незначительную сумму, которую ему задолжали, и думает лишь о ней. Он требует немедленно всего, на что, по его мнению, имеет право, и со своей стороны приводит в исполнение такой же приговор, какой был милостиво отменен в отношении его.</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957320" y="539640"/>
            <a:ext cx="2656080" cy="1992600"/>
          </a:xfrm>
          <a:prstGeom prst="rect">
            <a:avLst/>
          </a:prstGeom>
          <a:ln w="0">
            <a:noFill/>
          </a:ln>
        </p:spPr>
      </p:sp>
      <p:sp>
        <p:nvSpPr>
          <p:cNvPr id="246" name="PlaceHolder 2"/>
          <p:cNvSpPr>
            <a:spLocks noGrp="1"/>
          </p:cNvSpPr>
          <p:nvPr>
            <p:ph type="body"/>
          </p:nvPr>
        </p:nvSpPr>
        <p:spPr>
          <a:xfrm>
            <a:off x="685800" y="2626920"/>
            <a:ext cx="548640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мирение,</a:t>
            </a:r>
            <a:r>
              <a:rPr b="0" lang="ru-RU" sz="1200" spc="-1" strike="noStrike">
                <a:solidFill>
                  <a:srgbClr val="000000"/>
                </a:solidFill>
                <a:latin typeface="Arial"/>
              </a:rPr>
              <a:t> Мтф. 5:5. Блаженны кроткие, ибо они наследуют землю.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973160" y="468360"/>
            <a:ext cx="2749680" cy="2063880"/>
          </a:xfrm>
          <a:prstGeom prst="rect">
            <a:avLst/>
          </a:prstGeom>
          <a:ln w="0">
            <a:noFill/>
          </a:ln>
        </p:spPr>
      </p:sp>
      <p:sp>
        <p:nvSpPr>
          <p:cNvPr id="24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16. Именно себялюбие разрушает наш душевный мир. Пока наше собственное "я" живет и здравствует, мы всегда готовы охранять его от малейшего унижения и обиды; но если мы умрем в Господе и наша жизнь будет сокрыта со Христом в Боге, то не станем принимать близко к сердцу пренебрежение или неуваж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равила счастливой жизни, стр. ориг. 17. Для нас было бы гораздо лучше пострадать от несправедливого обвинения, чем взять на себя отмщение нашим врагам. Дух ненависти и мести исходит от сатаны и может принести только зло лелеющему его. Смирение сердца и кротость являются плодом пребывания во Христе и истинной тайной благословения. "Господь... прославляет смиренных спасением" (Пс. 149:4).</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176560" y="539640"/>
            <a:ext cx="2846160" cy="2135160"/>
          </a:xfrm>
          <a:prstGeom prst="rect">
            <a:avLst/>
          </a:prstGeom>
          <a:ln w="0">
            <a:noFill/>
          </a:ln>
        </p:spPr>
      </p:sp>
      <p:sp>
        <p:nvSpPr>
          <p:cNvPr id="250"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Щедрость.</a:t>
            </a:r>
            <a:r>
              <a:rPr b="0" lang="ru-RU" sz="1200" spc="-1" strike="noStrike" u="sng">
                <a:solidFill>
                  <a:srgbClr val="000000"/>
                </a:solidFill>
                <a:uFillTx/>
                <a:latin typeface="Arial"/>
              </a:rPr>
              <a:t> </a:t>
            </a:r>
            <a:r>
              <a:rPr b="0" lang="ru-RU" sz="1200" spc="-1" strike="noStrike">
                <a:solidFill>
                  <a:srgbClr val="000000"/>
                </a:solidFill>
                <a:latin typeface="Arial"/>
              </a:rPr>
              <a:t>Мтф. 5:42. Просящему у тебя дай, и от хотящего занять у тебя не отвращайся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211480" y="395280"/>
            <a:ext cx="2271600" cy="1703520"/>
          </a:xfrm>
          <a:prstGeom prst="rect">
            <a:avLst/>
          </a:prstGeom>
          <a:ln w="0">
            <a:noFill/>
          </a:ln>
        </p:spPr>
      </p:sp>
      <p:sp>
        <p:nvSpPr>
          <p:cNvPr id="180" name="PlaceHolder 2"/>
          <p:cNvSpPr>
            <a:spLocks noGrp="1"/>
          </p:cNvSpPr>
          <p:nvPr>
            <p:ph type="body"/>
          </p:nvPr>
        </p:nvSpPr>
        <p:spPr>
          <a:xfrm>
            <a:off x="685800" y="2268360"/>
            <a:ext cx="5486400" cy="61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б. Как юнош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Терпение</a:t>
            </a:r>
            <a:r>
              <a:rPr b="1" lang="ru-RU" sz="1200" spc="-1" strike="noStrike">
                <a:solidFill>
                  <a:srgbClr val="000000"/>
                </a:solidFill>
                <a:latin typeface="Arial"/>
              </a:rPr>
              <a:t>.</a:t>
            </a:r>
            <a:r>
              <a:rPr b="0" lang="ru-RU" sz="1200" spc="-1" strike="noStrike">
                <a:solidFill>
                  <a:srgbClr val="000000"/>
                </a:solidFill>
                <a:latin typeface="Arial"/>
              </a:rPr>
              <a:t> Желание веков, стр. ориг. 82. Иисус не отрицал Своей связи с земными родителями. Из Иерусалима Он вернулся вместе с ними домой помогать им в трудах. Он скрывал в Своем сердце тайну Своего предназначения, покорно ожидая, когда наступит время Его служения. На протяжении восемнадцати лет после того, как Он понял, что является Сыном Божьим, Он, признавая узы, которые связывали Его с домом в Назарете, выполнял долг сына, брата, друга и гражданина.</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909800" y="539640"/>
            <a:ext cx="3036960" cy="2278080"/>
          </a:xfrm>
          <a:prstGeom prst="rect">
            <a:avLst/>
          </a:prstGeom>
          <a:ln w="0">
            <a:noFill/>
          </a:ln>
        </p:spPr>
      </p:sp>
      <p:sp>
        <p:nvSpPr>
          <p:cNvPr id="252" name="PlaceHolder 2"/>
          <p:cNvSpPr>
            <a:spLocks noGrp="1"/>
          </p:cNvSpPr>
          <p:nvPr>
            <p:ph type="body"/>
          </p:nvPr>
        </p:nvSpPr>
        <p:spPr>
          <a:xfrm>
            <a:off x="685440" y="3058920"/>
            <a:ext cx="5767560" cy="5398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72. Этот библейский текст разъясняет нам слова Спасителя. Христос вовсе не учит нас давать без разбора всякому, просящему о поддержке, но Он говорит: "Дай ему взаймы, смотря по его нужде", и это должен быть скорее дар, чем заем, ибо мы призваны давать взаймы, "не ожидая ничего" (Лк. 6:35).</a:t>
            </a:r>
            <a:r>
              <a:rPr b="0" lang="ru-RU" sz="1200" spc="-1" strike="noStrike">
                <a:solidFill>
                  <a:srgbClr val="000000"/>
                </a:solidFill>
                <a:latin typeface="Arial"/>
              </a:rPr>
              <a: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Наглядные уроки Христа, стр. ориг. 142-143. Наши молитвы не должны состоять лишь из просьб о собственном благополучии. Мы должны просить о том, чем мы сможем поделиться. Принципами нашей жизни должны стать принципы жизни Христа. "За них Я посвящаю Себя, - говорит Он, имея в виду Своих учеников, - чтобы и они были освящены истиною" (</a:t>
            </a:r>
            <a:r>
              <a:rPr b="0" i="1" lang="ru-RU" sz="1200" spc="-1" strike="noStrike">
                <a:solidFill>
                  <a:srgbClr val="000000"/>
                </a:solidFill>
                <a:latin typeface="Arial"/>
              </a:rPr>
              <a:t>Ин. 17:19</a:t>
            </a:r>
            <a:r>
              <a:rPr b="0" lang="ru-RU" sz="1200" spc="-1" strike="noStrike">
                <a:solidFill>
                  <a:srgbClr val="000000"/>
                </a:solidFill>
                <a:latin typeface="Arial"/>
              </a:rPr>
              <a:t>). Та же посвященность, то же самопожертвование, то же подчинение требованиям Слова Божьего, которые проявились во Христе, должны быть присущи и Его слугам. Наше служение в мире не должно превратиться в служение себе и своему благополучию; наша цель - прославлять Бога, соединяться с Ним в деле спасения грешников. Нам нужно просить у Бога благословений для того, чтобы мы могли передать их другим. Способность воспринимать новое сохраняется лишь тогда, когда мы охотно делимся с другими тем, что получили. Мы не сможем больше обретать небесные сокровища, если не будем делиться ими с находящимися вокруг нас.</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935000" y="395280"/>
            <a:ext cx="3040200" cy="2279520"/>
          </a:xfrm>
          <a:prstGeom prst="rect">
            <a:avLst/>
          </a:prstGeom>
          <a:ln w="0">
            <a:noFill/>
          </a:ln>
        </p:spPr>
      </p:sp>
      <p:sp>
        <p:nvSpPr>
          <p:cNvPr id="25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Сострадание. </a:t>
            </a:r>
            <a:r>
              <a:rPr b="1" lang="ru-RU" sz="1200" spc="-1" strike="noStrike">
                <a:solidFill>
                  <a:srgbClr val="000000"/>
                </a:solidFill>
                <a:latin typeface="Arial"/>
              </a:rPr>
              <a:t>Мтф. 25:35, 36. Ибо алкал Я, и вы дали Мне есть; жаждал, и вы напоили Меня; был странником, и вы приняли Меня; </a:t>
            </a:r>
            <a:br>
              <a:rPr sz="1200"/>
            </a:br>
            <a:r>
              <a:rPr b="1" lang="ru-RU" sz="1200" spc="-1" strike="noStrike">
                <a:solidFill>
                  <a:srgbClr val="000000"/>
                </a:solidFill>
                <a:latin typeface="Arial"/>
              </a:rPr>
              <a:t>был наг, и вы одели Меня; был болен, и вы посетили Меня; в темнице был, и вы пришли ко Мне</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Наглядные уроки Христа, стр. ориг. 383. Многие могут оставить ближнего страдать в суровых обстоятельствах. Считая себя христианами, они, вероятно, думают, что своей холодностью они представляют Христа. Поскольку эти люди, называющие себя слугами Господа, на деле не сотрудничают с Ним, та любовь Бога, которая должна была бы приходить в мир через них, не достигает их ближних. В результате большая часть хвалы и благодарения от человеческих уст и сердец не возвращаются Богу. Он обкрадывается тем, что не получает вполне той славы, которая по праву принадлежит Его святому имени. Его лишают тех душ, за которые умер Христос, душ, которых Он жаждет привести в Свое Царство, чтобы они обитали в Его присутствии в течение бесконечных веков.</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057400" y="395280"/>
            <a:ext cx="2941560" cy="2206800"/>
          </a:xfrm>
          <a:prstGeom prst="rect">
            <a:avLst/>
          </a:prstGeom>
          <a:ln w="0">
            <a:noFill/>
          </a:ln>
        </p:spPr>
      </p:sp>
      <p:sp>
        <p:nvSpPr>
          <p:cNvPr id="256" name="PlaceHolder 2"/>
          <p:cNvSpPr>
            <a:spLocks noGrp="1"/>
          </p:cNvSpPr>
          <p:nvPr>
            <p:ph type="body"/>
          </p:nvPr>
        </p:nvSpPr>
        <p:spPr>
          <a:xfrm>
            <a:off x="685800" y="2701800"/>
            <a:ext cx="5486400" cy="5973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можем считать себя последователями Христа, мы можем заявлять, что веруем в каждую истину Слова Божьего; но это не принесет пользы нашему ближнему, если мы не подчиним своей вере всю нашу повседневную жизнь. Наше исповедание веры может быть высоким, как небо, но оно не спасет ни нас, ни наших собратьев, если мы не станем истинными христианами. Добрый пример может сделать больше для блага мира, чем все наши заявлени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971720" y="468360"/>
            <a:ext cx="3038400" cy="2279520"/>
          </a:xfrm>
          <a:prstGeom prst="rect">
            <a:avLst/>
          </a:prstGeom>
          <a:ln w="0">
            <a:noFill/>
          </a:ln>
        </p:spPr>
      </p:sp>
      <p:sp>
        <p:nvSpPr>
          <p:cNvPr id="25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Покорность</a:t>
            </a:r>
            <a:r>
              <a:rPr b="0" lang="ru-RU" sz="1200" spc="-1" strike="noStrike" u="sng">
                <a:solidFill>
                  <a:srgbClr val="000000"/>
                </a:solidFill>
                <a:uFillTx/>
                <a:latin typeface="Arial"/>
              </a:rPr>
              <a:t>. </a:t>
            </a:r>
            <a:r>
              <a:rPr b="0" lang="ru-RU" sz="1200" spc="-1" strike="noStrike">
                <a:solidFill>
                  <a:srgbClr val="000000"/>
                </a:solidFill>
                <a:latin typeface="Arial"/>
              </a:rPr>
              <a:t>Мтф. 20:26-28. Но между вами да не будет так: а кто хочет между вами быть большим, да будет вам слугою; </a:t>
            </a:r>
            <a:br>
              <a:rPr sz="1200"/>
            </a:br>
            <a:r>
              <a:rPr b="0" lang="ru-RU" sz="1200" spc="-1" strike="noStrike">
                <a:solidFill>
                  <a:srgbClr val="000000"/>
                </a:solidFill>
                <a:latin typeface="Arial"/>
              </a:rPr>
              <a:t>и кто хочет между вами быть первым, да будет вам рабом; </a:t>
            </a:r>
            <a:br>
              <a:rPr sz="1200"/>
            </a:br>
            <a:r>
              <a:rPr b="0" lang="ru-RU" sz="1200" spc="-1" strike="noStrike">
                <a:solidFill>
                  <a:srgbClr val="000000"/>
                </a:solidFill>
                <a:latin typeface="Arial"/>
              </a:rPr>
              <a:t>так как Сын Человеческий не </a:t>
            </a:r>
            <a:r>
              <a:rPr b="0" i="1" lang="ru-RU" sz="1200" spc="-1" strike="noStrike">
                <a:solidFill>
                  <a:srgbClr val="000000"/>
                </a:solidFill>
                <a:latin typeface="Arial"/>
              </a:rPr>
              <a:t>для</a:t>
            </a:r>
            <a:r>
              <a:rPr b="0" lang="ru-RU" sz="1200" spc="-1" strike="noStrike">
                <a:solidFill>
                  <a:srgbClr val="000000"/>
                </a:solidFill>
                <a:latin typeface="Arial"/>
              </a:rPr>
              <a:t> </a:t>
            </a:r>
            <a:r>
              <a:rPr b="0" i="1" lang="ru-RU" sz="1200" spc="-1" strike="noStrike">
                <a:solidFill>
                  <a:srgbClr val="000000"/>
                </a:solidFill>
                <a:latin typeface="Arial"/>
              </a:rPr>
              <a:t>того</a:t>
            </a:r>
            <a:r>
              <a:rPr b="0" lang="ru-RU" sz="1200" spc="-1" strike="noStrike">
                <a:solidFill>
                  <a:srgbClr val="000000"/>
                </a:solidFill>
                <a:latin typeface="Arial"/>
              </a:rPr>
              <a:t> пришел, чтобы Ему служили, но чтобы послужить и отдать душу Свою для искупления многих</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23:11, 12. Больший из вас да будет вам слуга: </a:t>
            </a:r>
            <a:br>
              <a:rPr sz="1200"/>
            </a:br>
            <a:r>
              <a:rPr b="0" lang="ru-RU" sz="1200" spc="-1" strike="noStrike">
                <a:solidFill>
                  <a:srgbClr val="000000"/>
                </a:solidFill>
                <a:latin typeface="Arial"/>
              </a:rPr>
              <a:t>ибо, кто возвышает себя, тот унижен будет, а кто унижает себя, тот возвысится.</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936800" y="324000"/>
            <a:ext cx="3038400" cy="2279520"/>
          </a:xfrm>
          <a:prstGeom prst="rect">
            <a:avLst/>
          </a:prstGeom>
          <a:ln w="0">
            <a:noFill/>
          </a:ln>
        </p:spPr>
      </p:sp>
      <p:sp>
        <p:nvSpPr>
          <p:cNvPr id="26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Желание веков, стр. ориг. 650. Человек часто склонен считать себя выше других, трудиться только для себя, стремиться к самому высокому положению, что порождает в нем злые подозрения и горечь. Обряд, предшествующий Вечере Господней, должен устранить эту скверну, освободить человека от эгоизма, избавить его от стремления к самовозвышению и побудить к смирению сердца, которое приведет его к служению ближни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905120" y="252360"/>
            <a:ext cx="2974680" cy="2232000"/>
          </a:xfrm>
          <a:prstGeom prst="rect">
            <a:avLst/>
          </a:prstGeom>
          <a:ln w="0">
            <a:noFill/>
          </a:ln>
        </p:spPr>
      </p:sp>
      <p:sp>
        <p:nvSpPr>
          <p:cNvPr id="262"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Милосердие. </a:t>
            </a:r>
            <a:r>
              <a:rPr b="1" lang="ru-RU" sz="1200" spc="-1" strike="noStrike">
                <a:solidFill>
                  <a:srgbClr val="000000"/>
                </a:solidFill>
                <a:latin typeface="Arial"/>
              </a:rPr>
              <a:t>Мтф. 5:7. Блаженны милостивые, ибо они помилованы будут.</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920960" y="395280"/>
            <a:ext cx="2943000" cy="2206800"/>
          </a:xfrm>
          <a:prstGeom prst="rect">
            <a:avLst/>
          </a:prstGeom>
          <a:ln w="0">
            <a:noFill/>
          </a:ln>
        </p:spPr>
      </p:sp>
      <p:sp>
        <p:nvSpPr>
          <p:cNvPr id="26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22. Милостивые являются "причастниками Божеского естества", и в них проявляется сострадательная любовь Божья. Все, чьи сердца пребывают в согласии с сердцем Бесконечной Любви, будут стремиться исправлять, а не осуждать. Присутствие Христа в душе подобно никогда не иссякающему источнику. Сердце, в котором обитает Господь, будет исполнено милосердие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006640" y="539640"/>
            <a:ext cx="2752560" cy="2063880"/>
          </a:xfrm>
          <a:prstGeom prst="rect">
            <a:avLst/>
          </a:prstGeom>
          <a:ln w="0">
            <a:noFill/>
          </a:ln>
        </p:spPr>
      </p:sp>
      <p:sp>
        <p:nvSpPr>
          <p:cNvPr id="26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 </a:t>
            </a:r>
            <a:r>
              <a:rPr b="1" lang="ru-RU" sz="1200" spc="-1" strike="noStrike" u="sng">
                <a:solidFill>
                  <a:srgbClr val="000000"/>
                </a:solidFill>
                <a:uFillTx/>
                <a:latin typeface="Arial"/>
              </a:rPr>
              <a:t>Верность в финансовых вопросах</a:t>
            </a:r>
            <a:r>
              <a:rPr b="1" lang="ru-RU" sz="1200" spc="-1" strike="noStrike">
                <a:solidFill>
                  <a:srgbClr val="000000"/>
                </a:solidFill>
                <a:latin typeface="Arial"/>
              </a:rPr>
              <a:t>. Мтф. 22:21. … Итак, отдавайте кесарево кесарю, а Божие Богу</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889280" y="395280"/>
            <a:ext cx="3133440" cy="2351160"/>
          </a:xfrm>
          <a:prstGeom prst="rect">
            <a:avLst/>
          </a:prstGeom>
          <a:ln w="0">
            <a:noFill/>
          </a:ln>
        </p:spPr>
      </p:sp>
      <p:sp>
        <p:nvSpPr>
          <p:cNvPr id="26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Свидетельства для Церкви, том 1, стр. ориг. 220. Некоторые братья не участвуют в систематических пожертвованиях, оправдывая себя тем, что им надо отрабатывать долги. Они утверждают, что сначала должны расквитаться со всеми долгами и не быть "должными никому ничем". Но то, что эти братья в долгах, не оправдывает их. Я видела, что они должны отдавать кесарю кесарево, а Богу Божье. Кое-кто считает, что они сначала обязаны освободиться от всех долгов и что Бог ничего не может требовать от них, пока они не выплатят все долги. Вот здесь-то они обманывают себя и не отдают Богу то, что принадлежит Ему по праву. Каждый должен приносить Господу приемлемую жертву. Погрязшим в долгах следует вычесть их из общей суммы своего дохода и отдать Богу часть остающихся средств.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971720" y="324000"/>
            <a:ext cx="3038400" cy="2279520"/>
          </a:xfrm>
          <a:prstGeom prst="rect">
            <a:avLst/>
          </a:prstGeom>
          <a:ln w="0">
            <a:noFill/>
          </a:ln>
        </p:spPr>
      </p:sp>
      <p:sp>
        <p:nvSpPr>
          <p:cNvPr id="27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Миротворчество. </a:t>
            </a:r>
            <a:r>
              <a:rPr b="1" lang="ru-RU" sz="1200" spc="-1" strike="noStrike">
                <a:solidFill>
                  <a:srgbClr val="000000"/>
                </a:solidFill>
                <a:latin typeface="Arial"/>
              </a:rPr>
              <a:t>Мтф. 5:9. Блаженны миротворцы, ибо они будут наречены сынами Божьими (СЛ-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равила счастливой жизни, стр. ориг. 28. Последователи Иисуса посланы к людям с вестью о мире. Всякий, кто, сам того не сознавая, своей благочестивой жизнью распространяет вокруг себя любовь Христа, кто словом и делом побуждает ближнего отречься от греха и покорить свое сердце Богу, воистину является миротворцем.</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300400" y="395280"/>
            <a:ext cx="2400120" cy="1800360"/>
          </a:xfrm>
          <a:prstGeom prst="rect">
            <a:avLst/>
          </a:prstGeom>
          <a:ln w="0">
            <a:noFill/>
          </a:ln>
        </p:spPr>
      </p:sp>
      <p:sp>
        <p:nvSpPr>
          <p:cNvPr id="182" name="PlaceHolder 2"/>
          <p:cNvSpPr>
            <a:spLocks noGrp="1"/>
          </p:cNvSpPr>
          <p:nvPr>
            <p:ph type="body"/>
          </p:nvPr>
        </p:nvSpPr>
        <p:spPr>
          <a:xfrm>
            <a:off x="685440" y="2195280"/>
            <a:ext cx="555156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ДУХОВНАЯ ЖИЗН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Христос также преподал жизнетворные уроки для руководителей, которые мы можем увидеть в некоторых особых аспектах Его духовной жизни. Прежде всего, мы наблюдаем его молитвенную жизнь. Если молитва является ключевым аспектом для силы Христа, насколько важной она должна быть для нас, если мы развиваемся как руководители. Христос начал Свое служение с молитвы и оставил нам пример молитвы, понятной нам. Но вы когда-нибудь задумывались, как много характерных качеств руководства мы можем открыть в молитве Отче На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u="sng">
                <a:solidFill>
                  <a:srgbClr val="000000"/>
                </a:solidFill>
                <a:uFillTx/>
                <a:latin typeface="Arial"/>
              </a:rPr>
              <a:t>а. Его молитвенная жиз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Христос начал Свое служение с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Луки 3:21. Когда же крестился весь народ, и Иисус, крестившись, молился: отверзлось небо.</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816200" y="250920"/>
            <a:ext cx="3422520" cy="2566800"/>
          </a:xfrm>
          <a:prstGeom prst="rect">
            <a:avLst/>
          </a:prstGeom>
          <a:ln w="0">
            <a:noFill/>
          </a:ln>
        </p:spPr>
      </p:sp>
      <p:sp>
        <p:nvSpPr>
          <p:cNvPr id="272"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Елена Уайт, Дух пророчества, том 2, стр. ориг. 210. Настоящий христианин в своих взаимоотношениях с людьми будет выражать слова, которые будут погашать излишний гнев и ссоры. Небеса это мирное место и те, кто приближаются ко Христу, будут находиться в гармонии с Небесам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057400" y="539640"/>
            <a:ext cx="2941560" cy="2206800"/>
          </a:xfrm>
          <a:prstGeom prst="rect">
            <a:avLst/>
          </a:prstGeom>
          <a:ln w="0">
            <a:noFill/>
          </a:ln>
        </p:spPr>
      </p:sp>
      <p:sp>
        <p:nvSpPr>
          <p:cNvPr id="274"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наш Величайший пример, преподал нам пример руководства, который применим в наши дни так же, как и раньше. Он показал нам, как стать христианами-руководителями, которые отличаются тем, что привлекают других людей и могут создать комфортные условия для труда и стабильной организации, отдела или комитета, которые они возглавля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вайте в смирении  будем развивать наши организаторские навыки. Давайте будем учиться и становиться теми, кем мы можем стать с Божьей помощью. Давайте будем искать того, чтобы стать настоящими слугами-руководителями, следующими за нашим Пример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ирая на Христа – Ни один из людей, облеченных руководящей должностью, не избежит нападок сатаны. И более ответственные должности, которые занимает человек, ведут к более жестким нападкам врага. Слугам Божьим следует повсюду изучать Божье Слово, постоянно взирать на Иисуса, чтобы измениться в Его образ. Неисчерпаемая полнота Христа находится в нашем распоряжении, если мы  ходим пред Господом в смирении и раскаянии. Рукопись, 140, 1902 го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йте за вашим руководител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е было поручено сказать: Следуйте за вашим Руководителем. Он есть Путь, Истина и Жизнь. </a:t>
            </a:r>
            <a:r>
              <a:rPr b="1" lang="en-US" sz="1200" spc="-1" strike="noStrike">
                <a:solidFill>
                  <a:srgbClr val="000000"/>
                </a:solidFill>
                <a:latin typeface="Arial"/>
              </a:rPr>
              <a:t>Pacific Union Recorder</a:t>
            </a:r>
            <a:r>
              <a:rPr b="1" lang="ru-RU" sz="1200" spc="-1" strike="noStrike">
                <a:solidFill>
                  <a:srgbClr val="000000"/>
                </a:solidFill>
                <a:latin typeface="Arial"/>
              </a:rPr>
              <a:t>, 17 декабря 1903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готовы последовать за вашим Руководителем? Чтобы стать сильным руководителем ради Него?   (в своей личной жизни, в семье, в церкви, в обществе)</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090880" y="539640"/>
            <a:ext cx="2749320" cy="2063880"/>
          </a:xfrm>
          <a:prstGeom prst="rect">
            <a:avLst/>
          </a:prstGeom>
          <a:ln w="0">
            <a:noFill/>
          </a:ln>
        </p:spPr>
      </p:sp>
      <p:sp>
        <p:nvSpPr>
          <p:cNvPr id="18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Знамение времени, 24 июля 1893 года. Иисус «начал свое общественное служение с пылающей молитвы и Его пример говорит нам о том, что молитва необходима для ведения успешной христианской жизн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225520" y="324000"/>
            <a:ext cx="2459160" cy="1846080"/>
          </a:xfrm>
          <a:prstGeom prst="rect">
            <a:avLst/>
          </a:prstGeom>
          <a:ln w="0">
            <a:noFill/>
          </a:ln>
        </p:spPr>
      </p:sp>
      <p:sp>
        <p:nvSpPr>
          <p:cNvPr id="186" name="PlaceHolder 2"/>
          <p:cNvSpPr>
            <a:spLocks noGrp="1"/>
          </p:cNvSpPr>
          <p:nvPr>
            <p:ph type="body"/>
          </p:nvPr>
        </p:nvSpPr>
        <p:spPr>
          <a:xfrm>
            <a:off x="685800" y="21956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еподал нам образец молит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ила счастливой жизни, стр. ориг. 102, 103. Спаситель дважды произнес эту молитву: первый раз в нагорной проповеди и затем несколько месяцев спустя наедине с учениками. Иисус не дал им нового образца молитвы. Он повторил только то, чему уже раньше учил их, как бы говоря: "Вы должны понять то, что Я уже говорил вам; оно имеет более глубокое значение, чем вы думаете, и вы еще не совсем постигли это".</a:t>
            </a:r>
            <a:br>
              <a:rPr sz="1200"/>
            </a:br>
            <a:br>
              <a:rPr sz="1200"/>
            </a:b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133720" y="395280"/>
            <a:ext cx="2879640" cy="2160720"/>
          </a:xfrm>
          <a:prstGeom prst="rect">
            <a:avLst/>
          </a:prstGeom>
          <a:ln w="0">
            <a:noFill/>
          </a:ln>
        </p:spPr>
      </p:sp>
      <p:sp>
        <p:nvSpPr>
          <p:cNvPr id="18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паситель, однако, не говорит, что наша молитва должна ограничиваться сказанными Им словами. Будучи единым с человечеством, Он дает нам образец Своей собственной молитвы в словах настолько простых, что их поймет ребенок, и все же настолько содержательных, что гениальнейший ум не исчерпает их значения. Он учит нас приходить к Богу с благодарением и открывать перед Ним наши нужды, ссылаясь на Его обетовани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889280" y="684360"/>
            <a:ext cx="2846160" cy="2135160"/>
          </a:xfrm>
          <a:prstGeom prst="rect">
            <a:avLst/>
          </a:prstGeom>
          <a:ln w="0">
            <a:noFill/>
          </a:ln>
        </p:spPr>
      </p:sp>
      <p:sp>
        <p:nvSpPr>
          <p:cNvPr id="19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6:9-14</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А</a:t>
            </a:r>
            <a:r>
              <a:rPr b="0" lang="ru-RU" sz="1200" spc="-1" strike="noStrike">
                <a:solidFill>
                  <a:srgbClr val="000000"/>
                </a:solidFill>
                <a:latin typeface="Arial"/>
              </a:rPr>
              <a:t>. Мтф. 6:9-10. Отче наш, сущий на небесах! да святится имя Твое; да приидет Царствие Твое; да будет воля Твоя и на земле, как на неб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ш духовный центр.</a:t>
            </a:r>
            <a:r>
              <a:rPr b="0" lang="ru-RU" sz="1200" spc="-1" strike="noStrike">
                <a:solidFill>
                  <a:srgbClr val="000000"/>
                </a:solidFill>
                <a:latin typeface="Arial"/>
              </a:rPr>
              <a:t> Правила счастливой жизни, стр. ориг. 104. Иисус учил нас называть Его Отца и нашим Отцом; Он не стыдился назвать нас братьями (Евр. 2:11). Он готов приветствовать нас как членов Его семейства и, позволяя нам обращаться к Нему со словами "Отче на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 ориг. 106. Мы никогда ни в каком случае не должны легкомысленно употреблять имя Божие или слова обращения к Нему. При молитве мы входим в приемную Всевышнего и поэтому должны предстать перед Ним с должным благоговением. Ангелы закрывают свои лица в Его присутствии; херувимы и светлые святые серафимы приближаются к Его престолу с торжественной почтительностью; не с большим ли благоговением должны приходить к Нему мы, слабые и грешные существ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FB176-FAEA-43B5-B10A-C4CAEBB5C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AD129-865B-45B9-B4D7-B6D1A76C9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06CB0-71B7-4A19-9F95-566126CCA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877B0-4782-4DBA-ABFE-ADD06D386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A42E6-4F88-4513-AA3E-F20FF495F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AC238-BD24-485F-9649-F3D134EE3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F23AC-0EC9-4DDE-8E17-937B65786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4702F-9630-4A0A-9B22-32120012C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F6CAA-B12C-4774-B0F1-E1A29BB8E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2F4E2-3B9D-43A1-B69E-C8B4DBBBE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43B68-4AF5-4CC1-9F12-3626439BC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ACE3D-9AC8-4855-9FF0-4284712A2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89314-3AB7-4D5F-9BEE-27D0F66142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440"/>
            <a:ext cx="9144000" cy="6859440"/>
          </a:xfrm>
          <a:prstGeom prst="rect">
            <a:avLst/>
          </a:prstGeom>
          <a:ln w="0">
            <a:noFill/>
          </a:ln>
        </p:spPr>
      </p:pic>
      <p:sp>
        <p:nvSpPr>
          <p:cNvPr id="49" name="PlaceHolder 1"/>
          <p:cNvSpPr>
            <a:spLocks noGrp="1"/>
          </p:cNvSpPr>
          <p:nvPr>
            <p:ph type="title"/>
          </p:nvPr>
        </p:nvSpPr>
        <p:spPr>
          <a:xfrm>
            <a:off x="685800" y="1052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sus Leadership Model</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41324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men’s Ministri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hip Certification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4</a:t>
            </a:r>
            <a:endParaRPr b="0" lang="en-US" sz="2400" spc="-1" strike="noStrike">
              <a:solidFill>
                <a:srgbClr val="000000"/>
              </a:solidFill>
              <a:latin typeface="Arial"/>
            </a:endParaRPr>
          </a:p>
        </p:txBody>
      </p:sp>
      <p:pic>
        <p:nvPicPr>
          <p:cNvPr id="51" name="" descr=""/>
          <p:cNvPicPr/>
          <p:nvPr/>
        </p:nvPicPr>
        <p:blipFill>
          <a:blip r:embed="rId2"/>
          <a:stretch/>
        </p:blipFill>
        <p:spPr>
          <a:xfrm>
            <a:off x="539640" y="406440"/>
            <a:ext cx="8064720" cy="5987880"/>
          </a:xfrm>
          <a:prstGeom prst="rect">
            <a:avLst/>
          </a:prstGeom>
          <a:ln w="76320">
            <a:solidFill>
              <a:srgbClr val="ffffff"/>
            </a:solidFill>
            <a:miter/>
          </a:ln>
          <a:effectLst>
            <a:outerShdw dist="17819" dir="2700000" blurRad="0" rotWithShape="0">
              <a:srgbClr val="000000"/>
            </a:outerShdw>
          </a:effectLst>
        </p:spPr>
      </p:pic>
      <p:pic>
        <p:nvPicPr>
          <p:cNvPr id="52" name="" descr=""/>
          <p:cNvPicPr/>
          <p:nvPr/>
        </p:nvPicPr>
        <p:blipFill>
          <a:blip r:embed="rId3"/>
          <a:stretch/>
        </p:blipFill>
        <p:spPr>
          <a:xfrm>
            <a:off x="4067280" y="4395960"/>
            <a:ext cx="1008000" cy="688680"/>
          </a:xfrm>
          <a:prstGeom prst="rect">
            <a:avLst/>
          </a:prstGeom>
          <a:ln w="0">
            <a:noFill/>
          </a:ln>
        </p:spPr>
      </p:pic>
      <p:sp>
        <p:nvSpPr>
          <p:cNvPr id="53" name=""/>
          <p:cNvSpPr/>
          <p:nvPr/>
        </p:nvSpPr>
        <p:spPr>
          <a:xfrm>
            <a:off x="1476360" y="5133960"/>
            <a:ext cx="6400800" cy="1247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Сертификационная программа</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Отдела Женского служения ГК</a:t>
            </a:r>
            <a:r>
              <a:rPr b="1" i="1" lang="en-US" sz="1800" spc="-1" strike="noStrike">
                <a:solidFill>
                  <a:srgbClr val="ffffff"/>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Уровень</a:t>
            </a:r>
            <a:r>
              <a:rPr b="1" i="1" lang="en-US" sz="1800" spc="-1" strike="noStrike">
                <a:solidFill>
                  <a:srgbClr val="ffffff"/>
                </a:solidFill>
                <a:latin typeface="Arial"/>
              </a:rPr>
              <a:t> 4</a:t>
            </a:r>
            <a:endParaRPr b="0" lang="en-US" sz="1800" spc="-1" strike="noStrike">
              <a:solidFill>
                <a:srgbClr val="000000"/>
              </a:solidFill>
              <a:latin typeface="Arial"/>
            </a:endParaRPr>
          </a:p>
        </p:txBody>
      </p:sp>
      <p:sp>
        <p:nvSpPr>
          <p:cNvPr id="54" name=""/>
          <p:cNvSpPr/>
          <p:nvPr/>
        </p:nvSpPr>
        <p:spPr>
          <a:xfrm>
            <a:off x="1832040" y="1052640"/>
            <a:ext cx="5548320" cy="22874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yriad Condensed Web"/>
              </a:rPr>
              <a:t>Модель руководства Иисуса Христа</a:t>
            </a:r>
            <a:endParaRPr b="0" lang="en-US" sz="4800" spc="-1" strike="noStrike">
              <a:solidFill>
                <a:srgbClr val="000000"/>
              </a:solidFill>
              <a:latin typeface="Arial"/>
            </a:endParaRPr>
          </a:p>
        </p:txBody>
      </p:sp>
      <p:sp>
        <p:nvSpPr>
          <p:cNvPr id="55" name=""/>
          <p:cNvSpPr/>
          <p:nvPr/>
        </p:nvSpPr>
        <p:spPr>
          <a:xfrm>
            <a:off x="2411280" y="1844640"/>
            <a:ext cx="432144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553120" y="3573360"/>
            <a:ext cx="35870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Подготовлено Дэйси Орио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1116000" y="1197000"/>
            <a:ext cx="662472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400" spc="-1" strike="noStrike">
                <a:solidFill>
                  <a:srgbClr val="000000"/>
                </a:solidFill>
                <a:latin typeface="Arial"/>
              </a:rPr>
              <a:t>Истинные цели</a:t>
            </a:r>
            <a:r>
              <a:rPr b="0" i="1" lang="ru-RU" sz="2400" spc="-1" strike="noStrike">
                <a:solidFill>
                  <a:srgbClr val="000000"/>
                </a:solidFill>
                <a:latin typeface="Arial"/>
              </a:rPr>
              <a:t>. Правила счастливой жизни, стр. ориг. 107, 108. Бог, любящий Отец, заботящийся о нас, как о детях, в то же самое время есть Царь всей вселенной. Интересы Его Царства являются и нашими интересами, и поэтому мы должны содействовать установлению Его Царства.</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826920" y="1125000"/>
            <a:ext cx="7345440" cy="452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б. </a:t>
            </a:r>
            <a:r>
              <a:rPr b="0" lang="ru-RU" sz="2400" spc="-1" strike="noStrike">
                <a:solidFill>
                  <a:srgbClr val="000000"/>
                </a:solidFill>
                <a:latin typeface="Arial"/>
              </a:rPr>
              <a:t>Мтф. 6:11. Хлеб наш насущный дай нам на сей день </a:t>
            </a:r>
            <a:r>
              <a:rPr b="1" lang="ru-RU" sz="2400" spc="-1" strike="noStrike">
                <a:solidFill>
                  <a:srgbClr val="000000"/>
                </a:solidFill>
                <a:latin typeface="Arial"/>
              </a:rPr>
              <a:t>(СЛ-9).</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оритеты. </a:t>
            </a:r>
            <a:r>
              <a:rPr b="0" lang="ru-RU" sz="2400" spc="-1" strike="noStrike">
                <a:solidFill>
                  <a:srgbClr val="000000"/>
                </a:solidFill>
                <a:latin typeface="Arial"/>
              </a:rPr>
              <a:t>Правила счастливой жизни, стр. ориг. 112. Молитва о насущном хлебе имеет отношение не только к пище, необходимой для поддержания физических сил, но включает в себя и прошение о духовном хлебе, необходимом душе для вечной жизни. Иисус говорит нам: "Старайтесь не о пище тленной, но о пище, пребывающей в жизнь вечную". "Я - хлеб живый, сшедший с небес: ядущий хлеб сей будет жить вовек" (Ин. 6:27, 5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971280" y="692280"/>
            <a:ext cx="7272360" cy="54338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в. Мтф. 6:12. Прости нам долги наши, как и мы прощаем должникам нашим (СЛ-10).</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Правила счастливой жизни, стр. ориг. 113. Иисус учил нас, что мы можем ожидать прощения от Бога только тогда, когда сами прощаем другим. Любовь есть сила, привлекающая нас к Нему; коснувшись нашего сердца, любовь должна возбудить в нас любовь к нашему ближнем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826560" y="836280"/>
            <a:ext cx="7417080" cy="5289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ru-RU" sz="2400" spc="-1" strike="noStrike">
                <a:solidFill>
                  <a:srgbClr val="000000"/>
                </a:solidFill>
                <a:latin typeface="Arial"/>
              </a:rPr>
              <a:t> </a:t>
            </a:r>
            <a:r>
              <a:rPr b="1" i="1" lang="ru-RU" sz="2400" spc="-1" strike="noStrike">
                <a:solidFill>
                  <a:srgbClr val="000000"/>
                </a:solidFill>
                <a:latin typeface="Arial"/>
              </a:rPr>
              <a:t>г. Мтф. 6:13. Не введи нас в искушение, но избавь нас от лукавого (СЛ-11).</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Твердое следование принципу. Елена Уайт, Свидетельства для Церкви, том 5, стр. ориг. 293-294. Сатана постоянно занят работой, но только немногие имеют представление о его активности и коварстве. Народ Божий должен быть приготовлен к тому, чтобы противостоять такому хитрому врагу. Сатана боится этого сопротивления… Только Христос может ограничить силу сатаны. Все должны понимать эту важную истин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p:nvPr>
        </p:nvSpPr>
        <p:spPr>
          <a:xfrm>
            <a:off x="1042920" y="907920"/>
            <a:ext cx="7274160" cy="4525920"/>
          </a:xfrm>
          <a:prstGeom prst="rect">
            <a:avLst/>
          </a:prstGeom>
          <a:noFill/>
          <a:ln w="0">
            <a:noFill/>
          </a:ln>
        </p:spPr>
        <p:txBody>
          <a:bodyPr lIns="90000" rIns="90000" tIns="46800" bIns="46800" anchor="t">
            <a:normAutofit fontScale="88000"/>
          </a:bodyPr>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д. Мтф. 6:14.  Ибо если вы будете прощать людям согрешения их,</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то простит и вам Отец ваш Небесный (СЛ-12).</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сознавание Бога как правила. Елена Уайт, Правила счастливой жизни, стр. ориг. 120. Последнее предложение в молитве Господней подобно первому указывает на Отца, как на Того, Кто имеет господство и власть над всем существующим, и имя Которого выше всех имен… </a:t>
            </a:r>
            <a:endParaRPr b="0" lang="en-US" sz="20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Этой молитвой Христос побуждает учеников, невзирая на силу и могущество лукавого, неизменно смотреть на Господа Бога, царство Которого возвышается над всеми, и Который во всякое время является их неизменным Отцом и Другом.</a:t>
            </a:r>
            <a:br>
              <a:rPr sz="2000"/>
            </a:br>
            <a:br>
              <a:rPr sz="2000"/>
            </a:br>
            <a:r>
              <a:rPr b="1" i="1"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457200" y="1135080"/>
            <a:ext cx="8229600" cy="853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87" name="PlaceHolder 2"/>
          <p:cNvSpPr>
            <a:spLocks noGrp="1"/>
          </p:cNvSpPr>
          <p:nvPr>
            <p:ph/>
          </p:nvPr>
        </p:nvSpPr>
        <p:spPr>
          <a:xfrm>
            <a:off x="971280" y="2176560"/>
            <a:ext cx="7057800" cy="2836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Мк. 1:35. А утром, встав весьма рано, вышел и удалился в пустынное место, и там молился.</a:t>
            </a:r>
            <a:endParaRPr b="0" lang="en-US" sz="3600" spc="-1" strike="noStrike">
              <a:solidFill>
                <a:srgbClr val="000000"/>
              </a:solidFill>
              <a:latin typeface="Arial"/>
            </a:endParaRPr>
          </a:p>
        </p:txBody>
      </p:sp>
      <p:sp>
        <p:nvSpPr>
          <p:cNvPr id="88" name=""/>
          <p:cNvSpPr/>
          <p:nvPr/>
        </p:nvSpPr>
        <p:spPr>
          <a:xfrm>
            <a:off x="1332000" y="1052640"/>
            <a:ext cx="6553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го пример непристанной молитв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828360" y="1341360"/>
            <a:ext cx="7056360" cy="4525920"/>
          </a:xfrm>
          <a:prstGeom prst="rect">
            <a:avLst/>
          </a:prstGeom>
          <a:noFill/>
          <a:ln w="0">
            <a:noFill/>
          </a:ln>
        </p:spPr>
        <p:txBody>
          <a:bodyPr lIns="90000" rIns="90000" tIns="46800" bIns="46800" anchor="t">
            <a:normAutofit/>
          </a:bodyPr>
          <a:p>
            <a:pPr marL="3430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изнь истинного христианина - это жизнь постоянной молитвы. Он знает, что света и силы одного дня недостаточно для борьбы и испытаний дня грядущего. Сатана непрестанно меняет свои искуш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57200" y="113796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yriad Condensed Web"/>
              </a:rPr>
              <a:t>Его пример ходатайственной молитвы</a:t>
            </a:r>
            <a:br>
              <a:rPr sz="3600"/>
            </a:br>
            <a:endParaRPr b="0" lang="en-US" sz="3600" spc="-1" strike="noStrike">
              <a:solidFill>
                <a:srgbClr val="000000"/>
              </a:solidFill>
              <a:latin typeface="Arial"/>
            </a:endParaRPr>
          </a:p>
        </p:txBody>
      </p:sp>
      <p:sp>
        <p:nvSpPr>
          <p:cNvPr id="93" name="PlaceHolder 2"/>
          <p:cNvSpPr>
            <a:spLocks noGrp="1"/>
          </p:cNvSpPr>
          <p:nvPr>
            <p:ph/>
          </p:nvPr>
        </p:nvSpPr>
        <p:spPr>
          <a:xfrm>
            <a:off x="971280" y="1959120"/>
            <a:ext cx="6985080" cy="355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Молитва за соработников</a:t>
            </a:r>
            <a:r>
              <a:rPr b="0" i="1" lang="ru-RU" sz="3200" spc="-1" strike="noStrike">
                <a:solidFill>
                  <a:srgbClr val="000000"/>
                </a:solidFill>
                <a:latin typeface="Arial"/>
              </a:rPr>
              <a:t>. Иоанн. 17:9-11, 20. Я о них молю: не о всем мире молю, но о тех, которых Ты дал Мне, потому что они Твои… Не о них же только молю, но и о верующих в Меня по слову и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826920" y="907560"/>
            <a:ext cx="7345440" cy="500076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Молитва за слабых. Елена Уайт. Рукописи, том 8, стр. 197. Разве не следует нам уничижать себя перед Богом в пользу тех, кто очевидно ведет скудную духовную жизнь. Разве мы не должны постоянно молиться о них. Разве мы не должны каждый  день переживать о тех, кто грешит. Если мы будем умалять Бога растопить сердце каменное, наши сердца будут более чувствительны. Нам следует очень быстро осознавать наши грехи</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971280" y="1998720"/>
            <a:ext cx="7054920" cy="32306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800" spc="-1" strike="noStrike">
                <a:solidFill>
                  <a:srgbClr val="000000"/>
                </a:solidFill>
                <a:latin typeface="Arial"/>
              </a:rPr>
              <a:t>Ин. 14:13, 14. И если чего попросите у Отца во имя Мое, то сделаю, да прославится Отец в Сыне. </a:t>
            </a:r>
            <a:br>
              <a:rPr sz="2800"/>
            </a:br>
            <a:r>
              <a:rPr b="0" i="1" lang="ru-RU" sz="2800" spc="-1" strike="noStrike">
                <a:solidFill>
                  <a:srgbClr val="000000"/>
                </a:solidFill>
                <a:latin typeface="Arial"/>
              </a:rPr>
              <a:t>Если чего попросите во имя Мое, Я то сделаю.</a:t>
            </a:r>
            <a:endParaRPr b="0" lang="en-US" sz="2800" spc="-1" strike="noStrike">
              <a:solidFill>
                <a:srgbClr val="000000"/>
              </a:solidFill>
              <a:latin typeface="Arial"/>
            </a:endParaRPr>
          </a:p>
        </p:txBody>
      </p:sp>
      <p:sp>
        <p:nvSpPr>
          <p:cNvPr id="98" name=""/>
          <p:cNvSpPr/>
          <p:nvPr/>
        </p:nvSpPr>
        <p:spPr>
          <a:xfrm>
            <a:off x="611280" y="91584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yriad Condensed Web"/>
              </a:rPr>
              <a:t>Молиться во имя Ег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Arial"/>
              </a:rPr>
              <a:t>1.   ЕГО ВЗРОСЛЕНИЕ</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610920" y="1413000"/>
            <a:ext cx="7561080" cy="4525920"/>
          </a:xfrm>
          <a:prstGeom prst="rect">
            <a:avLst/>
          </a:prstGeom>
          <a:noFill/>
          <a:ln w="0">
            <a:noFill/>
          </a:ln>
        </p:spPr>
        <p:txBody>
          <a:bodyPr lIns="90000" rIns="90000" tIns="46800" bIns="46800" anchor="t">
            <a:normAutofit fontScale="91000"/>
          </a:bodyPr>
          <a:p>
            <a:pPr marL="739440" indent="-739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u="sng">
                <a:solidFill>
                  <a:srgbClr val="000000"/>
                </a:solidFill>
                <a:uFillTx/>
                <a:latin typeface="Arial"/>
              </a:rPr>
              <a:t>а. Как ребенок</a:t>
            </a:r>
            <a:endParaRPr b="0" lang="en-US" sz="2400" spc="-1" strike="noStrike">
              <a:solidFill>
                <a:srgbClr val="000000"/>
              </a:solidFill>
              <a:latin typeface="Arial"/>
            </a:endParaRPr>
          </a:p>
          <a:p>
            <a:pPr marL="739440" indent="-739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 </a:t>
            </a:r>
            <a:r>
              <a:rPr b="1" lang="ru-RU" sz="2400" spc="-1" strike="noStrike" u="sng">
                <a:solidFill>
                  <a:srgbClr val="000000"/>
                </a:solidFill>
                <a:uFillTx/>
                <a:latin typeface="Arial"/>
              </a:rPr>
              <a:t>Этичность. </a:t>
            </a:r>
            <a:r>
              <a:rPr b="1" lang="ru-RU" sz="2400" spc="-1" strike="noStrike">
                <a:solidFill>
                  <a:srgbClr val="000000"/>
                </a:solidFill>
                <a:latin typeface="Arial"/>
              </a:rPr>
              <a:t>Желание веков, стр. ориг. 71. Иисус жил в согласии с Богом. Когда Он был ребенком, то думал и говорил как ребенок и ни одно пятнышко греха не искажало в Нем образ Божий. Но и Он не был свободен от искушений… Иисус жил там, где характер Его мог быть подвержен испытанию. Ему надлежало быть постоянно на страже, чтобы сохранить Свою чистоту. Он вынужден был переносить те же трудности, с которыми сталкиваемся и мы, чтобы сделаться примером для нас в детств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1044360" y="1773000"/>
            <a:ext cx="6840360" cy="2663640"/>
          </a:xfrm>
          <a:prstGeom prst="rect">
            <a:avLst/>
          </a:prstGeom>
          <a:noFill/>
          <a:ln w="0">
            <a:noFill/>
          </a:ln>
        </p:spPr>
        <p:txBody>
          <a:bodyPr lIns="90000" rIns="90000" tIns="46800" bIns="46800"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Елена</a:t>
            </a:r>
            <a:r>
              <a:rPr b="0" i="1" lang="en-US" sz="2800" spc="-1" strike="noStrike">
                <a:solidFill>
                  <a:srgbClr val="000000"/>
                </a:solidFill>
                <a:latin typeface="Arial"/>
              </a:rPr>
              <a:t> </a:t>
            </a:r>
            <a:r>
              <a:rPr b="0" i="1" lang="ru-RU" sz="2800" spc="-1" strike="noStrike">
                <a:solidFill>
                  <a:srgbClr val="000000"/>
                </a:solidFill>
                <a:latin typeface="Arial"/>
              </a:rPr>
              <a:t>Уайт</a:t>
            </a:r>
            <a:r>
              <a:rPr b="0" i="1" lang="en-US" sz="2800" spc="-1" strike="noStrike">
                <a:solidFill>
                  <a:srgbClr val="000000"/>
                </a:solidFill>
                <a:latin typeface="Arial"/>
              </a:rPr>
              <a:t>, Review and Herald, 30 </a:t>
            </a:r>
            <a:r>
              <a:rPr b="0" i="1" lang="ru-RU" sz="2800" spc="-1" strike="noStrike">
                <a:solidFill>
                  <a:srgbClr val="000000"/>
                </a:solidFill>
                <a:latin typeface="Arial"/>
              </a:rPr>
              <a:t>октября</a:t>
            </a:r>
            <a:r>
              <a:rPr b="0" i="1" lang="en-US" sz="2800" spc="-1" strike="noStrike">
                <a:solidFill>
                  <a:srgbClr val="000000"/>
                </a:solidFill>
                <a:latin typeface="Arial"/>
              </a:rPr>
              <a:t> 1894. </a:t>
            </a:r>
            <a:r>
              <a:rPr b="0" i="1" lang="ru-RU" sz="2800" spc="-1" strike="noStrike">
                <a:solidFill>
                  <a:srgbClr val="000000"/>
                </a:solidFill>
                <a:latin typeface="Arial"/>
              </a:rPr>
              <a:t>«Если вы начнете доверять Богу, если вы призовете Его всем сердцем, вы найдете Его»</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1440"/>
            <a:ext cx="9144000" cy="6859440"/>
          </a:xfrm>
          <a:prstGeom prst="rect">
            <a:avLst/>
          </a:prstGeom>
          <a:ln w="0">
            <a:noFill/>
          </a:ln>
        </p:spPr>
      </p:pic>
      <p:pic>
        <p:nvPicPr>
          <p:cNvPr id="102"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3" name="PlaceHolder 1"/>
          <p:cNvSpPr>
            <a:spLocks noGrp="1"/>
          </p:cNvSpPr>
          <p:nvPr>
            <p:ph/>
          </p:nvPr>
        </p:nvSpPr>
        <p:spPr>
          <a:xfrm>
            <a:off x="899640" y="558720"/>
            <a:ext cx="698364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1" i="1" lang="ru-RU" sz="3600" spc="-1" strike="noStrike" u="sng">
                <a:solidFill>
                  <a:srgbClr val="ffffff"/>
                </a:solidFill>
                <a:uFillTx/>
                <a:latin typeface="Arial"/>
              </a:rPr>
              <a:t>2 (б) Знание Священного Писания </a:t>
            </a:r>
            <a:r>
              <a:rPr b="1" lang="ru-RU" sz="3600" spc="-1" strike="noStrike" u="sng">
                <a:solidFill>
                  <a:srgbClr val="ffffff"/>
                </a:solidFill>
                <a:uFillTx/>
                <a:latin typeface="Arial"/>
              </a:rPr>
              <a:t>(СЛ-19)</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Arial"/>
              </a:rPr>
              <a:t>Луки 2:40. </a:t>
            </a:r>
            <a:r>
              <a:rPr b="1" lang="ru-RU" sz="3600" spc="-1" strike="noStrike">
                <a:solidFill>
                  <a:srgbClr val="ffffff"/>
                </a:solidFill>
                <a:latin typeface="Arial"/>
              </a:rPr>
              <a:t>Младенец же возрастал и укреплялся духом, исполняясь премудрости, и благодать Божия была на Не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1440"/>
            <a:ext cx="9144000" cy="6859440"/>
          </a:xfrm>
          <a:prstGeom prst="rect">
            <a:avLst/>
          </a:prstGeom>
          <a:ln w="0">
            <a:noFill/>
          </a:ln>
        </p:spPr>
      </p:pic>
      <p:pic>
        <p:nvPicPr>
          <p:cNvPr id="105"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6" name="PlaceHolder 1"/>
          <p:cNvSpPr>
            <a:spLocks noGrp="1"/>
          </p:cNvSpPr>
          <p:nvPr>
            <p:ph/>
          </p:nvPr>
        </p:nvSpPr>
        <p:spPr>
          <a:xfrm>
            <a:off x="393480" y="620640"/>
            <a:ext cx="7273800" cy="4525920"/>
          </a:xfrm>
          <a:prstGeom prst="rect">
            <a:avLst/>
          </a:prstGeom>
          <a:noFill/>
          <a:ln w="0">
            <a:noFill/>
          </a:ln>
        </p:spPr>
        <p:txBody>
          <a:bodyPr lIns="90000" rIns="90000" tIns="46800" bIns="46800" anchor="t">
            <a:normAutofit fontScale="93000"/>
          </a:bodyPr>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1" i="1" lang="ru-RU" sz="2400" spc="-1" strike="noStrike">
                <a:solidFill>
                  <a:srgbClr val="ffffff"/>
                </a:solidFill>
                <a:latin typeface="Arial"/>
              </a:rPr>
              <a:t>Воспитание на Слове Божьем</a:t>
            </a:r>
            <a:r>
              <a:rPr b="0" i="1" lang="ru-RU" sz="2400" spc="-1" strike="noStrike">
                <a:solidFill>
                  <a:srgbClr val="ffffff"/>
                </a:solidFill>
                <a:latin typeface="Arial"/>
              </a:rPr>
              <a:t>. Елена Уайт, Желание веков, стр. ориг. 69. Отрок Иисус не обучался в школе при синагоге. Мать была Его первым учителем. Он постигал истину из ее уст и из Писаний пророков. Сидя на коленях у Своей матери, Он теперь учился тому, что Сам некогда говорил Израилю через Моисея. Юноша Иисус тоже не стремился учиться в школах раввинов. Он не нуждался в образовании, которое можно было получить там, потому что Сам Бог был Его наставником</a:t>
            </a:r>
            <a:r>
              <a:rPr b="0" lang="ru-RU"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1440"/>
            <a:ext cx="9144000" cy="6859440"/>
          </a:xfrm>
          <a:prstGeom prst="rect">
            <a:avLst/>
          </a:prstGeom>
          <a:ln w="0">
            <a:noFill/>
          </a:ln>
        </p:spPr>
      </p:pic>
      <p:pic>
        <p:nvPicPr>
          <p:cNvPr id="108"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9" name="PlaceHolder 1"/>
          <p:cNvSpPr>
            <a:spLocks noGrp="1"/>
          </p:cNvSpPr>
          <p:nvPr>
            <p:ph/>
          </p:nvPr>
        </p:nvSpPr>
        <p:spPr>
          <a:xfrm>
            <a:off x="672840" y="620640"/>
            <a:ext cx="692316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ru-RU" sz="3600" spc="-1" strike="noStrike" u="sng">
                <a:solidFill>
                  <a:srgbClr val="ffffff"/>
                </a:solidFill>
                <a:uFillTx/>
                <a:latin typeface="Arial"/>
              </a:rPr>
              <a:t>Иисус призывал исследовать Священное Писание (СЛ-21)</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ffffff"/>
                </a:solidFill>
                <a:uFillTx/>
                <a:latin typeface="Arial"/>
              </a:rPr>
              <a:t>Мтф. 22:29 Иисус сказал им в ответ: заблуждаетесь, не зная Писаний, ни силы Божие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1440"/>
            <a:ext cx="9144000" cy="6859440"/>
          </a:xfrm>
          <a:prstGeom prst="rect">
            <a:avLst/>
          </a:prstGeom>
          <a:ln w="0">
            <a:noFill/>
          </a:ln>
        </p:spPr>
      </p:pic>
      <p:pic>
        <p:nvPicPr>
          <p:cNvPr id="111" name="" descr=""/>
          <p:cNvPicPr/>
          <p:nvPr/>
        </p:nvPicPr>
        <p:blipFill>
          <a:blip r:embed="rId2"/>
          <a:stretch/>
        </p:blipFill>
        <p:spPr>
          <a:xfrm>
            <a:off x="468360" y="260280"/>
            <a:ext cx="8207280" cy="6264360"/>
          </a:xfrm>
          <a:prstGeom prst="rect">
            <a:avLst/>
          </a:prstGeom>
          <a:ln w="19080">
            <a:solidFill>
              <a:srgbClr val="ffffff"/>
            </a:solidFill>
            <a:miter/>
          </a:ln>
        </p:spPr>
      </p:pic>
      <p:sp>
        <p:nvSpPr>
          <p:cNvPr id="112" name="PlaceHolder 1"/>
          <p:cNvSpPr>
            <a:spLocks noGrp="1"/>
          </p:cNvSpPr>
          <p:nvPr>
            <p:ph/>
          </p:nvPr>
        </p:nvSpPr>
        <p:spPr>
          <a:xfrm>
            <a:off x="755640" y="692280"/>
            <a:ext cx="6696000" cy="4525920"/>
          </a:xfrm>
          <a:prstGeom prst="rect">
            <a:avLst/>
          </a:prstGeom>
          <a:noFill/>
          <a:ln w="0">
            <a:noFill/>
          </a:ln>
        </p:spPr>
        <p:txBody>
          <a:bodyPr lIns="90000" rIns="90000" tIns="46800" bIns="46800" anchor="t">
            <a:normAutofit fontScale="92000"/>
          </a:bodyPr>
          <a:p>
            <a:pPr marL="315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1" i="1" lang="ru-RU" sz="3200" spc="-1" strike="noStrike">
                <a:solidFill>
                  <a:srgbClr val="ffffff"/>
                </a:solidFill>
                <a:latin typeface="Arial"/>
              </a:rPr>
              <a:t>Елена Уайт, Рукописи, том 21. стр. 131-132. Те, кто находятся на самом дне, могут открыть драгоценности истины… Истинные искатели Слова Божьего откроют свои сердца для Бога, умоляя о помощи Духа Святого.</a:t>
            </a:r>
            <a:r>
              <a:rPr b="0" lang="ru-RU"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1440"/>
            <a:ext cx="9144000" cy="6859440"/>
          </a:xfrm>
          <a:prstGeom prst="rect">
            <a:avLst/>
          </a:prstGeom>
          <a:ln w="0">
            <a:noFill/>
          </a:ln>
        </p:spPr>
      </p:pic>
      <p:sp>
        <p:nvSpPr>
          <p:cNvPr id="114" name="PlaceHolder 1"/>
          <p:cNvSpPr>
            <a:spLocks noGrp="1"/>
          </p:cNvSpPr>
          <p:nvPr>
            <p:ph type="title"/>
          </p:nvPr>
        </p:nvSpPr>
        <p:spPr>
          <a:xfrm>
            <a:off x="39528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3. ВЗАИМООТНОШЕНИЯ С ДРУГИМИ ЛЮДЬМ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755280" y="1413000"/>
            <a:ext cx="793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Краткое описание Его жизни</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лена Уайт. </a:t>
            </a:r>
            <a:r>
              <a:rPr b="0" lang="en-US" sz="2000" spc="-1" strike="noStrike">
                <a:solidFill>
                  <a:srgbClr val="000000"/>
                </a:solidFill>
                <a:latin typeface="Arial"/>
              </a:rPr>
              <a:t>Review and Herald</a:t>
            </a:r>
            <a:r>
              <a:rPr b="0" lang="ru-RU" sz="2000" spc="-1" strike="noStrike">
                <a:solidFill>
                  <a:srgbClr val="000000"/>
                </a:solidFill>
                <a:latin typeface="Arial"/>
              </a:rPr>
              <a:t> 20 августа 1959 года. Те, кто трудятся для Иисуса Христа должны быть чистыми, честными и надежными, и они также должны быть отзывчивыми, сострадательными и вежливыми… Добрые слова, доброжелательный взгляд, вежливое поведение – неоценимые качества. Невежливые христиане своим отвержением других людей показывают, что не находятся в союзе со Христом. Невозможно быть в союзе со Христом и одновременно грубить.</a:t>
            </a:r>
            <a:endParaRPr b="0" lang="en-US" sz="2000" spc="-1" strike="noStrike">
              <a:solidFill>
                <a:srgbClr val="000000"/>
              </a:solidFill>
              <a:latin typeface="Arial"/>
            </a:endParaRPr>
          </a:p>
        </p:txBody>
      </p:sp>
      <p:pic>
        <p:nvPicPr>
          <p:cNvPr id="116" name="" descr=""/>
          <p:cNvPicPr/>
          <p:nvPr/>
        </p:nvPicPr>
        <p:blipFill>
          <a:blip r:embed="rId2"/>
          <a:stretch/>
        </p:blipFill>
        <p:spPr>
          <a:xfrm>
            <a:off x="5651640" y="4797360"/>
            <a:ext cx="3492360" cy="2060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440"/>
            <a:ext cx="9144000" cy="6859440"/>
          </a:xfrm>
          <a:prstGeom prst="rect">
            <a:avLst/>
          </a:prstGeom>
          <a:ln w="0">
            <a:noFill/>
          </a:ln>
        </p:spPr>
      </p:pic>
      <p:sp>
        <p:nvSpPr>
          <p:cNvPr id="118"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1" i="1" lang="ru-RU" sz="2400" spc="-1" strike="noStrike">
                <a:solidFill>
                  <a:srgbClr val="000000"/>
                </a:solidFill>
                <a:latin typeface="Arial"/>
              </a:rPr>
              <a:t>Какой была жизнь Иисуса Христа на земле, такой должна быть жизнь каждого христианина. Он – наш пример, не только Его безупречная святость, но и Его терпение, нежность и доброжелательное расположение. Он был крепким как скала, на которой истина и уважение соединились, но Он был удивительно добр и вежлив.</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19" name="" descr=""/>
          <p:cNvPicPr/>
          <p:nvPr/>
        </p:nvPicPr>
        <p:blipFill>
          <a:blip r:embed="rId2"/>
          <a:stretch/>
        </p:blipFill>
        <p:spPr>
          <a:xfrm>
            <a:off x="2627280" y="4292640"/>
            <a:ext cx="4032360" cy="2295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1440"/>
            <a:ext cx="9144000" cy="6859440"/>
          </a:xfrm>
          <a:prstGeom prst="rect">
            <a:avLst/>
          </a:prstGeom>
          <a:ln w="0">
            <a:noFill/>
          </a:ln>
        </p:spPr>
      </p:pic>
      <p:sp>
        <p:nvSpPr>
          <p:cNvPr id="121" name="PlaceHolder 1"/>
          <p:cNvSpPr>
            <a:spLocks noGrp="1"/>
          </p:cNvSpPr>
          <p:nvPr>
            <p:ph/>
          </p:nvPr>
        </p:nvSpPr>
        <p:spPr>
          <a:xfrm>
            <a:off x="888840" y="990360"/>
            <a:ext cx="7428240" cy="2943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н выражал слова симпатии, если видел людей усталых и покорившихся нести тяжелые бремена. Он разделял их бремена и снова и снова повторял для них уроки истинной любви, доброты и великодушия, которым Он научился у Бога.</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22" name="" descr=""/>
          <p:cNvPicPr/>
          <p:nvPr/>
        </p:nvPicPr>
        <p:blipFill>
          <a:blip r:embed="rId2"/>
          <a:stretch/>
        </p:blipFill>
        <p:spPr>
          <a:xfrm>
            <a:off x="0" y="3618000"/>
            <a:ext cx="5688000" cy="324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1440"/>
            <a:ext cx="9144000" cy="6859440"/>
          </a:xfrm>
          <a:prstGeom prst="rect">
            <a:avLst/>
          </a:prstGeom>
          <a:ln w="0">
            <a:noFill/>
          </a:ln>
        </p:spPr>
      </p:pic>
      <p:sp>
        <p:nvSpPr>
          <p:cNvPr id="124"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Елена Уайт «Желание веков», стр. 89. Иисус никогда не отстаивал Свои права и часто вынужден был из-за Своей безропотности и безотказности трудиться без меры. Но Он никогда не падал духом и не унывал. Он был выше этих трудностей и жил, словно согретый светом Божьего венца. Он не мстил, когда с Ним грубо обращались, но с терпением переносил всякое оскорблени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25" name="" descr=""/>
          <p:cNvPicPr/>
          <p:nvPr/>
        </p:nvPicPr>
        <p:blipFill>
          <a:blip r:embed="rId2"/>
          <a:stretch/>
        </p:blipFill>
        <p:spPr>
          <a:xfrm>
            <a:off x="71280" y="3645000"/>
            <a:ext cx="5364360" cy="305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1440"/>
            <a:ext cx="9144000" cy="6859440"/>
          </a:xfrm>
          <a:prstGeom prst="rect">
            <a:avLst/>
          </a:prstGeom>
          <a:ln w="0">
            <a:noFill/>
          </a:ln>
        </p:spPr>
      </p:pic>
      <p:sp>
        <p:nvSpPr>
          <p:cNvPr id="127" name="PlaceHolder 1"/>
          <p:cNvSpPr>
            <a:spLocks noGrp="1"/>
          </p:cNvSpPr>
          <p:nvPr>
            <p:ph/>
          </p:nvPr>
        </p:nvSpPr>
        <p:spPr>
          <a:xfrm>
            <a:off x="107640" y="2431800"/>
            <a:ext cx="6273720" cy="272556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yriad Condensed Web"/>
              </a:rPr>
              <a:t>             </a:t>
            </a:r>
            <a:r>
              <a:rPr b="1" lang="ru-RU" sz="2800" spc="-1" strike="noStrike">
                <a:solidFill>
                  <a:srgbClr val="000000"/>
                </a:solidFill>
                <a:latin typeface="Arial"/>
              </a:rPr>
              <a:t>Качества, которые Бог хочет в нас видеть</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28" name=""/>
          <p:cNvSpPr/>
          <p:nvPr/>
        </p:nvSpPr>
        <p:spPr>
          <a:xfrm flipV="1">
            <a:off x="1403280" y="3214800"/>
            <a:ext cx="5184720" cy="6984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1440"/>
            <a:ext cx="9144000" cy="6859440"/>
          </a:xfrm>
          <a:prstGeom prst="rect">
            <a:avLst/>
          </a:prstGeom>
          <a:ln w="0">
            <a:noFill/>
          </a:ln>
        </p:spPr>
      </p:pic>
      <p:sp>
        <p:nvSpPr>
          <p:cNvPr id="130" name="PlaceHolder 1"/>
          <p:cNvSpPr>
            <a:spLocks noGrp="1"/>
          </p:cNvSpPr>
          <p:nvPr>
            <p:ph type="title"/>
          </p:nvPr>
        </p:nvSpPr>
        <p:spPr>
          <a:xfrm>
            <a:off x="250920" y="1133640"/>
            <a:ext cx="5473440" cy="855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лушание Богу. Иоанн. 14:15. Если любите Меня, соблюдите Мои заповед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178920" y="2565000"/>
            <a:ext cx="7201080" cy="3560760"/>
          </a:xfrm>
          <a:prstGeom prst="rect">
            <a:avLst/>
          </a:prstGeom>
          <a:noFill/>
          <a:ln w="0">
            <a:noFill/>
          </a:ln>
        </p:spPr>
        <p:txBody>
          <a:bodyPr lIns="90000" rIns="90000" tIns="46800" bIns="4680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Знамения времени, 17 апреля 1893 года. Христос не только показал нам, как мы можем стать послушными детьми, но Он показал Своей жизнью и характером как совершать правильные и угодные Богу поступки, поэтому нам необходимо так и поступат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1440"/>
            <a:ext cx="9144000" cy="6859440"/>
          </a:xfrm>
          <a:prstGeom prst="rect">
            <a:avLst/>
          </a:prstGeom>
          <a:ln w="0">
            <a:noFill/>
          </a:ln>
        </p:spPr>
      </p:pic>
      <p:sp>
        <p:nvSpPr>
          <p:cNvPr id="133" name="PlaceHolder 1"/>
          <p:cNvSpPr>
            <a:spLocks noGrp="1"/>
          </p:cNvSpPr>
          <p:nvPr>
            <p:ph/>
          </p:nvPr>
        </p:nvSpPr>
        <p:spPr>
          <a:xfrm>
            <a:off x="34560" y="404280"/>
            <a:ext cx="4537080" cy="452628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Любовь.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Мтф. 22:39.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торая же подобная ей: возлюби ближнего твоего, как самого себя.</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25560"/>
            <a:ext cx="9144000" cy="6859440"/>
          </a:xfrm>
          <a:prstGeom prst="rect">
            <a:avLst/>
          </a:prstGeom>
          <a:ln w="0">
            <a:noFill/>
          </a:ln>
        </p:spPr>
      </p:pic>
      <p:sp>
        <p:nvSpPr>
          <p:cNvPr id="135" name="PlaceHolder 1"/>
          <p:cNvSpPr>
            <a:spLocks noGrp="1"/>
          </p:cNvSpPr>
          <p:nvPr>
            <p:ph/>
          </p:nvPr>
        </p:nvSpPr>
        <p:spPr>
          <a:xfrm>
            <a:off x="34560" y="1412640"/>
            <a:ext cx="6769080" cy="41655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ru-RU" sz="2400" spc="-1" strike="noStrike">
                <a:solidFill>
                  <a:srgbClr val="000000"/>
                </a:solidFill>
                <a:latin typeface="Arial"/>
              </a:rPr>
              <a:t>Елена Уайт, Библейский комментарий, том 5, стр. 1097.  Закон Божий требует, чтобы человек любил прежде всего Бога, а затем своего ближнего как самого себя. В жизни Христа этот закон совершился, а нам необходимо быть совершенными во Христе.</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1440"/>
            <a:ext cx="9144000" cy="6859440"/>
          </a:xfrm>
          <a:prstGeom prst="rect">
            <a:avLst/>
          </a:prstGeom>
          <a:ln w="0">
            <a:noFill/>
          </a:ln>
        </p:spPr>
      </p:pic>
      <p:sp>
        <p:nvSpPr>
          <p:cNvPr id="137" name="PlaceHolder 1"/>
          <p:cNvSpPr>
            <a:spLocks noGrp="1"/>
          </p:cNvSpPr>
          <p:nvPr>
            <p:ph/>
          </p:nvPr>
        </p:nvSpPr>
        <p:spPr>
          <a:xfrm>
            <a:off x="250560" y="99072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ru-RU" sz="2800" spc="-1" strike="noStrike" u="sng">
                <a:solidFill>
                  <a:srgbClr val="000000"/>
                </a:solidFill>
                <a:uFillTx/>
                <a:latin typeface="Arial"/>
              </a:rPr>
              <a:t>Чистота, Мтф. 5:8. </a:t>
            </a:r>
            <a:r>
              <a:rPr b="1" lang="ru-RU" sz="2800" spc="-1" strike="noStrike">
                <a:solidFill>
                  <a:srgbClr val="000000"/>
                </a:solidFill>
                <a:latin typeface="Arial"/>
              </a:rPr>
              <a:t>Блаженны чистые сердцем, ибо они Бога узрят</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440"/>
            <a:ext cx="9144000" cy="6859440"/>
          </a:xfrm>
          <a:prstGeom prst="rect">
            <a:avLst/>
          </a:prstGeom>
          <a:ln w="0">
            <a:noFill/>
          </a:ln>
        </p:spPr>
      </p:pic>
      <p:sp>
        <p:nvSpPr>
          <p:cNvPr id="139" name="PlaceHolder 1"/>
          <p:cNvSpPr>
            <a:spLocks noGrp="1"/>
          </p:cNvSpPr>
          <p:nvPr>
            <p:ph/>
          </p:nvPr>
        </p:nvSpPr>
        <p:spPr>
          <a:xfrm>
            <a:off x="457200" y="1600200"/>
            <a:ext cx="7354800" cy="452592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Елена Уайт, Нагорная проповедь Христа, стр. ориг. 26, 27. Чистые сердцем смотрят на Него, как на Отца, желающего обнять Своего кающегося сына, и сердца их преисполнены неописуемой радости и полны славы. Чистые сердцем познают своего Творца в делах рук Его, в красоте природы и всей вселенной. Еще яснее они видят откровение Его милости, благости и благодати на страницах Священного Писани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1440"/>
            <a:ext cx="9144000" cy="6859440"/>
          </a:xfrm>
          <a:prstGeom prst="rect">
            <a:avLst/>
          </a:prstGeom>
          <a:ln w="0">
            <a:noFill/>
          </a:ln>
        </p:spPr>
      </p:pic>
      <p:sp>
        <p:nvSpPr>
          <p:cNvPr id="141" name="PlaceHolder 1"/>
          <p:cNvSpPr>
            <a:spLocks noGrp="1"/>
          </p:cNvSpPr>
          <p:nvPr>
            <p:ph/>
          </p:nvPr>
        </p:nvSpPr>
        <p:spPr>
          <a:xfrm>
            <a:off x="250560" y="1341360"/>
            <a:ext cx="64198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Прощение</a:t>
            </a:r>
            <a:r>
              <a:rPr b="1" lang="ru-RU" sz="2800" spc="-1" strike="noStrike">
                <a:solidFill>
                  <a:srgbClr val="000000"/>
                </a:solidFill>
                <a:latin typeface="Arial"/>
              </a:rPr>
              <a:t>. Мтф. 18:21, 22. Тогда Петр приступил к Нему и сказал: Господи! сколько раз прощать брату моему, согрешающему против меня? до семи ли раз? </a:t>
            </a:r>
            <a:br>
              <a:rPr sz="2800"/>
            </a:br>
            <a:r>
              <a:rPr b="1" lang="ru-RU" sz="2800" spc="-1" strike="noStrike">
                <a:solidFill>
                  <a:srgbClr val="000000"/>
                </a:solidFill>
                <a:latin typeface="Arial"/>
              </a:rPr>
              <a:t>Иисус говорит ему: не говорю тебе: до семи раз, но до седмижды семидесяти раз</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178920" y="404280"/>
            <a:ext cx="6769080" cy="4526280"/>
          </a:xfrm>
          <a:prstGeom prst="rect">
            <a:avLst/>
          </a:prstGeom>
          <a:noFill/>
          <a:ln w="0">
            <a:noFill/>
          </a:ln>
        </p:spPr>
        <p:txBody>
          <a:bodyPr lIns="90000" rIns="90000" tIns="46800" bIns="46800" anchor="t">
            <a:normAutofit fontScale="98000"/>
          </a:bodyPr>
          <a:p>
            <a:pPr marL="3358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Елена Уайт, Наглядные уроки Христа, стр. ориг. 243-245. Раввины считали достаточным прощать до трех раз. Петр, следуя, как он считал, учению Христа, счел возможным увеличить число прощаемых обид до семи. Число это почиталось за символ совершенства. Христос же учил, что прощение никогда не должно нам надоесть. "Не до семи, - говорит Он, - но до седмижды семидесяти раз».</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440"/>
            <a:ext cx="9144000" cy="6859440"/>
          </a:xfrm>
          <a:prstGeom prst="rect">
            <a:avLst/>
          </a:prstGeom>
          <a:ln w="0">
            <a:noFill/>
          </a:ln>
        </p:spPr>
      </p:pic>
      <p:sp>
        <p:nvSpPr>
          <p:cNvPr id="145" name="PlaceHolder 1"/>
          <p:cNvSpPr>
            <a:spLocks noGrp="1"/>
          </p:cNvSpPr>
          <p:nvPr>
            <p:ph/>
          </p:nvPr>
        </p:nvSpPr>
        <p:spPr>
          <a:xfrm>
            <a:off x="456840" y="764640"/>
            <a:ext cx="5986440" cy="452628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Смирение</a:t>
            </a:r>
            <a:r>
              <a:rPr b="1" lang="ru-RU" sz="3200" spc="-1" strike="noStrike">
                <a:solidFill>
                  <a:srgbClr val="000000"/>
                </a:solidFill>
                <a:latin typeface="Arial"/>
              </a:rPr>
              <a:t>,</a:t>
            </a:r>
            <a:r>
              <a:rPr b="0" lang="ru-RU" sz="3200" spc="-1" strike="noStrike">
                <a:solidFill>
                  <a:srgbClr val="000000"/>
                </a:solidFill>
                <a:latin typeface="Arial"/>
              </a:rPr>
              <a:t> Мтф. 5:5. Блаженны кроткие, ибо они наследуют землю. </a:t>
            </a:r>
            <a:endParaRPr b="0" lang="en-US" sz="3200" spc="-1" strike="noStrike">
              <a:solidFill>
                <a:srgbClr val="000000"/>
              </a:solidFill>
              <a:latin typeface="Arial"/>
            </a:endParaRPr>
          </a:p>
          <a:p>
            <a:pPr marL="343080" indent="0" algn="just">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440"/>
            <a:ext cx="9144000" cy="6859440"/>
          </a:xfrm>
          <a:prstGeom prst="rect">
            <a:avLst/>
          </a:prstGeom>
          <a:ln w="0">
            <a:noFill/>
          </a:ln>
        </p:spPr>
      </p:pic>
      <p:sp>
        <p:nvSpPr>
          <p:cNvPr id="147" name="PlaceHolder 1"/>
          <p:cNvSpPr>
            <a:spLocks noGrp="1"/>
          </p:cNvSpPr>
          <p:nvPr>
            <p:ph/>
          </p:nvPr>
        </p:nvSpPr>
        <p:spPr>
          <a:xfrm>
            <a:off x="456840" y="1052640"/>
            <a:ext cx="6635880" cy="4525920"/>
          </a:xfrm>
          <a:prstGeom prst="rect">
            <a:avLst/>
          </a:prstGeom>
          <a:noFill/>
          <a:ln w="0">
            <a:noFill/>
          </a:ln>
        </p:spPr>
        <p:txBody>
          <a:bodyPr lIns="90000" rIns="90000" tIns="46800" bIns="46800" anchor="t">
            <a:normAutofit fontScale="98000"/>
          </a:bodyPr>
          <a:p>
            <a:pPr marL="335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Елена Уайт, Правила счастливой жизни, стр. ориг. 16. Именно себялюбие разрушает наш душевный мир. Пока наше собственное "я" живет и здравствует, мы всегда готовы охранять его от малейшего унижения и обиды; но если мы умрем в Господе и наша жизнь будет сокрыта со Христом в Боге, то не станем принимать близко к сердцу пренебрежение или неуважение</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1440"/>
            <a:ext cx="9144000" cy="6859440"/>
          </a:xfrm>
          <a:prstGeom prst="rect">
            <a:avLst/>
          </a:prstGeom>
          <a:ln w="0">
            <a:noFill/>
          </a:ln>
        </p:spPr>
      </p:pic>
      <p:sp>
        <p:nvSpPr>
          <p:cNvPr id="149" name="PlaceHolder 1"/>
          <p:cNvSpPr>
            <a:spLocks noGrp="1"/>
          </p:cNvSpPr>
          <p:nvPr>
            <p:ph/>
          </p:nvPr>
        </p:nvSpPr>
        <p:spPr>
          <a:xfrm>
            <a:off x="457200" y="1125000"/>
            <a:ext cx="403848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Щедрость. </a:t>
            </a:r>
            <a:r>
              <a:rPr b="1" lang="ru-RU" sz="2800" spc="-1" strike="noStrike">
                <a:solidFill>
                  <a:srgbClr val="000000"/>
                </a:solidFill>
                <a:latin typeface="Arial"/>
              </a:rPr>
              <a:t>Мтф. 5:42. Просящему у тебя дай, и от хотящего занять у тебя не отвращайся.</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456840" y="620640"/>
            <a:ext cx="7859880" cy="452592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ru-RU" sz="2400" spc="-1" strike="noStrike">
                <a:solidFill>
                  <a:srgbClr val="000000"/>
                </a:solidFill>
                <a:latin typeface="Arial"/>
              </a:rPr>
              <a:t> </a:t>
            </a:r>
            <a:r>
              <a:rPr b="1" lang="ru-RU" sz="2400" spc="-1" strike="noStrike" u="sng">
                <a:solidFill>
                  <a:srgbClr val="000000"/>
                </a:solidFill>
                <a:uFillTx/>
                <a:latin typeface="Arial"/>
              </a:rPr>
              <a:t>б. Как юноша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Терпение. </a:t>
            </a:r>
            <a:r>
              <a:rPr b="1" lang="ru-RU" sz="2400" spc="-1" strike="noStrike">
                <a:solidFill>
                  <a:srgbClr val="000000"/>
                </a:solidFill>
                <a:latin typeface="Arial"/>
              </a:rPr>
              <a:t>Желание веков, стр. ориг. 82. Иисус не отрицал Своей связи с земными родителями. Из Иерусалима Он вернулся вместе с ними домой помогать им в трудах. Он скрывал в Своем сердце тайну Своего предназначения, покорно ожидая, когда наступит время Его служения. На протяжении восемнадцати лет после того, как Он понял, что является Сыном Божьим, Он, признавая узы, которые связывали Его с домом в Назарете, выполнял долг сына, брата, друга и граждан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1440"/>
            <a:ext cx="9144000" cy="6859440"/>
          </a:xfrm>
          <a:prstGeom prst="rect">
            <a:avLst/>
          </a:prstGeom>
          <a:ln w="0">
            <a:noFill/>
          </a:ln>
        </p:spPr>
      </p:pic>
      <p:sp>
        <p:nvSpPr>
          <p:cNvPr id="151" name="PlaceHolder 1"/>
          <p:cNvSpPr>
            <a:spLocks noGrp="1"/>
          </p:cNvSpPr>
          <p:nvPr>
            <p:ph/>
          </p:nvPr>
        </p:nvSpPr>
        <p:spPr>
          <a:xfrm>
            <a:off x="107640" y="1125000"/>
            <a:ext cx="6840360" cy="5000760"/>
          </a:xfrm>
          <a:prstGeom prst="rect">
            <a:avLst/>
          </a:prstGeom>
          <a:noFill/>
          <a:ln w="0">
            <a:noFill/>
          </a:ln>
        </p:spPr>
        <p:txBody>
          <a:bodyPr lIns="90000" rIns="90000" tIns="46800" bIns="46800" anchor="t">
            <a:normAutofit fontScale="94000"/>
          </a:bodyPr>
          <a:p>
            <a:pPr marL="32220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Елена Уайт, Правила счастливой жизни, стр. ориг. 72. Этот библейский текст разъясняет нам слова Спасителя. Христос вовсе не учит нас давать без разбора всякому, просящему о поддержке, но Он говорит: "Дай ему взаймы, смотря по его нужде", и это должен быть скорее дар, чем заем, ибо мы призваны давать взаймы, "не ожидая ничего" (Лк. 6:35).</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108000" y="981000"/>
            <a:ext cx="6192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Сострадание</a:t>
            </a:r>
            <a:r>
              <a:rPr b="1" lang="ru-RU" sz="2800" spc="-1" strike="noStrike">
                <a:solidFill>
                  <a:srgbClr val="000000"/>
                </a:solidFill>
                <a:latin typeface="Arial"/>
              </a:rPr>
              <a:t>.</a:t>
            </a:r>
            <a:r>
              <a:rPr b="0" lang="ru-RU" sz="2800" spc="-1" strike="noStrike">
                <a:solidFill>
                  <a:srgbClr val="000000"/>
                </a:solidFill>
                <a:latin typeface="Arial"/>
              </a:rPr>
              <a:t> Мтф. 25:35, 36. Ибо алкал Я, и вы дали Мне есть; жаждал, и вы напоили Меня; был странником, и вы приняли Меня; </a:t>
            </a:r>
            <a:br>
              <a:rPr sz="2800"/>
            </a:br>
            <a:r>
              <a:rPr b="0" lang="ru-RU" sz="2800" spc="-1" strike="noStrike">
                <a:solidFill>
                  <a:srgbClr val="000000"/>
                </a:solidFill>
                <a:latin typeface="Arial"/>
              </a:rPr>
              <a:t>был наг, и вы одели Меня; был болен, и вы посетили Меня; в темнице был, и вы пришли ко Мн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440"/>
            <a:ext cx="9144000" cy="6859440"/>
          </a:xfrm>
          <a:prstGeom prst="rect">
            <a:avLst/>
          </a:prstGeom>
          <a:ln w="0">
            <a:noFill/>
          </a:ln>
        </p:spPr>
      </p:pic>
      <p:sp>
        <p:nvSpPr>
          <p:cNvPr id="155" name="PlaceHolder 1"/>
          <p:cNvSpPr>
            <a:spLocks noGrp="1"/>
          </p:cNvSpPr>
          <p:nvPr>
            <p:ph/>
          </p:nvPr>
        </p:nvSpPr>
        <p:spPr>
          <a:xfrm>
            <a:off x="34560" y="765000"/>
            <a:ext cx="6202440" cy="5361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Мы можем считать себя последователями Христа, мы можем заявлять, что веруем в каждую истину Слова Божьего; но это не принесет пользы нашему ближнему, если мы не подчиним своей вере всю нашу повседневную жизнь. Наше исповедание веры может быть высоким, как небо, но оно не спасет ни нас, ни наших собратьев, если мы не станем истинными христианами. Добрый пример может сделать больше для блага мира, чем все наши заявления</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
        <p:nvSpPr>
          <p:cNvPr id="157" name="PlaceHolder 1"/>
          <p:cNvSpPr>
            <a:spLocks noGrp="1"/>
          </p:cNvSpPr>
          <p:nvPr>
            <p:ph/>
          </p:nvPr>
        </p:nvSpPr>
        <p:spPr>
          <a:xfrm>
            <a:off x="107640" y="1125000"/>
            <a:ext cx="677844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Покорность</a:t>
            </a:r>
            <a:r>
              <a:rPr b="0" lang="ru-RU" sz="2800" spc="-1" strike="noStrike">
                <a:solidFill>
                  <a:srgbClr val="000000"/>
                </a:solidFill>
                <a:latin typeface="Arial"/>
              </a:rPr>
              <a:t>. Мтф. 20:26-28. Но между вами да не будет так: а кто хочет между вами быть большим, да будет вам слугою; </a:t>
            </a:r>
            <a:br>
              <a:rPr sz="2800"/>
            </a:br>
            <a:r>
              <a:rPr b="0" lang="ru-RU" sz="2800" spc="-1" strike="noStrike">
                <a:solidFill>
                  <a:srgbClr val="000000"/>
                </a:solidFill>
                <a:latin typeface="Arial"/>
              </a:rPr>
              <a:t>и кто хочет между вами быть первым, да будет вам рабом; </a:t>
            </a:r>
            <a:br>
              <a:rPr sz="2800"/>
            </a:br>
            <a:r>
              <a:rPr b="0" lang="ru-RU" sz="2800" spc="-1" strike="noStrike">
                <a:solidFill>
                  <a:srgbClr val="000000"/>
                </a:solidFill>
                <a:latin typeface="Arial"/>
              </a:rPr>
              <a:t>так как Сын Человеческий не </a:t>
            </a:r>
            <a:r>
              <a:rPr b="0" i="1" lang="ru-RU" sz="2800" spc="-1" strike="noStrike">
                <a:solidFill>
                  <a:srgbClr val="000000"/>
                </a:solidFill>
                <a:latin typeface="Arial"/>
              </a:rPr>
              <a:t>для</a:t>
            </a:r>
            <a:r>
              <a:rPr b="0" lang="ru-RU" sz="2800" spc="-1" strike="noStrike">
                <a:solidFill>
                  <a:srgbClr val="000000"/>
                </a:solidFill>
                <a:latin typeface="Arial"/>
              </a:rPr>
              <a:t> </a:t>
            </a:r>
            <a:r>
              <a:rPr b="0" i="1" lang="ru-RU" sz="2800" spc="-1" strike="noStrike">
                <a:solidFill>
                  <a:srgbClr val="000000"/>
                </a:solidFill>
                <a:latin typeface="Arial"/>
              </a:rPr>
              <a:t>того</a:t>
            </a:r>
            <a:r>
              <a:rPr b="0" lang="ru-RU" sz="2800" spc="-1" strike="noStrike">
                <a:solidFill>
                  <a:srgbClr val="000000"/>
                </a:solidFill>
                <a:latin typeface="Arial"/>
              </a:rPr>
              <a:t> пришел, чтобы Ему служили, но чтобы послужить и отдать душу Свою для искупления многи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34920" y="765000"/>
            <a:ext cx="8353440" cy="488664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ru-RU" sz="2800" spc="-1" strike="noStrike">
                <a:solidFill>
                  <a:srgbClr val="000000"/>
                </a:solidFill>
                <a:latin typeface="Arial"/>
              </a:rPr>
              <a:t>Елена Уайт, Желание веков, стр. ориг. 650. Человек часто склонен считать себя выше других, трудиться только для себя, стремиться к самому высокому положению, что порождает в нем злые подозрения и горечь. Обряд, предшествующий Вечере Господней, должен устранить эту скверну, освободить человека от эгоизма, избавить его от стремления к самовозвышению и побудить к смирению сердца, которое приведет его к служению ближним.</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
        <p:nvSpPr>
          <p:cNvPr id="161" name="PlaceHolder 1"/>
          <p:cNvSpPr>
            <a:spLocks noGrp="1"/>
          </p:cNvSpPr>
          <p:nvPr>
            <p:ph/>
          </p:nvPr>
        </p:nvSpPr>
        <p:spPr>
          <a:xfrm>
            <a:off x="457200" y="549360"/>
            <a:ext cx="6130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0000"/>
                </a:solidFill>
                <a:uFillTx/>
                <a:latin typeface="Arial"/>
              </a:rPr>
              <a:t>Милосердие. </a:t>
            </a:r>
            <a:r>
              <a:rPr b="1" lang="ru-RU" sz="3600" spc="-1" strike="noStrike">
                <a:solidFill>
                  <a:srgbClr val="000000"/>
                </a:solidFill>
                <a:latin typeface="Arial"/>
              </a:rPr>
              <a:t>Мтф. 5:7. Блаженны милостивые, ибо они помилованы будут</a:t>
            </a:r>
            <a:r>
              <a:rPr b="0" lang="ru-RU"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PlaceHolder 1"/>
          <p:cNvSpPr>
            <a:spLocks noGrp="1"/>
          </p:cNvSpPr>
          <p:nvPr>
            <p:ph/>
          </p:nvPr>
        </p:nvSpPr>
        <p:spPr>
          <a:xfrm>
            <a:off x="34560" y="907920"/>
            <a:ext cx="6985080" cy="4525920"/>
          </a:xfrm>
          <a:prstGeom prst="rect">
            <a:avLst/>
          </a:prstGeom>
          <a:noFill/>
          <a:ln w="0">
            <a:noFill/>
          </a:ln>
        </p:spPr>
        <p:txBody>
          <a:bodyPr lIns="90000" rIns="90000" tIns="46800" bIns="46800" anchor="t">
            <a:normAutofit fontScale="92000"/>
          </a:bodyPr>
          <a:p>
            <a:pPr marL="315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Елена Уайт, Правила счастливой жизни, стр. ориг. 22. Милостивые являются "причастниками Божеского естества", и в них проявляется сострадательная любовь Божья. Все, чьи сердца пребывают в согласии с сердцем Бесконечной Любви, будут стремиться исправлять, а не осуждать. Присутствие Христа в душе подобно никогда не иссякающему источнику. Сердце, в котором обитает Господь, будет исполнено милосердием.</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PlaceHolder 1"/>
          <p:cNvSpPr>
            <a:spLocks noGrp="1"/>
          </p:cNvSpPr>
          <p:nvPr>
            <p:ph/>
          </p:nvPr>
        </p:nvSpPr>
        <p:spPr>
          <a:xfrm>
            <a:off x="107640" y="404280"/>
            <a:ext cx="526716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Верность в финансовых вопросах</a:t>
            </a:r>
            <a:r>
              <a:rPr b="1" lang="ru-RU" sz="2800" spc="-1" strike="noStrike">
                <a:solidFill>
                  <a:srgbClr val="000000"/>
                </a:solidFill>
                <a:latin typeface="Arial"/>
              </a:rPr>
              <a:t>. Мтф. 22:21. … Итак, отдавайте кесарево кесарю, а Божие Богу.</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
        <p:nvSpPr>
          <p:cNvPr id="167" name="PlaceHolder 1"/>
          <p:cNvSpPr>
            <a:spLocks noGrp="1"/>
          </p:cNvSpPr>
          <p:nvPr>
            <p:ph/>
          </p:nvPr>
        </p:nvSpPr>
        <p:spPr>
          <a:xfrm>
            <a:off x="-36720" y="907920"/>
            <a:ext cx="6994440" cy="4525920"/>
          </a:xfrm>
          <a:prstGeom prst="rect">
            <a:avLst/>
          </a:prstGeom>
          <a:noFill/>
          <a:ln w="0">
            <a:noFill/>
          </a:ln>
        </p:spPr>
        <p:txBody>
          <a:bodyPr lIns="90000" rIns="90000" tIns="46800" bIns="46800" anchor="t">
            <a:normAutofit fontScale="91000"/>
          </a:bodyPr>
          <a:p>
            <a:pPr marL="3121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ru-RU" sz="1800" spc="-1" strike="noStrike">
                <a:solidFill>
                  <a:srgbClr val="000000"/>
                </a:solidFill>
                <a:latin typeface="Arial"/>
              </a:rPr>
              <a:t>Елена Уайт, Свидетельства для Церкви, том 1, стр. ориг. 220. Некоторые братья не участвуют в систематических пожертвованиях, оправдывая себя тем, что им надо отрабатывать долги. Они утверждают, что сначала должны расквитаться со всеми долгами и не быть "должными никому ничем". Но то, что эти братья в долгах, не оправдывает их. Я видела, что они должны отдавать кесарю кесарево, а Богу Божье. Кое-кто считает, что они сначала обязаны освободиться от всех долгов и что Бог ничего не может требовать от них, пока они не выплатят все долги. Вот здесь-то они обманывают себя и не отдают Богу то, что принадлежит Ему по праву. Каждый должен приносить Господу приемлемую жертву. Погрязшим в долгах следует вычесть их из общей суммы своего дохода и отдать Богу часть остающихся средств</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457200" y="620280"/>
            <a:ext cx="4038480" cy="5505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Миротворчество. </a:t>
            </a:r>
            <a:r>
              <a:rPr b="1" lang="ru-RU" sz="2800" spc="-1" strike="noStrike">
                <a:solidFill>
                  <a:srgbClr val="000000"/>
                </a:solidFill>
                <a:latin typeface="Arial"/>
              </a:rPr>
              <a:t>Мтф. 5:9. Блаженны миротворцы, ибо они будут наречены сынами Божьими</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Arial"/>
              </a:rPr>
              <a:t>2. ЕГО ДУХОВНАЯ ЖИЗНЬ</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826920" y="1557360"/>
            <a:ext cx="7344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i="1" lang="ru-RU" sz="3200" spc="-1" strike="noStrike" u="sng">
                <a:solidFill>
                  <a:srgbClr val="000000"/>
                </a:solidFill>
                <a:uFillTx/>
                <a:latin typeface="Arial"/>
              </a:rPr>
              <a:t>а. Его молитвенная жизн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Христос начал Свое служение с молитв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Луки 3:21. Когда же крестился весь народ, и Иисус, крестившись, молился: отверзлось неб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PlaceHolder 1"/>
          <p:cNvSpPr>
            <a:spLocks noGrp="1"/>
          </p:cNvSpPr>
          <p:nvPr>
            <p:ph/>
          </p:nvPr>
        </p:nvSpPr>
        <p:spPr>
          <a:xfrm>
            <a:off x="179280" y="1197000"/>
            <a:ext cx="6562800" cy="4525920"/>
          </a:xfrm>
          <a:prstGeom prst="rect">
            <a:avLst/>
          </a:prstGeom>
          <a:noFill/>
          <a:ln w="0">
            <a:noFill/>
          </a:ln>
        </p:spPr>
        <p:txBody>
          <a:bodyPr lIns="90000" rIns="90000" tIns="46800" bIns="46800" anchor="t">
            <a:normAutofit fontScale="89000"/>
          </a:bodyPr>
          <a:p>
            <a:pPr marL="305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Елена Уайт, Дух пророчества, том 2, стр. ориг. 210. Настоящий христианин в своих взаимоотношениях с людьми будет выражать слова, которые будут погашать излишний гнев и ссоры. Небеса это мирное место и те, кто приближаются ко Христу, будут находиться в гармонии с Небесами</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PlaceHolder 1"/>
          <p:cNvSpPr>
            <a:spLocks noGrp="1"/>
          </p:cNvSpPr>
          <p:nvPr>
            <p:ph/>
          </p:nvPr>
        </p:nvSpPr>
        <p:spPr>
          <a:xfrm>
            <a:off x="0" y="198360"/>
            <a:ext cx="8974080" cy="4525920"/>
          </a:xfrm>
          <a:prstGeom prst="rect">
            <a:avLst/>
          </a:prstGeom>
          <a:noFill/>
          <a:ln w="0">
            <a:noFill/>
          </a:ln>
        </p:spPr>
        <p:txBody>
          <a:bodyPr lIns="90000" rIns="90000" tIns="46800" bIns="46800" anchor="t">
            <a:normAutofit fontScale="82000"/>
          </a:bodyPr>
          <a:p>
            <a:pPr marL="28116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0" i="1" lang="ru-RU" sz="3200" spc="-1" strike="noStrike">
                <a:solidFill>
                  <a:srgbClr val="000000"/>
                </a:solidFill>
                <a:latin typeface="Arial"/>
              </a:rPr>
              <a:t>Взирая на Христа – Ни один из людей, облеченных руководящей должностью, не избежит нападок сатаны. И более ответственные должности, которые занимает человек, ведут к более жестким нападкам врага. Слугам Божьим следует повсюду изучать Божье Слово, постоянно взирать на Иисуса, чтобы измениться в Его образ. Неисчерпаемая полнота Христа находится в нашем распоряжении, если мы  ходим пред Господом в смирении и раскаянии. Рукопись, 140, 1902 год</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755640" y="1351080"/>
            <a:ext cx="7415280" cy="4525920"/>
          </a:xfrm>
          <a:prstGeom prst="rect">
            <a:avLst/>
          </a:prstGeom>
          <a:noFill/>
          <a:ln w="0">
            <a:noFill/>
          </a:ln>
        </p:spPr>
        <p:txBody>
          <a:bodyPr lIns="90000" rIns="90000" tIns="46800" bIns="46800" anchor="t">
            <a:normAutofit fontScale="87000"/>
          </a:bodyPr>
          <a:p>
            <a:pPr marL="29844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3200" spc="-1" strike="noStrike">
                <a:solidFill>
                  <a:srgbClr val="000000"/>
                </a:solidFill>
                <a:latin typeface="Arial"/>
              </a:rPr>
              <a:t>Елена Уайт, Знамение времени, 24 июля 1893 года. Иисус «начал свое общественное служение с пылающей молитвы и Его пример говорит нам о том, что молитва необходима для ведения успешной христианской жизни».</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899640" y="620280"/>
            <a:ext cx="720108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исус преподал нам образец молитв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авила счастливой жизни, стр. ориг. 102, 103. Спаситель дважды произнес эту молитву: первый раз в нагорной проповеди и затем несколько месяцев спустя наедине с учениками. Иисус не дал им нового образца молитвы. Он повторил только то, чему уже раньше учил их, как бы говоря: "Вы должны понять то, что Я уже говорил вам; оно имеет более глубокое значение, чем вы думаете, и вы еще не совсем постигли это".</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755640" y="907920"/>
            <a:ext cx="734544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400" spc="-1" strike="noStrike">
                <a:solidFill>
                  <a:srgbClr val="000000"/>
                </a:solidFill>
                <a:latin typeface="Arial"/>
              </a:rPr>
              <a:t>Спаситель, однако, не говорит, что наша молитва должна ограничиваться сказанными Им словами. Будучи единым с человечеством, Он дает нам образец Своей собственной молитвы в словах настолько простых, что их поймет ребенок, и все же настолько содержательных, что гениальнейший ум не исчерпает их значения. Он учит нас приходить к Богу с благодарением и открывать перед Ним наши нужды, ссылаясь на </a:t>
            </a:r>
            <a:r>
              <a:rPr b="1" i="1" lang="ru-RU" sz="2400" spc="-1" strike="noStrike">
                <a:solidFill>
                  <a:srgbClr val="000000"/>
                </a:solidFill>
                <a:latin typeface="Arial"/>
              </a:rPr>
              <a:t>Его обетования.</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971640" y="1600200"/>
            <a:ext cx="73454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тф. 6:9-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А. Мтф. 6:9-10. Отче наш, сущий на небесах! да святится имя Твое; да приидет Царствие Твое; да будет воля Твоя и на земле, как на небе.</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17:44:53Z</dcterms:created>
  <dc:creator>ArraisR</dc:creator>
  <dc:description/>
  <dc:language>en-US</dc:language>
  <cp:lastModifiedBy>Irina Romashkina</cp:lastModifiedBy>
  <dcterms:modified xsi:type="dcterms:W3CDTF">2008-01-16T12:30:45Z</dcterms:modified>
  <cp:revision>69</cp:revision>
  <dc:subject/>
  <dc:title>Slide 1</dc:title>
</cp:coreProperties>
</file>