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824C9D-03AC-497F-96C1-39DB1FDFB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33676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5342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ЧЕМ ЖЕНЩИНАМ НУЖЕН НАСТАВ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2671920"/>
            <a:ext cx="5607000" cy="548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НАСТАВ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льное наставничество. Формальное наставничество выгодно для третьей стороны и зачастую включает формальные соглашения между наставником и наставляемым. Формальное наставничество как правило осуществляется на рабочем месте или в ассоциации. Обычно ответственный координатор, который подбирает наставника и наставляемого, организует их обучение и семинары, и, как правило, наблюдает  за структурированной программой наста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ормальное наставничество. Неформальное наставничество, когда двое людей вступают в наставнические отношения без помощи третьей стороны или подписания формального контракта. Эта форма наставничества обычно неструктурированна и зачастую возникает спонтанно между коллегами или друзьями, и развивается в наставнические отношения через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. Наставничество через малые группы более четырех человек может быть вполне эффективно во многих ситуациях. Обычно малая группа создается в одной организации. Как у наставников, так и у наставляемых схожие цели. Вхождение в наставнические малые группы для наставляемых и наставников с различными профессиональными и личностными характеристиками может быть полез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. Профессиональный наставник обладает личным опытом в области, в которой он наставляет, и комбинирует учительство и наставничество для того, чтобы добиться высокого уровня результатов от своих клиентов. Различное неформальное, формальное и наставничество через малые группы традиционно предоставляются бесплатно, а профессиональные наставники оценивают свой труд в соответствии с видом наставничества, опытом и репут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2379240"/>
            <a:ext cx="5526000" cy="5853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кие отношения уникальны. У них три первоочередных цели, которые отличают их от других видов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своим наставляемым овладеть знаниями, навыками и использовать возможность достигнуть цели, демонстрируют опыт взаимоотношений с другими профессионалами, поддерживают долгосрочные отношения и избирают возможности сотрудничества, которые помогут наставляемому расширить круг друзей среди профессио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уществляют квалифицированное сильное духовное руководство, поощряют попытки новых идей, содействуют развитию социальных связей, вдохновляют наставляемого и создают взаимоотношения единомышленников. Очень хороший пример наставника-насталяемого в Библии это пример Павла и Тимоф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распределять время и расставлять акценты для сохранения баланса в жизни, способствуют развитию самоподдержки и других психологических стратегий совладания, поддерживающих здоровье и благополуч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260440" y="549360"/>
            <a:ext cx="2405160" cy="180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2450880"/>
            <a:ext cx="5607000" cy="6296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амых сложных компонентов наставнических отношений это поиск подходящей личности. Если вам нужен наставник, Ричард Боллес, профессионал в области профессиональной карьеры, предлагает составить список важных пунктов, которые помогут в вашем выборе – знания, навыки, личностные качества, опыт и т. д. – затем выбрать то, что у вас уже есть. И следующим шагом, найдите человека, который вам действительно поможет и станет вашим настав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множество психологов верят, что лучшие отношения происходят «естественно». Сначала вы начинаете обсуждать какие-то вопросы, затем дискуссий становится все больше, а затем вы понимаете, что у вас есть наставник. Но в действительности, совет психологов очень не прост. Вам необходимо сделать некоторую домашнюю работу. Обдумайте следующие руководящие указания, когда вы ищите настав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йте себе вопрос: Что вы ожидаете от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вашем личностном сти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го типа человек поможет вам достичь боль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говорите с друзьями и коллегами о ваших наставни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росите у ваших друзей и коллег, может быть они знают о каком-то хорошем подходящем для вас наставн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мните, иногда наставником может быть человек, которого вы видите каждый день и работаете с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удьте открыты к различным возможнос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учитесь определять тип людей, которые работают лучше с целями и нуждами, похожими на ва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ишите вашему потенциальному наставнику, чего вы от него ожид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01280" y="620280"/>
            <a:ext cx="5607000" cy="797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, учитель или тренер, который особенно помог в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характерных чертах человека, которым вы восхищ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м знаниям и навыкам вы научились у этого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 поиске наставника хорошо обдумывайте ваш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тесь просить то, что вам ну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итесь, чтобы Бог направил вас к правильному челов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йте Богу знать о типе наставника, которого вы ищите – наставника с опытом в вашей области? Ваши родители руководили вами, когда вы были маленькими детьми? Должен ли слушатель внимать идеям о жизни, работе и личных цел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60440" y="47628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2379240"/>
            <a:ext cx="5607000" cy="621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 ХОРОШЕГО НАСТАВ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елает помогать и вдохновлять: люди, которые проявляют интерес и желают помогать другим. Они стремятся помочь другому человеку  раскрыть потенциал и обнаружить ресурсы и дары. Они вдохновляют других людей к великим вершинам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ят в ценность человека: Люди, которые ценят человека и помогают становлению самоуважения. Они верят, что каждый человек сотворен Богом. Очень ценно то, что Господь отдал Сына Своего умереть за каждого из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: Опытные люди, которые обладают хорошей репутацией для помощи другим в развитии и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ают время и энергию: Люди, которые посвящают время и умственные способности для развития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ют требуемыми знаниями: люди, которые обладают новейшими знаниями и/или навы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ированы на обучение: люди, которые желают и могут обучаться и видят потенциальную пользу от наставн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: Люди, у которых есть тренерские, консультативные, руководящие и коммуникативные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1940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25320" y="2487600"/>
            <a:ext cx="5904000" cy="194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зращивание наставника в вас:  Опросни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Если вы интересуетесь, можете ли вы быть хорошим наставником? Ответьте на наши 15 коротких вопросов, которые автоматически предоставят вам ответы и обнаружат наставнические характеристики. Не задумывайтесь долго над вопросами, отвечайте, что первое приходит в голо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4361040"/>
          <a:ext cx="6408720" cy="4454280"/>
        </p:xfrm>
        <a:graphic>
          <a:graphicData uri="http://schemas.openxmlformats.org/drawingml/2006/table">
            <a:tbl>
              <a:tblPr/>
              <a:tblGrid>
                <a:gridCol w="519120"/>
                <a:gridCol w="1036440"/>
                <a:gridCol w="443160"/>
                <a:gridCol w="4410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. Do you know what it’s like to have worries, frustrations and concerns about you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 Do people seek you out to talk about their worries, frustrations, and concer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 Is the amount of time you spend listening at least four times what you spend talk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 Has anyone in your life helped you uncover an aspect, ability or talent of yours that, until then, had lain dormant and unrecog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 Has anyone provided you with a quote that had great meaning for you that influenced your thinking or behavior, and that you sometimes pass on oth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 Has anyone provided you with an “aha!” experience that enabled you to pierce the core of meaning of some event, in someone, in something, or in yoursel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 Has anyone helped you gain knowledge about how things work? About how to get things d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 Has anyone encouraged you to find a way to deal with challenges in your life o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36600" y="4503600"/>
            <a:ext cx="6191280" cy="568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60-75 баллов, то у вас не только есть потенциал быть великим наставником, но, возможно, вы уже являетесь наставником для некотор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45-59 баллов, вы действительно ценны и знаете, что такое быть наставником. Продол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30-44 баллов, у вас есть определенный ресурс, который предоставляет вам возможности для настав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ниже 29 баллов, то такие результаты могут говорить о том, что вы на самом деле заинтересованы в наставнических отношения. Пройдите подготовку и последующее изучение может помочь вам достичь ваших наставнически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обратите внимание на то, что опросник наставника не обладает какой-либо валидностью, он всего лишь является  полезным для самоизучения и освещает некоторые качества наставн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6600" y="326880"/>
          <a:ext cx="6235560" cy="4496040"/>
        </p:xfrm>
        <a:graphic>
          <a:graphicData uri="http://schemas.openxmlformats.org/drawingml/2006/table">
            <a:tbl>
              <a:tblPr/>
              <a:tblGrid>
                <a:gridCol w="576000"/>
                <a:gridCol w="935280"/>
                <a:gridCol w="504720"/>
                <a:gridCol w="42195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. Has there ever been anyone in your life who had a profound positive effect on you, but you didn’t realize it until much later in your lif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 Has someone in your life provided just the right help to you at just the right ti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. Has anyone in your life helped you to grow and deepen your character, moral or ethical integrity or gain a stronger commitment to your valu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 Has anyone inspired you to shift the direction of your life in a constructive wa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 Have you ever reached out to another person who was deeply in need and what you provided appeared to make a beneficial difference to that pers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. Do other people reach out to you to assist them with important life or career deci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 Have you ever had an experience where something that you observed, read, or experienced had a profound effect on your strengths and abilit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332080" y="328680"/>
            <a:ext cx="2211480" cy="165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74668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уществует единственно верного наставничества, но, по крайней мере, необходимо разработать план, который пригодится как наставнику, так и наставляемому. Для формального наставничества вполне достаточно, чтобы они договорились о времени для регулярных встреч или мероприятий, в которые они вовлечены. Наставляемая может перечислить свои ожидания, но и наставник и наставляемая должны быть гиб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енее формальном наставничестве наставник изыскивает возможности для привлечения наставляемой и руководит, когда это 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 Если цели установлены, то очень легко разработать программу, определить результативность и скорректирова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, например, вы хотите наставлять только что крещенного члена церкви, и ожидаете, что он станет хорошим руководителем, то вам необходимо поставить перед собой цели и подумать как их достичь. Возможно, первые несколько месяцев потребуются для изучения Библии в малой группе. Следующим шагом, вы можете вовлечь наставляемого в пение псалмов во время богослужения, помогая ему открыть свои дары и таланты. Для того, чтобы достичь цели, возможно, вам понадобится год или д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7680" y="549360"/>
            <a:ext cx="2210040" cy="165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. Отведите время для того, чтобы исследовать как ваши взаимоотношения предоставляют возможности для роста и более эффективных рабочих результатов. Ниже приведены несколько пунктов, которые вы можете обсудить с вашим наставляем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уете ли вы, что раст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оцениваете ваш прогрес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чувствуете, я соответствую вашим ожидания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уже начали открывать для себя таланты и да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ой сфере необходимо уделять больше вним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опыт положителен и живителен для вас? Или он является чужерод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я еще могу ва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 ли я то, что вам необходимо для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363760" y="620640"/>
            <a:ext cx="2114640" cy="1586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640" y="2231640"/>
            <a:ext cx="5673600" cy="636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Притчи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9: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высоких технологий, стремительного увеличения знания и возрастающего стресса и давления жизни, наставничество является мощным способом для овладения различными навыками… личностными и профессиональными, которые необходимы для жизни и служения. По словам Джорджа Матью Адамса «Не существует человека самого по себе. Нас делают тысячи других людей. Каждый в той или иной степени оказывает влияние на нас, или, говоря одним словом, одобряет нас, и имеет отношение к нашему характеру и нашим мыслям, а также и к нашему успе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назад на вашу жизнь. Когда вы готовились к выпускным экзаменам в школе, планировали ли вы, как будете строить вашу профессиональную карьеру? Когда вы приняли Христа и крестились в Церкви, знали ли вы каким будет ваш религиозный опыт? Открыли ли вы в себе несколько новых талантов, после того, как кто-то другой указал вам на них? Я полагаю, что большинство людей, которые стали успешными в любого рода руководстве или влиянии, ощутили на себе чье-то наставничество, даже если никто и не называл это наставни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наставничества очевидно не нова. Она уходит корням к Древней Греции. Философы, такие как Сократ то и делали, что брали на себя роль наставника над молодыми людьми, которые проявляли огромный лидерский потенциал. В свою очередь их протеже соглашались продолжать наставнические отношения по отношению к своим студентам. Идея деления опытом с молодежью продолжалась и в Средние века родоначальниками теории руководства. Хозяева ремесленники принимали подающих надежды мастеровых с благодарностью, руководили ими во всех аспектах овладения мастерством. Другими словами, наставничество является трудом любви тех, кто хочет передать свои навыки и знания следующему поко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в наставнических отнош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ляем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 наставничества, который ему не нуж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нят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309760" cy="1731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073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05080" y="695160"/>
            <a:ext cx="2601720" cy="195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27442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ставничество потенциального руководителя ориентируется вперед в будущее и направлено на более эффективную работу или слу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281320" y="549360"/>
            <a:ext cx="2501640" cy="1876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260172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Вебстера дает следующее определение слову наставник «верный советник и путеводитель». Он также ссылается на слова «учитель и инструк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атель Ричард Тайер говорит: «Наставничество является мозгом, чтобы отбирать; плечами, чтобы плакать; толчком, двигающим в нужном направл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аксвелл, опытный пастор и наставник из Австралии, определяет наставничество как «динамические отношения доверия, в которых один человек помогает другому максимизировать благодать Божью в его жизни и служ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328840" y="69516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2671560"/>
            <a:ext cx="5607000" cy="592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НАСТАВНИЧЕСТВ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92480" y="549360"/>
            <a:ext cx="2698560" cy="202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48880" y="2671560"/>
            <a:ext cx="5746680" cy="6624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В БИБЛ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ние говорит о важности и необходимости духовного наставничества, помощи и обучения молодых женщин на их пути к Богу. В наши дни многие пришедшие ко Христу, возможно, не воспитывались в христианских семьях. Возможно, у них были родители, которые являлись номинальными христианами, но не являли пример Христа в своей жизни. Эти молодые христианки нуждаются в божественной модели руководства в своем религиозном опыте. Давайте прочитаем определяющий текст Титу 2:1-7, где апостол Павел дает наставления молодому пастору Титу по различным аспектам пасторск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же говори то, что сообразно с здравым учением: чтобы старцы были бдительны, степенны, целомудренны, здравы в вере, в любви, в терпении; чтобы старицы также одевались прилично святым, не были клеветницы, не порабощались пьянству, учили добру; чтобы вразумляли молодых любить мужей, любить детей, быть целомудренными, чистыми, попечительными о доме, добрыми, покорными своим мужьям, да не порицается слово Божие. Юношей также увещевай быть целомудренными. Во всем показывай в себе образец добрых дел, в учительстве чистоту, степенность, неповрежд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ел являлся удивительным наставником Тимофея. У Павла и Тимофея были близкие отношения. Молодой Тимофей сопровождал Павла в нескольких миссионерских путешествиях и доверял его наставничеству как самому себе. Павел учил и поддерживал Тимофея, помогая стать «человеком Божьим». В своем втором письме он советует Тимофею как встречаться с жестокой реальностью жизни, а также познавать радости жизни, так как эти навыки дадут возможность ему упорно добиваться цели среди ничтожности веры, которая ожидала ег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1280" y="476280"/>
            <a:ext cx="5607000" cy="812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Руфи рассказывает нам о Ноемини как об эффективном наставнике. Что мы можем точно сказать, там это то, что Ноеминь проявила огромный интерес и воспитала Руфь, свою невестку, находясь все время рядом. Ноеминь рассказывала ей о Боге Израиля и проявляла христианский характер в действии. Она посоветовала Руфи, где собирать колосья (Руфь 2:23) и также как понравиться Возу (Руфь 3:1-4). Ноеминь наставляла молодую Руфь быть твердой в своей вере в Бога, и Руфь вошла в родословную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37492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2451240"/>
            <a:ext cx="5607000" cy="6148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84480" y="549360"/>
            <a:ext cx="2403360" cy="1803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24508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меньше вероятностью они станут членами преступной банды и применят физическое нас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09700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2598480"/>
            <a:ext cx="5607000" cy="548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5CE-3108-4DB4-B12A-B63A9C0C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08A-6154-4FBA-85E9-DDBBE8C7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1CA-4CAD-408A-A414-3A903336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91A-6C80-4B90-A1D7-CEE481CD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A32-CC70-4DBB-94DA-B5EBADD1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1A2-F4A5-4561-9BE9-F451DA15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449-45DF-4D96-96D7-758827A2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4A2-72F3-42FD-82F3-C011B6E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B65-75B9-48A8-B71C-D7B7B8EA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91F-6B5E-4EAA-8AB4-56CC7719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01F-4FCB-40D0-8557-F167E98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7B9-E3C8-4D12-9EBF-AED74185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C63-65BC-4C49-AC84-A13EDC91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485640"/>
            <a:ext cx="578196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Cornerstone"/>
              </a:rPr>
              <a:t>наст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589200"/>
            <a:ext cx="28555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Подготов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Линдой Мей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1008000" cy="68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0920" y="5589720"/>
            <a:ext cx="289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Генераль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Отдел Женского сл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Why do Women Need MEN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Зачем женщинам нужен наст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6280" y="2176560"/>
            <a:ext cx="7713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Виды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92672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Цели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88480" y="192672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вы ожидаете от наставнических отнош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оиск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6200" y="1988640"/>
            <a:ext cx="7921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ает помогать и вдохновл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ят в ценность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вящают время и энерг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адают требуемыми зна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ированы на обу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773360"/>
            <a:ext cx="835344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35344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о времени для регулярных встреч 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ляемая может перечислить сво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46040" y="556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Dauphin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дите время для того, чтобы исследовать как ваши взаимоотношения предоставляют возможности для роста и более эффективных рабоч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ритчи 9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88480" y="17827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1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пятствия для наставля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д наставничества, который ему не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нят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412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7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й советник и путе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чество является мозгом, чтобы отбирать; плечами, чтобы плакать; толчком, двигающим в нужном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отношения доверия, в которых один человек помогает другому максимизировать благодать Божью в его жизни и слу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8120" y="13510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Что такое наставничество</a:t>
            </a: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920" y="1196640"/>
            <a:ext cx="759636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сус Христос наставил 12 апост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наставлял Тимоф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еминь наставляла Руф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Наставничество в Биб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Исследование наставничества</a:t>
            </a:r>
            <a:r>
              <a:rPr b="0" lang="en-US" sz="4400" spc="-1" strike="noStrike">
                <a:solidFill>
                  <a:srgbClr val="333399"/>
                </a:solidFill>
                <a:latin typeface="Dauph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96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ньше вероятностью они станут членами преступной банды и применят физическое наси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Dauphin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Dauphin"/>
              </a:rPr>
              <a:t>The National Longitudinal Study of Adolescent Health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608200"/>
            <a:ext cx="6119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Dauphin"/>
              </a:rPr>
              <a:t>продол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38:23Z</dcterms:created>
  <dc:creator>ArraisR</dc:creator>
  <dc:description/>
  <dc:language>en-US</dc:language>
  <cp:lastModifiedBy>Irina Romashkina</cp:lastModifiedBy>
  <dcterms:modified xsi:type="dcterms:W3CDTF">2008-01-21T17:46:18Z</dcterms:modified>
  <cp:revision>51</cp:revision>
  <dc:subject/>
  <dc:title>Slide 1</dc:title>
</cp:coreProperties>
</file>