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3778-A352-47B7-A3E2-612650C358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206800" y="684360"/>
            <a:ext cx="2654280" cy="1990440"/>
          </a:xfrm>
          <a:prstGeom prst="rect">
            <a:avLst/>
          </a:prstGeom>
          <a:ln w="0">
            <a:noFill/>
          </a:ln>
        </p:spPr>
      </p:sp>
      <p:sp>
        <p:nvSpPr>
          <p:cNvPr id="160" name="PlaceHolder 2"/>
          <p:cNvSpPr>
            <a:spLocks noGrp="1"/>
          </p:cNvSpPr>
          <p:nvPr>
            <p:ph type="body"/>
          </p:nvPr>
        </p:nvSpPr>
        <p:spPr>
          <a:xfrm>
            <a:off x="685800" y="2842920"/>
            <a:ext cx="569592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женщина не так давно начала поддерживать и использовать свои лидерские способности в церковной организации, иногда кажется страшным продвигаться вперед и служить в тех областях, где прежде служение проводили всего лишь несколько женщин, даже когда существуют большие возможности. Многие женщины расскажут вам, что они отказались от возможности изменить что-либо, потому что боялись, что упадут с дороги. Сопротивление – это один из самых больших стра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должны научиться, что этот вид сопротивления естественен, независимо от того, кем вы являетесь. Все мы, мужчины и женщины, хотим оставаться в комфортной зоне, мы хотим контролировать положение дел, а перемены ослабляют контроль. По крайней мере, нам необходимо владеть ситуацией. Но если мы работаем эффективно, то нам всегда есть, что изменить.</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092320" y="539640"/>
            <a:ext cx="2654280" cy="1990800"/>
          </a:xfrm>
          <a:prstGeom prst="rect">
            <a:avLst/>
          </a:prstGeom>
          <a:ln w="0">
            <a:noFill/>
          </a:ln>
        </p:spPr>
      </p:sp>
      <p:sp>
        <p:nvSpPr>
          <p:cNvPr id="16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20760" y="395280"/>
            <a:ext cx="2367000" cy="1774800"/>
          </a:xfrm>
          <a:prstGeom prst="rect">
            <a:avLst/>
          </a:prstGeom>
          <a:ln w="0">
            <a:noFill/>
          </a:ln>
        </p:spPr>
      </p:sp>
      <p:sp>
        <p:nvSpPr>
          <p:cNvPr id="164"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увствуете ли вы себя женщиной, которую призвал Бог? Если да, то в какой област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знать, что Бог призвал ее выполнить определенную задач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сколько комфортно вы себя чувствуете, когда следуете за женщиной-руководителем?</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95640" y="755640"/>
            <a:ext cx="2365200" cy="1774800"/>
          </a:xfrm>
          <a:prstGeom prst="rect">
            <a:avLst/>
          </a:prstGeom>
          <a:ln w="0">
            <a:noFill/>
          </a:ln>
        </p:spPr>
      </p:sp>
      <p:sp>
        <p:nvSpPr>
          <p:cNvPr id="1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 Вам необходимо изучить следующие аспект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как успешно использовать в руководстве методы, которые отражают ваши ценности и личные ка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раскрыть личные качества и способности, о которых вы не знает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связать обе группы качест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никогда раньше не руководили людьми, возможно, вам было бы полезно поучаствовать в семинаре для руководителей или даже прослушать спецкурс по соответствующей дисциплине. Если вы хотите иметь успех на самом высоком уровне, вам необходимо как для себя самого, так и для других людей лучше изучить себя и свои методы эффективного руководства. Одним из самых быстрых способов саморазвития является способ, который предлагает вам провести интервью, по крайней мере, с 10-12 другими женщинами, которых вы знаете и которые могут помочь вам разработать цели  руководства. Время от времени вы можете обращаться к списку и спрашивать каждую из женщин:</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чему эта женщина будет поддерживать мое виде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что требуется от этой женщины, чтобы она поддерживала меня?</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057400" y="395280"/>
            <a:ext cx="2655720" cy="1992240"/>
          </a:xfrm>
          <a:prstGeom prst="rect">
            <a:avLst/>
          </a:prstGeom>
          <a:ln w="0">
            <a:noFill/>
          </a:ln>
        </p:spPr>
      </p:sp>
      <p:sp>
        <p:nvSpPr>
          <p:cNvPr id="168"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ми лидерскими качествами вы облад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будете продолжать развивать их в служении Бог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себя чувствуете, используя эти качества?</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68640" y="395280"/>
            <a:ext cx="2465280" cy="1847880"/>
          </a:xfrm>
          <a:prstGeom prst="rect">
            <a:avLst/>
          </a:prstGeom>
          <a:ln w="0">
            <a:noFill/>
          </a:ln>
        </p:spPr>
      </p:sp>
      <p:sp>
        <p:nvSpPr>
          <p:cNvPr id="170"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нна Лихтенберг назвала эту модель «Слабая как девушка». Она пишет в своей книге с одноименным названием «все мы проявляем слабость, в разное время и в разных ситуациях, чтобы получить то, что нам нужно и чего мы хотим от жизни. Мы лишь иногда не осознаем, что мы слаб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же такое Слабость. Ронна говорит: «Слабость -  ни что другое как более или менее, чем использование вашего влияния, навыков и способностей убеждения получить поддержку и заставить людей делать то, что вам нужно. Слабость - своего рода заручение поддержкой ваших целей. Это своего рода защита вашего видения того, что должно произойти, просьба о поддержке и предоставление другим людям информации о том, почему ваше предложение самое лучше. Когда вы проявляете слабость, вы обычно говорите: мне нужны ваши возможности, чтобы воплотить мою меч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43000" y="395280"/>
            <a:ext cx="2557440" cy="1919160"/>
          </a:xfrm>
          <a:prstGeom prst="rect">
            <a:avLst/>
          </a:prstGeom>
          <a:ln w="0">
            <a:noFill/>
          </a:ln>
        </p:spPr>
      </p:sp>
      <p:sp>
        <p:nvSpPr>
          <p:cNvPr id="172" name="PlaceHolder 2"/>
          <p:cNvSpPr>
            <a:spLocks noGrp="1"/>
          </p:cNvSpPr>
          <p:nvPr>
            <p:ph type="body"/>
          </p:nvPr>
        </p:nvSpPr>
        <p:spPr>
          <a:xfrm>
            <a:off x="685800" y="2339640"/>
            <a:ext cx="5486400" cy="58309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1000" spc="-1" strike="noStrike">
                <a:solidFill>
                  <a:srgbClr val="000000"/>
                </a:solidFill>
                <a:latin typeface="Calibri"/>
              </a:rPr>
              <a:t> </a:t>
            </a:r>
            <a:r>
              <a:rPr b="0" lang="ru-RU" sz="1000" spc="-1" strike="noStrike">
                <a:solidFill>
                  <a:srgbClr val="000000"/>
                </a:solidFill>
                <a:latin typeface="Arial"/>
              </a:rPr>
              <a:t>.</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14480" y="539640"/>
            <a:ext cx="2940120" cy="2206800"/>
          </a:xfrm>
          <a:prstGeom prst="rect">
            <a:avLst/>
          </a:prstGeom>
          <a:ln w="0">
            <a:noFill/>
          </a:ln>
        </p:spPr>
      </p:sp>
      <p:sp>
        <p:nvSpPr>
          <p:cNvPr id="1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лидерские качества вы обнаружили у женщин-руководителей, которых вы зн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е, по крайней мере, одно из этих качеств, которое вы хотели бы развить в себ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каких ваших лидерских качествах вам говорят другие люди?</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158920" y="395280"/>
            <a:ext cx="2367000" cy="1774800"/>
          </a:xfrm>
          <a:prstGeom prst="rect">
            <a:avLst/>
          </a:prstGeom>
          <a:ln w="0">
            <a:noFill/>
          </a:ln>
        </p:spPr>
      </p:sp>
      <p:sp>
        <p:nvSpPr>
          <p:cNvPr id="176" name="PlaceHolder 2"/>
          <p:cNvSpPr>
            <a:spLocks noGrp="1"/>
          </p:cNvSpPr>
          <p:nvPr>
            <p:ph type="body"/>
          </p:nvPr>
        </p:nvSpPr>
        <p:spPr>
          <a:xfrm>
            <a:off x="685440" y="2268360"/>
            <a:ext cx="5622840" cy="611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 Поскольку люди взаимодействуют посредством своих идей, точек зрения, подходов, чувств, расписаний, приоритетов и методологий они могут сталкиваться друг с другом. Руководитель не может не отреагировать на эти моменты, потому что, если они пущены на самотек, подобные проблемы будут губительны, особенно для женщины-руководителя. И это одна из областей, в которой руководящие способности и характер женщины-руководителя проверяютс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женщинам сравнительно недавно стали доверять руководящие должности, многие из нас даже не ожидают в каких сферах можно наделать ошибок. Поэтому представляется полезным дать следующий совет – держите глаза и уши открытыми, чтобы избежать многих потенциальных конфликтов, когда вы можете это сделать. Также развивайте навыки выхода из конфликтных ситуаций, когда они происходят. И не позволяйте ни одному вопросу повисать в воздухе, особенно, если он связан с другими женщинами. Женщины могут стать вашими самыми лучшими помощницами, а также вашими сильнейшими критиками, в зависимости от ситуа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мы слышали о том, что руководители говорят, что они должны избрать и выбрать свои вершины, что означает «сделать выбор: бороться до конца или позволить порулить собой». В разрешении конфликта промедление опасно. Иногда очень трудно поднимать по-настоящему сложные (очень большое напряжение) или незначительные (небольшое напряжение) вопросы. Коттрелл и Харвей напоминают нам, что игнорирование незначительных деталей не устраняет их. Мелочи лишь продолжат расти, и если вы игнорируете их на протяжении длительного срока времени, они в действительности станут монстра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предлагают следовать модели «от незначительного к огромному», которая подходит для многих ситуаций, объясняет конфликты между двумя членами группы или простые недостатки общения. Необходимо учитывать, что конфликтные ситуации содержат два компонент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конфликты негативно влияют на людей и абсолютную производительность коман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фликты не локализуются, они подобны «снежному ком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30480" y="468360"/>
            <a:ext cx="2940120" cy="2206440"/>
          </a:xfrm>
          <a:prstGeom prst="rect">
            <a:avLst/>
          </a:prstGeom>
          <a:ln w="0">
            <a:noFill/>
          </a:ln>
        </p:spPr>
      </p:sp>
      <p:sp>
        <p:nvSpPr>
          <p:cNvPr id="17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25520" y="324000"/>
            <a:ext cx="2460960" cy="1846080"/>
          </a:xfrm>
          <a:prstGeom prst="rect">
            <a:avLst/>
          </a:prstGeom>
          <a:ln w="0">
            <a:noFill/>
          </a:ln>
        </p:spPr>
      </p:sp>
      <p:sp>
        <p:nvSpPr>
          <p:cNvPr id="14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20840" y="539640"/>
            <a:ext cx="2560680" cy="1919520"/>
          </a:xfrm>
          <a:prstGeom prst="rect">
            <a:avLst/>
          </a:prstGeom>
          <a:ln w="0">
            <a:noFill/>
          </a:ln>
        </p:spPr>
      </p:sp>
      <p:sp>
        <p:nvSpPr>
          <p:cNvPr id="180" name="PlaceHolder 2"/>
          <p:cNvSpPr>
            <a:spLocks noGrp="1"/>
          </p:cNvSpPr>
          <p:nvPr>
            <p:ph type="body"/>
          </p:nvPr>
        </p:nvSpPr>
        <p:spPr>
          <a:xfrm>
            <a:off x="685800" y="2556000"/>
            <a:ext cx="5486400" cy="5470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ОБСУЖД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104920" y="324000"/>
            <a:ext cx="2559240" cy="1919160"/>
          </a:xfrm>
          <a:prstGeom prst="rect">
            <a:avLst/>
          </a:prstGeom>
          <a:ln w="0">
            <a:noFill/>
          </a:ln>
        </p:spPr>
      </p:sp>
      <p:sp>
        <p:nvSpPr>
          <p:cNvPr id="182" name="PlaceHolder 2"/>
          <p:cNvSpPr>
            <a:spLocks noGrp="1"/>
          </p:cNvSpPr>
          <p:nvPr>
            <p:ph type="body"/>
          </p:nvPr>
        </p:nvSpPr>
        <p:spPr>
          <a:xfrm>
            <a:off x="549360" y="2340000"/>
            <a:ext cx="59040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 Одна из наиболее очевидных преград – СТРА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ая – ОТВЕТСТВЕННОСТЬ.  Другими словами, осознавание, что «выше головы не прыгнешь». Когда ответственность становится преградой, возможно, у вас не останется времени в вашем переполненном личном и профессиональном расписании, чтобы добавить еще и эту руководящую задач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тьей преградой может быть НЕДОСТАТОК ПОДДЕРЖКИ. Как руководитель вы нуждаетесь в поддержке, чтобы сделать то, что должно быть сделано, и то, что должно быть сделано вовремя. Коттрелл сравнивает поддержку с внутренними органами, нервной системой и сердцем, которые питают и ободряют процесс. Чтобы стать поддерживаемым руководителем вы должны иметь неопровержимое, бесспорное и неколеблющееся посвящение, чтобы сделать все самое лучшее. Коттрелл делает вывод, что истинная ценность вашего руководства заключается в способности смотреть в зеркало и знать, что у вас есть поддержка сделать то, что вы считаете правильны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вертой преградой может быть ЛИЧНЫЙ БАГАЖ. Многие женщины не смогли продвинуться в своем руководстве, оглядываясь на свой личный опыт. Мы должны осознавать, что у всех из нас есть багаж прошлого, которого нам может быть хотелось бы избежать. Этот багаж и привел нас ко крещению или к таинству повиновения. Если все эти моменты будут сопровождать нас, мы никогда не станем эффективными руководителями, какими Бог хочет нас виде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агаж подобен грузам, о которых пишет автор послания к Евреям (Евр. 12:1-2). Мы никогда не увидим спринтера с тяжелыми грузами на ногах. Не обязательно получать докторскую степень, чтобы понять, что грузы просто замедляют бег. Невозможно бежать с ними и побеждать. Нам необходимо отпустить багаж прошлого, даже если другие люди напоминают нам о нем. Прошлое произошло в прошлом, и если мы останемся в нем, то не продвинемся вперед. Найдите способы, чтобы помочь вашему личному и эмоциональному багажу. Чем быстрее вы это сделаете, тем более успешным руководителем вы станете.</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60640" y="395280"/>
            <a:ext cx="2560680" cy="1919160"/>
          </a:xfrm>
          <a:prstGeom prst="rect">
            <a:avLst/>
          </a:prstGeom>
          <a:ln w="0">
            <a:noFill/>
          </a:ln>
        </p:spPr>
      </p:sp>
      <p:sp>
        <p:nvSpPr>
          <p:cNvPr id="184" name="PlaceHolder 2"/>
          <p:cNvSpPr>
            <a:spLocks noGrp="1"/>
          </p:cNvSpPr>
          <p:nvPr>
            <p:ph type="body"/>
          </p:nvPr>
        </p:nvSpPr>
        <p:spPr>
          <a:xfrm>
            <a:off x="685800" y="2410920"/>
            <a:ext cx="5486400" cy="5830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гласны ли вы с тем, что женщины должны преодолевать больше преград, чем мужчины?</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33720" y="324000"/>
            <a:ext cx="2462040" cy="1846080"/>
          </a:xfrm>
          <a:prstGeom prst="rect">
            <a:avLst/>
          </a:prstGeom>
          <a:ln w="0">
            <a:noFill/>
          </a:ln>
        </p:spPr>
      </p:sp>
      <p:sp>
        <p:nvSpPr>
          <p:cNvPr id="18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ин из способов стать хорошим эффективным руководителем - обучиться дисциплине, провести духовное исследование, прочитать больше книг по данной теме, посетить семинары и т. д. Женщины, которые хотят совершать служение, возможно, не знают, как проводить Библейское исследование. Возможно, самым простым будет пригласить их к себе домой и начать изучение вместе. Затем, когда вы будете чувствовать себя вполне уверенно, вы сможете встать перед женщинами, которых вы знаете, и представить соответствующую тему. Возможно, вы сейчас пока не можете выступить перед всем церковным сообществом с данной темой. Но благодаря этому маленькому опыту, возможно, однажды вы выйдете за кафедр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женщины расскажут вам, что их первый опыт руководства заключался в чтении Библии вслух дома. Затем они выступали перед членами семьи. А в настоящее время эти женщины являются общественными евангелистами. Все начинается с очень простых, детских шагов. Вам необходимо последовать им.</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460600" cy="1846440"/>
          </a:xfrm>
          <a:prstGeom prst="rect">
            <a:avLst/>
          </a:prstGeom>
          <a:ln w="0">
            <a:noFill/>
          </a:ln>
        </p:spPr>
      </p:sp>
      <p:sp>
        <p:nvSpPr>
          <p:cNvPr id="18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елитесь своим опытом, как вы преодолели хотя бы одну из преград.</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174760" y="611280"/>
            <a:ext cx="2365560" cy="1774800"/>
          </a:xfrm>
          <a:prstGeom prst="rect">
            <a:avLst/>
          </a:prstGeom>
          <a:ln w="0">
            <a:noFill/>
          </a:ln>
        </p:spPr>
      </p:sp>
      <p:sp>
        <p:nvSpPr>
          <p:cNvPr id="190"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 двумя противоположностями: пассивностью и агрессивностью существует эффективный полезный руководящий подход, известный как положительный стиль. Этот сбалансированный подход гарантирует, что вы сможете руководить людьми, добьетесь намеченного и сможете взаимодействовать в уравновешенной, уверенной манер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руководители должны держать эмоции под контролем. Слезы или уязвимость могут выглядеть как недостаток власти и авторитета. С другой стороны, слишком редкое проявление эмоций может быть интерпретировано как потеря женских характерных черт. В целом, понемногу все возможно. А затем вы снова можете вернуться в деловое настроение.</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247840" y="468360"/>
            <a:ext cx="2273400" cy="1704960"/>
          </a:xfrm>
          <a:prstGeom prst="rect">
            <a:avLst/>
          </a:prstGeom>
          <a:ln w="0">
            <a:noFill/>
          </a:ln>
        </p:spPr>
      </p:sp>
      <p:sp>
        <p:nvSpPr>
          <p:cNvPr id="192" name="PlaceHolder 2"/>
          <p:cNvSpPr>
            <a:spLocks noGrp="1"/>
          </p:cNvSpPr>
          <p:nvPr>
            <p:ph type="body"/>
          </p:nvPr>
        </p:nvSpPr>
        <p:spPr>
          <a:xfrm>
            <a:off x="685800" y="2268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держать свои эмоции под контро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означает для женщины-руководителя держать эмоции под контролем?</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5480" y="324000"/>
            <a:ext cx="2558880" cy="1919160"/>
          </a:xfrm>
          <a:prstGeom prst="rect">
            <a:avLst/>
          </a:prstGeom>
          <a:ln w="0">
            <a:noFill/>
          </a:ln>
        </p:spPr>
      </p:sp>
      <p:sp>
        <p:nvSpPr>
          <p:cNvPr id="194"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147760" y="395280"/>
            <a:ext cx="2460600" cy="1846440"/>
          </a:xfrm>
          <a:prstGeom prst="rect">
            <a:avLst/>
          </a:prstGeom>
          <a:ln w="0">
            <a:noFill/>
          </a:ln>
        </p:spPr>
      </p:sp>
      <p:sp>
        <p:nvSpPr>
          <p:cNvPr id="19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существуют различия между предложением и возможностью?</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важно помнить, чтобы не упустить возможность?</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133720" y="468360"/>
            <a:ext cx="2367000" cy="1774800"/>
          </a:xfrm>
          <a:prstGeom prst="rect">
            <a:avLst/>
          </a:prstGeom>
          <a:ln w="0">
            <a:noFill/>
          </a:ln>
        </p:spPr>
      </p:sp>
      <p:sp>
        <p:nvSpPr>
          <p:cNvPr id="19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эффективных руководителей много схожих характерных черт. Две из них очень важ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берут на себя смелость принимать решения, когда это необходимо сдел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желают принести себя в жертву для пользы других люде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о Королеве Елизавете начинается с того, что Королева Елизавета всегда думала сначала о служении трону, а не о собственных желаниях. Многие эффективные руководители на протяжении всемерной истории делали то же самое. Они принимали очень сложные решения сделать то, что они считали верным, не смотря на свои собственные предпочтения.</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35000" y="250920"/>
            <a:ext cx="2752920" cy="2063520"/>
          </a:xfrm>
          <a:prstGeom prst="rect">
            <a:avLst/>
          </a:prstGeom>
          <a:ln w="0">
            <a:noFill/>
          </a:ln>
        </p:spPr>
      </p:sp>
      <p:sp>
        <p:nvSpPr>
          <p:cNvPr id="146"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Я 1 - ВЕРЬТЕ, ЧТО БОГ ПРИЗВАЛ ЖЕНЩИН БЫТЬ РУКОВОДИТЕЛЯМ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каждого из нас есть представления о мире, о себе, о том, как все мы взаимодействуем. Эти представления замысловато называются «точкой зрения», благодаря которой мы видим события и людей. Но мы не только создаем нашу реальность, но мы также остаемся в ней, потому что другие люди, многие из тех, кого мы знаем, обладают схожими представлениями. Но мы также остаемся в старой реальности не только, потому, что другие люди поддерживают ее, но также потому что мы боимся того, что другие люди могут подумать, что мы отходим от норм этой реальности. Это одна из причин, по которой многие женщины определяют для себя, что они могут, а чего не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женщины-руководители расскажут вам, что их самые сильные оппоненты это те женщины, которые не верят, что руководство - это дар Божий, который дан женщинам. Таким образом, первая преграда, которая стоит перед женщинами в целом, а особенно перед женщинами, призванными к служению, это преодоление убеждения, что женщины не могут служить церкви или своей организации как руководители, что руководство это дар, данный только мужчина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28680" y="826920"/>
            <a:ext cx="2654280" cy="199080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1000" y="324000"/>
            <a:ext cx="2559240" cy="1919160"/>
          </a:xfrm>
          <a:prstGeom prst="rect">
            <a:avLst/>
          </a:prstGeom>
          <a:ln w="0">
            <a:noFill/>
          </a:ln>
        </p:spPr>
      </p:sp>
      <p:sp>
        <p:nvSpPr>
          <p:cNvPr id="202"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нашем семинаре мы рассмотрели стратегии, которые помогут женщинам, которых Бог призвал к служению руководств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т эти стратег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 - ВЕРЬТЕ, ЧТО БОГ ПРИЗВАЛ ЖЕНЩИН БЫТЬ РУКОВОДИТЕЛЯ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3 - РАЗВИТИЕ ЛИДЕРСКИХ НАВЫКОВ, КОТОРЫЕ БОГ ВЛОЖИЛ В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33640" y="826920"/>
            <a:ext cx="2846160" cy="2135520"/>
          </a:xfrm>
          <a:prstGeom prst="rect">
            <a:avLst/>
          </a:prstGeom>
          <a:ln w="0">
            <a:noFill/>
          </a:ln>
        </p:spPr>
      </p:sp>
      <p:sp>
        <p:nvSpPr>
          <p:cNvPr id="204" name="PlaceHolder 2"/>
          <p:cNvSpPr>
            <a:spLocks noGrp="1"/>
          </p:cNvSpPr>
          <p:nvPr>
            <p:ph type="body"/>
          </p:nvPr>
        </p:nvSpPr>
        <p:spPr>
          <a:xfrm>
            <a:off x="685800" y="3058920"/>
            <a:ext cx="5486400" cy="5398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поддержка?</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20960" y="324000"/>
            <a:ext cx="2943000" cy="2206440"/>
          </a:xfrm>
          <a:prstGeom prst="rect">
            <a:avLst/>
          </a:prstGeom>
          <a:ln w="0">
            <a:noFill/>
          </a:ln>
        </p:spPr>
      </p:sp>
      <p:sp>
        <p:nvSpPr>
          <p:cNvPr id="206"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63600" y="539640"/>
            <a:ext cx="2367000" cy="1774800"/>
          </a:xfrm>
          <a:prstGeom prst="rect">
            <a:avLst/>
          </a:prstGeom>
          <a:ln w="0">
            <a:noFill/>
          </a:ln>
        </p:spPr>
      </p:sp>
      <p:sp>
        <p:nvSpPr>
          <p:cNvPr id="148" name="PlaceHolder 2"/>
          <p:cNvSpPr>
            <a:spLocks noGrp="1"/>
          </p:cNvSpPr>
          <p:nvPr>
            <p:ph type="body"/>
          </p:nvPr>
        </p:nvSpPr>
        <p:spPr>
          <a:xfrm>
            <a:off x="685440" y="2339640"/>
            <a:ext cx="5551560" cy="6118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Например</a:t>
            </a:r>
            <a:r>
              <a:rPr b="1" lang="en-US" sz="1200" spc="-1" strike="noStrike">
                <a:solidFill>
                  <a:srgbClr val="000000"/>
                </a:solidFill>
                <a:latin typeface="Garamond"/>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ru-RU" sz="12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828800" y="395280"/>
            <a:ext cx="2749680" cy="2063880"/>
          </a:xfrm>
          <a:prstGeom prst="rect">
            <a:avLst/>
          </a:prstGeom>
          <a:ln w="0">
            <a:noFill/>
          </a:ln>
        </p:spPr>
      </p:sp>
      <p:sp>
        <p:nvSpPr>
          <p:cNvPr id="150"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присутствовали при Его распятии (Мтф. 27:55-56).</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ился женщинам после воскресенья, и побудил их свидетельствов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вдов (Лк. 4:26; 7:11; 18:1; 20:47 и 2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ценность супружеского союза, особенно в вопросах развода (Мк.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84320" y="826920"/>
            <a:ext cx="2654280" cy="1990800"/>
          </a:xfrm>
          <a:prstGeom prst="rect">
            <a:avLst/>
          </a:prstGeom>
          <a:ln w="0">
            <a:noFill/>
          </a:ln>
        </p:spPr>
      </p:sp>
      <p:sp>
        <p:nvSpPr>
          <p:cNvPr id="15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В жизни и притчах Иисуса Христа женщины встречаются также часто, как и мужчины.</a:t>
            </a:r>
            <a:br>
              <a:rPr sz="700"/>
            </a:br>
            <a:r>
              <a:rPr b="1" i="1" lang="ru-RU" sz="1200" spc="-1" strike="noStrike">
                <a:solidFill>
                  <a:srgbClr val="000000"/>
                </a:solidFill>
                <a:latin typeface="Arial"/>
              </a:rPr>
              <a:t>А) Симеон и Анна (Лк. 2:25-2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Б) Потерянная овца; женщина и потерянная драхма; блудный сын (Лк. 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В) Анания и Сапфира (Деян. 5:1-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Г) Разговор Лидии и тюремного стража (Деян. 16:14-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 Дианис и Дамария (Деян. 17: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Как руководитель вы можете обнаружить, что некоторые из женщин все еще скептически относятся в руководящей роли женщины. Вы сможете это определить по вашему разговору с ними, по их выбору посещать семинары, которые проводят исключительно мужчины, или другими способами. Вы захотите помочь этим женщинам расти, предоставляя, насколько это возможно, информацию о женщинах, занимающихся руководством и информацию, раскрывающую данный вопрос с теологической перспективы.</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319480" y="611280"/>
            <a:ext cx="2174760" cy="1630440"/>
          </a:xfrm>
          <a:prstGeom prst="rect">
            <a:avLst/>
          </a:prstGeom>
          <a:ln w="0">
            <a:noFill/>
          </a:ln>
        </p:spPr>
      </p:sp>
      <p:sp>
        <p:nvSpPr>
          <p:cNvPr id="154" name="PlaceHolder 2"/>
          <p:cNvSpPr>
            <a:spLocks noGrp="1"/>
          </p:cNvSpPr>
          <p:nvPr>
            <p:ph type="body"/>
          </p:nvPr>
        </p:nvSpPr>
        <p:spPr>
          <a:xfrm>
            <a:off x="685800" y="2268360"/>
            <a:ext cx="5486400" cy="5615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 одной такой книге «Женщины в Церкви: Библейское богословие женщин в служении», написанной Стенли Грензе и Денис Мюр Кьесбо, авторы приходят к следующим утверждениям, которые возможно окажутся полезными для вас, когда вы будете обсуждать этот сложный вопрос</a:t>
            </a:r>
            <a:r>
              <a:rPr b="1" i="1" lang="ru-RU"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рискилла, обучающая Аполоса, показывает, что женщины были учителя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умеется, что есть женщины, которых невозможно убедить в том, что женщинам дан дар руководства. Распространение данных цитат может быть полезным для прочтения во время вашей лекции, а также когда участницы семинара поедут до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368440" y="395280"/>
            <a:ext cx="2078280" cy="1558800"/>
          </a:xfrm>
          <a:prstGeom prst="rect">
            <a:avLst/>
          </a:prstGeom>
          <a:ln w="0">
            <a:noFill/>
          </a:ln>
        </p:spPr>
      </p:sp>
      <p:sp>
        <p:nvSpPr>
          <p:cNvPr id="156" name="PlaceHolder 2"/>
          <p:cNvSpPr>
            <a:spLocks noGrp="1"/>
          </p:cNvSpPr>
          <p:nvPr>
            <p:ph type="body"/>
          </p:nvPr>
        </p:nvSpPr>
        <p:spPr>
          <a:xfrm>
            <a:off x="685800" y="2050920"/>
            <a:ext cx="5486400" cy="618984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ите ли вы, что Бог призвал женщин быть руководителями? Всегда ли вы так дума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нщины в прошлом и в настоящем могут быть образцом для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ют ли такие руководящие роли, которые не соответствуют женщинам-христианкам?</a:t>
            </a:r>
            <a:endParaRPr b="0" lang="en-US" sz="1200" spc="-1" strike="noStrike">
              <a:solidFill>
                <a:srgbClr val="000000"/>
              </a:solidFill>
              <a:latin typeface="Calibri"/>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349360" y="684360"/>
            <a:ext cx="2270160" cy="1701720"/>
          </a:xfrm>
          <a:prstGeom prst="rect">
            <a:avLst/>
          </a:prstGeom>
          <a:ln w="0">
            <a:noFill/>
          </a:ln>
        </p:spPr>
      </p:sp>
      <p:sp>
        <p:nvSpPr>
          <p:cNvPr id="158" name="PlaceHolder 2"/>
          <p:cNvSpPr>
            <a:spLocks noGrp="1"/>
          </p:cNvSpPr>
          <p:nvPr>
            <p:ph type="body"/>
          </p:nvPr>
        </p:nvSpPr>
        <p:spPr>
          <a:xfrm>
            <a:off x="685800" y="2411280"/>
            <a:ext cx="569592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захотите поверить, что Бог призвал вас отвечать на нужды времени. Как Есфирь осознавала, что она преднамеренно находилась в Персидском государстве в определенное время, так и современные женщины должны осознавать, что Бог призывает женщин разных возрастов ответить на нужды своего времени. Если вы та сама женщина, которую Бог призывает сегодня, почувствуйте благословение. Так как Бог не оставил многих других женщин, Он не оставит и вас одну перед вашей задачей. Ему всего лишь нужны руки людей – руки женщин, чтобы этими руками совершат труд.</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F3CD5-DD04-483C-97E0-9D7FC416A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7C054-D3E3-4F39-BBAA-BCAFC05D8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599E5-4724-4302-8EC4-ED11250B5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66EF1-688F-4F43-BA4B-286B0E99D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AA278-5F4F-4830-B6A8-04538D46A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6228D-B5F3-4C62-94D6-FD293A65B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C5A6D-855E-43A7-9AEE-746D26B78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B135D-2BE7-46AE-BE4D-52910026F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40D8E-3181-4B90-BD2D-E25BF4E94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A88EF-2A63-4C5A-8ADB-430F29140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17075-73CE-4D26-B4FE-263835F7E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874BC-C4AD-4BE0-AB0F-9C3984EB0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DD36-DBA6-42FA-B0A7-96FECBA36712}"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2484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Оснащение руководителей</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для успеха</a:t>
            </a:r>
            <a:endParaRPr b="0" lang="en-US" sz="4400" spc="-1" strike="noStrike">
              <a:solidFill>
                <a:srgbClr val="000000"/>
              </a:solidFill>
              <a:latin typeface="Calibri"/>
            </a:endParaRPr>
          </a:p>
        </p:txBody>
      </p:sp>
      <p:pic>
        <p:nvPicPr>
          <p:cNvPr id="52" name="" descr=""/>
          <p:cNvPicPr/>
          <p:nvPr/>
        </p:nvPicPr>
        <p:blipFill>
          <a:blip r:embed="rId2"/>
          <a:stretch/>
        </p:blipFill>
        <p:spPr>
          <a:xfrm>
            <a:off x="8101080" y="4822920"/>
            <a:ext cx="718920" cy="492120"/>
          </a:xfrm>
          <a:prstGeom prst="rect">
            <a:avLst/>
          </a:prstGeom>
          <a:ln w="0">
            <a:noFill/>
          </a:ln>
        </p:spPr>
      </p:pic>
      <p:sp>
        <p:nvSpPr>
          <p:cNvPr id="53" name=""/>
          <p:cNvSpPr/>
          <p:nvPr/>
        </p:nvSpPr>
        <p:spPr>
          <a:xfrm>
            <a:off x="4049640" y="5958000"/>
            <a:ext cx="2898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Сертификационная программа</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Отдела Женского служения ГК</a:t>
            </a:r>
            <a:endParaRPr b="0" lang="en-US" sz="1600" spc="-1" strike="noStrike">
              <a:solidFill>
                <a:srgbClr val="000000"/>
              </a:solidFill>
              <a:latin typeface="Calibri"/>
            </a:endParaRPr>
          </a:p>
        </p:txBody>
      </p:sp>
      <p:sp>
        <p:nvSpPr>
          <p:cNvPr id="54" name=""/>
          <p:cNvSpPr/>
          <p:nvPr/>
        </p:nvSpPr>
        <p:spPr>
          <a:xfrm>
            <a:off x="4174920" y="5408640"/>
            <a:ext cx="37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Franklin Gothic Book"/>
              </a:rPr>
              <a:t>Подготовлено Розой Банк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005600" cy="4525920"/>
          </a:xfrm>
          <a:prstGeom prst="rect">
            <a:avLst/>
          </a:prstGeom>
          <a:noFill/>
          <a:ln w="0">
            <a:noFill/>
          </a:ln>
        </p:spPr>
        <p:txBody>
          <a:bodyPr lIns="90000" rIns="90000" tIns="46800" bIns="46800" anchor="t">
            <a:normAutofit fontScale="86000"/>
          </a:bodyPr>
          <a:p>
            <a:pPr marL="294840" indent="-29484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уете ли вы себя женщиной, которую призвал Бог? Если да, то в какой област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женщина может знать, что Бог призвал ее выполнить определенную задачу?</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сколько комфортно вы себя чувствуете, когда следуете за женщиной-руководителе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3 - РАЗВИТИЕ ЛИДЕРСКИХ НАВЫКОВ, КОТОРЫЕ БОГ ВЛОЖИЛ В ВАС</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дискуссии и размышления</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ми лидерскими качествами вы обладаете?</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будете продолжать развивать их в служении Богу?</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себя чувствуете, используя эти качеств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4 – РУКОВОДИТЕ КАК ЖЕНЩИНА, А НЕ КАК МУЖЧИН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a:t>
            </a: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280" y="476280"/>
            <a:ext cx="6707160" cy="5361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2400" spc="-1" strike="noStrike">
                <a:solidFill>
                  <a:srgbClr val="000000"/>
                </a:solidFill>
                <a:latin typeface="Calibri"/>
              </a:rPr>
              <a:t> </a:t>
            </a:r>
            <a:r>
              <a:rPr b="0" lang="ru-RU" sz="2400" spc="-1" strike="noStrike">
                <a:solidFill>
                  <a:srgbClr val="000000"/>
                </a:solidFill>
                <a:latin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05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96" name="PlaceHolder 2"/>
          <p:cNvSpPr>
            <a:spLocks noGrp="1"/>
          </p:cNvSpPr>
          <p:nvPr>
            <p:ph/>
          </p:nvPr>
        </p:nvSpPr>
        <p:spPr>
          <a:xfrm>
            <a:off x="1979280" y="1711440"/>
            <a:ext cx="6707160" cy="4525920"/>
          </a:xfrm>
          <a:prstGeom prst="rect">
            <a:avLst/>
          </a:prstGeom>
          <a:noFill/>
          <a:ln w="0">
            <a:noFill/>
          </a:ln>
        </p:spPr>
        <p:txBody>
          <a:bodyPr lIns="90000" rIns="90000" tIns="46800" bIns="46800" anchor="t">
            <a:normAutofit fontScale="87000"/>
          </a:bodyPr>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лидерские качества вы обнаружили у женщин-руководителей, которых вы знает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ое, по крайней мере, одно из этих качеств, которое вы хотели бы развить в себ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 каких ваших лидерских качествах вам говорят другие лю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71280"/>
            <a:ext cx="9144000" cy="6929280"/>
          </a:xfrm>
          <a:prstGeom prst="rect">
            <a:avLst/>
          </a:prstGeom>
          <a:ln w="0">
            <a:noFill/>
          </a:ln>
        </p:spPr>
      </p:pic>
      <p:sp>
        <p:nvSpPr>
          <p:cNvPr id="98" name="PlaceHolder 1"/>
          <p:cNvSpPr>
            <a:spLocks noGrp="1"/>
          </p:cNvSpPr>
          <p:nvPr>
            <p:ph type="title"/>
          </p:nvPr>
        </p:nvSpPr>
        <p:spPr>
          <a:xfrm>
            <a:off x="2689200" y="198000"/>
            <a:ext cx="64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5 – ДЕРЖИТЕ ГЛАЗА И УШИ ОТКРЫТЫМИ, ЧТОБЫ ИЗБЕЖАТЬ ПОТЕНЦИАЛЬНЫХ КОНФЛИКТОВ, В ЧАСТНОСТИ С ДРУГИМИ ЖЕНЩИНА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9" name="PlaceHolder 2"/>
          <p:cNvSpPr>
            <a:spLocks noGrp="1"/>
          </p:cNvSpPr>
          <p:nvPr>
            <p:ph/>
          </p:nvPr>
        </p:nvSpPr>
        <p:spPr>
          <a:xfrm>
            <a:off x="446040" y="2104920"/>
            <a:ext cx="8229600" cy="34848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a:t>
            </a: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836360" y="874800"/>
            <a:ext cx="7056360" cy="5433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1835280" y="27432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104"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2400" spc="-1" strike="noStrike">
              <a:solidFill>
                <a:srgbClr val="000000"/>
              </a:solidFill>
              <a:latin typeface="Calibri"/>
            </a:endParaRPr>
          </a:p>
          <a:p>
            <a:pPr marL="609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71280"/>
            <a:ext cx="9144000" cy="6929280"/>
          </a:xfrm>
          <a:prstGeom prst="rect">
            <a:avLst/>
          </a:prstGeom>
          <a:ln w="0">
            <a:noFill/>
          </a:ln>
        </p:spPr>
      </p:pic>
      <p:sp>
        <p:nvSpPr>
          <p:cNvPr id="106" name="PlaceHolder 1"/>
          <p:cNvSpPr>
            <a:spLocks noGrp="1"/>
          </p:cNvSpPr>
          <p:nvPr>
            <p:ph type="title"/>
          </p:nvPr>
        </p:nvSpPr>
        <p:spPr>
          <a:xfrm>
            <a:off x="2905200" y="19800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6 – ИЗУЧИТЕ ПРЕГРАДЫ, КОТОРЫЕ МОГУТ ВАМ ПОМЕШАТЬ СТАТЬ УСПЕШНЫМ РУКОВОДИТЕЛЕМ</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7"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на из наиболее очевидных преград – СТРАХ.</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ругая – ОТВЕТСТВЕННОСТЬ</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ретьей преградой может быть НЕДОСТАТОК ПОДДЕРЖКИ.</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твертой преградой может быть ЛИЧНЫЙ БАГАЖ</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1897200" y="259920"/>
            <a:ext cx="663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0" name="PlaceHolder 2"/>
          <p:cNvSpPr>
            <a:spLocks noGrp="1"/>
          </p:cNvSpPr>
          <p:nvPr>
            <p:ph/>
          </p:nvPr>
        </p:nvSpPr>
        <p:spPr>
          <a:xfrm>
            <a:off x="2041560" y="1855800"/>
            <a:ext cx="6851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гласны ли вы с тем, что женщины должны преодолевать больше преград, чем мужчины?</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71280"/>
            <a:ext cx="9144000" cy="6929280"/>
          </a:xfrm>
          <a:prstGeom prst="rect">
            <a:avLst/>
          </a:prstGeom>
          <a:ln w="0">
            <a:noFill/>
          </a:ln>
        </p:spPr>
      </p:pic>
      <p:sp>
        <p:nvSpPr>
          <p:cNvPr id="112" name="PlaceHolder 1"/>
          <p:cNvSpPr>
            <a:spLocks noGrp="1"/>
          </p:cNvSpPr>
          <p:nvPr>
            <p:ph type="title"/>
          </p:nvPr>
        </p:nvSpPr>
        <p:spPr>
          <a:xfrm>
            <a:off x="2626920" y="188640"/>
            <a:ext cx="644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7 – ИЗУЧИТЕ ПРАТИЧЕСКИЕ СТРАТЕГИИ ПРЕОДОЛЕГИЯ ПРЕГРАД В РУКОВОДСТВ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6" name="PlaceHolder 2"/>
          <p:cNvSpPr>
            <a:spLocks noGrp="1"/>
          </p:cNvSpPr>
          <p:nvPr>
            <p:ph/>
          </p:nvPr>
        </p:nvSpPr>
        <p:spPr>
          <a:xfrm>
            <a:off x="1835280" y="1782720"/>
            <a:ext cx="7067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a:t>
            </a:r>
            <a:r>
              <a:rPr b="0" lang="ru-RU" sz="28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елитесь своим опытом, как вы преодолели хотя бы одну из преград.</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71280"/>
            <a:ext cx="9144000" cy="6929280"/>
          </a:xfrm>
          <a:prstGeom prst="rect">
            <a:avLst/>
          </a:prstGeom>
          <a:ln w="0">
            <a:noFill/>
          </a:ln>
        </p:spPr>
      </p:pic>
      <p:sp>
        <p:nvSpPr>
          <p:cNvPr id="118"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8 – РУКОВОДИТЕ С УВЕРЕННОСТЬЮ, ОГРАНИЧИВАЯ ВЫРАЖЕНИЕ ЭМОЦИЙ</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9" name="PlaceHolder 2"/>
          <p:cNvSpPr>
            <a:spLocks noGrp="1"/>
          </p:cNvSpPr>
          <p:nvPr>
            <p:ph/>
          </p:nvPr>
        </p:nvSpPr>
        <p:spPr>
          <a:xfrm>
            <a:off x="395280" y="18558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908000" y="414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2" name="PlaceHolder 2"/>
          <p:cNvSpPr>
            <a:spLocks noGrp="1"/>
          </p:cNvSpPr>
          <p:nvPr>
            <p:ph/>
          </p:nvPr>
        </p:nvSpPr>
        <p:spPr>
          <a:xfrm>
            <a:off x="1907640" y="1844640"/>
            <a:ext cx="700596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женщина может держать свои эмоции под контролем?</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означает для женщины-руководителя держать эмоции под контроле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71280"/>
            <a:ext cx="9144000" cy="6929280"/>
          </a:xfrm>
          <a:prstGeom prst="rect">
            <a:avLst/>
          </a:prstGeom>
          <a:ln w="0">
            <a:noFill/>
          </a:ln>
        </p:spPr>
      </p:pic>
      <p:sp>
        <p:nvSpPr>
          <p:cNvPr id="124"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9 – БУДЬТЕ ОТКРЫТЫ К ВОЗМОЖНОСТЯМ ПРОДВИЖЕ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25"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8" name="PlaceHolder 2"/>
          <p:cNvSpPr>
            <a:spLocks noGrp="1"/>
          </p:cNvSpPr>
          <p:nvPr>
            <p:ph/>
          </p:nvPr>
        </p:nvSpPr>
        <p:spPr>
          <a:xfrm>
            <a:off x="1979280" y="1700280"/>
            <a:ext cx="6778440" cy="4525920"/>
          </a:xfrm>
          <a:prstGeom prst="rect">
            <a:avLst/>
          </a:prstGeom>
          <a:noFill/>
          <a:ln w="0">
            <a:noFill/>
          </a:ln>
        </p:spPr>
        <p:txBody>
          <a:bodyPr lIns="90000" rIns="90000" tIns="46800" bIns="46800" anchor="t">
            <a:normAutofit fontScale="96000"/>
          </a:bodyPr>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существуют различия между предложением и возможностью?</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важно помнить, чтобы не упустить возможно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71280"/>
            <a:ext cx="9144000" cy="6929280"/>
          </a:xfrm>
          <a:prstGeom prst="rect">
            <a:avLst/>
          </a:prstGeom>
          <a:ln w="0">
            <a:noFill/>
          </a:ln>
        </p:spPr>
      </p:pic>
      <p:sp>
        <p:nvSpPr>
          <p:cNvPr id="13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Я 10 – ОТВАЖИТЬСЯ НА РИСК</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31"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i="1" lang="ru-RU" sz="3200" spc="-1" strike="noStrike">
                <a:solidFill>
                  <a:srgbClr val="000000"/>
                </a:solidFill>
                <a:latin typeface="Arial"/>
              </a:rPr>
              <a:t>У эффективных руководителей много схожих характерных черт. Две из них очень важн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1. Они берут на себя смелость принимать решения, когда это необходимо сделат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2. Они желают принести себя в жертву для пользы других люде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700360" y="333000"/>
            <a:ext cx="630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1 - ВЕРЬТЕ, ЧТО БОГ ПРИЗВАЛ ЖЕНЩИН БЫТЬ РУКОВОДИТЕЛЯ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9" name="PlaceHolder 2"/>
          <p:cNvSpPr>
            <a:spLocks noGrp="1"/>
          </p:cNvSpPr>
          <p:nvPr>
            <p:ph/>
          </p:nvPr>
        </p:nvSpPr>
        <p:spPr>
          <a:xfrm>
            <a:off x="34920" y="2060640"/>
            <a:ext cx="88200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p:nvPr>
        </p:nvSpPr>
        <p:spPr>
          <a:xfrm>
            <a:off x="1908000" y="764640"/>
            <a:ext cx="6778800" cy="4526280"/>
          </a:xfrm>
          <a:prstGeom prst="rect">
            <a:avLst/>
          </a:prstGeom>
          <a:noFill/>
          <a:ln w="0">
            <a:noFill/>
          </a:ln>
        </p:spPr>
        <p:txBody>
          <a:bodyPr lIns="90000" rIns="90000" tIns="46800" bIns="46800" anchor="t">
            <a:normAutofit fontScale="91000"/>
          </a:bodyPr>
          <a:p>
            <a:pPr marL="312120" indent="-31212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71280"/>
            <a:ext cx="9144000" cy="6929280"/>
          </a:xfrm>
          <a:prstGeom prst="rect">
            <a:avLst/>
          </a:prstGeom>
          <a:ln w="0">
            <a:noFill/>
          </a:ln>
        </p:spPr>
      </p:pic>
      <p:sp>
        <p:nvSpPr>
          <p:cNvPr id="135" name="PlaceHolder 1"/>
          <p:cNvSpPr>
            <a:spLocks noGrp="1"/>
          </p:cNvSpPr>
          <p:nvPr>
            <p:ph/>
          </p:nvPr>
        </p:nvSpPr>
        <p:spPr>
          <a:xfrm>
            <a:off x="107640" y="1782720"/>
            <a:ext cx="4321080" cy="4525920"/>
          </a:xfrm>
          <a:prstGeom prst="rect">
            <a:avLst/>
          </a:prstGeom>
          <a:noFill/>
          <a:ln w="0">
            <a:noFill/>
          </a:ln>
        </p:spPr>
        <p:txBody>
          <a:bodyPr lIns="90000" rIns="90000" tIns="46800" bIns="46800" anchor="t">
            <a:normAutofit/>
          </a:bodyPr>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 - ВЕРЬТЕ, ЧТО БОГ ПРИЗВАЛ ЖЕНЩИН БЫТЬ РУКОВОДИТЕЛЯМИ</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2 - ВИДЕТЬ В СЕБЕ ЖЕНЩИНУ, ПРИЗВАННУЮ БОГОМ РУКОВОДИТЬ</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3 - РАЗВИТИЕ ЛИДЕРСКИХ НАВЫКОВ, КОТОРЫЕ БОГ ВЛОЖИЛ В ВАС</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4 – РУКОВОДИТЕ КАК ЖЕНЩИНА, А НЕ КАК МУЖЧИНА</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600" spc="-1" strike="noStrike">
              <a:solidFill>
                <a:srgbClr val="000000"/>
              </a:solidFill>
              <a:latin typeface="Calibri"/>
            </a:endParaRPr>
          </a:p>
        </p:txBody>
      </p:sp>
      <p:sp>
        <p:nvSpPr>
          <p:cNvPr id="136" name="PlaceHolder 2"/>
          <p:cNvSpPr>
            <a:spLocks noGrp="1"/>
          </p:cNvSpPr>
          <p:nvPr>
            <p:ph/>
          </p:nvPr>
        </p:nvSpPr>
        <p:spPr>
          <a:xfrm>
            <a:off x="4642920" y="1773360"/>
            <a:ext cx="4038840" cy="4525920"/>
          </a:xfrm>
          <a:prstGeom prst="rect">
            <a:avLst/>
          </a:prstGeom>
          <a:noFill/>
          <a:ln w="0">
            <a:noFill/>
          </a:ln>
        </p:spPr>
        <p:txBody>
          <a:bodyPr lIns="90000" rIns="90000" tIns="46800" bIns="46800" anchor="t">
            <a:normAutofit/>
          </a:bodyPr>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7 – ИЗУЧИТЕ ПРАТИЧЕСКИЕ СТРАТЕГИИ ПРЕОДОЛЕГИЯ ПРЕГРАД В РУКОВОДСТВЕ</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8 – РУКОВОДИТЕ С УВЕРЕННОСТЬЮ, ОГРАНИЧИВАЯ ВЫРАЖЕНИЕ ЭМОЦИЙ</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9 – БУДЬТЕ ОТКРЫТЫ К ВОЗМОЖНОСТЯМ ПРОДВИЖЕНИЯ</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0 – ОТВАЖИТЬСЯ НА РИСК</a:t>
            </a:r>
            <a:endParaRPr b="0" lang="en-US" sz="1600" spc="-1" strike="noStrike">
              <a:solidFill>
                <a:srgbClr val="000000"/>
              </a:solidFill>
              <a:latin typeface="Calibri"/>
            </a:endParaRPr>
          </a:p>
        </p:txBody>
      </p:sp>
      <p:sp>
        <p:nvSpPr>
          <p:cNvPr id="137" name=""/>
          <p:cNvSpPr/>
          <p:nvPr/>
        </p:nvSpPr>
        <p:spPr>
          <a:xfrm>
            <a:off x="3539520" y="496800"/>
            <a:ext cx="361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10 стратеги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40"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такое поддерж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2112840" y="660240"/>
            <a:ext cx="6346800" cy="579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 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Franklin Gothic Book"/>
              </a:rPr>
              <a:t>Например</a:t>
            </a:r>
            <a:r>
              <a:rPr b="1" lang="en-US" sz="3200" spc="-1" strike="noStrike">
                <a:solidFill>
                  <a:srgbClr val="ffffff"/>
                </a:solidFill>
                <a:latin typeface="Franklin Gothic Book"/>
              </a:rPr>
              <a:t>:</a:t>
            </a:r>
            <a:endParaRPr b="0" lang="en-US" sz="3200" spc="-1" strike="noStrike">
              <a:solidFill>
                <a:srgbClr val="000000"/>
              </a:solidFill>
              <a:latin typeface="Calibri"/>
            </a:endParaRPr>
          </a:p>
        </p:txBody>
      </p:sp>
      <p:sp>
        <p:nvSpPr>
          <p:cNvPr id="62" name="PlaceHolder 2"/>
          <p:cNvSpPr>
            <a:spLocks noGrp="1"/>
          </p:cNvSpPr>
          <p:nvPr>
            <p:ph/>
          </p:nvPr>
        </p:nvSpPr>
        <p:spPr>
          <a:xfrm>
            <a:off x="1682280" y="1341360"/>
            <a:ext cx="7210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804960"/>
            <a:ext cx="7201080" cy="5937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енщины присутствовали при Его распятии (Мтф. 27:55-56).</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явился женщинам после воскресенья, и побудил их свидетельствоват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вдов (Лк. 4:26; 7:11; 18:1; 20:47 и 2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ценность супружеского союза, особенно в вопросах развода (Мк. 10: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6994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жизни и притчах Иисуса Христа женщины встречаются также часто, как и мужчины.</a:t>
            </a:r>
            <a:br>
              <a:rPr sz="2400"/>
            </a:br>
            <a:endParaRPr b="0" lang="en-US" sz="24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А) Симеон и Анна (Лк. 2:25-28).</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Б) Потерянная овца; женщина и потерянная драхма; блудный сын (Лк. 15).</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Анания и Сапфира (Деян. 5:1-11).</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Г) Разговор Лидии и тюремного стража (Деян. 16:14-34).</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 Дианис и Дамария (Деян. 17:3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63280" y="260280"/>
            <a:ext cx="72010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скилла, обучающая Аполоса, показывает, что женщины были учител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рите ли вы, что Бог призвал женщин быть руководителями? Всегда ли вы так думал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женщины в прошлом и в настоящем могут быть образцом для вас?</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ществуют ли такие руководящие роли, которые не соответствуют женщинам-христианка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2 - ВИДЕТЬ В СЕБЕ ЖЕНЩИНУ, ПРИЗВАННУЮ БОГОМ РУКОВОДИТЬ</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Irina Romashkina</cp:lastModifiedBy>
  <dcterms:modified xsi:type="dcterms:W3CDTF">2008-01-14T16:16:53Z</dcterms:modified>
  <cp:revision>45</cp:revision>
  <dc:subject/>
  <dc:title>Slide 1</dc:title>
</cp:coreProperties>
</file>