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976C423-4601-4274-9810-F624C3ADB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911240" y="465120"/>
            <a:ext cx="2729160" cy="2046240"/>
          </a:xfrm>
          <a:prstGeom prst="rect">
            <a:avLst/>
          </a:prstGeom>
          <a:ln w="0">
            <a:noFill/>
          </a:ln>
        </p:spPr>
      </p:sp>
      <p:sp>
        <p:nvSpPr>
          <p:cNvPr id="216"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иск наставляемо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здесь – возможно, в церкви, дочь друзей, одинокая женщина на церковной скамье, ваша коллега, ваша соседка. Молодые люди повсюду. И им очень нужны опытные женщины-христианки. Возможно, вы знаете ту, которая живет далеко? Отправляйте ей электронные сообщения или пишите письма. Молитесь о ней – ей всегда нужны ваши молитвы.</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112840" y="320760"/>
            <a:ext cx="2540160" cy="1904760"/>
          </a:xfrm>
          <a:prstGeom prst="rect">
            <a:avLst/>
          </a:prstGeom>
          <a:ln w="0">
            <a:noFill/>
          </a:ln>
        </p:spPr>
      </p:sp>
      <p:sp>
        <p:nvSpPr>
          <p:cNvPr id="218"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нача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сскажите о себе. Будьте дружелюбны. Задавайте вопросы. Не бойтесь. Кто-то должен инициировать дружеские отношения. Возможно, ваша позиция гораздо выгоднее. Многие молодые женщины могут смущаться или избегать более взрослых женщин.</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044800" y="392040"/>
            <a:ext cx="2824200" cy="2117880"/>
          </a:xfrm>
          <a:prstGeom prst="rect">
            <a:avLst/>
          </a:prstGeom>
          <a:ln w="0">
            <a:noFill/>
          </a:ln>
        </p:spPr>
      </p:sp>
      <p:sp>
        <p:nvSpPr>
          <p:cNvPr id="220"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двигайтесь вперед и приглашай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гласите ее на ужин. Возможно, девушка уже давно не готовила, после того как уехала из дома. У многих молодых женщин, которые учатся в колледже, нет желания или финансовых возможностей приготовить полноценный уж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дложите обучить ее чему-нибудь. Приготовлению блюд, вязанию, шитью или выпечке. Спросите ее об увлечениях, и вовлекитесь в н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гласите ее на обед. Многие женщины очень много работают, и они будут очень рады оторваться от работы на час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гласите ее на прогулку. Очень хорошо выйти на улицу и сделать упражнения. Сходите в парк или даже устройте пикни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влеките ее в особое женское служение в вашей церкви, такое как изучение Библии или приготовление к Вечери Господней. Предложите подвести ее домой.</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87720" y="392040"/>
            <a:ext cx="2538360" cy="1903320"/>
          </a:xfrm>
          <a:prstGeom prst="rect">
            <a:avLst/>
          </a:prstGeom>
          <a:ln w="0">
            <a:noFill/>
          </a:ln>
        </p:spPr>
      </p:sp>
      <p:sp>
        <p:nvSpPr>
          <p:cNvPr id="222"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Что ожидать от первой встречи</a:t>
            </a:r>
            <a:endParaRPr b="0" lang="en-US" sz="1200" spc="-1" strike="noStrike">
              <a:solidFill>
                <a:srgbClr val="000000"/>
              </a:solidFill>
              <a:latin typeface="Arial"/>
            </a:endParaRPr>
          </a:p>
          <a:p>
            <a:pPr marL="228600" indent="0" algn="just">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важно вам чувствовать себя комфортно</a:t>
            </a:r>
            <a:r>
              <a:rPr b="0" lang="ru-RU" sz="1200" spc="-1" strike="noStrike">
                <a:solidFill>
                  <a:srgbClr val="000000"/>
                </a:solidFill>
                <a:latin typeface="Arial"/>
              </a:rPr>
              <a:t>. Теперь вы можете поделиться личным свидетельством, а возможно, вы решите этого не делать. Постарайтесь познакомиться с девушкой, и понять, как складывается ситуация. Не планируйте заранее, что сказать. Отслеживайте, что происходит между вами, и что вы чувствует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судите какого посвящения вы ожидаете от ваших взаимоотношений</a:t>
            </a:r>
            <a:r>
              <a:rPr b="0" lang="ru-RU" sz="1200" spc="-1" strike="noStrike">
                <a:solidFill>
                  <a:srgbClr val="000000"/>
                </a:solidFill>
                <a:latin typeface="Arial"/>
              </a:rPr>
              <a:t>. Дайте ей понять, что вы рядом с ней, и она может положиться на вас.</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пределите ваши общие цели</a:t>
            </a:r>
            <a:r>
              <a:rPr b="0" lang="ru-RU" sz="1200" spc="-1" strike="noStrike">
                <a:solidFill>
                  <a:srgbClr val="000000"/>
                </a:solidFill>
                <a:latin typeface="Arial"/>
              </a:rPr>
              <a:t>. На пример, выберите библейский текст для прочтения, который вы можете позже обсудить. Присоединитесь к служению благотворительности или совместному служени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зработайте планы на будущее</a:t>
            </a:r>
            <a:r>
              <a:rPr b="0" lang="ru-RU" sz="1200" spc="-1" strike="noStrike">
                <a:solidFill>
                  <a:srgbClr val="000000"/>
                </a:solidFill>
                <a:latin typeface="Arial"/>
              </a:rPr>
              <a:t>. Назначьте дату следующей встречи. Это позволит вашей наставляемой составить представление о вашем посвящении. Определите время, место и мероприятие, для которого вы встретитесь в следующий раз.</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канчивайте каждую встречу молитвой</a:t>
            </a:r>
            <a:r>
              <a:rPr b="0" lang="ru-RU" sz="1200" spc="-1" strike="noStrike">
                <a:solidFill>
                  <a:srgbClr val="000000"/>
                </a:solidFill>
                <a:latin typeface="Arial"/>
              </a:rPr>
              <a:t>. Всегда благодарите Бога за эту девушку в вашей молитве. Молитесь о предстоящей неделе. Молитесь. Молитва поможет помочь вашей наставляемой и станет хорошим примером. Сначала она может чувствовать себя неловко в молитве, но чем больше вы будете молиться о ней, тем более комфортно она будет чувствовать себя с вами. Попросите ее молиться о вас и вашей семье в перерывах между встречами. Постарайтесь, чтобы ваши молитвы были простыми. Она может смутиться вашей способностью молиться. Вашей наставляемой нужно чувствовать, что вы находитесь на одном уровне. Постарайтесь быть не интровертной.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041560" y="320760"/>
            <a:ext cx="2539800" cy="1904760"/>
          </a:xfrm>
          <a:prstGeom prst="rect">
            <a:avLst/>
          </a:prstGeom>
          <a:ln w="0">
            <a:noFill/>
          </a:ln>
        </p:spPr>
      </p:sp>
      <p:sp>
        <p:nvSpPr>
          <p:cNvPr id="224"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ТРОЕНИЕ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важно установить дружеские отношения. Дайте вашей наставляемой знать, что она может вам доверять. Будьте искренне заинтересованы ее жизнью. Задавайте открытые вопросы. Например, «Как складываются ваши дела на работе?» Постарайтесь не задавать вопросов, которые требуют ответа лишь «Да» или «Нет».  «Вам нравится этот Библейский текст?» или «Как сегодня прошел день?» На такие вопросы люди, как правило отвечают «Да» или «Отлично», даже если они и не чувствуют себя отлично.</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911240" y="392040"/>
            <a:ext cx="2729160" cy="2046240"/>
          </a:xfrm>
          <a:prstGeom prst="rect">
            <a:avLst/>
          </a:prstGeom>
          <a:ln w="0">
            <a:noFill/>
          </a:ln>
        </p:spPr>
      </p:sp>
      <p:sp>
        <p:nvSpPr>
          <p:cNvPr id="226"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как индивидуальны, так и доступны. Закрытые вопросы повлекут ответы лишь в несколько слов, но открытые вопросы предоставляют все возможности для объяснения. Примеры вопросов, которые могут помочь начать хороший диалог</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пришли ко Хрис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у вас достоинства? А какие недостат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бы у вас был полностью свободный день, то чем бы вы заняли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самая большая преграда стоит между вами и вашей мечт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акой сфере вы хотели бы развиваться в ближайший год или даже три г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ваша любимая книга Библии и почему она вам так дорог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помните особые и важные дни. Сделайте что-нибудь особенное в ее день рождения. Если она замужем, отправьте ей поздравления по поводу годовщины бракосочетания. Если что-то важное происходит в ее жизни, может быть особенная встреча или свадьба друзей, сделайте себе заметку поздравить 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 вы умеете работать с техническими средствами. Многие молодые женщины в наши дни предпочитают общаться по электронной почте. Если возможно, отправьте ей электронное или текстовое сообщ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стойки. Девушка не всегда может вам перезванивать, но это не должно вас огорчать. Всегда перезванивайте ей в течение 24 часов. Она учится. А вы учитель.</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092320" y="465120"/>
            <a:ext cx="2440080" cy="1830240"/>
          </a:xfrm>
          <a:prstGeom prst="rect">
            <a:avLst/>
          </a:prstGeom>
          <a:ln w="0">
            <a:noFill/>
          </a:ln>
        </p:spPr>
      </p:sp>
      <p:sp>
        <p:nvSpPr>
          <p:cNvPr id="228"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u="sng">
                <a:solidFill>
                  <a:srgbClr val="000000"/>
                </a:solidFill>
                <a:uFillTx/>
                <a:latin typeface="Arial"/>
              </a:rPr>
              <a:t>Коучинг жизнь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удьте готовы отвечать на вопросы о профессиональном росте, браке, детях и Боге. Однажды начав отношения, не удивляйтесь, если молодая женщина будет спрашивать вашего совета. Ниже приведены руководящие принцип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тавьте ваши собственные намерения, и следуйте намерениям Бога. Спросите наставляемую девушку, что она думает о Божьей воле. Всегда напоминайте ей о Небесном Отце и Его плане для не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ушайте. Иногда лучше помолчать. Предоставляйте время для тишины. Предоставьте ей право говорить, а потом подумайте, что сказать. Прежде чем что-либо сказать, старайтесь сначала прислушаться к голосу Бог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веренно задавайте даже самые простые вопросы. «Что это означает для вас?» «Вы молились об этом?» Если вы не уверены в том, что вам лучше сказать, вы можете вместе помолиться. Предложите краткую молитв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буждайте ее действовать. Что ей необходимо сделать, чтобы улучшить ситуацию? Помогите ей установить сроки, предложите помощь и свои умения.</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130480" y="534960"/>
            <a:ext cx="2440080" cy="1830240"/>
          </a:xfrm>
          <a:prstGeom prst="rect">
            <a:avLst/>
          </a:prstGeom>
          <a:ln w="0">
            <a:noFill/>
          </a:ln>
        </p:spPr>
      </p:sp>
      <p:sp>
        <p:nvSpPr>
          <p:cNvPr id="230"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Будьте пример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образцом для подражания. Покажите ей, как должна поступать христианка. Девушка будет наблюдать за вами и вашими ценностя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ношей также увещевай быть целомудренными. Во всем показывай в себе образец для добрых дел, в учительстве – чистоту, степенность, неповрежденность, слово здравое, неукоризненное, чтобы противник был посрамлен, не имея ничего сказать о нас худого», Титу 2:6-8.</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911240" y="320760"/>
            <a:ext cx="2729160" cy="2046240"/>
          </a:xfrm>
          <a:prstGeom prst="rect">
            <a:avLst/>
          </a:prstGeom>
          <a:ln w="0">
            <a:noFill/>
          </a:ln>
        </p:spPr>
      </p:sp>
      <p:sp>
        <p:nvSpPr>
          <p:cNvPr id="232"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Находитесь в тесных отношениях с Богом</a:t>
            </a:r>
            <a:r>
              <a:rPr b="1"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о наиболее важный шаг в наставничестве. Ваши новые наставнические отношения включают в себя не только двоих людей. Для того, чтобы они работали, нужен Третий. Бог должен быть центром ваших отношений. Всегда начинайте с молитвы. Бог вовсе не ожидает, что вы будете хорошим наставником самостоятельно. Ежедневно молитесь и просите Его руководить вами и помогать вам быть Божественным образцом для подражания. Он знает все. И если вы начинаете отношения вместе с Богом, то знайте, что все находится в Его руках.</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071800" y="392040"/>
            <a:ext cx="2630520" cy="1973160"/>
          </a:xfrm>
          <a:prstGeom prst="rect">
            <a:avLst/>
          </a:prstGeom>
          <a:ln w="0">
            <a:noFill/>
          </a:ln>
        </p:spPr>
      </p:sp>
      <p:sp>
        <p:nvSpPr>
          <p:cNvPr id="234" name="PlaceHolder 2"/>
          <p:cNvSpPr>
            <a:spLocks noGrp="1"/>
          </p:cNvSpPr>
          <p:nvPr>
            <p:ph type="body"/>
          </p:nvPr>
        </p:nvSpPr>
        <p:spPr>
          <a:xfrm>
            <a:off x="685800" y="2390400"/>
            <a:ext cx="5486400" cy="585324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О чем молитьс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удрость: Молитесь, чтобы Бог дал вам знание и правильные слова. Помните, что с Богом для вас все возможно. Вам нужна Его помощь в руководстве наставляемой женщиной. «Уста свои открывает с мудростью, и кроткое наставление на языке ее» Пр. 31: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рпение: На забывайте: для чего вы являетесь наставником и для чего она - наставляемой. Она все еще учится. Принимайте девушку, если она не говорит то, что вы ожидаете слышать, и если ее христианский путь не совсем такой, какого вы ожидаете. Вы здесь для того, чтобы помочь ей, будьте терпеливы как Христос был терпелив. «Умаляем также вас, братья, вразумляйте бесчинных, утешайте малодушных, поддерживайте слабых, будьте долготерпеливы ко всем» 1 Фес. 5:1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илость: Не выговаривайте ее. Возможно, вы подумаете «Я не могу поверить, что она это сделала». Именно, по этой причине ей нужны вы. Вы здесь для того, чтобы помогать, прощать и проявлять милость. «Но для того я и помилован, чтобы Иисус Христос во мне первом показал все долготерпение, в пример тем, которые будут веровать в Него к жизни вечной, 1 Тим. 1:1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м больше вы будете сосредотачиваться на ваших отношениях с Богом, тем лучшим наставником вы будете.</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008080" y="320760"/>
            <a:ext cx="2822760" cy="2117520"/>
          </a:xfrm>
          <a:prstGeom prst="rect">
            <a:avLst/>
          </a:prstGeom>
          <a:ln w="0">
            <a:noFill/>
          </a:ln>
        </p:spPr>
      </p:sp>
      <p:sp>
        <p:nvSpPr>
          <p:cNvPr id="200" name="PlaceHolder 2"/>
          <p:cNvSpPr>
            <a:spLocks noGrp="1"/>
          </p:cNvSpPr>
          <p:nvPr>
            <p:ph type="body"/>
          </p:nvPr>
        </p:nvSpPr>
        <p:spPr>
          <a:xfrm>
            <a:off x="685800" y="253800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аставничество – преднамеренные отношения, в которых духовно опытные женщины посвящают свое время молодым женщинам. Существует несколько видов наставнич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Духовный сов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Молитвенное партнер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Разговор и Слуш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остроение дружеских отношений</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84320" y="320760"/>
            <a:ext cx="2728800" cy="2046240"/>
          </a:xfrm>
          <a:prstGeom prst="rect">
            <a:avLst/>
          </a:prstGeom>
          <a:ln w="0">
            <a:noFill/>
          </a:ln>
        </p:spPr>
      </p:sp>
      <p:sp>
        <p:nvSpPr>
          <p:cNvPr id="236" name="PlaceHolder 2"/>
          <p:cNvSpPr>
            <a:spLocks noGrp="1"/>
          </p:cNvSpPr>
          <p:nvPr>
            <p:ph type="body"/>
          </p:nvPr>
        </p:nvSpPr>
        <p:spPr>
          <a:xfrm>
            <a:off x="685440" y="2463480"/>
            <a:ext cx="5551560" cy="592452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Предлагайте дружеский совет. Вам необходимо напомнить наставляемой о трех важных аспекта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не можете делать все: Живите, основываясь на Божьих приоритетах. Осознавайте ваши границы. Научитесь говорить «нет». Своей молодостью и энергией она может пытаться достичь большего и даже превосходящего ее возможности. Напоминайте ей, что она не может делать все – ей необходимо уделять время важным аспектам жизни, таким как отношения с Богом.</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не знаете, что ожидаете от вашей жизни, пробуйте: Не бойтесь пробовать что-то новое. Если она несчастна, предложите ей действовать и двигаться вперед. Если она разочаровалась в своей профессии, поддержите ее в поиске новой работы или продолжении учеб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поддерживаете ее, но вы не ответственны за ее выбор: Вы можете поддерживать, руководить и давать предложения, но не изменяйте ее выбор. Она должна самостоятельно принимать решения в своей жизни. Не толкайте ее – она должна сама сделать окончательный выбор.</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055960" y="534960"/>
            <a:ext cx="2728800" cy="2046240"/>
          </a:xfrm>
          <a:prstGeom prst="rect">
            <a:avLst/>
          </a:prstGeom>
          <a:ln w="0">
            <a:noFill/>
          </a:ln>
        </p:spPr>
      </p:sp>
      <p:sp>
        <p:nvSpPr>
          <p:cNvPr id="238"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Если взаимоотношения затухают?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шения становятся ближе, а между вами и наставляемой все больше недопонимания. А что если ее утруждает критика, которую она слышит от вас по поводу того, что она делает? А может быть, она не совсем правильно понимает то, что вы говорит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ервых. Остановитесь и попросите Бога показать вам, где вы неверно поступаете. Предпримите действия, извинитесь, если требуется. Она осознает, что вы несовершенны. Ей необходимо знать, что все люди могут ошибаться. Если вам не за что извиняться, то простите е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вторых, поговорите с ней. Пусть она расскажет о своих чувствах. Предоставьте ей право побыть одной. С Божьей помощью отношения окрепнут.</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198520" y="320760"/>
            <a:ext cx="2443320" cy="1832040"/>
          </a:xfrm>
          <a:prstGeom prst="rect">
            <a:avLst/>
          </a:prstGeom>
          <a:ln w="0">
            <a:noFill/>
          </a:ln>
        </p:spPr>
      </p:sp>
      <p:sp>
        <p:nvSpPr>
          <p:cNvPr id="240" name="PlaceHolder 2"/>
          <p:cNvSpPr>
            <a:spLocks noGrp="1"/>
          </p:cNvSpPr>
          <p:nvPr>
            <p:ph type="body"/>
          </p:nvPr>
        </p:nvSpPr>
        <p:spPr>
          <a:xfrm>
            <a:off x="685800" y="2176200"/>
            <a:ext cx="5486400" cy="6211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АНОВЛЕНИЕ ДУХОВНОГО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дцатилетняя женщина очень нуждается в том, чтобы найти свою цель в жизни. Ей нужно принять множество решений, и она не знает, с чего начать. Она желает начать работать, устроить личную жизнь или создать семью. Как она намеревается открыть Богом данные таланты и принять важные решения в жизни?</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081160" y="465120"/>
            <a:ext cx="2535120" cy="1901880"/>
          </a:xfrm>
          <a:prstGeom prst="rect">
            <a:avLst/>
          </a:prstGeom>
          <a:ln w="0">
            <a:noFill/>
          </a:ln>
        </p:spPr>
      </p:sp>
      <p:sp>
        <p:nvSpPr>
          <p:cNvPr id="242" name="PlaceHolder 2"/>
          <p:cNvSpPr>
            <a:spLocks noGrp="1"/>
          </p:cNvSpPr>
          <p:nvPr>
            <p:ph type="body"/>
          </p:nvPr>
        </p:nvSpPr>
        <p:spPr>
          <a:xfrm>
            <a:off x="685800" y="2463480"/>
            <a:ext cx="5486400" cy="58532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помните ей</a:t>
            </a:r>
            <a:r>
              <a:rPr b="0" lang="ru-RU" sz="1200" spc="-1" strike="noStrike">
                <a:solidFill>
                  <a:srgbClr val="000000"/>
                </a:solidFill>
                <a:latin typeface="Arial"/>
              </a:rPr>
              <a:t>: Не имеет значения, что вы делаете со своей жизнью, Бог желает быть в ней. Все что вы начинаете, нужно начинать с Богом. Будь она медсестра, доктор, секретарь, юрист или мама, находящаяся дома, все равно она никто без Бога. Если Бог присутствует в ее жизни, она может повлиять на жизни других людей. Бог будет проявляться в ней как свидетельство для ее коллег, соседей, покупателей в магазине, и, что более важно, для ее детей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151000" y="392040"/>
            <a:ext cx="2538360" cy="1903320"/>
          </a:xfrm>
          <a:prstGeom prst="rect">
            <a:avLst/>
          </a:prstGeom>
          <a:ln w="0">
            <a:noFill/>
          </a:ln>
        </p:spPr>
      </p:sp>
      <p:sp>
        <p:nvSpPr>
          <p:cNvPr id="244"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чный призыв Иисуса Христа к нам не относится к конкретному месту или должности здесь на земле, прежде всего Он призывает нас к глубоким взаимоотношениям с Ним», Е. Уайт, Патриархи и пророки, стр. ориг. 24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176560" y="320760"/>
            <a:ext cx="2633400" cy="1974600"/>
          </a:xfrm>
          <a:prstGeom prst="rect">
            <a:avLst/>
          </a:prstGeom>
          <a:ln w="0">
            <a:noFill/>
          </a:ln>
        </p:spPr>
      </p:sp>
      <p:sp>
        <p:nvSpPr>
          <p:cNvPr id="246"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СТО В ОБЩЕСТВ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даже учитывая, что для христиан очень важно общаться со Христом, то для того, чтобы жить она должна работать. Если девушка смущена и не знает, как начать жизнь, вы можете поддержать ее попробовать что-нибудь ново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может быть вовлечена в различные мероприятия местной школы или церкв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может понаблюдать за работой, которая ей нравится и попробовать поработать. Она может работать на нескольких должностях с частичной занятостью вместо того, чтобы пойти на работу с полной занятостью, пока она не примет своего ре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также может рассмотреть временные вакансии, на которых можно попробовать несколько професс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помните ей, что решение о том, что она не хочет делать очень полезно при принятии решения о том, что она хочет делать. Что ей нравится делать? Что она умеет делать хорошо? Чем ей нравится заниматься? Может ли она применить свои хобби в работе? Множество раз можно ответить «да» на эти вопрос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любит детей? Возможно, она могла бы быть учителем или социальным работник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очень организована? Возможно, она может организовывать встречи или быть администратором. Существует множество профессий. Поддержите ее в правильном выбор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девушка не может применить свое хобби в работе, побудите ее раскрыть свои таланты. Например, возможно, она любит петь, но ее профессиональная деятельность не предполагает пения. Молодая женщина может петь в церкви, присоединиться к хору, давать уроки пения. Быть довольной своей профессией очень полезно для молодой девушки.</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066760" y="320760"/>
            <a:ext cx="2633760" cy="1974600"/>
          </a:xfrm>
          <a:prstGeom prst="rect">
            <a:avLst/>
          </a:prstGeom>
          <a:ln w="0">
            <a:noFill/>
          </a:ln>
        </p:spPr>
      </p:sp>
      <p:sp>
        <p:nvSpPr>
          <p:cNvPr id="248"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СТО В ЦЕРКВ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могите ей присоединиться к церкви. Церковь должна стать для наставляемой девушки не просто местом проведения богослужения. Помогите ей вступить в общение с членами церкви и приближаться ко Христу. Если она не замужем, пригласите ее в свое общество. Если у нее есть дети, предложите ей свою помощь - посидеть с детьми, чтобы она могла насладиться служени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усть церковь ответит на ее нужды. Начните с той категории женщин, которая могла бы ей помочь. Например, незамужние женщины, молодые матери или женщины начинающие профессиональную деятельность. Рассмотрите все возраста и культурные особенности группы вашего слу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могите ей найти свое место в церкви. Она может почувствовать, что для нее нет места в церкви – особенно если в церкви нет ее сверстников. Оцените ее уникальность. Попросите помочь вам в проведении Субботней школы, быть встречающей, диаконисой, оформлять дизайн брошюр и программ. Предложите девушке присоединиться к комитету, например, женского служения. Задавайте ей вопросы и цените ее мнение. Попросите ее помочь сделать церковь лучше. Дайте ей понять, что она может что-либо измени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учение Библии может стать ценным способом, чтобы встретить друг друга и стать ближе ко Христу. Предложите нескольким молодым женщинам встретится у вас дома. Молитесь о них, помогайте руководить дискуссией. Также организуйте чаепитие. Возможно, вы также организуете изучение Библии для всех возрастов. Для многих женщин это будет очень полезным. На таких встречах наставник и наставляемая смогут найти друг друга.</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006640" y="465120"/>
            <a:ext cx="2630520" cy="1973160"/>
          </a:xfrm>
          <a:prstGeom prst="rect">
            <a:avLst/>
          </a:prstGeom>
          <a:ln w="0">
            <a:noFill/>
          </a:ln>
        </p:spPr>
      </p:sp>
      <p:sp>
        <p:nvSpPr>
          <p:cNvPr id="250" name="PlaceHolder 2"/>
          <p:cNvSpPr>
            <a:spLocks noGrp="1"/>
          </p:cNvSpPr>
          <p:nvPr>
            <p:ph type="body"/>
          </p:nvPr>
        </p:nvSpPr>
        <p:spPr>
          <a:xfrm>
            <a:off x="685800" y="2463480"/>
            <a:ext cx="5486400" cy="55674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Шаги становления духовного руководител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ните с молитвы. Молитесь о наставляемой и вместе с ней. Благодарите Бога за ее дарован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Библия говорит о дарах:</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Коринфянам 12: вера, учительство, говорение на языках, дар исцеления, знание, руководство.</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млянам 12:1-8: служение, поддержка, руководство, милосердие</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фесянам 4: евангелизация, пастор-учитель</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е ее самые сильные желания и интерес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те возможности использования этих даров.</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154240" y="465120"/>
            <a:ext cx="2820960" cy="2116080"/>
          </a:xfrm>
          <a:prstGeom prst="rect">
            <a:avLst/>
          </a:prstGeom>
          <a:ln w="0">
            <a:noFill/>
          </a:ln>
        </p:spPr>
      </p:sp>
      <p:sp>
        <p:nvSpPr>
          <p:cNvPr id="252"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ПРИМЕРЫ НАСТАВНИЧ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ые лучшие примеры наставнических взаимоотношений можно найти в Библии. «Будьте подражателями мне, как я Христу» 1 Кор. 11:1. Иисус - уникальный пример совершенного наставника, потому что у Него был самый лучший учитель – Его Небесный Отец.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имание Иисуса Христа и Его наставничества других людей может помочь нам научиться влиять и помогать другим людям.</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233440" y="465120"/>
            <a:ext cx="2535480" cy="1901880"/>
          </a:xfrm>
          <a:prstGeom prst="rect">
            <a:avLst/>
          </a:prstGeom>
          <a:ln w="0">
            <a:noFill/>
          </a:ln>
        </p:spPr>
      </p:sp>
      <p:sp>
        <p:nvSpPr>
          <p:cNvPr id="254" name="PlaceHolder 2"/>
          <p:cNvSpPr>
            <a:spLocks noGrp="1"/>
          </p:cNvSpPr>
          <p:nvPr>
            <p:ph type="body"/>
          </p:nvPr>
        </p:nvSpPr>
        <p:spPr>
          <a:xfrm>
            <a:off x="685800" y="2463840"/>
            <a:ext cx="5486400" cy="571032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мотрите как Иисус – самый лучший наставник – прожил жизнь</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водите время с Богом. Иисус Христос всегда находил время для общения с Богом. Он никогда не мог совершать все в одиночку. «И, отпустив народ, Он взошел на гору помолиться наедине; и вечером оставался там один», Мтф. 14:2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огие молодые люди борются за то, чтобы найти время для Христа. Они могут думать, что просто невозможно ежедневно уделять время для глубокого общения с Богом. Но они очень хотят, чтобы Христа было больше в их жизни, и более глубоким стало времяпровождение со Христом. Расскажите о вашем опыте общения с Богом, расскажите как «нормально» чувствовать всего лишь простое общение с Ним. О естественном разговоре с вашим Отцом, с Которым вы любите проводить время и подолгу бывать вместе. Никто не заставляет вас торопится.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одая женщина увидит, как легко это происходит в вашей жизни. Это вдохновит девушку последовать вашему примеру и примеру Христ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ш искренний рассказ покажет другим женщинам, как молитва дает вам направление. Поделитесь вашим опытом отвеченных молитв – возможно, вы испытывали трудности в ожидании ответа. Ваш опыт поддержит ее в том, чтобы рассказать о своих отвеченных и неотвеченных молитвах.</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103480" y="534960"/>
            <a:ext cx="2633760" cy="1974960"/>
          </a:xfrm>
          <a:prstGeom prst="rect">
            <a:avLst/>
          </a:prstGeom>
          <a:ln w="0">
            <a:noFill/>
          </a:ln>
        </p:spPr>
      </p:sp>
      <p:sp>
        <p:nvSpPr>
          <p:cNvPr id="202"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Наставляемая</a:t>
            </a:r>
            <a:r>
              <a:rPr b="0" i="1" lang="ru-RU" sz="1400" spc="-1" strike="noStrike">
                <a:solidFill>
                  <a:srgbClr val="000000"/>
                </a:solidFill>
                <a:latin typeface="Arial"/>
              </a:rPr>
              <a:t> женщина это та, которая желает, чтобы другая женщина помогала ее приближению к Богу и поддерживала ее общение со Христом. </a:t>
            </a:r>
            <a:r>
              <a:rPr b="1" i="1" lang="ru-RU" sz="1400" spc="-1" strike="noStrike">
                <a:solidFill>
                  <a:srgbClr val="000000"/>
                </a:solidFill>
                <a:latin typeface="Arial"/>
              </a:rPr>
              <a:t>Наставник</a:t>
            </a:r>
            <a:r>
              <a:rPr b="0" i="1" lang="ru-RU" sz="1400" spc="-1" strike="noStrike">
                <a:solidFill>
                  <a:srgbClr val="000000"/>
                </a:solidFill>
                <a:latin typeface="Arial"/>
              </a:rPr>
              <a:t> это старшая по возрасту, опытная женщина, которая желает помочь молодой женщина в жизни и ее христианскому общению.</a:t>
            </a:r>
            <a:r>
              <a:rPr b="0" lang="ru-RU" sz="1400" spc="-1" strike="noStrike">
                <a:solidFill>
                  <a:srgbClr val="000000"/>
                </a:solidFill>
                <a:latin typeface="Arial"/>
              </a:rPr>
              <a:t> </a:t>
            </a:r>
            <a:endParaRPr b="0" lang="en-US" sz="14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а далеко не совершенная женщина. И она не должна быть психологом, доктором или пастором. Но она любит Иисуса Христа и хочет быть похожей не Него. Наставница жаждет того, чтобы помочь более молодой женщине стать ближе ко Христу. Она уделит время молодой женщине, поддерживая своим опытом, молясь о ней, молясь вместе с ней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938240" y="465120"/>
            <a:ext cx="2820960" cy="2116080"/>
          </a:xfrm>
          <a:prstGeom prst="rect">
            <a:avLst/>
          </a:prstGeom>
          <a:ln w="0">
            <a:noFill/>
          </a:ln>
        </p:spPr>
      </p:sp>
      <p:sp>
        <p:nvSpPr>
          <p:cNvPr id="256"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 Рассказывайте истории. </a:t>
            </a:r>
            <a:r>
              <a:rPr b="0" lang="ru-RU" sz="1200" spc="-1" strike="noStrike">
                <a:solidFill>
                  <a:srgbClr val="000000"/>
                </a:solidFill>
                <a:latin typeface="Arial"/>
              </a:rPr>
              <a:t>Когда апостолы спросили Иисуса Христа, почему Он всегда рассказывает истории, Он ответил: «Потому говорю им притчами, что они видя не видят, и слыша не слышат, и не разумеют», Мтф. 13:13. Как вы думаете, легче ли запоминается проповедь, если главная мысль рассказана в истории? Люди запоминают весть, если она запечатлена в истории, которую они не забудут.</a:t>
            </a:r>
            <a:endParaRPr b="0" lang="en-US" sz="1200" spc="-1" strike="noStrike">
              <a:solidFill>
                <a:srgbClr val="000000"/>
              </a:solidFill>
              <a:latin typeface="Arial"/>
            </a:endParaRPr>
          </a:p>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одые люди любят истории. Рассказывайте истории о вашей жизни, чему вы научились. Поделитесь, как вы решили следовать за Христом. Поделитесь, как вы пришли именно к таким убеждениям и как вы боролись за них. Если вы чувствуете себя неудобно, рассказывая истории о себе, используйте истории о других людях. Самое большое влияние оказывают: следование за Христом, использование историй для питания разума и сердца и обучение библейской истине.</a:t>
            </a:r>
            <a:endParaRPr b="0" lang="en-US" sz="1200" spc="-1" strike="noStrike">
              <a:solidFill>
                <a:srgbClr val="000000"/>
              </a:solidFill>
              <a:latin typeface="Arial"/>
            </a:endParaRPr>
          </a:p>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890720" y="177840"/>
            <a:ext cx="2916360" cy="2187360"/>
          </a:xfrm>
          <a:prstGeom prst="rect">
            <a:avLst/>
          </a:prstGeom>
          <a:ln w="0">
            <a:noFill/>
          </a:ln>
        </p:spPr>
      </p:sp>
      <p:sp>
        <p:nvSpPr>
          <p:cNvPr id="258"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3. Сострадание. </a:t>
            </a:r>
            <a:r>
              <a:rPr b="0" lang="ru-RU" sz="1200" spc="-1" strike="noStrike">
                <a:solidFill>
                  <a:srgbClr val="000000"/>
                </a:solidFill>
                <a:latin typeface="Arial"/>
              </a:rPr>
              <a:t>Иисус всегда проявлял доброту, симпатию и озабоченность другими людьми. Этой вестью пронизана история о Добром Самарянине</a:t>
            </a:r>
            <a:r>
              <a:rPr b="1" lang="ru-RU"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 из главных ролей наставника заключается в том, чтобы демонстрировать руки сострадания – быть Добрым Самарянином для кого-то еще. Научите ее сострадать, рассказывая о том, как вы сострадаете другим людям. Предложите ваше служение, ваше время, ваши молитвы тем, кто в них нуждаетс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самое важное – предложите сострадание ей. Когда она чувствует безнадежность, напоминайте ей, что вы заботитесь о ней. Забывайте о себе, помогая ей. Проявляя сострадание к своей наставляемой, постарайтесь научить ее находить способы, которыми она может сострадать другим людям.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876320" y="320760"/>
            <a:ext cx="3014640" cy="2260440"/>
          </a:xfrm>
          <a:prstGeom prst="rect">
            <a:avLst/>
          </a:prstGeom>
          <a:ln w="0">
            <a:noFill/>
          </a:ln>
        </p:spPr>
      </p:sp>
      <p:sp>
        <p:nvSpPr>
          <p:cNvPr id="260"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Несколько шагов, которые помогут проявить сострадание к женщин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найте, в чем она нуждаетс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сполните ее боль или нужды, поговорите с ней, проявите эмпати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явите вовлеченную и влиятельную поддержку, помните о том, что Иисус учил людей, где бы Он не был</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ождите вместе с ней, пока ее трудная ситуация не разрешится</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176560" y="249120"/>
            <a:ext cx="2633400" cy="1974960"/>
          </a:xfrm>
          <a:prstGeom prst="rect">
            <a:avLst/>
          </a:prstGeom>
          <a:ln w="0">
            <a:noFill/>
          </a:ln>
        </p:spPr>
      </p:sp>
      <p:sp>
        <p:nvSpPr>
          <p:cNvPr id="262"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езусловная любовь. </a:t>
            </a:r>
            <a:r>
              <a:rPr b="0" lang="ru-RU" sz="1200" spc="-1" strike="noStrike">
                <a:solidFill>
                  <a:srgbClr val="000000"/>
                </a:solidFill>
                <a:latin typeface="Arial"/>
              </a:rPr>
              <a:t>Иисус учил нас прощать и любить тех, кто согрешил. Подобно Христу прощайте женщину и не отталкивайте ее. Мы должны всегда помнить о необходимости проявлять проще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молодые женщины, которые согрешили, могут чувствовать ничтожность и сомнение в своей значимости в некоторых аспектах своей жизни, чувствуя себя нелюбимыми и незначимыми перед Богом. Дайте ей знать, что независимо от того, что произошло, Бог очень сильно любит ее. Благодаря вам, она увидит, что ее ценность восстановлена. Девушка может начать отношения со Христом и знать, что Он всегда ценит ее и любит безуслов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Христос жил здесь на земле, чтобы показать нам, как необходимо ценить друг друга. По мере того, как будут развиваться ваши новые отношения с наставляемой, всегда помните о необходимости следовать примеру Христа. Когда вы сомневаетесь в вашей молодой наставляемой женщине, помните обещание Иисуса Христа: «Итак, идите, научите все народы, крестя их во имя Отца и Сына и Святого Духа, уча их соблюдать все, что Я повелел вам; и се, Я с вами во все дни до скончания века. Аминь», Мтф. 28:19-20.</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211480" y="345960"/>
            <a:ext cx="2633400" cy="1974960"/>
          </a:xfrm>
          <a:prstGeom prst="rect">
            <a:avLst/>
          </a:prstGeom>
          <a:ln w="0">
            <a:noFill/>
          </a:ln>
        </p:spPr>
      </p:sp>
      <p:sp>
        <p:nvSpPr>
          <p:cNvPr id="264"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стать Ноеминь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ое влияние оказала Ноеминь на Руфь. Каким удивительным наставником она была. Руфь захотела оставить свою семью, своего бога, свой дом и все, что было ей так знакомо, чтобы странствовать со своей свекровью. «Но Руфь сказала: не принуждай меня оставить тебя и возвратиться от тебя; но куда ты пойдешь, туда и я пойду, и где ты жить будешь, там и я буду жить; народ твой будет моим народом, и твой Бог -- моим Богом» Руфь, 1:16. Ответ Руфи полон любви и посвящения отношениям.  Она доверила себя руководству свекрови, ее мудрости и духо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знаем, что Ноеминь страдала, она все потеряла на земле. Ее муж умер и сыновья умерли. «Она сказала им: не называйте меня Ноеминью, а называйте меня Марою, потому что Вседержитель послал мне великую горесть; </a:t>
            </a:r>
            <a:br>
              <a:rPr sz="1200"/>
            </a:br>
            <a:r>
              <a:rPr b="0" lang="ru-RU" sz="1200" spc="-1" strike="noStrike">
                <a:solidFill>
                  <a:srgbClr val="000000"/>
                </a:solidFill>
                <a:latin typeface="Arial"/>
              </a:rPr>
              <a:t>я вышла отсюда с достатком, а возвратил меня Господь с пустыми руками; зачем называть меня Ноеминью, когда Господь заставил меня страдать, и Вседержитель послал мне несчастье?»  Руфь, 1:20-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Ноеминь вернулась в свой родной город, она вернулась к Богу и привела с собой Руфь. В истории Ноемини мы видим смиренную веру в Бога, которая питает ее; бедную вдову, которая знает трудности и потери. Мы многому можем научиться у Ноемини – она была женщиной веры, она была поддержкой для Руфи, она была терпелива по отношению к снохе, она была духовным наставником, поэтому она учила Руфь о Боге и Его любви.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103480" y="392040"/>
            <a:ext cx="2725560" cy="2044800"/>
          </a:xfrm>
          <a:prstGeom prst="rect">
            <a:avLst/>
          </a:prstGeom>
          <a:ln w="0">
            <a:noFill/>
          </a:ln>
        </p:spPr>
      </p:sp>
      <p:sp>
        <p:nvSpPr>
          <p:cNvPr id="266" name="PlaceHolder 2"/>
          <p:cNvSpPr>
            <a:spLocks noGrp="1"/>
          </p:cNvSpPr>
          <p:nvPr>
            <p:ph type="body"/>
          </p:nvPr>
        </p:nvSpPr>
        <p:spPr>
          <a:xfrm>
            <a:off x="685800" y="2534760"/>
            <a:ext cx="5486400" cy="52815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ГРАДЫ НАСТАВНИЧЕ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 будете благословлены как наставник. Вы приобретете большую пользу от знания, что вы внесли изменения в жизнь наставляемой. Вы будете ощущать себя лучше, осознавая, что вы помогаете кому-то. Она научится от вас, но вы также будете учиться у нее. Да, будут развиваться новые дружеские отношения. Кто знает, вы, возможно, будете зависеть от нее.</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876320" y="320760"/>
            <a:ext cx="3014640" cy="2260440"/>
          </a:xfrm>
          <a:prstGeom prst="rect">
            <a:avLst/>
          </a:prstGeom>
          <a:ln w="0">
            <a:noFill/>
          </a:ln>
        </p:spPr>
      </p:sp>
      <p:sp>
        <p:nvSpPr>
          <p:cNvPr id="268"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КРЫВАЮЩЕЕСЯ НАСТАВНИЧЕСКОЕ СЛУЖЕ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ы ощущаете пользу от ваших наставнических отношений, вы можете поделиться с другими людьми о том, какой может быть награда наставничества.</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065320" y="320760"/>
            <a:ext cx="2728800" cy="2046240"/>
          </a:xfrm>
          <a:prstGeom prst="rect">
            <a:avLst/>
          </a:prstGeom>
          <a:ln w="0">
            <a:noFill/>
          </a:ln>
        </p:spPr>
      </p:sp>
      <p:sp>
        <p:nvSpPr>
          <p:cNvPr id="270"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иже приведены несколько идей для начинающих наставническое служе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йдите слова. В вашем обращении упомяните о тех наградах, которые вы лично испытали в наставнических отношениях. Расскажите о вашем наставническом служении в церковном бюллетен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спространите информацию тем, кто заинтересован в участии. Разработайте отдельные опросники для наставника и наставляемой. Начинайте, задавая общие вопросы, такие как имя, хобби, профессиональная деятельность, затем личные вопросы: «что вы ожидаете от этих отношений?». Предложите следующие варианты ответов:</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ченичество</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ветственность</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ост в Господе</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обые сферы поддержки</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е перечисленно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есь. Просите Бога, чтобы каждая женщина нашла подходящую себе наставницу. Определите схожие интересы или общие ожидания от отношений.</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827360" y="320760"/>
            <a:ext cx="3109680" cy="2332080"/>
          </a:xfrm>
          <a:prstGeom prst="rect">
            <a:avLst/>
          </a:prstGeom>
          <a:ln w="0">
            <a:noFill/>
          </a:ln>
        </p:spPr>
      </p:sp>
      <p:sp>
        <p:nvSpPr>
          <p:cNvPr id="272" name="PlaceHolder 2"/>
          <p:cNvSpPr>
            <a:spLocks noGrp="1"/>
          </p:cNvSpPr>
          <p:nvPr>
            <p:ph type="body"/>
          </p:nvPr>
        </p:nvSpPr>
        <p:spPr>
          <a:xfrm>
            <a:off x="685800" y="2676240"/>
            <a:ext cx="5486400" cy="521316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уйте женское чаепитие или обед, где женщины могут представиться, рассказать о себе, обменяться личной информацией. Помните, что вы говорите с молодой женщиной о новом служении. Объясните, что вам обеим необходимо определить цели. Разработайте план на ближайшие шесть месяцев. Напомните им о посвящении и дайте руководящие рекомендации и идеи. Подбодрите их определить время и место для следующей встречи, прежде чем вы закончите эту. Если возможно, в будние дн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анчивайте молитвой. Пусть женщины помолятся вместе и друг о друге. Делитесь в молитве просьбами и благословениям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ез шесть месяцев организуйте другой совместный обед или вечеринку для всех женщин, задействованных в наставнических отношениях. Подобная встреча будет полезной возможностью для них поделится свидетельством, благословениями и историями.</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008080" y="392040"/>
            <a:ext cx="2822760" cy="2117880"/>
          </a:xfrm>
          <a:prstGeom prst="rect">
            <a:avLst/>
          </a:prstGeom>
          <a:ln w="0">
            <a:noFill/>
          </a:ln>
        </p:spPr>
      </p:sp>
      <p:sp>
        <p:nvSpPr>
          <p:cNvPr id="274"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Заключение</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говорит: Для того чтобы работа могла продвигаться вперед во всех направлениях, Богу нужны энергия, рвение и мужество молодых. Он избрал молодежь содействовать в продвижении Его дела. Чтобы с ясным умом строить планы и осуществлять их отважной рукой, необходимы свежие, нерастраченные силы. Бог приглашает юношей и девушек отдать Ему энергию своей молодости, чтобы, используя свои силы, острый ум и решительность в действиях, они несли славу Богу и спасение своим ближним, Служители Евангелия, стр. ориг. 67.</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960560" y="604800"/>
            <a:ext cx="2921040" cy="2190960"/>
          </a:xfrm>
          <a:prstGeom prst="rect">
            <a:avLst/>
          </a:prstGeom>
          <a:ln w="0">
            <a:noFill/>
          </a:ln>
        </p:spPr>
      </p:sp>
      <p:sp>
        <p:nvSpPr>
          <p:cNvPr id="204" name="PlaceHolder 2"/>
          <p:cNvSpPr>
            <a:spLocks noGrp="1"/>
          </p:cNvSpPr>
          <p:nvPr>
            <p:ph type="body"/>
          </p:nvPr>
        </p:nvSpPr>
        <p:spPr>
          <a:xfrm>
            <a:off x="685800" y="2819160"/>
            <a:ext cx="5486400" cy="55688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ните, что любые наставнические отношения это особые отношения – это шаг навстречу дружбе. Они потребуют от вас Времени, Сердечных порывов и Опыта. «Железо железо острит, и человек изощряет взгляд другого» Пр. 27:17. Вам необходимо проявить Интерес, Принятие и Веру. «То есть утешиться с вами верою общею, вашею и моею», Рим. 1:12</a:t>
            </a:r>
            <a:r>
              <a:rPr b="1"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2070000" y="604800"/>
            <a:ext cx="2540160" cy="1905120"/>
          </a:xfrm>
          <a:prstGeom prst="rect">
            <a:avLst/>
          </a:prstGeom>
          <a:ln w="0">
            <a:noFill/>
          </a:ln>
        </p:spPr>
      </p:sp>
      <p:sp>
        <p:nvSpPr>
          <p:cNvPr id="206" name="PlaceHolder 2"/>
          <p:cNvSpPr>
            <a:spLocks noGrp="1"/>
          </p:cNvSpPr>
          <p:nvPr>
            <p:ph type="body"/>
          </p:nvPr>
        </p:nvSpPr>
        <p:spPr>
          <a:xfrm>
            <a:off x="685800" y="2606760"/>
            <a:ext cx="5486400" cy="5209920"/>
          </a:xfrm>
          <a:prstGeom prst="rect">
            <a:avLst/>
          </a:prstGeom>
          <a:noFill/>
          <a:ln w="0">
            <a:noFill/>
          </a:ln>
        </p:spPr>
        <p:txBody>
          <a:bodyPr lIns="91080" rIns="91080" tIns="45360" bIns="4536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екоторые женщины могут легко довериться Богу. Другим же необходимо, чтобы Бог использовал других людей, чтобы поддержать этих женщин.</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077920" y="392040"/>
            <a:ext cx="2538360" cy="1903320"/>
          </a:xfrm>
          <a:prstGeom prst="rect">
            <a:avLst/>
          </a:prstGeom>
          <a:ln w="0">
            <a:noFill/>
          </a:ln>
        </p:spPr>
      </p:sp>
      <p:sp>
        <p:nvSpPr>
          <p:cNvPr id="208"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изнь после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инство молодых людей старше 20 лет только начинают жить самостоятельно. Они, возможно, только начинают работать, заканчивают школу, вступают в брак, становятся матерями. Они пытаются состояться в жиз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астоящее время молодые женщины, заканчивая колледжи, все еще не знают, чего они хотят от жизни. Они могут начать самостоятельную жизнь, начать работать, даже если они живут с родителями. После учебы и жизни с родителями, они вступают в новую жизнь. Те, кому за 20, осознают себя в новом статусе, делают новый выбор. Теперь они могут решать, чем заниматься, какую работу избрать, где жить, что одевать, что есть, в какую церковь ходить и что наиболее важно – иметь отношения со Христом.</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143080" y="392040"/>
            <a:ext cx="2444760" cy="1833480"/>
          </a:xfrm>
          <a:prstGeom prst="rect">
            <a:avLst/>
          </a:prstGeom>
          <a:ln w="0">
            <a:noFill/>
          </a:ln>
        </p:spPr>
      </p:sp>
      <p:sp>
        <p:nvSpPr>
          <p:cNvPr id="210" name="PlaceHolder 2"/>
          <p:cNvSpPr>
            <a:spLocks noGrp="1"/>
          </p:cNvSpPr>
          <p:nvPr>
            <p:ph type="body"/>
          </p:nvPr>
        </p:nvSpPr>
        <p:spPr>
          <a:xfrm>
            <a:off x="685800" y="2249640"/>
            <a:ext cx="5486400" cy="5852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менение и Выбо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одые женщины, возможно, быстро ориентируются в мире технолог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 новое поколение, которое выросло, используя компьютеры. Они начали изучать компьютеры в раннем возрасте и знакомы с ними очень хорошо. Они работают в Интернете, с электронной почтой, отправляют сообщения, а также у них вполне может быть персональный сай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могут часто менять рабо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интересно наблюдать, как молодые люди предпринимают различные попытки в  своей жизни. Они все еще экспериментируют: что им нравится, и в какой сфере они успешны. Это поколение ищущих себ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могут испытывать финансовые труд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оплачивают автомобили, квартиры, страховки, ежедневные расходы – и многие оплачивают свое обучение в колледже. Очень сложно сохранить баланс и не впасть в дол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е молодые люди женятся сразу после окончания колледж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сложно искать себя, и одновременно поддерживать кого-то, даже если это только ребе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то происходит, когда молодой человек соглашается на работу, которая потребует, чтобы он уехал из родного города, от родителей, семьи и дру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находят Церковь, но чувствуют себя некомфортно, сидя на богослужениях в одиночестве, не общаясь ни с кем. Они хотят не только утвердиться в своей профессиональной карьере, но также желают найти свое место в Церкви.</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136600" y="320760"/>
            <a:ext cx="2443320" cy="1832040"/>
          </a:xfrm>
          <a:prstGeom prst="rect">
            <a:avLst/>
          </a:prstGeom>
          <a:ln w="0">
            <a:noFill/>
          </a:ln>
        </p:spPr>
      </p:sp>
      <p:sp>
        <p:nvSpPr>
          <p:cNvPr id="212" name="PlaceHolder 2"/>
          <p:cNvSpPr>
            <a:spLocks noGrp="1"/>
          </p:cNvSpPr>
          <p:nvPr>
            <p:ph type="body"/>
          </p:nvPr>
        </p:nvSpPr>
        <p:spPr>
          <a:xfrm>
            <a:off x="685800" y="2249640"/>
            <a:ext cx="5486400" cy="5424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ужен наставни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молодые женщины ищут Христа, но они не выросли в христианских семьях. Родители некоторых девушек, возможно, посещали Церковь, но не жили христианской жизнью. Эти женщины не знают, что значит быть Божьей женщиной, матерью или жен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 молодые люди очень нуждаются в наставнике, который сможет помочь в жизненно важных вопросах профессиональной карьеры, финансового положения, воспитания детей и замужества. Им нужен тот, кто может направлять к духовности и помогать приближаться к Иисусу Христу, вместо того, чтобы удаляться от Него.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865160" y="677880"/>
            <a:ext cx="3108600" cy="2332080"/>
          </a:xfrm>
          <a:prstGeom prst="rect">
            <a:avLst/>
          </a:prstGeom>
          <a:ln w="0">
            <a:noFill/>
          </a:ln>
        </p:spPr>
      </p:sp>
      <p:sp>
        <p:nvSpPr>
          <p:cNvPr id="214" name="PlaceHolder 2"/>
          <p:cNvSpPr>
            <a:spLocks noGrp="1"/>
          </p:cNvSpPr>
          <p:nvPr>
            <p:ph type="body"/>
          </p:nvPr>
        </p:nvSpPr>
        <p:spPr>
          <a:xfrm>
            <a:off x="685800" y="3106440"/>
            <a:ext cx="5486400" cy="528156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С чего начать</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FD260-55E3-4585-8504-FDA9EA968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7975C-9F72-4427-97C2-315D6F928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F5A2F-B948-4BCB-8040-789EBA902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F9B7F-EA3D-4C20-AABF-7FB075C46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77690-6B8C-4CDF-B28C-7F9D9771C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68F64-9891-4E8D-9CFC-323DDA16B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5C496-D223-4E99-8087-C725B9164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27021-6C66-4B60-80AE-D13B835CF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72A11-CBA9-41F9-84B0-2EB735363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ED616-3490-4454-B404-ACC9033E1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17907-1E6B-4147-BF3D-A4FAF6D0D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B5697-D4F6-457B-A717-F1E57A2D1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C80C6-1C84-4887-8A4C-B7669A00E5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325080" cy="6959520"/>
          </a:xfrm>
          <a:prstGeom prst="rect">
            <a:avLst/>
          </a:prstGeom>
          <a:ln w="0">
            <a:noFill/>
          </a:ln>
        </p:spPr>
      </p:pic>
      <p:sp>
        <p:nvSpPr>
          <p:cNvPr id="49" name="PlaceHolder 1"/>
          <p:cNvSpPr>
            <a:spLocks noGrp="1"/>
          </p:cNvSpPr>
          <p:nvPr>
            <p:ph type="subTitle"/>
          </p:nvPr>
        </p:nvSpPr>
        <p:spPr>
          <a:xfrm>
            <a:off x="2203200" y="4797000"/>
            <a:ext cx="4816440" cy="1368360"/>
          </a:xfrm>
          <a:prstGeom prst="rect">
            <a:avLst/>
          </a:prstGeom>
          <a:noFill/>
          <a:ln w="0">
            <a:noFill/>
          </a:ln>
          <a:effectLst>
            <a:outerShdw dist="17819" dir="2700000" blurRad="0" rotWithShape="0">
              <a:srgbClr val="000000"/>
            </a:outerShdw>
          </a:effectLst>
        </p:spPr>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Генеральная конференция</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Отдел Женского служения</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Сертификационная программа</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Уровень 4</a:t>
            </a:r>
            <a:endParaRPr b="0" lang="en-US" sz="2000" spc="-1" strike="noStrike">
              <a:solidFill>
                <a:srgbClr val="000000"/>
              </a:solidFill>
              <a:latin typeface="Arial"/>
            </a:endParaRPr>
          </a:p>
        </p:txBody>
      </p:sp>
      <p:sp>
        <p:nvSpPr>
          <p:cNvPr id="50" name="PlaceHolder 2"/>
          <p:cNvSpPr>
            <a:spLocks noGrp="1"/>
          </p:cNvSpPr>
          <p:nvPr>
            <p:ph type="title"/>
          </p:nvPr>
        </p:nvSpPr>
        <p:spPr>
          <a:xfrm>
            <a:off x="972720" y="1196640"/>
            <a:ext cx="7270920" cy="146988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Lydian BT"/>
              </a:rPr>
              <a:t>Руководство по наставничеству женщин 21 века</a:t>
            </a:r>
            <a:endParaRPr b="0" lang="en-US" sz="4000" spc="-1" strike="noStrike">
              <a:solidFill>
                <a:srgbClr val="000000"/>
              </a:solidFill>
              <a:latin typeface="Arial"/>
            </a:endParaRPr>
          </a:p>
        </p:txBody>
      </p:sp>
      <p:sp>
        <p:nvSpPr>
          <p:cNvPr id="51" name=""/>
          <p:cNvSpPr/>
          <p:nvPr/>
        </p:nvSpPr>
        <p:spPr>
          <a:xfrm>
            <a:off x="3203640" y="3108240"/>
            <a:ext cx="221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Lydian BT"/>
              </a:rPr>
              <a:t>Подготовлено Мелани Шрахл</a:t>
            </a:r>
            <a:endParaRPr b="0" lang="en-US" sz="2000" spc="-1" strike="noStrike">
              <a:solidFill>
                <a:srgbClr val="000000"/>
              </a:solidFill>
              <a:latin typeface="Arial"/>
            </a:endParaRPr>
          </a:p>
        </p:txBody>
      </p:sp>
      <p:sp>
        <p:nvSpPr>
          <p:cNvPr id="52" name=""/>
          <p:cNvSpPr/>
          <p:nvPr/>
        </p:nvSpPr>
        <p:spPr>
          <a:xfrm>
            <a:off x="2556000" y="2344680"/>
            <a:ext cx="5132160" cy="5814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w Cen MT Condensed Extra Bold"/>
              </a:rPr>
              <a:t>Mentoring Young Women</a:t>
            </a:r>
            <a:endParaRPr b="0" lang="en-US" sz="3200" spc="-1" strike="noStrike">
              <a:solidFill>
                <a:srgbClr val="000000"/>
              </a:solidFill>
              <a:latin typeface="Arial"/>
            </a:endParaRPr>
          </a:p>
        </p:txBody>
      </p:sp>
      <p:pic>
        <p:nvPicPr>
          <p:cNvPr id="53" name="" descr=""/>
          <p:cNvPicPr/>
          <p:nvPr/>
        </p:nvPicPr>
        <p:blipFill>
          <a:blip r:embed="rId2"/>
          <a:stretch/>
        </p:blipFill>
        <p:spPr>
          <a:xfrm>
            <a:off x="7236000" y="5373720"/>
            <a:ext cx="1008000" cy="68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1033560" y="981000"/>
            <a:ext cx="6851520" cy="635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ru-RU" sz="4400" spc="-1" strike="noStrike">
                <a:solidFill>
                  <a:srgbClr val="009900"/>
                </a:solidFill>
                <a:latin typeface="Tw Cen MT Condensed Extra Bold"/>
              </a:rPr>
              <a:t>Поиск наставляемой</a:t>
            </a:r>
            <a:r>
              <a:rPr b="1" lang="en-US" sz="4400" spc="-1" strike="noStrike">
                <a:solidFill>
                  <a:srgbClr val="009900"/>
                </a:solidFill>
                <a:latin typeface="Tw Cen MT Condensed Extra Bold"/>
              </a:rPr>
              <a:t>  </a:t>
            </a:r>
            <a:br>
              <a:rPr sz="4400"/>
            </a:br>
            <a:endParaRPr b="0" lang="en-US" sz="4400" spc="-1" strike="noStrike">
              <a:solidFill>
                <a:srgbClr val="000000"/>
              </a:solidFill>
              <a:latin typeface="Arial"/>
            </a:endParaRPr>
          </a:p>
        </p:txBody>
      </p:sp>
      <p:sp>
        <p:nvSpPr>
          <p:cNvPr id="83" name="PlaceHolder 2"/>
          <p:cNvSpPr>
            <a:spLocks noGrp="1"/>
          </p:cNvSpPr>
          <p:nvPr>
            <p:ph/>
          </p:nvPr>
        </p:nvSpPr>
        <p:spPr>
          <a:xfrm>
            <a:off x="826920" y="1424160"/>
            <a:ext cx="74901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на здесь – возможно, в церкви, дочь друзей, одинокая женщина на церковной скамье, ваша коллега, ваша соседка. Молодые люди повсюду. И им очень нужны опытные женщины-христианки. Возможно, вы знаете ту, которая живет далеко? Отправляйте ей электронные сообщения или пишите письма. Молитесь о ней – ей всегда нужны ваши молитв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755280" y="1062000"/>
            <a:ext cx="7365960" cy="711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ru-RU" sz="4400" spc="-1" strike="noStrike">
                <a:solidFill>
                  <a:srgbClr val="009900"/>
                </a:solidFill>
                <a:latin typeface="Tw Cen MT Condensed Extra Bold"/>
              </a:rPr>
              <a:t>Как начать</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86" name="PlaceHolder 2"/>
          <p:cNvSpPr>
            <a:spLocks noGrp="1"/>
          </p:cNvSpPr>
          <p:nvPr>
            <p:ph/>
          </p:nvPr>
        </p:nvSpPr>
        <p:spPr>
          <a:xfrm>
            <a:off x="826560" y="1844640"/>
            <a:ext cx="49690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сскажите о себе. Будьте дружелюбны. Задавайте вопросы. Не бойтесь. Кто-то должен инициировать дружеские отношения. Возможно, ваша позиция гораздо выгоднее. Многие молодые женщины могут смущаться или избегать более взрослых женщин.</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 name="" descr=""/>
          <p:cNvPicPr/>
          <p:nvPr/>
        </p:nvPicPr>
        <p:blipFill>
          <a:blip r:embed="rId2"/>
          <a:stretch/>
        </p:blipFill>
        <p:spPr>
          <a:xfrm>
            <a:off x="5940360" y="3933720"/>
            <a:ext cx="2519280" cy="25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1022040" y="990360"/>
            <a:ext cx="76532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9900"/>
                </a:solidFill>
                <a:latin typeface="Tw Cen MT Condensed Extra Bold"/>
              </a:rPr>
              <a:t>Продвигайтесь вперед и приглашайте</a:t>
            </a:r>
            <a:endParaRPr b="0" lang="en-US" sz="4400" spc="-1" strike="noStrike">
              <a:solidFill>
                <a:srgbClr val="000000"/>
              </a:solidFill>
              <a:latin typeface="Arial"/>
            </a:endParaRPr>
          </a:p>
        </p:txBody>
      </p:sp>
      <p:sp>
        <p:nvSpPr>
          <p:cNvPr id="90" name="PlaceHolder 2"/>
          <p:cNvSpPr>
            <a:spLocks noGrp="1"/>
          </p:cNvSpPr>
          <p:nvPr>
            <p:ph/>
          </p:nvPr>
        </p:nvSpPr>
        <p:spPr>
          <a:xfrm>
            <a:off x="826920" y="2332080"/>
            <a:ext cx="4824720" cy="4525920"/>
          </a:xfrm>
          <a:prstGeom prst="rect">
            <a:avLst/>
          </a:prstGeom>
          <a:noFill/>
          <a:ln w="0">
            <a:noFill/>
          </a:ln>
        </p:spPr>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гласите ее на ужин</a:t>
            </a:r>
            <a:r>
              <a:rPr b="0" i="1" lang="ru-RU" sz="2000" spc="-1" strike="noStrike">
                <a:solidFill>
                  <a:srgbClr val="000000"/>
                </a:solidFill>
                <a:latin typeface="Arial"/>
              </a:rPr>
              <a:t>.</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едложите обучить ее чему-нибудь</a:t>
            </a:r>
            <a:r>
              <a:rPr b="0" i="1" lang="ru-RU" sz="2000" spc="-1" strike="noStrike">
                <a:solidFill>
                  <a:srgbClr val="000000"/>
                </a:solidFill>
                <a:latin typeface="Arial"/>
              </a:rPr>
              <a:t>.</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гласите ее на обед</a:t>
            </a:r>
            <a:r>
              <a:rPr b="0" i="1" lang="ru-RU" sz="2000" spc="-1" strike="noStrike">
                <a:solidFill>
                  <a:srgbClr val="000000"/>
                </a:solidFill>
                <a:latin typeface="Arial"/>
              </a:rPr>
              <a:t>.</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гласите ее на прогулку.</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В</a:t>
            </a:r>
            <a:r>
              <a:rPr b="1" i="1" lang="ru-RU" sz="2000" spc="-1" strike="noStrike">
                <a:solidFill>
                  <a:srgbClr val="000000"/>
                </a:solidFill>
                <a:latin typeface="Arial"/>
              </a:rPr>
              <a:t>овлеките ее в особое женское служение в вашей церкви</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91" name="" descr=""/>
          <p:cNvPicPr/>
          <p:nvPr/>
        </p:nvPicPr>
        <p:blipFill>
          <a:blip r:embed="rId2"/>
          <a:stretch/>
        </p:blipFill>
        <p:spPr>
          <a:xfrm>
            <a:off x="5867280" y="378936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9900"/>
                </a:solidFill>
                <a:latin typeface="Tw Cen MT Condensed Extra Bold"/>
              </a:rPr>
              <a:t>Что ожидать от первой встречи</a:t>
            </a:r>
            <a:r>
              <a:rPr b="1" lang="en-US" sz="4400" spc="-1" strike="noStrike">
                <a:solidFill>
                  <a:srgbClr val="009900"/>
                </a:solidFill>
                <a:latin typeface="Tw Cen MT Condensed Extra Bold"/>
              </a:rPr>
              <a:t> </a:t>
            </a:r>
            <a:br>
              <a:rPr sz="4400"/>
            </a:br>
            <a:endParaRPr b="0" lang="en-US" sz="4400" spc="-1" strike="noStrike">
              <a:solidFill>
                <a:srgbClr val="000000"/>
              </a:solidFill>
              <a:latin typeface="Arial"/>
            </a:endParaRPr>
          </a:p>
        </p:txBody>
      </p:sp>
      <p:sp>
        <p:nvSpPr>
          <p:cNvPr id="94" name="PlaceHolder 2"/>
          <p:cNvSpPr>
            <a:spLocks noGrp="1"/>
          </p:cNvSpPr>
          <p:nvPr>
            <p:ph/>
          </p:nvPr>
        </p:nvSpPr>
        <p:spPr>
          <a:xfrm>
            <a:off x="457200" y="1412640"/>
            <a:ext cx="8229600" cy="485748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чень важно вам чувствовать себя комфортно</a:t>
            </a:r>
            <a:r>
              <a:rPr b="0" lang="ru-RU" sz="2000" spc="-1" strike="noStrike">
                <a:solidFill>
                  <a:srgbClr val="000000"/>
                </a:solidFill>
                <a:latin typeface="Arial"/>
              </a:rPr>
              <a:t>. Теперь вы можете поделиться личным свидетельством, а возможно, вы решите этого не делать. Постарайтесь познакомиться с девушкой, и понять, как складывается ситуация.</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судите какого посвящения вы ожидаете от ваших взаимоотношений</a:t>
            </a:r>
            <a:r>
              <a:rPr b="0" i="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пределите ваши общие цели</a:t>
            </a:r>
            <a:r>
              <a:rPr b="0" lang="ru-RU" sz="2000" spc="-1" strike="noStrike">
                <a:solidFill>
                  <a:srgbClr val="000000"/>
                </a:solidFill>
                <a:latin typeface="Arial"/>
              </a:rPr>
              <a:t>. На пример, выберите библейский текст для прочтения, который вы можете позже обсудить. Присоединитесь к служению благотворительности или совместному служению.</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зработайте планы на будущее</a:t>
            </a:r>
            <a:r>
              <a:rPr b="0" lang="ru-RU" sz="2000" spc="-1" strike="noStrike">
                <a:solidFill>
                  <a:srgbClr val="000000"/>
                </a:solidFill>
                <a:latin typeface="Arial"/>
              </a:rPr>
              <a:t>. Назначьте дату следующей встречи.</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канчивайте каждую встречу молитвой</a:t>
            </a:r>
            <a:r>
              <a:rPr b="0" lang="ru-RU" sz="2000" spc="-1" strike="noStrike">
                <a:solidFill>
                  <a:srgbClr val="000000"/>
                </a:solidFill>
                <a:latin typeface="Arial"/>
              </a:rPr>
              <a:t>. Всегда благодарите Бога за эту девушку в вашей молитве. Молитесь о предстоящей неделе. Молитесь. Молитва поможет помочь вашей наставляемой и станет хорошим примеро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39528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800000"/>
                </a:solidFill>
                <a:latin typeface="Tw Cen MT Condensed Extra Bold"/>
              </a:rPr>
              <a:t>Построение отношений</a:t>
            </a:r>
            <a:endParaRPr b="0" lang="en-US" sz="48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чень важно установить дружеские отношения. Дайте вашей наставляемой знать, что она может вам доверять. Будьте искренне заинтересованы ее жизнью. Задавайте открытые вопросы. Например, «Как складываются ваши дела на работе?» Постарайтесь не задавать вопросов, которые требуют ответа лишь «Да» или «Нет».  «Вам нравится этот Библейский текст?» или «Как сегодня прошел день?» На такие вопросы люди, как правило отвечают «Да» или «Отлично», даже если они и не чувствуют себя отлично.</a:t>
            </a:r>
            <a:endParaRPr b="0" lang="en-US" sz="2000" spc="-1" strike="noStrike">
              <a:solidFill>
                <a:srgbClr val="000000"/>
              </a:solidFill>
              <a:latin typeface="Arial"/>
            </a:endParaRPr>
          </a:p>
        </p:txBody>
      </p:sp>
      <p:pic>
        <p:nvPicPr>
          <p:cNvPr id="98" name="" descr=""/>
          <p:cNvPicPr/>
          <p:nvPr/>
        </p:nvPicPr>
        <p:blipFill>
          <a:blip r:embed="rId2"/>
          <a:stretch/>
        </p:blipFill>
        <p:spPr>
          <a:xfrm>
            <a:off x="6948360" y="5229360"/>
            <a:ext cx="1441440" cy="1152360"/>
          </a:xfrm>
          <a:prstGeom prst="rect">
            <a:avLst/>
          </a:prstGeom>
          <a:ln w="0">
            <a:noFill/>
          </a:ln>
        </p:spPr>
      </p:pic>
      <p:sp>
        <p:nvSpPr>
          <p:cNvPr id="99" name=""/>
          <p:cNvSpPr/>
          <p:nvPr/>
        </p:nvSpPr>
        <p:spPr>
          <a:xfrm>
            <a:off x="611280" y="6021360"/>
            <a:ext cx="6337080" cy="1224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610920" y="2359080"/>
            <a:ext cx="7993080" cy="380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вы пришли ко Христу?</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ие у вас достоинства? А какие недостатк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бы у вас был полностью свободный день, то чем бы вы занялись?</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ая самая большая преграда стоит между вами и вашей мечто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какой сфере вы хотели бы развиваться в ближайший год или даже три года?</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ая ваша любимая книга Библии и почему она вам так дорога?</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
          <p:cNvSpPr/>
          <p:nvPr/>
        </p:nvSpPr>
        <p:spPr>
          <a:xfrm>
            <a:off x="1044720" y="549360"/>
            <a:ext cx="7056360" cy="108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удьте как индивидуальны, так и доступны. Закрытые вопросы повлекут ответы лишь в несколько слов, но открытые вопросы предоставляют все возможности для объяснения. Примеры вопросов, которые могут помочь начать хороший диалог</a:t>
            </a:r>
            <a:r>
              <a:rPr b="1"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899640" y="414000"/>
            <a:ext cx="6635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00"/>
                </a:solidFill>
                <a:latin typeface="Tw Cen MT Condensed Extra Bold"/>
              </a:rPr>
              <a:t>Коучинг жизнью</a:t>
            </a:r>
            <a:endParaRPr b="0" lang="en-US" sz="4800" spc="-1" strike="noStrike">
              <a:solidFill>
                <a:srgbClr val="000000"/>
              </a:solidFill>
              <a:latin typeface="Arial"/>
            </a:endParaRPr>
          </a:p>
        </p:txBody>
      </p:sp>
      <p:pic>
        <p:nvPicPr>
          <p:cNvPr id="105" name="" descr=""/>
          <p:cNvPicPr/>
          <p:nvPr/>
        </p:nvPicPr>
        <p:blipFill>
          <a:blip r:embed="rId2"/>
          <a:stretch/>
        </p:blipFill>
        <p:spPr>
          <a:xfrm>
            <a:off x="6443640" y="4292640"/>
            <a:ext cx="2089080" cy="2089080"/>
          </a:xfrm>
          <a:prstGeom prst="rect">
            <a:avLst/>
          </a:prstGeom>
          <a:ln w="0">
            <a:noFill/>
          </a:ln>
        </p:spPr>
      </p:pic>
      <p:sp>
        <p:nvSpPr>
          <p:cNvPr id="106" name="PlaceHolder 2"/>
          <p:cNvSpPr>
            <a:spLocks noGrp="1"/>
          </p:cNvSpPr>
          <p:nvPr>
            <p:ph/>
          </p:nvPr>
        </p:nvSpPr>
        <p:spPr>
          <a:xfrm>
            <a:off x="457200" y="981000"/>
            <a:ext cx="8075520" cy="4525920"/>
          </a:xfrm>
          <a:prstGeom prst="rect">
            <a:avLst/>
          </a:prstGeom>
          <a:noFill/>
          <a:ln w="0">
            <a:noFill/>
          </a:ln>
        </p:spPr>
        <p:txBody>
          <a:bodyPr lIns="90000" rIns="90000" tIns="46800" bIns="46800" anchor="t">
            <a:normAutofit fontScale="99000"/>
          </a:bodyPr>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ru-RU" sz="2800" spc="-1" strike="noStrike">
                <a:solidFill>
                  <a:srgbClr val="000000"/>
                </a:solidFill>
                <a:latin typeface="Arial"/>
              </a:rPr>
              <a:t>Будьте готовы отвечать на вопросы о профессиональном росте, браке, детях и Боге. Однажды начав отношения, не удивляйтесь, если молодая женщина будет спрашивать вашего совета. Ниже приведены руководящие принципы:</a:t>
            </a:r>
            <a:endParaRPr b="0" lang="en-US" sz="2800" spc="-1" strike="noStrike">
              <a:solidFill>
                <a:srgbClr val="000000"/>
              </a:solidFill>
              <a:latin typeface="Arial"/>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ставьте ваши собственные намерения, и следуйте намерениям Бога. Слушайте. </a:t>
            </a:r>
            <a:endParaRPr b="0" lang="en-US" sz="2800" spc="-1" strike="noStrike">
              <a:solidFill>
                <a:srgbClr val="000000"/>
              </a:solidFill>
              <a:latin typeface="Arial"/>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Уверенно задавайте даже самые простые вопросы. </a:t>
            </a:r>
            <a:endParaRPr b="0" lang="en-US" sz="2800" spc="-1" strike="noStrike">
              <a:solidFill>
                <a:srgbClr val="000000"/>
              </a:solidFill>
              <a:latin typeface="Arial"/>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буждайте ее действовать.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590400" y="921960"/>
            <a:ext cx="8229600" cy="77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00"/>
                </a:solidFill>
                <a:latin typeface="Tw Cen MT Condensed Extra Bold"/>
              </a:rPr>
              <a:t>Будьте примером:</a:t>
            </a:r>
            <a:r>
              <a:rPr b="1" lang="en-US" sz="4800" spc="-1" strike="noStrike">
                <a:solidFill>
                  <a:srgbClr val="ff9900"/>
                </a:solidFill>
                <a:latin typeface="Tw Cen MT Condensed Extra Bold"/>
              </a:rPr>
              <a:t> </a:t>
            </a:r>
            <a:br>
              <a:rPr sz="4800"/>
            </a:br>
            <a:endParaRPr b="0" lang="en-US" sz="4800" spc="-1" strike="noStrike">
              <a:solidFill>
                <a:srgbClr val="000000"/>
              </a:solidFill>
              <a:latin typeface="Arial"/>
            </a:endParaRPr>
          </a:p>
        </p:txBody>
      </p:sp>
      <p:sp>
        <p:nvSpPr>
          <p:cNvPr id="109" name="PlaceHolder 2"/>
          <p:cNvSpPr>
            <a:spLocks noGrp="1"/>
          </p:cNvSpPr>
          <p:nvPr>
            <p:ph/>
          </p:nvPr>
        </p:nvSpPr>
        <p:spPr>
          <a:xfrm>
            <a:off x="446040" y="16398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удьте образцом для подражания. Покажите ей, как должна поступать христианка. Девушка будет наблюдать за вами и вашими ценностями.</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Юношей также увещевай быть целомудренными. Во всем показывай в себе образец для добрых дел, в учительстве – чистоту, степенность, неповрежденность, слово здравое, неукоризненное, чтобы противник был посрамлен, не имея ничего сказать о нас худого», Титу 2:6-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85000"/>
          </a:xfrm>
          <a:prstGeom prst="rect">
            <a:avLst/>
          </a:prstGeom>
          <a:ln w="0">
            <a:noFill/>
          </a:ln>
        </p:spPr>
      </p:pic>
      <p:sp>
        <p:nvSpPr>
          <p:cNvPr id="111" name="PlaceHolder 1"/>
          <p:cNvSpPr>
            <a:spLocks noGrp="1"/>
          </p:cNvSpPr>
          <p:nvPr>
            <p:ph type="title"/>
          </p:nvPr>
        </p:nvSpPr>
        <p:spPr>
          <a:xfrm>
            <a:off x="457200" y="4852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9900"/>
                </a:solidFill>
                <a:latin typeface="Tw Cen MT Condensed Extra Bold"/>
              </a:rPr>
              <a:t>Находитесь в тесных отношениях с Богом:</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Это наиболее важный шаг в наставничестве. Ваши новые наставнические отношения включают в себя не только двоих людей. Для того, чтобы они работали, нужен Третий. Бог должен быть центром ваших отношений. Всегда начинайте с молитвы. Бог вовсе не ожидает, что вы будете хорошим наставником самостоятельно. Ежедневно молитесь и просите Его руководить вами и помогать вам быть Божественным образцом для подражания. Он знает все. И если вы начинаете отношения вместе с Богом, то знайте, что все находится в Его руках.</a:t>
            </a:r>
            <a:endParaRPr b="0" lang="en-US" sz="2000" spc="-1" strike="noStrike">
              <a:solidFill>
                <a:srgbClr val="000000"/>
              </a:solidFill>
              <a:latin typeface="Arial"/>
            </a:endParaRPr>
          </a:p>
        </p:txBody>
      </p:sp>
      <p:pic>
        <p:nvPicPr>
          <p:cNvPr id="113" name="" descr=""/>
          <p:cNvPicPr/>
          <p:nvPr/>
        </p:nvPicPr>
        <p:blipFill>
          <a:blip r:embed="rId2"/>
          <a:stretch/>
        </p:blipFill>
        <p:spPr>
          <a:xfrm>
            <a:off x="6443640" y="4365720"/>
            <a:ext cx="1865160" cy="1873080"/>
          </a:xfrm>
          <a:prstGeom prst="rect">
            <a:avLst/>
          </a:prstGeom>
          <a:ln w="0">
            <a:noFill/>
          </a:ln>
        </p:spPr>
      </p:pic>
      <p:sp>
        <p:nvSpPr>
          <p:cNvPr id="114" name=""/>
          <p:cNvSpPr/>
          <p:nvPr/>
        </p:nvSpPr>
        <p:spPr>
          <a:xfrm>
            <a:off x="5219640" y="530064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995640" y="5300640"/>
            <a:ext cx="914400" cy="9144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395280" y="990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О чем молиться</a:t>
            </a:r>
            <a:r>
              <a:rPr b="1" lang="en-US" sz="4400" spc="-1" strike="noStrike">
                <a:solidFill>
                  <a:srgbClr val="800000"/>
                </a:solidFill>
                <a:latin typeface="Tw Cen MT Condensed Extra Bold"/>
              </a:rPr>
              <a:t>:</a:t>
            </a:r>
            <a:br>
              <a:rPr sz="4400"/>
            </a:br>
            <a:endParaRPr b="0" lang="en-US" sz="4400" spc="-1" strike="noStrike">
              <a:solidFill>
                <a:srgbClr val="000000"/>
              </a:solidFill>
              <a:latin typeface="Arial"/>
            </a:endParaRPr>
          </a:p>
        </p:txBody>
      </p:sp>
      <p:sp>
        <p:nvSpPr>
          <p:cNvPr id="118" name="PlaceHolder 2"/>
          <p:cNvSpPr>
            <a:spLocks noGrp="1"/>
          </p:cNvSpPr>
          <p:nvPr>
            <p:ph/>
          </p:nvPr>
        </p:nvSpPr>
        <p:spPr>
          <a:xfrm>
            <a:off x="457200" y="199872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Мудрость</a:t>
            </a:r>
            <a:r>
              <a:rPr b="0" i="1" lang="ru-RU" sz="2400" spc="-1" strike="noStrike">
                <a:solidFill>
                  <a:srgbClr val="000000"/>
                </a:solidFill>
                <a:latin typeface="Arial"/>
              </a:rPr>
              <a:t>: Молитесь, чтобы Бог дал вам знание и правильные слова. Помните, что с Богом для вас все возможно</a:t>
            </a:r>
            <a:r>
              <a:rPr b="0" lang="ru-RU" sz="2400" spc="-1" strike="noStrike">
                <a:solidFill>
                  <a:srgbClr val="000000"/>
                </a:solidFill>
                <a:latin typeface="Arial"/>
              </a:rPr>
              <a:t>.</a:t>
            </a:r>
            <a:endParaRPr b="0" lang="en-US" sz="2400" spc="-1" strike="noStrike">
              <a:solidFill>
                <a:srgbClr val="000000"/>
              </a:solidFill>
              <a:latin typeface="Arial"/>
            </a:endParaRPr>
          </a:p>
          <a:p>
            <a:pPr marL="609480" indent="0">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Терпение</a:t>
            </a:r>
            <a:r>
              <a:rPr b="0" i="1" lang="ru-RU" sz="2000" spc="-1" strike="noStrike">
                <a:solidFill>
                  <a:srgbClr val="000000"/>
                </a:solidFill>
                <a:latin typeface="Arial"/>
              </a:rPr>
              <a:t>: На забывайте: для чего вы являетесь наставником и для чего она - наставляемой. Она все еще учится. Принимайте девушку, если она не говорит то, что вы ожидаете слышать, и если ее христианский путь не совсем такой, какого вы ожидаете.</a:t>
            </a:r>
            <a:r>
              <a:rPr b="0" lang="ru-RU" sz="2000" spc="-1" strike="noStrike">
                <a:solidFill>
                  <a:srgbClr val="000000"/>
                </a:solidFill>
                <a:latin typeface="Arial"/>
              </a:rPr>
              <a:t>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Милость</a:t>
            </a:r>
            <a:r>
              <a:rPr b="0" i="1" lang="ru-RU" sz="2000" spc="-1" strike="noStrike">
                <a:solidFill>
                  <a:srgbClr val="000000"/>
                </a:solidFill>
                <a:latin typeface="Arial"/>
              </a:rPr>
              <a:t>: Не выговаривайте ее. Возможно, вы подумаете «Я не могу поверить, что она это сделала». Именно, по этой причине ей нужны вы. Вы здесь для того, чтобы помогать, прощать и проявлять милость.</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19" name="" descr=""/>
          <p:cNvPicPr/>
          <p:nvPr/>
        </p:nvPicPr>
        <p:blipFill>
          <a:blip r:embed="rId2"/>
          <a:stretch/>
        </p:blipFill>
        <p:spPr>
          <a:xfrm>
            <a:off x="250920" y="260280"/>
            <a:ext cx="1512720" cy="151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971280" y="907920"/>
            <a:ext cx="699444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ru-RU" sz="2400" spc="-1" strike="noStrike">
                <a:solidFill>
                  <a:srgbClr val="000000"/>
                </a:solidFill>
                <a:latin typeface="Arial"/>
              </a:rPr>
              <a:t>Наставничество – преднамеренные отношения, в которых духовно опытные женщины посвящают свое время молодым женщинам. Существует несколько видов наставничества</a:t>
            </a:r>
            <a:r>
              <a:rPr b="1" i="1" lang="ru-RU"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уховный сове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Молитвенное партнерство</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Разговор и Слушани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строение дружеских отношений</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 descr=""/>
          <p:cNvPicPr/>
          <p:nvPr/>
        </p:nvPicPr>
        <p:blipFill>
          <a:blip r:embed="rId2"/>
          <a:stretch/>
        </p:blipFill>
        <p:spPr>
          <a:xfrm>
            <a:off x="5796000" y="3573360"/>
            <a:ext cx="2735280" cy="2735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844200"/>
            <a:ext cx="8229600" cy="85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w Cen MT Condensed Extra Bold"/>
              </a:rPr>
              <a:t>Предлагайте дружеский совет. Вам необходимо напомнить наставляемой о трех важных аспектах:</a:t>
            </a:r>
            <a:endParaRPr b="0" lang="en-US" sz="2400" spc="-1" strike="noStrike">
              <a:solidFill>
                <a:srgbClr val="000000"/>
              </a:solidFill>
              <a:latin typeface="Arial"/>
            </a:endParaRPr>
          </a:p>
        </p:txBody>
      </p:sp>
      <p:sp>
        <p:nvSpPr>
          <p:cNvPr id="122" name="PlaceHolder 2"/>
          <p:cNvSpPr>
            <a:spLocks noGrp="1"/>
          </p:cNvSpPr>
          <p:nvPr>
            <p:ph/>
          </p:nvPr>
        </p:nvSpPr>
        <p:spPr>
          <a:xfrm>
            <a:off x="457200" y="1988640"/>
            <a:ext cx="8229600" cy="4526280"/>
          </a:xfrm>
          <a:prstGeom prst="rect">
            <a:avLst/>
          </a:prstGeom>
          <a:noFill/>
          <a:ln w="0">
            <a:noFill/>
          </a:ln>
        </p:spPr>
        <p:txBody>
          <a:bodyPr lIns="90000" rIns="90000" tIns="46800" bIns="46800" anchor="t">
            <a:normAutofit fontScale="99000"/>
          </a:bodyPr>
          <a:p>
            <a:pPr marL="603360" indent="-60336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Вы не можете делать все: </a:t>
            </a:r>
            <a:r>
              <a:rPr b="0" i="1" lang="ru-RU" sz="2800" spc="-1" strike="noStrike">
                <a:solidFill>
                  <a:srgbClr val="000000"/>
                </a:solidFill>
                <a:latin typeface="Arial"/>
              </a:rPr>
              <a:t>Живите, основываясь на Божьих приоритетах. Осознавайте ваши границы. Научитесь говорить «нет».</a:t>
            </a:r>
            <a:r>
              <a:rPr b="0" lang="ru-RU" sz="2800" spc="-1" strike="noStrike">
                <a:solidFill>
                  <a:srgbClr val="000000"/>
                </a:solidFill>
                <a:latin typeface="Arial"/>
              </a:rPr>
              <a:t> </a:t>
            </a:r>
            <a:endParaRPr b="0" lang="en-US" sz="2800" spc="-1" strike="noStrike">
              <a:solidFill>
                <a:srgbClr val="000000"/>
              </a:solidFill>
              <a:latin typeface="Arial"/>
            </a:endParaRPr>
          </a:p>
          <a:p>
            <a:pPr marL="603360" indent="-603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Если вы не знаете, что ожидаете от вашей жизни, пробуйте: </a:t>
            </a:r>
            <a:r>
              <a:rPr b="0" i="1" lang="ru-RU" sz="2400" spc="-1" strike="noStrike">
                <a:solidFill>
                  <a:srgbClr val="000000"/>
                </a:solidFill>
                <a:latin typeface="Arial"/>
              </a:rPr>
              <a:t>Не бойтесь пробовать что-то новое.</a:t>
            </a:r>
            <a:r>
              <a:rPr b="0" lang="ru-RU" sz="2400" spc="-1" strike="noStrike">
                <a:solidFill>
                  <a:srgbClr val="000000"/>
                </a:solidFill>
                <a:latin typeface="Arial"/>
              </a:rPr>
              <a:t> </a:t>
            </a:r>
            <a:endParaRPr b="0" lang="en-US" sz="2400" spc="-1" strike="noStrike">
              <a:solidFill>
                <a:srgbClr val="000000"/>
              </a:solidFill>
              <a:latin typeface="Arial"/>
            </a:endParaRPr>
          </a:p>
          <a:p>
            <a:pPr marL="603360" indent="-603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ы поддерживаете ее, но вы не ответственны за ее выбор:</a:t>
            </a:r>
            <a:r>
              <a:rPr b="0" i="1" lang="ru-RU" sz="2400" spc="-1" strike="noStrike">
                <a:solidFill>
                  <a:srgbClr val="000000"/>
                </a:solidFill>
                <a:latin typeface="Arial"/>
              </a:rPr>
              <a:t> Вы можете поддерживать, руководить и давать предложения, но не изменяйте ее выбор. Она должна самостоятельно принимать решения в своей жизни.</a:t>
            </a:r>
            <a:r>
              <a:rPr b="0" lang="ru-RU" sz="2400" spc="-1" strike="noStrike">
                <a:solidFill>
                  <a:srgbClr val="000000"/>
                </a:solidFill>
                <a:latin typeface="Arial"/>
              </a:rPr>
              <a:t> Не толкайте ее – она должна сама сделать окончательный выбор.</a:t>
            </a:r>
            <a:endParaRPr b="0" lang="en-US" sz="2400" spc="-1" strike="noStrike">
              <a:solidFill>
                <a:srgbClr val="000000"/>
              </a:solidFill>
              <a:latin typeface="Arial"/>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25092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Если взаимоотношения затухают</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sp>
        <p:nvSpPr>
          <p:cNvPr id="125" name="PlaceHolder 2"/>
          <p:cNvSpPr>
            <a:spLocks noGrp="1"/>
          </p:cNvSpPr>
          <p:nvPr>
            <p:ph/>
          </p:nvPr>
        </p:nvSpPr>
        <p:spPr>
          <a:xfrm>
            <a:off x="610920" y="1700280"/>
            <a:ext cx="6707160" cy="452592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о-первых. Остановитесь и попросите Бога показать вам, где вы неверно поступаете. Предпримите действия, извинитесь, если требуется. Она осознает, что вы несовершенны. Ей необходимо знать, что все люди могут ошибаться. Если вам не за что извиняться, то простите ее.</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о-вторых, поговорите с ней. Пусть она расскажет о своих чувствах. Предоставьте ей право побыть одной. С Божьей помощью отношения окрепнут.</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 descr=""/>
          <p:cNvPicPr/>
          <p:nvPr/>
        </p:nvPicPr>
        <p:blipFill>
          <a:blip r:embed="rId2"/>
          <a:stretch/>
        </p:blipFill>
        <p:spPr>
          <a:xfrm>
            <a:off x="6372360" y="4076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PlaceHolder 1"/>
          <p:cNvSpPr>
            <a:spLocks noGrp="1"/>
          </p:cNvSpPr>
          <p:nvPr>
            <p:ph type="title"/>
          </p:nvPr>
        </p:nvSpPr>
        <p:spPr>
          <a:xfrm>
            <a:off x="457200" y="92196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Становление духовного руководителя</a:t>
            </a:r>
            <a:br>
              <a:rPr sz="4000"/>
            </a:b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   </a:t>
            </a:r>
            <a:r>
              <a:rPr b="0" i="1" lang="ru-RU" sz="3200" spc="-1" strike="noStrike">
                <a:solidFill>
                  <a:srgbClr val="000000"/>
                </a:solidFill>
                <a:latin typeface="Arial"/>
              </a:rPr>
              <a:t>Двадцатилетняя женщина очень нуждается в том, чтобы найти свою цель в жизни. Ей нужно принять множество решений, и она не знает, с чего начать. Она желает начать работать, устроить личную жизнь или создать семью. Как она намеревается открыть Богом данные таланты и принять важные решения в жизни?</a:t>
            </a:r>
            <a:endParaRPr b="0" lang="en-US" sz="3200" spc="-1" strike="noStrike">
              <a:solidFill>
                <a:srgbClr val="000000"/>
              </a:solidFill>
              <a:latin typeface="Arial"/>
            </a:endParaRPr>
          </a:p>
        </p:txBody>
      </p:sp>
      <p:pic>
        <p:nvPicPr>
          <p:cNvPr id="130" name="" descr=""/>
          <p:cNvPicPr/>
          <p:nvPr/>
        </p:nvPicPr>
        <p:blipFill>
          <a:blip r:embed="rId2"/>
          <a:stretch/>
        </p:blipFill>
        <p:spPr>
          <a:xfrm>
            <a:off x="6156360" y="3860640"/>
            <a:ext cx="2374920" cy="2374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w Cen MT Condensed Extra Bold"/>
              </a:rPr>
              <a:t>   </a:t>
            </a:r>
            <a:r>
              <a:rPr b="1" lang="ru-RU" sz="4400" spc="-1" strike="noStrike">
                <a:solidFill>
                  <a:srgbClr val="800000"/>
                </a:solidFill>
                <a:latin typeface="Tw Cen MT Condensed Extra Bold"/>
              </a:rPr>
              <a:t>Напомните ей</a:t>
            </a:r>
            <a:r>
              <a:rPr b="1" lang="en-US" sz="4400" spc="-1" strike="noStrike">
                <a:solidFill>
                  <a:srgbClr val="800000"/>
                </a:solidFill>
                <a:latin typeface="Tw Cen MT Condensed Extra Bold"/>
              </a:rPr>
              <a:t>…</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е имеет значения, что вы делаете со своей жизнью, Бог желает быть в ней. Все что вы начинаете, нужно начинать с Богом. Будь она медсестра, доктор, секретарь, юрист или мама, находящаяся дома, все равно она никто без Бога. Если Бог присутствует в ее жизни, она может повлиять на жизни других людей. Бог будет проявляться в ней как свидетельство для ее коллег, соседей, покупателей в магазине, и, что более важно, для ее детей.</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34" name="" descr=""/>
          <p:cNvPicPr/>
          <p:nvPr/>
        </p:nvPicPr>
        <p:blipFill>
          <a:blip r:embed="rId2"/>
          <a:stretch/>
        </p:blipFill>
        <p:spPr>
          <a:xfrm>
            <a:off x="6227640" y="3933720"/>
            <a:ext cx="2328840" cy="232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p:nvPr>
        </p:nvSpPr>
        <p:spPr>
          <a:xfrm>
            <a:off x="324000" y="1196640"/>
            <a:ext cx="8229600" cy="2376360"/>
          </a:xfrm>
          <a:prstGeom prst="rect">
            <a:avLst/>
          </a:prstGeom>
          <a:noFill/>
          <a:ln w="0">
            <a:noFill/>
          </a:ln>
        </p:spPr>
        <p:txBody>
          <a:bodyPr lIns="90000" rIns="90000" tIns="46800" bIns="46800"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Вечный призыв Иисуса Христа к нам не относится к конкретному месту или должности здесь на земле, прежде всего Он призывает нас к глубоким взаимоотношениям с Ним», Е. Уайт, Патриархи и пророки, стр. ориг. 24</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37" name="" descr=""/>
          <p:cNvPicPr/>
          <p:nvPr/>
        </p:nvPicPr>
        <p:blipFill>
          <a:blip r:embed="rId2"/>
          <a:stretch/>
        </p:blipFill>
        <p:spPr>
          <a:xfrm>
            <a:off x="3492360" y="378936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446040" y="556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Место в обществе</a:t>
            </a:r>
            <a:endParaRPr b="0" lang="en-US" sz="4400" spc="-1" strike="noStrike">
              <a:solidFill>
                <a:srgbClr val="000000"/>
              </a:solidFill>
              <a:latin typeface="Arial"/>
            </a:endParaRPr>
          </a:p>
        </p:txBody>
      </p:sp>
      <p:sp>
        <p:nvSpPr>
          <p:cNvPr id="140" name="PlaceHolder 2"/>
          <p:cNvSpPr>
            <a:spLocks noGrp="1"/>
          </p:cNvSpPr>
          <p:nvPr>
            <p:ph/>
          </p:nvPr>
        </p:nvSpPr>
        <p:spPr>
          <a:xfrm>
            <a:off x="457200" y="1197000"/>
            <a:ext cx="562752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0" i="1" lang="ru-RU" sz="2400" spc="-1" strike="noStrike">
                <a:solidFill>
                  <a:srgbClr val="000000"/>
                </a:solidFill>
                <a:latin typeface="Arial"/>
              </a:rPr>
              <a:t>Но даже учитывая, что для христиан очень важно общаться со Христом, то для того, чтобы жить она должна работать. Если девушка смущена и не знает, как начать жизнь, вы можете поддержать ее попробовать что-нибудь новое.</a:t>
            </a:r>
            <a:endParaRPr b="0" lang="en-US" sz="2400" spc="-1" strike="noStrike">
              <a:solidFill>
                <a:srgbClr val="000000"/>
              </a:solidFill>
              <a:latin typeface="Arial"/>
            </a:endParaRPr>
          </a:p>
        </p:txBody>
      </p:sp>
      <p:pic>
        <p:nvPicPr>
          <p:cNvPr id="141" name="" descr=""/>
          <p:cNvPicPr/>
          <p:nvPr/>
        </p:nvPicPr>
        <p:blipFill>
          <a:blip r:embed="rId2"/>
          <a:stretch/>
        </p:blipFill>
        <p:spPr>
          <a:xfrm>
            <a:off x="6203880" y="4052880"/>
            <a:ext cx="2328840" cy="232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
        <p:nvSpPr>
          <p:cNvPr id="143"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Место в Церкви </a:t>
            </a:r>
            <a:endParaRPr b="0" lang="en-US" sz="4400" spc="-1" strike="noStrike">
              <a:solidFill>
                <a:srgbClr val="000000"/>
              </a:solidFill>
              <a:latin typeface="Arial"/>
            </a:endParaRPr>
          </a:p>
        </p:txBody>
      </p:sp>
      <p:sp>
        <p:nvSpPr>
          <p:cNvPr id="144" name="PlaceHolder 2"/>
          <p:cNvSpPr>
            <a:spLocks noGrp="1"/>
          </p:cNvSpPr>
          <p:nvPr>
            <p:ph/>
          </p:nvPr>
        </p:nvSpPr>
        <p:spPr>
          <a:xfrm>
            <a:off x="528120" y="1782720"/>
            <a:ext cx="80758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омогите ей присоединиться к церкви. </a:t>
            </a:r>
            <a:r>
              <a:rPr b="0" i="1" lang="ru-RU" sz="2000" spc="-1" strike="noStrike">
                <a:solidFill>
                  <a:srgbClr val="000000"/>
                </a:solidFill>
                <a:latin typeface="Arial"/>
              </a:rPr>
              <a:t>Церковь должна стать для наставляемой девушки не просто местом проведения богослужения.</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усть церковь ответит на ее нужды. </a:t>
            </a:r>
            <a:r>
              <a:rPr b="0" i="1" lang="ru-RU" sz="2000" spc="-1" strike="noStrike">
                <a:solidFill>
                  <a:srgbClr val="000000"/>
                </a:solidFill>
                <a:latin typeface="Arial"/>
              </a:rPr>
              <a:t>Начните с той категории женщин, которая могла бы ей помочь.</a:t>
            </a:r>
            <a:r>
              <a:rPr b="0" lang="ru-RU" sz="2000" spc="-1" strike="noStrike">
                <a:solidFill>
                  <a:srgbClr val="000000"/>
                </a:solidFill>
                <a:latin typeface="Arial"/>
              </a:rPr>
              <a:t> </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омогите ей найти свое место в церкви. </a:t>
            </a:r>
            <a:r>
              <a:rPr b="0" i="1" lang="ru-RU" sz="2000" spc="-1" strike="noStrike">
                <a:solidFill>
                  <a:srgbClr val="000000"/>
                </a:solidFill>
                <a:latin typeface="Arial"/>
              </a:rPr>
              <a:t>Она может почувствовать, что для нее нет места в церкви – особенно если в церкви нет ее сверстников.</a:t>
            </a:r>
            <a:r>
              <a:rPr b="0" lang="ru-RU" sz="2000" spc="-1" strike="noStrike">
                <a:solidFill>
                  <a:srgbClr val="000000"/>
                </a:solidFill>
                <a:latin typeface="Arial"/>
              </a:rPr>
              <a:t> </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Изучение Библии может стать ценным способом, чтобы встретить друг друга и стать ближе ко Христу</a:t>
            </a:r>
            <a:r>
              <a:rPr b="0" i="1" lang="ru-RU" sz="2000" spc="-1" strike="noStrike">
                <a:solidFill>
                  <a:srgbClr val="000000"/>
                </a:solidFill>
                <a:latin typeface="Arial"/>
              </a:rPr>
              <a:t>. Предложите нескольким молодым женщинам встретится у вас дома. Молитесь о них, помогайте руководить дискуссией.</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45" name="" descr=""/>
          <p:cNvPicPr/>
          <p:nvPr/>
        </p:nvPicPr>
        <p:blipFill>
          <a:blip r:embed="rId2"/>
          <a:stretch/>
        </p:blipFill>
        <p:spPr>
          <a:xfrm>
            <a:off x="250920" y="189000"/>
            <a:ext cx="1368360" cy="136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8000"/>
          </a:xfrm>
          <a:prstGeom prst="rect">
            <a:avLst/>
          </a:prstGeom>
          <a:ln w="0">
            <a:noFill/>
          </a:ln>
        </p:spPr>
      </p:pic>
      <p:sp>
        <p:nvSpPr>
          <p:cNvPr id="147"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9900"/>
                </a:solidFill>
                <a:latin typeface="Tw Cen MT Condensed Extra Bold"/>
              </a:rPr>
              <a:t>Шаги становления духовного руководителя</a:t>
            </a:r>
            <a:r>
              <a:rPr b="1" lang="en-US" sz="4000" spc="-1" strike="noStrike">
                <a:solidFill>
                  <a:srgbClr val="009900"/>
                </a:solidFill>
                <a:latin typeface="Tw Cen MT Condensed Extra Bold"/>
              </a:rPr>
              <a:t> </a:t>
            </a:r>
            <a:endParaRPr b="0" lang="en-US" sz="4000" spc="-1" strike="noStrike">
              <a:solidFill>
                <a:srgbClr val="000000"/>
              </a:solidFill>
              <a:latin typeface="Arial"/>
            </a:endParaRPr>
          </a:p>
        </p:txBody>
      </p:sp>
      <p:sp>
        <p:nvSpPr>
          <p:cNvPr id="148"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ачните с молитвы. Молитесь о наставляемой и вместе с ней. Благодарите Бога за ее дарования.</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Что Библия говорит о дарах:</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1 Коринфянам 12: вера, учительство, говорение на языках, дар исцеления, знание, руководство.</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Римлянам 12:1-8: служение, поддержка, руководство, милосердие</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Ефесянам 4: евангелизация, пастор-учитель</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ределите ее самые сильные желания и интересы.</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Рассмотрите возможности использования этих даров.</a:t>
            </a:r>
            <a:endParaRPr b="0" lang="en-US" sz="2400" spc="-1" strike="noStrike">
              <a:solidFill>
                <a:srgbClr val="000000"/>
              </a:solidFill>
              <a:latin typeface="Arial"/>
            </a:endParaRPr>
          </a:p>
        </p:txBody>
      </p:sp>
      <p:pic>
        <p:nvPicPr>
          <p:cNvPr id="149" name="" descr=""/>
          <p:cNvPicPr/>
          <p:nvPr/>
        </p:nvPicPr>
        <p:blipFill>
          <a:blip r:embed="rId2"/>
          <a:stretch/>
        </p:blipFill>
        <p:spPr>
          <a:xfrm>
            <a:off x="6445080" y="4149720"/>
            <a:ext cx="2159280" cy="2158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9144000" cy="6858000"/>
          </a:xfrm>
          <a:prstGeom prst="rect">
            <a:avLst/>
          </a:prstGeom>
          <a:ln w="0">
            <a:noFill/>
          </a:ln>
        </p:spPr>
      </p:pic>
      <p:sp>
        <p:nvSpPr>
          <p:cNvPr id="15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Библейские примеры наставничества</a:t>
            </a:r>
            <a:endParaRPr b="0" lang="en-US" sz="4000" spc="-1" strike="noStrike">
              <a:solidFill>
                <a:srgbClr val="000000"/>
              </a:solidFill>
              <a:latin typeface="Arial"/>
            </a:endParaRPr>
          </a:p>
        </p:txBody>
      </p:sp>
      <p:sp>
        <p:nvSpPr>
          <p:cNvPr id="152" name="PlaceHolder 2"/>
          <p:cNvSpPr>
            <a:spLocks noGrp="1"/>
          </p:cNvSpPr>
          <p:nvPr>
            <p:ph/>
          </p:nvPr>
        </p:nvSpPr>
        <p:spPr>
          <a:xfrm>
            <a:off x="324000" y="1699920"/>
            <a:ext cx="8229600" cy="309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амые лучшие примеры наставнических взаимоотношений можно найти в Библии. «Будьте подражателями мне, как я Христу» 1 Кор. 11:1. Иисус - уникальный пример совершенного наставника, потому что у Него был самый лучший учитель – Его Небесный Отец.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нимание Иисуса Христа и Его наставничества других людей может помочь нам научиться влиять и помогать другим людям.</a:t>
            </a:r>
            <a:endParaRPr b="0" lang="en-US" sz="2400" spc="-1" strike="noStrike">
              <a:solidFill>
                <a:srgbClr val="000000"/>
              </a:solidFill>
              <a:latin typeface="Arial"/>
            </a:endParaRPr>
          </a:p>
        </p:txBody>
      </p:sp>
      <p:pic>
        <p:nvPicPr>
          <p:cNvPr id="153" name="" descr=""/>
          <p:cNvPicPr/>
          <p:nvPr/>
        </p:nvPicPr>
        <p:blipFill>
          <a:blip r:embed="rId2"/>
          <a:stretch/>
        </p:blipFill>
        <p:spPr>
          <a:xfrm>
            <a:off x="3708360" y="4653000"/>
            <a:ext cx="2016000" cy="2016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9144000" cy="6858000"/>
          </a:xfrm>
          <a:prstGeom prst="rect">
            <a:avLst/>
          </a:prstGeom>
          <a:ln w="0">
            <a:noFill/>
          </a:ln>
        </p:spPr>
      </p:pic>
      <p:sp>
        <p:nvSpPr>
          <p:cNvPr id="15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800000"/>
                </a:solidFill>
                <a:latin typeface="Tw Cen MT Condensed Extra Bold"/>
              </a:rPr>
              <a:t>Посмотрите как Иисус – самый лучший наставник – прожил жизнь</a:t>
            </a:r>
            <a:r>
              <a:rPr b="1" lang="en-US" sz="3800" spc="-1" strike="noStrike">
                <a:solidFill>
                  <a:srgbClr val="800000"/>
                </a:solidFill>
                <a:latin typeface="Tw Cen MT Condensed Extra Bold"/>
              </a:rPr>
              <a:t>:</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pic>
        <p:nvPicPr>
          <p:cNvPr id="156" name="" descr=""/>
          <p:cNvPicPr/>
          <p:nvPr/>
        </p:nvPicPr>
        <p:blipFill>
          <a:blip r:embed="rId2"/>
          <a:stretch/>
        </p:blipFill>
        <p:spPr>
          <a:xfrm>
            <a:off x="755640" y="3716280"/>
            <a:ext cx="2622600" cy="2622600"/>
          </a:xfrm>
          <a:prstGeom prst="rect">
            <a:avLst/>
          </a:prstGeom>
          <a:ln w="0">
            <a:noFill/>
          </a:ln>
        </p:spPr>
      </p:pic>
      <p:sp>
        <p:nvSpPr>
          <p:cNvPr id="157"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1. </a:t>
            </a:r>
            <a:r>
              <a:rPr b="1" lang="ru-RU" sz="2800" spc="-1" strike="noStrike">
                <a:solidFill>
                  <a:srgbClr val="000000"/>
                </a:solidFill>
                <a:latin typeface="Arial"/>
              </a:rPr>
              <a:t>Проводите время с Богом. Иисус Христос всегда находил время для общения с Богом. Он никогда не мог совершать все в одиночку. «И, отпустив народ, Он взошел на гору помолиться наедине; и вечером оставался там один», Мтф. 14:23.</a:t>
            </a:r>
            <a:endParaRPr b="0" lang="en-US" sz="2800" spc="-1" strike="noStrike">
              <a:solidFill>
                <a:srgbClr val="000000"/>
              </a:solidFill>
              <a:latin typeface="Arial"/>
            </a:endParaRPr>
          </a:p>
          <a:p>
            <a:pPr marL="34308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826560" y="1495440"/>
            <a:ext cx="5185080" cy="452592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1" i="1" lang="ru-RU" sz="2000" spc="-1" strike="noStrike">
                <a:solidFill>
                  <a:srgbClr val="000000"/>
                </a:solidFill>
                <a:latin typeface="Arial"/>
              </a:rPr>
              <a:t>Наставляемая</a:t>
            </a:r>
            <a:r>
              <a:rPr b="0" i="1" lang="ru-RU" sz="2000" spc="-1" strike="noStrike">
                <a:solidFill>
                  <a:srgbClr val="000000"/>
                </a:solidFill>
                <a:latin typeface="Arial"/>
              </a:rPr>
              <a:t> женщина это та, которая желает, чтобы другая женщина помогала ее приближению к Богу и поддерживала ее общение со Христом. </a:t>
            </a:r>
            <a:r>
              <a:rPr b="1" i="1" lang="ru-RU" sz="2000" spc="-1" strike="noStrike">
                <a:solidFill>
                  <a:srgbClr val="000000"/>
                </a:solidFill>
                <a:latin typeface="Arial"/>
              </a:rPr>
              <a:t>Наставник</a:t>
            </a:r>
            <a:r>
              <a:rPr b="0" i="1" lang="ru-RU" sz="2000" spc="-1" strike="noStrike">
                <a:solidFill>
                  <a:srgbClr val="000000"/>
                </a:solidFill>
                <a:latin typeface="Arial"/>
              </a:rPr>
              <a:t> это старшая по возрасту, опытная женщина, которая желает помочь молодой женщина в жизни и ее христианскому общению.</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59" name="" descr=""/>
          <p:cNvPicPr/>
          <p:nvPr/>
        </p:nvPicPr>
        <p:blipFill>
          <a:blip r:embed="rId2"/>
          <a:stretch/>
        </p:blipFill>
        <p:spPr>
          <a:xfrm>
            <a:off x="6084720" y="3933720"/>
            <a:ext cx="2449800" cy="2449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pic>
        <p:nvPicPr>
          <p:cNvPr id="159" name="" descr=""/>
          <p:cNvPicPr/>
          <p:nvPr/>
        </p:nvPicPr>
        <p:blipFill>
          <a:blip r:embed="rId2"/>
          <a:stretch/>
        </p:blipFill>
        <p:spPr>
          <a:xfrm>
            <a:off x="684360" y="3747960"/>
            <a:ext cx="2592360" cy="2592360"/>
          </a:xfrm>
          <a:prstGeom prst="rect">
            <a:avLst/>
          </a:prstGeom>
          <a:ln w="0">
            <a:noFill/>
          </a:ln>
        </p:spPr>
      </p:pic>
      <p:sp>
        <p:nvSpPr>
          <p:cNvPr id="160" name="PlaceHolder 1"/>
          <p:cNvSpPr>
            <a:spLocks noGrp="1"/>
          </p:cNvSpPr>
          <p:nvPr>
            <p:ph/>
          </p:nvPr>
        </p:nvSpPr>
        <p:spPr>
          <a:xfrm>
            <a:off x="457200" y="620640"/>
            <a:ext cx="8229600" cy="4525920"/>
          </a:xfrm>
          <a:prstGeom prst="rect">
            <a:avLst/>
          </a:prstGeom>
          <a:noFill/>
          <a:ln w="0">
            <a:noFill/>
          </a:ln>
        </p:spPr>
        <p:txBody>
          <a:bodyPr lIns="90000" rIns="90000" tIns="46800" bIns="46800" anchor="t">
            <a:normAutofit/>
          </a:bodyPr>
          <a:p>
            <a:pPr marL="6094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2.</a:t>
            </a:r>
            <a:r>
              <a:rPr b="1" i="1" lang="ru-RU" sz="2000" spc="-1" strike="noStrike">
                <a:solidFill>
                  <a:srgbClr val="009900"/>
                </a:solidFill>
                <a:latin typeface="Arial"/>
              </a:rPr>
              <a:t> </a:t>
            </a:r>
            <a:r>
              <a:rPr b="1" i="1" lang="ru-RU" sz="2000" spc="-1" strike="noStrike">
                <a:solidFill>
                  <a:srgbClr val="000000"/>
                </a:solidFill>
                <a:latin typeface="Arial"/>
              </a:rPr>
              <a:t>Рассказывайте истории. Когда апостолы спросили Иисуса Христа, почему Он всегда рассказывает истории, Он ответил: «Потому говорю им притчами, что они видя не видят, и слыша не слышат, и не разумеют», Мтф. 13:13. Как вы думаете, легче ли запоминается проповедь, если главная мысль рассказана в истории? Люди запоминают весть, если она запечатлена в истории, которую они не забудут.</a:t>
            </a:r>
            <a:r>
              <a:rPr b="1" i="1" lang="ru-RU" sz="3200" spc="-1" strike="noStrike">
                <a:solidFill>
                  <a:srgbClr val="000000"/>
                </a:solidFill>
                <a:latin typeface="Arial"/>
              </a:rPr>
              <a:t> </a:t>
            </a:r>
            <a:endParaRPr b="0" lang="en-US" sz="3200" spc="-1" strike="noStrike">
              <a:solidFill>
                <a:srgbClr val="000000"/>
              </a:solidFill>
              <a:latin typeface="Arial"/>
            </a:endParaRPr>
          </a:p>
          <a:p>
            <a:pPr marL="6094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6858000"/>
          </a:xfrm>
          <a:prstGeom prst="rect">
            <a:avLst/>
          </a:prstGeom>
          <a:ln w="0">
            <a:noFill/>
          </a:ln>
        </p:spPr>
      </p:pic>
      <p:pic>
        <p:nvPicPr>
          <p:cNvPr id="162" name="" descr=""/>
          <p:cNvPicPr/>
          <p:nvPr/>
        </p:nvPicPr>
        <p:blipFill>
          <a:blip r:embed="rId2"/>
          <a:stretch/>
        </p:blipFill>
        <p:spPr>
          <a:xfrm>
            <a:off x="684360" y="3573360"/>
            <a:ext cx="2766960" cy="2766960"/>
          </a:xfrm>
          <a:prstGeom prst="rect">
            <a:avLst/>
          </a:prstGeom>
          <a:ln w="0">
            <a:noFill/>
          </a:ln>
        </p:spPr>
      </p:pic>
      <p:sp>
        <p:nvSpPr>
          <p:cNvPr id="163" name="PlaceHolder 1"/>
          <p:cNvSpPr>
            <a:spLocks noGrp="1"/>
          </p:cNvSpPr>
          <p:nvPr>
            <p:ph/>
          </p:nvPr>
        </p:nvSpPr>
        <p:spPr>
          <a:xfrm>
            <a:off x="457200" y="5493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ru-RU" sz="2400" spc="-1" strike="noStrike">
                <a:solidFill>
                  <a:srgbClr val="000000"/>
                </a:solidFill>
                <a:latin typeface="Arial"/>
              </a:rPr>
              <a:t>3. </a:t>
            </a:r>
            <a:r>
              <a:rPr b="1" i="1" lang="ru-RU" sz="2800" spc="-1" strike="noStrike">
                <a:solidFill>
                  <a:srgbClr val="000000"/>
                </a:solidFill>
                <a:latin typeface="Arial"/>
              </a:rPr>
              <a:t>Сострадание. </a:t>
            </a:r>
            <a:r>
              <a:rPr b="0" i="1" lang="ru-RU" sz="2800" spc="-1" strike="noStrike">
                <a:solidFill>
                  <a:srgbClr val="000000"/>
                </a:solidFill>
                <a:latin typeface="Arial"/>
              </a:rPr>
              <a:t>Иисус всегда проявлял доброту, симпатию и озабоченность другими людьми. Этой вестью пронизана история о Добром Самарянине</a:t>
            </a:r>
            <a:r>
              <a:rPr b="1" i="1"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дна из главных ролей наставника заключается в том, чтобы демонстрировать руки сострадания – быть Добрым Самарянином для кого-то еще. Научите ее сострадать, рассказывая о том, как вы сострадаете другим людям. Предложите ваше служение, ваше время, ваши молитвы тем, кто в них нуждаетс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8000"/>
          </a:xfrm>
          <a:prstGeom prst="rect">
            <a:avLst/>
          </a:prstGeom>
          <a:ln w="0">
            <a:noFill/>
          </a:ln>
        </p:spPr>
      </p:pic>
      <p:sp>
        <p:nvSpPr>
          <p:cNvPr id="165"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Несколько шагов, которые помогут проявить сострадание к женщине</a:t>
            </a:r>
            <a:r>
              <a:rPr b="1" lang="en-US" sz="4000" spc="-1" strike="noStrike">
                <a:solidFill>
                  <a:srgbClr val="800000"/>
                </a:solidFill>
                <a:latin typeface="Tw Cen MT Condensed Extra Bold"/>
              </a:rPr>
              <a:t>: </a:t>
            </a:r>
            <a:br>
              <a:rPr sz="4000"/>
            </a:br>
            <a:endParaRPr b="0" lang="en-US" sz="4000" spc="-1" strike="noStrike">
              <a:solidFill>
                <a:srgbClr val="000000"/>
              </a:solidFill>
              <a:latin typeface="Arial"/>
            </a:endParaRPr>
          </a:p>
        </p:txBody>
      </p:sp>
      <p:pic>
        <p:nvPicPr>
          <p:cNvPr id="166" name="" descr=""/>
          <p:cNvPicPr/>
          <p:nvPr/>
        </p:nvPicPr>
        <p:blipFill>
          <a:blip r:embed="rId2"/>
          <a:stretch/>
        </p:blipFill>
        <p:spPr>
          <a:xfrm>
            <a:off x="6299280" y="4219560"/>
            <a:ext cx="2233440" cy="2233800"/>
          </a:xfrm>
          <a:prstGeom prst="rect">
            <a:avLst/>
          </a:prstGeom>
          <a:ln w="0">
            <a:noFill/>
          </a:ln>
        </p:spPr>
      </p:pic>
      <p:sp>
        <p:nvSpPr>
          <p:cNvPr id="167" name="PlaceHolder 2"/>
          <p:cNvSpPr>
            <a:spLocks noGrp="1"/>
          </p:cNvSpPr>
          <p:nvPr>
            <p:ph/>
          </p:nvPr>
        </p:nvSpPr>
        <p:spPr>
          <a:xfrm>
            <a:off x="817560" y="1916280"/>
            <a:ext cx="5410080" cy="4525920"/>
          </a:xfrm>
          <a:prstGeom prst="rect">
            <a:avLst/>
          </a:prstGeom>
          <a:noFill/>
          <a:ln w="0">
            <a:noFill/>
          </a:ln>
        </p:spPr>
        <p:txBody>
          <a:bodyPr lIns="90000" rIns="90000" tIns="46800" bIns="46800" anchor="t">
            <a:normAutofit/>
          </a:bodyPr>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Узнайте, в чем она нуждается</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осполните ее боль или нужды, поговорите с ней, проявите эмпатию</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роявите вовлеченную и влиятельную поддержку, помните о том, что Иисус учил людей, где бы Он не был</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дождите вместе с ней, пока ее трудная ситуация не разрешится</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663480" y="692280"/>
            <a:ext cx="5060880" cy="45259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4.</a:t>
            </a:r>
            <a:r>
              <a:rPr b="1" i="1" lang="ru-RU" sz="2000" spc="-1" strike="noStrike">
                <a:solidFill>
                  <a:srgbClr val="009900"/>
                </a:solidFill>
                <a:latin typeface="Arial"/>
              </a:rPr>
              <a:t> </a:t>
            </a:r>
            <a:r>
              <a:rPr b="1" i="1" lang="ru-RU" sz="2400" spc="-1" strike="noStrike">
                <a:solidFill>
                  <a:srgbClr val="000000"/>
                </a:solidFill>
                <a:latin typeface="Arial"/>
              </a:rPr>
              <a:t>Безусловная любовь. Иисус учил нас прощать и любить тех, кто согрешил. Подобно Христу прощайте женщину и не отталкивайте ее. Мы должны всегда помнить о необходимости проявлять прощение.</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70" name="" descr=""/>
          <p:cNvPicPr/>
          <p:nvPr/>
        </p:nvPicPr>
        <p:blipFill>
          <a:blip r:embed="rId2"/>
          <a:stretch/>
        </p:blipFill>
        <p:spPr>
          <a:xfrm>
            <a:off x="5724360" y="3645000"/>
            <a:ext cx="2737080" cy="2736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
        <p:nvSpPr>
          <p:cNvPr id="172" name="PlaceHolder 1"/>
          <p:cNvSpPr>
            <a:spLocks noGrp="1"/>
          </p:cNvSpPr>
          <p:nvPr>
            <p:ph type="title"/>
          </p:nvPr>
        </p:nvSpPr>
        <p:spPr>
          <a:xfrm>
            <a:off x="39528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800000"/>
                </a:solidFill>
                <a:latin typeface="Tw Cen MT Condensed Extra Bold"/>
              </a:rPr>
              <a:t>Как стать Ноеминью</a:t>
            </a:r>
            <a:endParaRPr b="0" lang="en-US" sz="4800" spc="-1" strike="noStrike">
              <a:solidFill>
                <a:srgbClr val="000000"/>
              </a:solidFill>
              <a:latin typeface="Arial"/>
            </a:endParaRPr>
          </a:p>
        </p:txBody>
      </p:sp>
      <p:pic>
        <p:nvPicPr>
          <p:cNvPr id="173" name="" descr=""/>
          <p:cNvPicPr/>
          <p:nvPr/>
        </p:nvPicPr>
        <p:blipFill>
          <a:blip r:embed="rId2"/>
          <a:stretch/>
        </p:blipFill>
        <p:spPr>
          <a:xfrm>
            <a:off x="5856120" y="3693960"/>
            <a:ext cx="2676600" cy="2687760"/>
          </a:xfrm>
          <a:prstGeom prst="rect">
            <a:avLst/>
          </a:prstGeom>
          <a:ln w="0">
            <a:noFill/>
          </a:ln>
        </p:spPr>
      </p:pic>
      <p:sp>
        <p:nvSpPr>
          <p:cNvPr id="174" name="PlaceHolder 2"/>
          <p:cNvSpPr>
            <a:spLocks noGrp="1"/>
          </p:cNvSpPr>
          <p:nvPr>
            <p:ph/>
          </p:nvPr>
        </p:nvSpPr>
        <p:spPr>
          <a:xfrm>
            <a:off x="395280" y="2332080"/>
            <a:ext cx="5113440" cy="452592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ое влияние оказала Ноеминь на Руфь. Каким удивительным наставником она была. Руфь захотела оставить свою семью, своего бога, свой дом и все, что было ей так знакомо, чтобы странствовать со своей свекровь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144000" cy="6858000"/>
          </a:xfrm>
          <a:prstGeom prst="rect">
            <a:avLst/>
          </a:prstGeom>
          <a:ln w="0">
            <a:noFill/>
          </a:ln>
        </p:spPr>
      </p:pic>
      <p:sp>
        <p:nvSpPr>
          <p:cNvPr id="176"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Награды наставничества</a:t>
            </a:r>
            <a:br>
              <a:rPr sz="4000"/>
            </a:br>
            <a:endParaRPr b="0" lang="en-US" sz="4000" spc="-1" strike="noStrike">
              <a:solidFill>
                <a:srgbClr val="000000"/>
              </a:solidFill>
              <a:latin typeface="Arial"/>
            </a:endParaRPr>
          </a:p>
        </p:txBody>
      </p:sp>
      <p:sp>
        <p:nvSpPr>
          <p:cNvPr id="177" name="PlaceHolder 2"/>
          <p:cNvSpPr>
            <a:spLocks noGrp="1"/>
          </p:cNvSpPr>
          <p:nvPr>
            <p:ph/>
          </p:nvPr>
        </p:nvSpPr>
        <p:spPr>
          <a:xfrm>
            <a:off x="457200" y="1599840"/>
            <a:ext cx="8229600" cy="3197160"/>
          </a:xfrm>
          <a:prstGeom prst="rect">
            <a:avLst/>
          </a:prstGeom>
          <a:noFill/>
          <a:ln w="0">
            <a:noFill/>
          </a:ln>
        </p:spPr>
        <p:txBody>
          <a:bodyPr lIns="90000" rIns="90000" tIns="46800" bIns="46800" anchor="t">
            <a:normAutofit/>
          </a:bodyPr>
          <a:p>
            <a:pPr marL="343080" indent="-343080" algn="ct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 будете благословлены как наставник. Вы приобретете большую пользу от знания, что вы внесли изменения в жизнь наставляемой. Вы будете ощущать себя лучше, осознавая, что вы помогаете кому-то. Она научится от вас, но вы также будете учиться у нее. Да, будут развиваться новые дружеские отношения. Кто знает, вы, возможно, будете зависеть от нее.</a:t>
            </a:r>
            <a:endParaRPr b="0" lang="en-US" sz="2000" spc="-1" strike="noStrike">
              <a:solidFill>
                <a:srgbClr val="000000"/>
              </a:solidFill>
              <a:latin typeface="Arial"/>
            </a:endParaRPr>
          </a:p>
        </p:txBody>
      </p:sp>
      <p:pic>
        <p:nvPicPr>
          <p:cNvPr id="178" name="" descr=""/>
          <p:cNvPicPr/>
          <p:nvPr/>
        </p:nvPicPr>
        <p:blipFill>
          <a:blip r:embed="rId2"/>
          <a:stretch/>
        </p:blipFill>
        <p:spPr>
          <a:xfrm>
            <a:off x="6877080" y="4941720"/>
            <a:ext cx="1457280" cy="1463760"/>
          </a:xfrm>
          <a:prstGeom prst="rect">
            <a:avLst/>
          </a:prstGeom>
          <a:ln w="0">
            <a:noFill/>
          </a:ln>
        </p:spPr>
      </p:pic>
      <p:pic>
        <p:nvPicPr>
          <p:cNvPr id="179" name="" descr=""/>
          <p:cNvPicPr/>
          <p:nvPr/>
        </p:nvPicPr>
        <p:blipFill>
          <a:blip r:embed="rId3"/>
          <a:stretch/>
        </p:blipFill>
        <p:spPr>
          <a:xfrm>
            <a:off x="1042920" y="4941720"/>
            <a:ext cx="1457280" cy="1463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858000"/>
          </a:xfrm>
          <a:prstGeom prst="rect">
            <a:avLst/>
          </a:prstGeom>
          <a:ln w="0">
            <a:noFill/>
          </a:ln>
        </p:spPr>
      </p:pic>
      <p:sp>
        <p:nvSpPr>
          <p:cNvPr id="181" name="PlaceHolder 1"/>
          <p:cNvSpPr>
            <a:spLocks noGrp="1"/>
          </p:cNvSpPr>
          <p:nvPr>
            <p:ph type="title"/>
          </p:nvPr>
        </p:nvSpPr>
        <p:spPr>
          <a:xfrm>
            <a:off x="44604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Открывающееся наставническое служение</a:t>
            </a:r>
            <a:r>
              <a:rPr b="1" lang="en-US" sz="4400" spc="-1" strike="noStrike">
                <a:solidFill>
                  <a:srgbClr val="800000"/>
                </a:solidFill>
                <a:latin typeface="Tw Cen MT Condensed Extra Bold"/>
              </a:rPr>
              <a:t> </a:t>
            </a:r>
            <a:br>
              <a:rPr sz="4400"/>
            </a:br>
            <a:endParaRPr b="0" lang="en-US" sz="4400" spc="-1" strike="noStrike">
              <a:solidFill>
                <a:srgbClr val="000000"/>
              </a:solidFill>
              <a:latin typeface="Arial"/>
            </a:endParaRPr>
          </a:p>
        </p:txBody>
      </p:sp>
      <p:sp>
        <p:nvSpPr>
          <p:cNvPr id="182" name="PlaceHolder 2"/>
          <p:cNvSpPr>
            <a:spLocks noGrp="1"/>
          </p:cNvSpPr>
          <p:nvPr>
            <p:ph/>
          </p:nvPr>
        </p:nvSpPr>
        <p:spPr>
          <a:xfrm>
            <a:off x="324000" y="171144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Если вы ощущаете пользу от ваших наставнических отношений, вы можете поделиться с другими людьми о том, какой может быть награда наставничества.</a:t>
            </a:r>
            <a:endParaRPr b="0" lang="en-US" sz="2800" spc="-1" strike="noStrike">
              <a:solidFill>
                <a:srgbClr val="000000"/>
              </a:solidFill>
              <a:latin typeface="Arial"/>
            </a:endParaRPr>
          </a:p>
        </p:txBody>
      </p:sp>
      <p:pic>
        <p:nvPicPr>
          <p:cNvPr id="183" name="" descr=""/>
          <p:cNvPicPr/>
          <p:nvPr/>
        </p:nvPicPr>
        <p:blipFill>
          <a:blip r:embed="rId2"/>
          <a:stretch/>
        </p:blipFill>
        <p:spPr>
          <a:xfrm>
            <a:off x="3419640" y="3716280"/>
            <a:ext cx="2365200" cy="2376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858000"/>
          </a:xfrm>
          <a:prstGeom prst="rect">
            <a:avLst/>
          </a:prstGeom>
          <a:ln w="0">
            <a:noFill/>
          </a:ln>
        </p:spPr>
      </p:pic>
      <p:sp>
        <p:nvSpPr>
          <p:cNvPr id="185" name="PlaceHolder 1"/>
          <p:cNvSpPr>
            <a:spLocks noGrp="1"/>
          </p:cNvSpPr>
          <p:nvPr>
            <p:ph type="title"/>
          </p:nvPr>
        </p:nvSpPr>
        <p:spPr>
          <a:xfrm>
            <a:off x="519120" y="414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9900"/>
                </a:solidFill>
                <a:latin typeface="Tw Cen MT Condensed Extra Bold"/>
              </a:rPr>
              <a:t>Ниже приведены несколько идей для начинающх наставническое служение:</a:t>
            </a:r>
            <a:endParaRPr b="0" lang="en-US" sz="3200" spc="-1" strike="noStrike">
              <a:solidFill>
                <a:srgbClr val="000000"/>
              </a:solidFill>
              <a:latin typeface="Arial"/>
            </a:endParaRPr>
          </a:p>
        </p:txBody>
      </p:sp>
      <p:sp>
        <p:nvSpPr>
          <p:cNvPr id="186" name="PlaceHolder 2"/>
          <p:cNvSpPr>
            <a:spLocks noGrp="1"/>
          </p:cNvSpPr>
          <p:nvPr>
            <p:ph/>
          </p:nvPr>
        </p:nvSpPr>
        <p:spPr>
          <a:xfrm>
            <a:off x="457200" y="1711440"/>
            <a:ext cx="8229600" cy="4525920"/>
          </a:xfrm>
          <a:prstGeom prst="rect">
            <a:avLst/>
          </a:prstGeom>
          <a:noFill/>
          <a:ln w="0">
            <a:noFill/>
          </a:ln>
        </p:spPr>
        <p:txBody>
          <a:bodyPr lIns="90000" rIns="90000" tIns="46800" bIns="46800" anchor="t">
            <a:normAutofit/>
          </a:bodyPr>
          <a:p>
            <a:pPr marL="609480" indent="-609480" algn="just">
              <a:lnSpc>
                <a:spcPct val="11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айдите слова. В вашем обращении упомяните о тех наградах, которые вы лично испытали в наставнических отношениях. Расскажите о вашем наставническом служении в церковном бюллетене.</a:t>
            </a:r>
            <a:endParaRPr b="0" lang="en-US" sz="2400" spc="-1" strike="noStrike">
              <a:solidFill>
                <a:srgbClr val="000000"/>
              </a:solidFill>
              <a:latin typeface="Arial"/>
            </a:endParaRPr>
          </a:p>
          <a:p>
            <a:pPr marL="609480" indent="-609480">
              <a:lnSpc>
                <a:spcPct val="11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Распространите информацию тем, кто заинтересован в участии. Разработайте отдельные опросники для наставника и наставляемой. </a:t>
            </a:r>
            <a:endParaRPr b="0" lang="en-US" sz="2000" spc="-1" strike="noStrike">
              <a:solidFill>
                <a:srgbClr val="000000"/>
              </a:solidFill>
              <a:latin typeface="Arial"/>
            </a:endParaRPr>
          </a:p>
          <a:p>
            <a:pPr marL="609480" indent="-609480" algn="just">
              <a:lnSpc>
                <a:spcPct val="11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Молитесь. Просите Бога, чтобы каждая женщина нашла подходящую себе наставницу. Определите схожие интересы или общие ожидания от отношений.</a:t>
            </a:r>
            <a:endParaRPr b="0" lang="en-US" sz="2000" spc="-1" strike="noStrike">
              <a:solidFill>
                <a:srgbClr val="000000"/>
              </a:solidFill>
              <a:latin typeface="Arial"/>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0"/>
            <a:ext cx="9144000" cy="6858000"/>
          </a:xfrm>
          <a:prstGeom prst="rect">
            <a:avLst/>
          </a:prstGeom>
          <a:ln w="0">
            <a:noFill/>
          </a:ln>
        </p:spPr>
      </p:pic>
      <p:sp>
        <p:nvSpPr>
          <p:cNvPr id="188" name="PlaceHolder 1"/>
          <p:cNvSpPr>
            <a:spLocks noGrp="1"/>
          </p:cNvSpPr>
          <p:nvPr>
            <p:ph/>
          </p:nvPr>
        </p:nvSpPr>
        <p:spPr>
          <a:xfrm>
            <a:off x="672840" y="692280"/>
            <a:ext cx="7931160" cy="5217840"/>
          </a:xfrm>
          <a:prstGeom prst="rect">
            <a:avLst/>
          </a:prstGeom>
          <a:noFill/>
          <a:ln w="0">
            <a:noFill/>
          </a:ln>
        </p:spPr>
        <p:txBody>
          <a:bodyPr lIns="90000" rIns="90000" tIns="46800" bIns="46800"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4. </a:t>
            </a:r>
            <a:r>
              <a:rPr b="0" i="1" lang="ru-RU" sz="2400" spc="-1" strike="noStrike">
                <a:solidFill>
                  <a:srgbClr val="000000"/>
                </a:solidFill>
                <a:latin typeface="Arial"/>
              </a:rPr>
              <a:t>Организуйте женское чаепитие или обед, где женщины могут представиться, рассказать о себе, обменяться личной информацией.</a:t>
            </a:r>
            <a:r>
              <a:rPr b="0" lang="ru-RU" sz="2400" spc="-1" strike="noStrike">
                <a:solidFill>
                  <a:srgbClr val="000000"/>
                </a:solidFill>
                <a:latin typeface="Arial"/>
              </a:rPr>
              <a:t> </a:t>
            </a:r>
            <a:endParaRPr b="0" lang="en-US" sz="2400" spc="-1" strike="noStrike">
              <a:solidFill>
                <a:srgbClr val="000000"/>
              </a:solidFill>
              <a:latin typeface="Arial"/>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5. </a:t>
            </a:r>
            <a:r>
              <a:rPr b="0" i="1" lang="ru-RU" sz="2000" spc="-1" strike="noStrike">
                <a:solidFill>
                  <a:srgbClr val="000000"/>
                </a:solidFill>
                <a:latin typeface="Arial"/>
              </a:rPr>
              <a:t>Заканчивайте молитвой. Пусть женщины помолятся вместе и друг о друге. Делитесь в молитве просьбами и благословениями.</a:t>
            </a:r>
            <a:endParaRPr b="0" lang="en-US" sz="2000" spc="-1" strike="noStrike">
              <a:solidFill>
                <a:srgbClr val="000000"/>
              </a:solidFill>
              <a:latin typeface="Arial"/>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6. </a:t>
            </a:r>
            <a:r>
              <a:rPr b="0" i="1" lang="ru-RU" sz="2000" spc="-1" strike="noStrike">
                <a:solidFill>
                  <a:srgbClr val="000000"/>
                </a:solidFill>
                <a:latin typeface="Arial"/>
              </a:rPr>
              <a:t>Через шесть месяцев организуйте другой совместный обед или вечеринку для всех женщин, задействованных в наставнических отношениях. Подобная встреча будет полезной возможностью для них поделится свидетельством, благословениями и историями.</a:t>
            </a:r>
            <a:endParaRPr b="0" lang="en-US" sz="2000" spc="-1" strike="noStrike">
              <a:solidFill>
                <a:srgbClr val="000000"/>
              </a:solidFill>
              <a:latin typeface="Arial"/>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9" name="" descr=""/>
          <p:cNvPicPr/>
          <p:nvPr/>
        </p:nvPicPr>
        <p:blipFill>
          <a:blip r:embed="rId2"/>
          <a:stretch/>
        </p:blipFill>
        <p:spPr>
          <a:xfrm>
            <a:off x="7380360" y="5300640"/>
            <a:ext cx="1081080" cy="1081080"/>
          </a:xfrm>
          <a:prstGeom prst="rect">
            <a:avLst/>
          </a:prstGeom>
          <a:ln w="0">
            <a:noFill/>
          </a:ln>
        </p:spPr>
      </p:pic>
      <p:pic>
        <p:nvPicPr>
          <p:cNvPr id="190" name="" descr=""/>
          <p:cNvPicPr/>
          <p:nvPr/>
        </p:nvPicPr>
        <p:blipFill>
          <a:blip r:embed="rId3"/>
          <a:stretch/>
        </p:blipFill>
        <p:spPr>
          <a:xfrm>
            <a:off x="6012000" y="5300640"/>
            <a:ext cx="1081080" cy="1081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pic>
        <p:nvPicPr>
          <p:cNvPr id="192" name="" descr=""/>
          <p:cNvPicPr/>
          <p:nvPr/>
        </p:nvPicPr>
        <p:blipFill>
          <a:blip r:embed="rId2"/>
          <a:stretch/>
        </p:blipFill>
        <p:spPr>
          <a:xfrm>
            <a:off x="5867280" y="3645000"/>
            <a:ext cx="2665440" cy="2665440"/>
          </a:xfrm>
          <a:prstGeom prst="rect">
            <a:avLst/>
          </a:prstGeom>
          <a:ln w="0">
            <a:noFill/>
          </a:ln>
        </p:spPr>
      </p:pic>
      <p:sp>
        <p:nvSpPr>
          <p:cNvPr id="193" name="PlaceHolder 1"/>
          <p:cNvSpPr>
            <a:spLocks noGrp="1"/>
          </p:cNvSpPr>
          <p:nvPr>
            <p:ph/>
          </p:nvPr>
        </p:nvSpPr>
        <p:spPr>
          <a:xfrm>
            <a:off x="394920" y="731880"/>
            <a:ext cx="7343640" cy="3921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ru-RU" sz="2000" spc="-1" strike="noStrike">
                <a:solidFill>
                  <a:srgbClr val="000000"/>
                </a:solidFill>
                <a:latin typeface="Arial"/>
              </a:rPr>
              <a:t>Елена Уайт говорит: Для того чтобы работа могла продвигаться вперед во всех направлениях, Богу нужны энергия, рвение и мужество молодых. Он избрал молодежь содействовать в продвижении Его дела. Чтобы с ясным умом строить планы и осуществлять их отважной рукой, необходимы свежие, нерастраченные силы. Бог приглашает юношей и девушек отдать Ему энергию своей молодости, чтобы, используя свои силы, острый ум и решительность в действиях, они несли славу Богу и спасение своим ближним, Служители Евангелия, стр. ориг. 6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611280" y="631800"/>
            <a:ext cx="4968720" cy="4525920"/>
          </a:xfrm>
          <a:prstGeom prst="rect">
            <a:avLst/>
          </a:prstGeom>
          <a:noFill/>
          <a:ln w="0">
            <a:noFill/>
          </a:ln>
        </p:spPr>
        <p:txBody>
          <a:bodyPr lIns="90000" rIns="90000" tIns="46800" bIns="46800" anchor="t">
            <a:normAutofit fontScale="91000"/>
          </a:bodyPr>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мните, что любые наставнические отношения это особые отношения – это шаг навстречу дружбе. Они потребуют от вас Времени, Сердечных порывов и Опыта. «Железо железо острит, и человек изощряет взгляд другого» Пр. 27:17. Вам необходимо проявить Интерес, Принятие и Веру. «То есть утешиться с вами верою общею, вашею и моею», Рим. 1:12.</a:t>
            </a:r>
            <a:endParaRPr b="0" lang="en-US" sz="2400" spc="-1" strike="noStrike">
              <a:solidFill>
                <a:srgbClr val="000000"/>
              </a:solidFill>
              <a:latin typeface="Arial"/>
            </a:endParaRPr>
          </a:p>
        </p:txBody>
      </p:sp>
      <p:pic>
        <p:nvPicPr>
          <p:cNvPr id="62" name="" descr=""/>
          <p:cNvPicPr/>
          <p:nvPr/>
        </p:nvPicPr>
        <p:blipFill>
          <a:blip r:embed="rId2"/>
          <a:stretch/>
        </p:blipFill>
        <p:spPr>
          <a:xfrm>
            <a:off x="5867280" y="3718080"/>
            <a:ext cx="2664000" cy="2663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6" name="" descr=""/>
          <p:cNvPicPr/>
          <p:nvPr/>
        </p:nvPicPr>
        <p:blipFill>
          <a:blip r:embed="rId1"/>
          <a:stretch/>
        </p:blipFill>
        <p:spPr>
          <a:xfrm>
            <a:off x="0" y="0"/>
            <a:ext cx="9144000" cy="6858000"/>
          </a:xfrm>
          <a:prstGeom prst="rect">
            <a:avLst/>
          </a:prstGeom>
          <a:ln w="0">
            <a:noFill/>
          </a:ln>
        </p:spPr>
      </p:pic>
      <p:pic>
        <p:nvPicPr>
          <p:cNvPr id="197" name="" descr=""/>
          <p:cNvPicPr/>
          <p:nvPr/>
        </p:nvPicPr>
        <p:blipFill>
          <a:blip r:embed="rId2"/>
          <a:stretch/>
        </p:blipFill>
        <p:spPr>
          <a:xfrm>
            <a:off x="755640" y="620640"/>
            <a:ext cx="5533920" cy="5533920"/>
          </a:xfrm>
          <a:prstGeom prst="rect">
            <a:avLst/>
          </a:prstGeom>
          <a:ln w="0">
            <a:noFill/>
          </a:ln>
        </p:spPr>
      </p:pic>
      <p:sp>
        <p:nvSpPr>
          <p:cNvPr id="198" name=""/>
          <p:cNvSpPr/>
          <p:nvPr/>
        </p:nvSpPr>
        <p:spPr>
          <a:xfrm>
            <a:off x="4427640" y="404640"/>
            <a:ext cx="4171680" cy="3895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Да благословит вас Господь</a:t>
            </a:r>
            <a:r>
              <a:rPr b="0" i="1" lang="en-US" sz="3200" spc="-1" strike="noStrike">
                <a:solidFill>
                  <a:srgbClr val="000000"/>
                </a:solidFill>
                <a:latin typeface="Arial"/>
              </a:rPr>
              <a:t> </a:t>
            </a:r>
            <a:r>
              <a:rPr b="0" i="1" lang="ru-RU" sz="3200" spc="-1" strike="noStrike">
                <a:solidFill>
                  <a:srgbClr val="000000"/>
                </a:solidFill>
                <a:latin typeface="Arial"/>
              </a:rPr>
              <a:t>в служении наставничества возрастания во Христе молодых женщи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446040" y="1125000"/>
            <a:ext cx="8229600" cy="4526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Некоторые женщины могут легко довериться Богу. Другим же необходимо, чтобы Бог использовал других людей, чтобы поддержать этих женщин.</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65" name="" descr=""/>
          <p:cNvPicPr/>
          <p:nvPr/>
        </p:nvPicPr>
        <p:blipFill>
          <a:blip r:embed="rId2"/>
          <a:stretch/>
        </p:blipFill>
        <p:spPr>
          <a:xfrm>
            <a:off x="3419640" y="3573360"/>
            <a:ext cx="2734920" cy="273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446040" y="113328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9900"/>
                </a:solidFill>
                <a:latin typeface="Tw Cen MT Condensed Extra Bold"/>
              </a:rPr>
              <a:t>Жизнь после 20</a:t>
            </a:r>
            <a:endParaRPr b="0" lang="en-US" sz="4800" spc="-1" strike="noStrike">
              <a:solidFill>
                <a:srgbClr val="000000"/>
              </a:solidFill>
              <a:latin typeface="Arial"/>
            </a:endParaRPr>
          </a:p>
        </p:txBody>
      </p:sp>
      <p:sp>
        <p:nvSpPr>
          <p:cNvPr id="68" name="PlaceHolder 2"/>
          <p:cNvSpPr>
            <a:spLocks noGrp="1"/>
          </p:cNvSpPr>
          <p:nvPr>
            <p:ph/>
          </p:nvPr>
        </p:nvSpPr>
        <p:spPr>
          <a:xfrm>
            <a:off x="610920" y="1600200"/>
            <a:ext cx="5329080" cy="4525920"/>
          </a:xfrm>
          <a:prstGeom prst="rect">
            <a:avLst/>
          </a:prstGeom>
          <a:noFill/>
          <a:ln w="0">
            <a:noFill/>
          </a:ln>
        </p:spPr>
        <p:txBody>
          <a:bodyPr lIns="90000" rIns="90000" tIns="46800" bIns="46800" anchor="t">
            <a:normAutofit/>
          </a:bodyPr>
          <a:p>
            <a:pPr marL="343080" indent="-343080" algn="just">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Большинство молодых людей старше 20 лет только начинают жить самостоятельно. Они, возможно, только начинают работать, заканчивают школу, вступают в брак, становятся матерями. Они пытаются состояться в жизни.</a:t>
            </a:r>
            <a:endParaRPr b="0" lang="en-US" sz="2400" spc="-1" strike="noStrike">
              <a:solidFill>
                <a:srgbClr val="000000"/>
              </a:solidFill>
              <a:latin typeface="Arial"/>
            </a:endParaRPr>
          </a:p>
        </p:txBody>
      </p:sp>
      <p:pic>
        <p:nvPicPr>
          <p:cNvPr id="69" name="" descr=""/>
          <p:cNvPicPr/>
          <p:nvPr/>
        </p:nvPicPr>
        <p:blipFill>
          <a:blip r:embed="rId2"/>
          <a:stretch/>
        </p:blipFill>
        <p:spPr>
          <a:xfrm>
            <a:off x="5796000" y="3573360"/>
            <a:ext cx="2735280" cy="273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24000" y="1066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9900"/>
                </a:solidFill>
                <a:latin typeface="Tw Cen MT Condensed Extra Bold"/>
              </a:rPr>
              <a:t>Изменение и выбор</a:t>
            </a:r>
            <a:r>
              <a:rPr b="1" lang="en-US" sz="4800" spc="-1" strike="noStrike">
                <a:solidFill>
                  <a:srgbClr val="009900"/>
                </a:solidFill>
                <a:latin typeface="Tw Cen MT Condensed Extra Bold"/>
              </a:rPr>
              <a:t> </a:t>
            </a:r>
            <a:br>
              <a:rPr sz="4800"/>
            </a:br>
            <a:endParaRPr b="0" lang="en-US" sz="4800" spc="-1" strike="noStrike">
              <a:solidFill>
                <a:srgbClr val="000000"/>
              </a:solidFill>
              <a:latin typeface="Arial"/>
            </a:endParaRPr>
          </a:p>
        </p:txBody>
      </p:sp>
      <p:sp>
        <p:nvSpPr>
          <p:cNvPr id="72" name="PlaceHolder 2"/>
          <p:cNvSpPr>
            <a:spLocks noGrp="1"/>
          </p:cNvSpPr>
          <p:nvPr>
            <p:ph/>
          </p:nvPr>
        </p:nvSpPr>
        <p:spPr>
          <a:xfrm>
            <a:off x="610920" y="1916280"/>
            <a:ext cx="5832360" cy="45259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Молодые женщины, возможно, быстро ориентируются в мире технологий.</a:t>
            </a:r>
            <a:endParaRPr b="0" lang="en-US" sz="24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ни могут часто менять работу.</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ни могут испытывать финансовые трудности.</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Некоторые молодые люди женятся сразу после окончания колледжа.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Что происходит, когда молодой человек соглашается на работу, которая потребует, чтобы он уехал из родного города, от родителей, семьи и друзей?</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 descr=""/>
          <p:cNvPicPr/>
          <p:nvPr/>
        </p:nvPicPr>
        <p:blipFill>
          <a:blip r:embed="rId2"/>
          <a:stretch/>
        </p:blipFill>
        <p:spPr>
          <a:xfrm>
            <a:off x="6372360" y="2421000"/>
            <a:ext cx="2160360" cy="216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457200" y="1666800"/>
            <a:ext cx="8229600" cy="4641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ногие молодые женщины ищут Христа, но они не выросли в христианских семьях. Родители некоторых девушек, возможно, посещали Церковь, но не жили христианской жизнью. Эти женщины не знают, что значит быть Божьей женщиной, матерью или женой.</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 – молодые люди очень нуждаются в наставнике, который сможет помочь в жизненно важных вопросах профессиональной карьеры, финансового положения, воспитания детей и замужества. Им нужен тот, кто может направлять к духовности и помогать приближаться к Иисусу Христу, вместо того, чтобы удаляться от Него. </a:t>
            </a:r>
            <a:endParaRPr b="0" lang="en-US" sz="2400" spc="-1" strike="noStrike">
              <a:solidFill>
                <a:srgbClr val="000000"/>
              </a:solidFill>
              <a:latin typeface="Arial"/>
            </a:endParaRPr>
          </a:p>
        </p:txBody>
      </p:sp>
      <p:sp>
        <p:nvSpPr>
          <p:cNvPr id="76" name=""/>
          <p:cNvSpPr/>
          <p:nvPr/>
        </p:nvSpPr>
        <p:spPr>
          <a:xfrm>
            <a:off x="957240" y="639720"/>
            <a:ext cx="6135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9900"/>
                </a:solidFill>
                <a:latin typeface="Tw Cen MT Condensed Extra Bold"/>
              </a:rPr>
              <a:t>Нужен наставни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TO BEGIN (OH-8)</a:t>
            </a:r>
            <a:endParaRPr b="0" lang="en-US" sz="3200" spc="-1" strike="noStrike">
              <a:solidFill>
                <a:srgbClr val="000000"/>
              </a:solidFill>
              <a:latin typeface="Arial"/>
            </a:endParaRPr>
          </a:p>
        </p:txBody>
      </p:sp>
      <p:pic>
        <p:nvPicPr>
          <p:cNvPr id="79" name="" descr=""/>
          <p:cNvPicPr/>
          <p:nvPr/>
        </p:nvPicPr>
        <p:blipFill>
          <a:blip r:embed="rId2"/>
          <a:stretch/>
        </p:blipFill>
        <p:spPr>
          <a:xfrm>
            <a:off x="539640" y="404640"/>
            <a:ext cx="8064720" cy="6048720"/>
          </a:xfrm>
          <a:prstGeom prst="rect">
            <a:avLst/>
          </a:prstGeom>
          <a:ln w="76320">
            <a:solidFill>
              <a:srgbClr val="ffffff"/>
            </a:solidFill>
            <a:miter/>
          </a:ln>
        </p:spPr>
      </p:pic>
      <p:sp>
        <p:nvSpPr>
          <p:cNvPr id="80" name=""/>
          <p:cNvSpPr/>
          <p:nvPr/>
        </p:nvSpPr>
        <p:spPr>
          <a:xfrm>
            <a:off x="1116000" y="907920"/>
            <a:ext cx="6489720" cy="2408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w Cen MT Condensed Extra Bold"/>
              </a:rPr>
              <a:t>С чего начать</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5T16:06:05Z</dcterms:created>
  <dc:creator>ArraisR</dc:creator>
  <dc:description/>
  <dc:language>en-US</dc:language>
  <cp:lastModifiedBy>Irina Romashkina</cp:lastModifiedBy>
  <dcterms:modified xsi:type="dcterms:W3CDTF">2008-01-14T16:25:00Z</dcterms:modified>
  <cp:revision>24</cp:revision>
  <dc:subject/>
  <dc:title>Leadership Mentoring For the 21 Century Woman </dc:title>
</cp:coreProperties>
</file>