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D61B80F-8E9D-4338-923A-B4E6BC0853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2131920" y="476280"/>
            <a:ext cx="2894040" cy="2170080"/>
          </a:xfrm>
          <a:prstGeom prst="rect">
            <a:avLst/>
          </a:prstGeom>
          <a:ln w="0">
            <a:noFill/>
          </a:ln>
        </p:spPr>
      </p:sp>
      <p:sp>
        <p:nvSpPr>
          <p:cNvPr id="218"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ЖЕНЩИЩНЫ-РУКОВОДИТЕ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иль управления Альфа, который базируется на мужском диктаторском использовании власти очень широко известен во всем мире. К сожалению, мы очень редко слышим о стиле управления Бета, который основывается на женском дружелюбном использовании власти. Фактически во многих организациях по всему миру женщины не представлены в управлении и управленческой роли наравне в мужчинами. Такими организациями являются церкви и другие компании, которые зависят во многом от финансовых, духовных и физических ресурс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лишком многие организации недостаточно осознают, диагностируют или привлекают энергию и таланты женщин. Некоторые до сих пор препятствуют и активно запрещают женщинам занимать руководящие позиции, не смотря на то, что женщины являются самым быстро растущим сегментом владельцев бизнеса не только в Америке, но также и во всем мире.</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336760" y="401760"/>
            <a:ext cx="2114640" cy="1585800"/>
          </a:xfrm>
          <a:prstGeom prst="rect">
            <a:avLst/>
          </a:prstGeom>
          <a:ln w="0">
            <a:noFill/>
          </a:ln>
        </p:spPr>
      </p:sp>
      <p:sp>
        <p:nvSpPr>
          <p:cNvPr id="236" name="PlaceHolder 2"/>
          <p:cNvSpPr>
            <a:spLocks noGrp="1"/>
          </p:cNvSpPr>
          <p:nvPr>
            <p:ph type="body"/>
          </p:nvPr>
        </p:nvSpPr>
        <p:spPr>
          <a:xfrm>
            <a:off x="487440" y="2085840"/>
            <a:ext cx="6108480" cy="5780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едставьте себе, что психологические последствия хороших взаимоотношений с другими людьми имеют больше силы в профилактике смертельных исходов, чем бета-адреноблокираторы. Чтобы быть здоровым, особенно для руководителей, необходимо иметь хорошие взаимоотношения с другими людьми, а не жить в изоля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много лет назад говорила, что «хорошие дела приносят пользу как принимающему, так и дающему» (6). Доктор Шелдон Сохен и его коллеги из университета Карнеги-Меллон и университета Питбурга провели очень интересное исследование о том, как социальные связи и хорошие взаимоотношения с другими людьми помогают защищать организм человека от инфекционных заболеваний. Были опрошены 276 добровольцев в возрасте от 18 до 55 лет. Эти добровольцы получили назальные капли, сдерживающие вирус группа, который порождает обычную простуду. За обследование испытуемые получили денежное вознагражд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тем исследователи диагностировали участников по 12 типам социальных взаимоотношений, которые включают в себя: взаимоотношения с супругом, родителями, родителями супругов, детьми, другими близкими членами семьи, близкими соседями, друзьями, коллегами, одноклассниками, добровольцами по благотворительности или церковной работе, членами групп без религиозного самоопределения – социальных, развлекательных или профессиональных, - и членами религиозных групп. Участникам независимо от того, участвовали ли в обследовании они лично или по телефону, был задан только один вопрос: общались ли они хоть с одним человеком из каждой группы, по крайней мере, один раз в две недели. Каждая категория оценивалась по 12 бальной шкале. Также подсчитывалось количество людей, с которыми они общались каждые две неде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чти все обследуемые, которые принимали риновирус, были инфицированы, но не у каждого из них развивались признаки и симптомы простуды. Количество социальных взаимоотношений играло важную роль в профилактике людей, которые были инфицированы и заболели простуд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е, у кого были определены всего лишь 1-3 вида взаимоотношений в четыре раза больше обладали риском заболевания простудными заболеваниями, чем те, которые говорили о шести или более различных видах взаимоотношений. Эти различия объясняются не только уровнем антител, употреблением табака, физическими упражнениями, количеством времени сна, употреблением спиртных напитков, витамина С или другими различными фактора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дополнении исследователи открыли, что разнообразие взаимоотношений является более важным, чем общее количество людей, с которыми обследуемые общались раз в две недели. Короче говоря, те, кто вовлечен в самые разнообразные поддерживающие взаимоотношения с различными людьми, увеличивали свое сопротивление развитию простуды, даже когда у них был инфицирован риновирус (7).</a:t>
            </a:r>
            <a:br>
              <a:rPr sz="1200"/>
            </a:b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305080" y="401760"/>
            <a:ext cx="2601720" cy="1950840"/>
          </a:xfrm>
          <a:prstGeom prst="rect">
            <a:avLst/>
          </a:prstGeom>
          <a:ln w="0">
            <a:noFill/>
          </a:ln>
        </p:spPr>
      </p:sp>
      <p:sp>
        <p:nvSpPr>
          <p:cNvPr id="238" name="PlaceHolder 2"/>
          <p:cNvSpPr>
            <a:spLocks noGrp="1"/>
          </p:cNvSpPr>
          <p:nvPr>
            <p:ph type="body"/>
          </p:nvPr>
        </p:nvSpPr>
        <p:spPr>
          <a:xfrm>
            <a:off x="707760" y="2451240"/>
            <a:ext cx="5607000" cy="5929200"/>
          </a:xfrm>
          <a:prstGeom prst="rect">
            <a:avLst/>
          </a:prstGeom>
          <a:noFill/>
          <a:ln w="0">
            <a:noFill/>
          </a:ln>
        </p:spPr>
        <p:txBody>
          <a:bodyPr lIns="93240" rIns="93240" tIns="46440" bIns="4644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Хотите ли вы быть не только успешным, а также и здоровым руководителем? Вам необходимо иметь хорошие взаимоотношения со всеми, включая тех, кто, возможно, обладают отличающимися от ваших личностными и профессиональным характеристиками, а не только с парочкой ваших любимчиков.</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097000" y="328680"/>
            <a:ext cx="2503440" cy="1878120"/>
          </a:xfrm>
          <a:prstGeom prst="rect">
            <a:avLst/>
          </a:prstGeom>
          <a:ln w="0">
            <a:noFill/>
          </a:ln>
        </p:spPr>
      </p:sp>
      <p:sp>
        <p:nvSpPr>
          <p:cNvPr id="240" name="PlaceHolder 2"/>
          <p:cNvSpPr>
            <a:spLocks noGrp="1"/>
          </p:cNvSpPr>
          <p:nvPr>
            <p:ph type="body"/>
          </p:nvPr>
        </p:nvSpPr>
        <p:spPr>
          <a:xfrm>
            <a:off x="701280" y="2306520"/>
            <a:ext cx="5607000" cy="62928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ИБЛЕЙСКИЕ ПРИНЦИПЫ ВЗАИМООТНОШ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иблия это книга взаимоотношений. От книги Бытие до книги Откровение Библия говорит о взаимоотношениях Бога с людьми. Следовательно, как для христиан-руководителей для нас очень важно искать библейские принципы взаимоотношений.</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379600" y="549360"/>
            <a:ext cx="2309760" cy="1731960"/>
          </a:xfrm>
          <a:prstGeom prst="rect">
            <a:avLst/>
          </a:prstGeom>
          <a:ln w="0">
            <a:noFill/>
          </a:ln>
        </p:spPr>
      </p:sp>
      <p:sp>
        <p:nvSpPr>
          <p:cNvPr id="242" name="PlaceHolder 2"/>
          <p:cNvSpPr>
            <a:spLocks noGrp="1"/>
          </p:cNvSpPr>
          <p:nvPr>
            <p:ph type="body"/>
          </p:nvPr>
        </p:nvSpPr>
        <p:spPr>
          <a:xfrm>
            <a:off x="701280" y="2379240"/>
            <a:ext cx="5607000" cy="621972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Следовать за Христом</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екрет успешных взаимоотношений можно найти в книге апостола Петра: Ибо вы к тому призваны, потому что и Христос пострадал за нас, оставив нам пример, дабы мы шли по следам Его... 1 Петра 2:2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ще задолго до того, как современные психологи наводнили рынок книгами о влияющем поведении, Иисус Христос показал правила поведения и пример хорошего руководителя. Его пример служит богатым наследием в области личных взаимоотношений для последователей Иисуса Христа.</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031840" y="549360"/>
            <a:ext cx="2503800" cy="1877760"/>
          </a:xfrm>
          <a:prstGeom prst="rect">
            <a:avLst/>
          </a:prstGeom>
          <a:ln w="0">
            <a:noFill/>
          </a:ln>
        </p:spPr>
      </p:sp>
      <p:sp>
        <p:nvSpPr>
          <p:cNvPr id="244" name="PlaceHolder 2"/>
          <p:cNvSpPr>
            <a:spLocks noGrp="1"/>
          </p:cNvSpPr>
          <p:nvPr>
            <p:ph type="body"/>
          </p:nvPr>
        </p:nvSpPr>
        <p:spPr>
          <a:xfrm>
            <a:off x="701280" y="2525400"/>
            <a:ext cx="5607000" cy="60735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ему мы можем научиться у Христа?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А. Иисус очень хорошо осознавал интересы и нужды люде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исус Христос показал нам пример как приобретать людей для Царствия Небесного. Когда Его апостолы говорили о нуждах толпы голодных людей, Он сказал: Я проникся сердцем к этим людям. Они были со мной три дня, и теперь у них нет еды. Я не хочу отправлять людей домой без пропитания, чтобы они не умерли по дороге, Мтф. 5:32. Христос чувствовал физическое страдание людей. Христос выражал Свои чувства симпатии, Он отвечал на нужды людей. Он давал им надежду и радость, и трудности отходили от них. Они  продолжительное время были в обществе Иисуса Христа, и Он всячески показывал, что ценит их.</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спешные руководители должны следовать примеру Иисуса Христа, проявляя интерес к нуждам людей. Елена Уайт отмечает: Всякий, кто проповедует Слово Божье и кто принял Евангелие Его благодати, должен следовать примеру Христа, Которому были близки нужды человечества (8).</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мы полностью последуем примеру Иисуса Христа, мы будем проявлять большой интерес к тем, кто окружает нас. Такие действия принесут большую пользу как  для приобретения душ, так и для построения рабочих отношений.</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019240" y="914400"/>
            <a:ext cx="2603520" cy="1952640"/>
          </a:xfrm>
          <a:prstGeom prst="rect">
            <a:avLst/>
          </a:prstGeom>
          <a:ln w="0">
            <a:noFill/>
          </a:ln>
        </p:spPr>
      </p:sp>
      <p:sp>
        <p:nvSpPr>
          <p:cNvPr id="246" name="PlaceHolder 2"/>
          <p:cNvSpPr>
            <a:spLocks noGrp="1"/>
          </p:cNvSpPr>
          <p:nvPr>
            <p:ph type="body"/>
          </p:nvPr>
        </p:nvSpPr>
        <p:spPr>
          <a:xfrm>
            <a:off x="701280" y="2965320"/>
            <a:ext cx="5607000" cy="563400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 Иисус Христос старался не обижать людей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исус проявил этот принцип, когда Он обсуждал оплату налогов с Петром. Христос сказал: чтобы нам не соблазнить их, пойди на море, брось уду, и первую рыбу, которая попадется, возьми, и, открыв у ней рот, найдешь статир; возьми его и отдай им за Меня и за себя. Елена Уайт говорила: мягкий, кроткий и деликатный в обхождении, Иисус старался нести радость всем, с кем Ему приходилось общаться (9).</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ледуя примеру Иисуса Христа, Елена Уайт также предлагает всем руководителям: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 платите за обиду той же монетой. Настолько, насколько это возможно с вашей стороны, устраните все  причины недоразумений. Опасайтесь проникновения зла в вашу жизнь. Делайте все возможное, чтобы жить в мире с ближними, не принося при этом в жертву принципы (10).</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ши взаимоотношения с другими людьми могут быть более сплоченными, если мы «устраним случаи недоразумения». Это важный принцип, данный нам Христом.</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171880" y="914400"/>
            <a:ext cx="2503440" cy="1878120"/>
          </a:xfrm>
          <a:prstGeom prst="rect">
            <a:avLst/>
          </a:prstGeom>
          <a:ln w="0">
            <a:noFill/>
          </a:ln>
        </p:spPr>
      </p:sp>
      <p:sp>
        <p:nvSpPr>
          <p:cNvPr id="248"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Иисус Христос притягивал людей своей дружелюбностью</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гда Иисус встретил богатого юношу, который хотел попасть в Его Царство, Библия говорит, что Иисус, взглянув на него, полюбил его и сказал ему: одного тебе недостает: пойди, всё, что имеешь, продай и раздай нищим, и будешь иметь сокровище на небесах; и приходи, последуй за Мною, взяв крест, Мк. 10:21. Иисус привлекал мужчин своей дружелюбностью. Поэтому для того, чтобы быть успешным руководителем как Иисус Христос необходимо быть очень дружелюбным к другим людям.</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263680" y="476280"/>
            <a:ext cx="2406600" cy="1805040"/>
          </a:xfrm>
          <a:prstGeom prst="rect">
            <a:avLst/>
          </a:prstGeom>
          <a:ln w="0">
            <a:noFill/>
          </a:ln>
        </p:spPr>
      </p:sp>
      <p:sp>
        <p:nvSpPr>
          <p:cNvPr id="250" name="PlaceHolder 2"/>
          <p:cNvSpPr>
            <a:spLocks noGrp="1"/>
          </p:cNvSpPr>
          <p:nvPr>
            <p:ph type="body"/>
          </p:nvPr>
        </p:nvSpPr>
        <p:spPr>
          <a:xfrm>
            <a:off x="480600" y="2379240"/>
            <a:ext cx="5607000" cy="600084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 Иисус Христос принимал чувства других людей</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пишет: Смотрите на Иисуса Христа как вашего руководителя и образец…. Исследуйте себя, насколько вы можете быть подобным Ему в чувствовании других людей… Таким образом, вы можете возрастать в Нем во всех сферах, вы можете отражать Его образ и быть принятыми Им Своими в Его славное пришествие (11).</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зучая жизнь Иисуса Христа, вы научитесь кормить людей, когда они голодны. Он позволил апостолам отдыхать, когда они устали. Когда они были разочарованы, Христос поддерживал их, и когда они страдали, Он говорил им словам поддержки. В каждой нужде Творец принимал чувства Своих помощников. Он никогда не грубил, никогда не говорил ненужных слов, никогда не причинял ненужную боль чувствительным душам (12).</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нтересен тот факт, что слова одобрения, похожие на те слова, которые произносил Христос, влияют на здоровье позитивно. Доктор Джанис Киеколт-Гласер и доктор Рональд Гласер в своем докладе на четвертом международном конгрессе по медицине поведения указывают на взаимосвязь добрых слов и иммунной системы человека. В одном исследовании они диагностировали пары, которые были женаты более сорока двух лет, при этом постоянно ругались и говорили недобрые слова вместо слов поддержки. У этих ругающихся пар диагностирована слабая иммунная система. Казалось бы, влияние негативных чувств должно уменьшаться, потому что эти пары проходили через разочарование множество раз. Однако, этого не происходит</a:t>
            </a:r>
            <a:r>
              <a:rPr b="1" lang="en-US" sz="1200" spc="-1" strike="noStrike">
                <a:solidFill>
                  <a:srgbClr val="000000"/>
                </a:solidFill>
                <a:latin typeface="Arial"/>
              </a:rPr>
              <a:t> </a:t>
            </a:r>
            <a:r>
              <a:rPr b="1" lang="ru-RU" sz="1200" spc="-1" strike="noStrike">
                <a:solidFill>
                  <a:srgbClr val="000000"/>
                </a:solidFill>
                <a:latin typeface="Arial"/>
              </a:rPr>
              <a:t>(</a:t>
            </a:r>
            <a:r>
              <a:rPr b="1" lang="en-US" sz="1200" spc="-1" strike="noStrike">
                <a:solidFill>
                  <a:srgbClr val="000000"/>
                </a:solidFill>
                <a:latin typeface="Arial"/>
              </a:rPr>
              <a:t>13</a:t>
            </a:r>
            <a:r>
              <a:rPr b="1" lang="ru-RU" sz="1200" spc="-1" strike="noStrike">
                <a:solidFill>
                  <a:srgbClr val="000000"/>
                </a:solidFill>
                <a:latin typeface="Arial"/>
              </a:rPr>
              <a:t>).</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акже они обследовали девяносто только что зарегистрированных пар, которые находились под наблюдение двадцать четыре часа. Некоторые супруги говорили: Хм…. Я не знаю вас, но я уверен, что не желаю проводить медовый месяц, находясь под вашим обследованием в больнице… Вот что они установили в исследовании: те, кто проявляли более негативные или враждебные манеры поведения на протяжении тридцати минутной дискуссии о супружеских проблемах, показывали ослабление иммунной системы.</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ругими словами, иммунная система одного человека мене эффективна, когда он находится в конфликте или в соперничестве со своим супругом, даже когда он молодожен и внешне счастлив. Вместо того, чтобы защищать, любить и поддерживать, особенно удручает тот факт, что супруг/-а является источником конфликта. У женщин диагностированы более негативные иммунологические изменения, чем у мужчин. Также пары, у которых диагностированы негативные отношения, показывают низкое кровяное давление, если ранее оно было у них высоким (14). Результаты данного исследования можно применить к каждому, включая руководителей.</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187720" y="476280"/>
            <a:ext cx="2698560" cy="2023920"/>
          </a:xfrm>
          <a:prstGeom prst="rect">
            <a:avLst/>
          </a:prstGeom>
          <a:ln w="0">
            <a:noFill/>
          </a:ln>
        </p:spPr>
      </p:sp>
      <p:sp>
        <p:nvSpPr>
          <p:cNvPr id="252" name="PlaceHolder 2"/>
          <p:cNvSpPr>
            <a:spLocks noGrp="1"/>
          </p:cNvSpPr>
          <p:nvPr>
            <p:ph type="body"/>
          </p:nvPr>
        </p:nvSpPr>
        <p:spPr>
          <a:xfrm>
            <a:off x="701280" y="2598840"/>
            <a:ext cx="5607000" cy="5852880"/>
          </a:xfrm>
          <a:prstGeom prst="rect">
            <a:avLst/>
          </a:prstGeom>
          <a:noFill/>
          <a:ln w="0">
            <a:noFill/>
          </a:ln>
        </p:spPr>
        <p:txBody>
          <a:bodyPr lIns="93240" rIns="9324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ругими словами, иммунная система одного человека мене эффективна, когда он находится в конфликте или в соперничестве со своим супругом, даже когда он молодожен и внешне счастлив. Вместо того, чтобы защищать, любить и поддерживать, особенно удручает тот факт, что супруг/-а является источником конфликта. У женщин диагностированы более негативные иммунологические изменения, чем у мужчин. Также пары, у которых диагностированы негативные отношения, показывают низкое кровяное давление, если ранее оно было у них высоким (14). Результаты данного исследования можно применить к каждому, включая руководителей.</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327400" y="401760"/>
            <a:ext cx="2501640" cy="1876320"/>
          </a:xfrm>
          <a:prstGeom prst="rect">
            <a:avLst/>
          </a:prstGeom>
          <a:ln w="0">
            <a:noFill/>
          </a:ln>
        </p:spPr>
      </p:sp>
      <p:sp>
        <p:nvSpPr>
          <p:cNvPr id="254" name="PlaceHolder 2"/>
          <p:cNvSpPr>
            <a:spLocks noGrp="1"/>
          </p:cNvSpPr>
          <p:nvPr>
            <p:ph type="body"/>
          </p:nvPr>
        </p:nvSpPr>
        <p:spPr>
          <a:xfrm>
            <a:off x="701280" y="2306520"/>
            <a:ext cx="5607000" cy="541512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 Следуйте Слову Божьему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А. Следуйте Золотому правил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 Золотого правила хорошо известен всем нам. И как хотите, чтобы с вами поступали люди, так и вы поступайте с ними, Лк. 6:31. Для того, чтобы руководители были успешными, они должны проявлять конфиденциальность и поддержку людям. Руководители должны быть способными вдохновлять и ободрять тех, кто им служит. Золотое правило очень важно в проявлении конфиденциальности и поддержки. Елена Уайт приглашает нас практиковать золотое правило, когда она говорит: используйте любую возможность, чтобы распространять атмосферу благополучия вокруг вас, выражайте свои теплые чувства. Слова доброты, взгляд симпатии, выражение одобрения для многих страдающих и одиноких как чашка холодной воды для жаждущей души. Слово ободрения, действие доброты могут облегчить бремя изнуренным</a:t>
            </a:r>
            <a:r>
              <a:rPr b="0" lang="en-US" sz="1200" spc="-1" strike="noStrike">
                <a:solidFill>
                  <a:srgbClr val="000000"/>
                </a:solidFill>
                <a:latin typeface="Arial"/>
              </a:rPr>
              <a:t> </a:t>
            </a:r>
            <a:r>
              <a:rPr b="1" lang="ru-RU" sz="1200" spc="-1" strike="noStrike">
                <a:solidFill>
                  <a:srgbClr val="000000"/>
                </a:solidFill>
                <a:latin typeface="Arial"/>
              </a:rPr>
              <a:t>(</a:t>
            </a:r>
            <a:r>
              <a:rPr b="1" lang="en-US" sz="1200" spc="-1" strike="noStrike">
                <a:solidFill>
                  <a:srgbClr val="000000"/>
                </a:solidFill>
                <a:latin typeface="Arial"/>
              </a:rPr>
              <a:t>15</a:t>
            </a:r>
            <a:r>
              <a:rPr b="1" lang="ru-RU" sz="1200" spc="-1" strike="noStrike">
                <a:solidFill>
                  <a:srgbClr val="000000"/>
                </a:solidFill>
                <a:latin typeface="Arial"/>
              </a:rPr>
              <a:t>)</a:t>
            </a:r>
            <a:r>
              <a:rPr b="0" lang="ru-RU"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вы как руководитель оцените других людей очень высоко, вы сможете стать ближе к ним, ваша дружба будет крепкой и ваше влияние доброты будет усиливаться.</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2290680" y="476280"/>
            <a:ext cx="2502000" cy="1876320"/>
          </a:xfrm>
          <a:prstGeom prst="rect">
            <a:avLst/>
          </a:prstGeom>
          <a:ln w="0">
            <a:noFill/>
          </a:ln>
        </p:spPr>
      </p:sp>
      <p:sp>
        <p:nvSpPr>
          <p:cNvPr id="220" name="PlaceHolder 2"/>
          <p:cNvSpPr>
            <a:spLocks noGrp="1"/>
          </p:cNvSpPr>
          <p:nvPr>
            <p:ph type="body"/>
          </p:nvPr>
        </p:nvSpPr>
        <p:spPr>
          <a:xfrm>
            <a:off x="701280" y="2671560"/>
            <a:ext cx="5607000" cy="59274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кольку мы наблюдаем рост Церкви АСД, очевидно, нам необходимо все большее количество женщин руководителей. Елена Уайт писала сравнительно давно о том, что «поскольку наша численность растет, значит, без определенной формы организации будет великое замешательство и работа не принесет ожидаемого успеха» </a:t>
            </a:r>
            <a:r>
              <a:rPr b="1" lang="ru-RU" sz="1200" spc="-1" strike="noStrike">
                <a:solidFill>
                  <a:srgbClr val="000000"/>
                </a:solidFill>
                <a:latin typeface="Arial"/>
              </a:rPr>
              <a:t>(1)</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332080" y="255600"/>
            <a:ext cx="2405160" cy="1803240"/>
          </a:xfrm>
          <a:prstGeom prst="rect">
            <a:avLst/>
          </a:prstGeom>
          <a:ln w="0">
            <a:noFill/>
          </a:ln>
        </p:spPr>
      </p:sp>
      <p:sp>
        <p:nvSpPr>
          <p:cNvPr id="256" name="PlaceHolder 2"/>
          <p:cNvSpPr>
            <a:spLocks noGrp="1"/>
          </p:cNvSpPr>
          <p:nvPr>
            <p:ph type="body"/>
          </p:nvPr>
        </p:nvSpPr>
        <p:spPr>
          <a:xfrm>
            <a:off x="701280" y="2158920"/>
            <a:ext cx="5607000" cy="6440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Garamond"/>
              </a:rPr>
              <a:t>Б. </a:t>
            </a:r>
            <a:r>
              <a:rPr b="1" lang="ru-RU" sz="1200" spc="-1" strike="noStrike">
                <a:solidFill>
                  <a:srgbClr val="000000"/>
                </a:solidFill>
                <a:latin typeface="Arial"/>
              </a:rPr>
              <a:t>Любите своих люд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Христос ясно говорит, что Он желает, чтобы мы любили друг друга. Основываясь на великой заповеди (Мтф. 22:36-50) о необходимости любить Бога и близких, Он напоминает: По тому узнают все, что вы Мои ученики, если будете иметь любовь между собою.  Иоанн. 13: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учные открытия показывают, что в любви выигрывают оба: как дающий, так и принимающий. Позвольте мне поделиться с вами двумя исследованиями о влиянии любви на мужчин, а также и на женщ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следование проводилось в университете Кейс вестерн ресерв и опубликовано в Американском медицинском журнале. В нем принимали участие 10000 женатых мужчин, у которых не была диагностирована стенокардия, боль в груди, но были диагностированы многие факторы риска, такие как: повышенный холестерин, высокое кровяное давление, пожилой возраст, диабет и отклонения ЭКГ. У этих мужчин в 20 раз чаще развивается стенокардия на протяжении последующих пяти лет. Интересно заметить, что те, кто отвечали «Нет» на простой вопрос: Ваша жена проявляет к вам любовь? – в два раза чаще болеют стенокардией, чем те, кто ответили на этот вопрос положительно. Для погашения таких факторов риска как высокий уровень холестерина и кровяного давления и высокая вероятность беспокойства и стресса очень важная любовь супруги. Исследователи делают заключение, что: любовь и поддержка жены являются важным балансирующим фактором, который очевидно снижает риск стенокардии, даже при наличии высоких факторов риска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ктор Ненси Коллинс из университета Калифорнии штата Лос Анжелес изучала этнически различных, малоимущих, беременных женщин. Коллинс исследовала насколько социальная поддержка улучшает физическое и умственное состояние беременной женщины. Те, кто получали квалифицированную пренатальную социальную поддержку, испытывали лишь небольшие трудности во время родов, рожали более здоровых, и как указывает доктор Вирджиния Аргар, курирующая данный метод, у детей этой категории матерей наблюдался больший вес. У обследуемых женщин из этой группы наблюдалась пониженная материнская депрессия после родов (17).</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109960" y="255600"/>
            <a:ext cx="2698560" cy="2023920"/>
          </a:xfrm>
          <a:prstGeom prst="rect">
            <a:avLst/>
          </a:prstGeom>
          <a:ln w="0">
            <a:noFill/>
          </a:ln>
        </p:spPr>
      </p:sp>
      <p:sp>
        <p:nvSpPr>
          <p:cNvPr id="258" name="PlaceHolder 2"/>
          <p:cNvSpPr>
            <a:spLocks noGrp="1"/>
          </p:cNvSpPr>
          <p:nvPr>
            <p:ph type="body"/>
          </p:nvPr>
        </p:nvSpPr>
        <p:spPr>
          <a:xfrm>
            <a:off x="701280" y="2306520"/>
            <a:ext cx="5607000" cy="62928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удивительно, что Бог хочет, чтобы мы любили и заботились друг о друге, и особенно это касается тех, кто занимает руководящие должности. Любя других людей, мы не только показываем, что являемся апостолами Иисуса Христа, но мы также влияем на тех, кто получает нашу любовь – даже на детей, находящихся в утробе. Если однажды наши подчиненные почувствуют нашу любовь, мы сможем легко завоевать их доверие и согласие на взаимодействие для исполнения нашей миссии.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333520" y="476280"/>
            <a:ext cx="2309760" cy="1731960"/>
          </a:xfrm>
          <a:prstGeom prst="rect">
            <a:avLst/>
          </a:prstGeom>
          <a:ln w="0">
            <a:noFill/>
          </a:ln>
        </p:spPr>
      </p:sp>
      <p:sp>
        <p:nvSpPr>
          <p:cNvPr id="260" name="PlaceHolder 2"/>
          <p:cNvSpPr>
            <a:spLocks noGrp="1"/>
          </p:cNvSpPr>
          <p:nvPr>
            <p:ph type="body"/>
          </p:nvPr>
        </p:nvSpPr>
        <p:spPr>
          <a:xfrm>
            <a:off x="701280" y="2306160"/>
            <a:ext cx="5607000" cy="600084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Используйте все возможности, чтобы помочь вашим коллегам.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 отказывай в благодеянии нуждающемуся, когда рука твоя в силе сделать его, Пр. 3:27. В данном стихе представлены несколько примеров того, как руководители могут подавлять права работников. «Сбалансированный бюджет» кажется главной концепцией. Однако, самый мудрый человек на земле сказал, что ни это самое главное. Павел говорит: Итак, доколе есть время, будем делать добро всем, а наипаче своим по вере, Гал. 6:10. Руководители получат полную поддержку и возможность взаимодействия с подчиненными, если подчиненные почувствуют помощь в любой ситуации.</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260440" y="549360"/>
            <a:ext cx="2405160" cy="1803240"/>
          </a:xfrm>
          <a:prstGeom prst="rect">
            <a:avLst/>
          </a:prstGeom>
          <a:ln w="0">
            <a:noFill/>
          </a:ln>
        </p:spPr>
      </p:sp>
      <p:sp>
        <p:nvSpPr>
          <p:cNvPr id="262" name="PlaceHolder 2"/>
          <p:cNvSpPr>
            <a:spLocks noGrp="1"/>
          </p:cNvSpPr>
          <p:nvPr>
            <p:ph type="body"/>
          </p:nvPr>
        </p:nvSpPr>
        <p:spPr>
          <a:xfrm>
            <a:off x="701280" y="2451240"/>
            <a:ext cx="5607000" cy="592920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 Советуйтесь с вашими сотрудниками</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удрейший человек, который когда-либо жил, записал очень важный принцип относительно этого вопроса: При недостатке попечения падает народ, а при многих советниках благоденствует, Пр. 11:14. Он также записал, что послушает мудрый - и умножит познания, и разумный найдет мудрые советы, Пр. 1:5. Как руководители-христиане мы должны спрашивать совет, особенно у посвященных и опытных сотрудников. Павел спрашивал совета у других людей, прежде чем принять решение: Ходил же по откровению, и предложил там, и особо знаменитейшим, благовествование, проповедуемое мною язычникам, не напрасно ли я подвизаюсь или подвизался, Гал. 2:2.</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327400" y="987480"/>
            <a:ext cx="2506680" cy="1879560"/>
          </a:xfrm>
          <a:prstGeom prst="rect">
            <a:avLst/>
          </a:prstGeom>
          <a:ln w="0">
            <a:noFill/>
          </a:ln>
        </p:spPr>
      </p:sp>
      <p:sp>
        <p:nvSpPr>
          <p:cNvPr id="264" name="PlaceHolder 2"/>
          <p:cNvSpPr>
            <a:spLocks noGrp="1"/>
          </p:cNvSpPr>
          <p:nvPr>
            <p:ph type="body"/>
          </p:nvPr>
        </p:nvSpPr>
        <p:spPr>
          <a:xfrm>
            <a:off x="701280" y="2965320"/>
            <a:ext cx="5607000" cy="563400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 Не бойтесь признавать, что вы не правы.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икто не совершенен. Иаков пишет, что все мы много согрешаем. Кто не согрешает в слове, тот человек совершенный, могущий обуздать и все тело, Иак. 3:2. Как руководителям нам нужно обладать мужеством признавать свои ошибки. Нам необходимо быть хорошим примером для соработников, включая признание наших неверных решений и поступков. Когда мы оправдываем или рационализируем наши неверных поступки, раньше или позже люди узнают об этом, и мы потеряем их уважение.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279520" y="1135080"/>
            <a:ext cx="2211480" cy="1658880"/>
          </a:xfrm>
          <a:prstGeom prst="rect">
            <a:avLst/>
          </a:prstGeom>
          <a:ln w="0">
            <a:noFill/>
          </a:ln>
        </p:spPr>
      </p:sp>
      <p:sp>
        <p:nvSpPr>
          <p:cNvPr id="266" name="PlaceHolder 2"/>
          <p:cNvSpPr>
            <a:spLocks noGrp="1"/>
          </p:cNvSpPr>
          <p:nvPr>
            <p:ph type="body"/>
          </p:nvPr>
        </p:nvSpPr>
        <p:spPr>
          <a:xfrm>
            <a:off x="701280" y="2817360"/>
            <a:ext cx="5607000" cy="548964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 Доверяйте людям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ие руководители хотят быть уверенными, что задача будет выполнена. Зная, что мы работаем в команде, нам необходимо помнить, что члены команды также содействуют выполнению задачи. Павел говорит о теле Христовом в 12 главе 1 послания Коринфянам и о том, что у каждого из нас особая роль. Как руководителям нам необходимо помнить, что нам необходимо доверять нашим подчиненным соответственно их участию или способностям. Интересно, что в послании Римлянам 12:10 записано: будьте братолюбивы друг к другу с нежностью; в почтительности друг друга предупреждайте. Руководители, которые всегда оказывают доверие своим соработникам, также получают и поддержку от них.</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259000" y="401760"/>
            <a:ext cx="2406600" cy="1805040"/>
          </a:xfrm>
          <a:prstGeom prst="rect">
            <a:avLst/>
          </a:prstGeom>
          <a:ln w="0">
            <a:noFill/>
          </a:ln>
        </p:spPr>
      </p:sp>
      <p:sp>
        <p:nvSpPr>
          <p:cNvPr id="268" name="PlaceHolder 2"/>
          <p:cNvSpPr>
            <a:spLocks noGrp="1"/>
          </p:cNvSpPr>
          <p:nvPr>
            <p:ph type="body"/>
          </p:nvPr>
        </p:nvSpPr>
        <p:spPr>
          <a:xfrm>
            <a:off x="701280" y="2234880"/>
            <a:ext cx="5607000" cy="600084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Ж. Предоставляйте людям второй шанс.</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иблия говорит: ибо семь раз упадет праведник, и встанет; а нечестивые впадут в погибель, Пр. 24:16. Этот стих показывает, что даже праведный человек может ошибаться. Что нам необходимо делать как христианским руководителям, когда наши сотрудники или соработники совершают ошибки? И ответ будет следующим: «Предоставьте людям второй шанс». Мы должны помнить пример Джона Марка, который совершил ошибку. Варнава, однако, был руководителем, который мог дать людям второй шаг: Ему крайне не хотелось, чтобы Марк оставил служение, поскольку он видел в нем качества, благодаря которым тот мог стать полезным работником на ниве Божьей. В последующие годы его забота о Марке была щедро вознаграждена, ибо молодой человек отдавал Господу и делу проповеди Евангелия все силы, работая именно в трудных условиях. При благословении Божьем и мудром руководстве со стороны Варнавы он со временем стал ценным работником </a:t>
            </a:r>
            <a:r>
              <a:rPr b="1" lang="ru-RU" sz="1200" spc="-1" strike="noStrike">
                <a:solidFill>
                  <a:srgbClr val="000000"/>
                </a:solidFill>
                <a:latin typeface="Arial"/>
              </a:rPr>
              <a:t>(18)</a:t>
            </a:r>
            <a:r>
              <a:rPr b="0" lang="ru-RU" sz="1200" spc="-1" strike="noStrike">
                <a:solidFill>
                  <a:srgbClr val="000000"/>
                </a:solidFill>
                <a:latin typeface="Arial"/>
              </a:rPr>
              <a:t>.</a:t>
            </a:r>
            <a:br>
              <a:rPr sz="1200"/>
            </a:b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340000" y="1135080"/>
            <a:ext cx="2211480" cy="1658880"/>
          </a:xfrm>
          <a:prstGeom prst="rect">
            <a:avLst/>
          </a:prstGeom>
          <a:ln w="0">
            <a:noFill/>
          </a:ln>
        </p:spPr>
      </p:sp>
      <p:sp>
        <p:nvSpPr>
          <p:cNvPr id="270"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Елена Уайт говорит о следующем: работники могут допускать ошибки, но ты должен дать им шанс исправить их, а также дать им возможность проявлять больше осторожности, оставляя работу в их руках </a:t>
            </a:r>
            <a:r>
              <a:rPr b="1" i="1" lang="ru-RU" sz="1200" spc="-1" strike="noStrike">
                <a:solidFill>
                  <a:srgbClr val="000000"/>
                </a:solidFill>
                <a:latin typeface="Arial"/>
              </a:rPr>
              <a:t>(19)</a:t>
            </a:r>
            <a:r>
              <a:rPr b="0" i="1" lang="ru-RU" sz="1200" spc="-1" strike="noStrike">
                <a:solidFill>
                  <a:srgbClr val="000000"/>
                </a:solidFill>
                <a:latin typeface="Arial"/>
              </a:rPr>
              <a:t>.</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357280" y="328680"/>
            <a:ext cx="2311560" cy="1733400"/>
          </a:xfrm>
          <a:prstGeom prst="rect">
            <a:avLst/>
          </a:prstGeom>
          <a:ln w="0">
            <a:noFill/>
          </a:ln>
        </p:spPr>
      </p:sp>
      <p:sp>
        <p:nvSpPr>
          <p:cNvPr id="272" name="PlaceHolder 2"/>
          <p:cNvSpPr>
            <a:spLocks noGrp="1"/>
          </p:cNvSpPr>
          <p:nvPr>
            <p:ph type="body"/>
          </p:nvPr>
        </p:nvSpPr>
        <p:spPr>
          <a:xfrm>
            <a:off x="701280" y="2158920"/>
            <a:ext cx="5607000" cy="5634000"/>
          </a:xfrm>
          <a:prstGeom prst="rect">
            <a:avLst/>
          </a:prstGeom>
          <a:noFill/>
          <a:ln w="0">
            <a:noFill/>
          </a:ln>
        </p:spPr>
        <p:txBody>
          <a:bodyPr lIns="93240" rIns="93240" tIns="46440" bIns="46440" anchor="t">
            <a:noAutofit/>
          </a:bodyPr>
          <a:p>
            <a:pPr lvl="1" marL="68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aramond"/>
              </a:rPr>
              <a:t>З. </a:t>
            </a:r>
            <a:r>
              <a:rPr b="1" lang="ru-RU" sz="1200" spc="-1" strike="noStrike">
                <a:solidFill>
                  <a:srgbClr val="000000"/>
                </a:solidFill>
                <a:latin typeface="Arial"/>
              </a:rPr>
              <a:t>Не заставляйте других делать то, что вы можете сделать, но просто не хотите.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ог дал нам разного рода духовные дары каждому христианину. Елена Уайт советует нам: «каждый последователь Христа должен что-то сделать для Божьего дела, и если мы не делаем то, что можем сделать, мы проявляем равнодушие к призыву Христа (20). Как руководители вы не можете ожидать от других людей использования духовных даров, пока мы сами неохотно используем собственные».</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174760" y="620640"/>
            <a:ext cx="2440080" cy="1830600"/>
          </a:xfrm>
          <a:prstGeom prst="rect">
            <a:avLst/>
          </a:prstGeom>
          <a:ln w="0">
            <a:noFill/>
          </a:ln>
        </p:spPr>
      </p:sp>
      <p:sp>
        <p:nvSpPr>
          <p:cNvPr id="274" name="PlaceHolder 2"/>
          <p:cNvSpPr>
            <a:spLocks noGrp="1"/>
          </p:cNvSpPr>
          <p:nvPr>
            <p:ph type="body"/>
          </p:nvPr>
        </p:nvSpPr>
        <p:spPr>
          <a:xfrm>
            <a:off x="701280" y="2525760"/>
            <a:ext cx="5607000" cy="556272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 Поддерживайте ваших сотрудников.</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мните о том, что Иисус Христос говорил Петру после воскресенья: но Я молился о тебе, чтобы не оскудела вера твоя; и ты некогда, обратившись, утверди братьев твоих.  Лк. 22:32. Этого ожидал Христос от Петра. Но также Христос ожидает этого и от каждого из нас, особенно от руководителей. Нам необходимо подкреплять и поддерживать друг друга, включая наших подчиненных.</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2170080" y="401760"/>
            <a:ext cx="2503440" cy="1877760"/>
          </a:xfrm>
          <a:prstGeom prst="rect">
            <a:avLst/>
          </a:prstGeom>
          <a:ln w="0">
            <a:noFill/>
          </a:ln>
        </p:spPr>
      </p:sp>
      <p:sp>
        <p:nvSpPr>
          <p:cNvPr id="222" name="PlaceHolder 2"/>
          <p:cNvSpPr>
            <a:spLocks noGrp="1"/>
          </p:cNvSpPr>
          <p:nvPr>
            <p:ph type="body"/>
          </p:nvPr>
        </p:nvSpPr>
        <p:spPr>
          <a:xfrm>
            <a:off x="701280" y="2379240"/>
            <a:ext cx="5607000" cy="621972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каждой организации руководители чрезвычайно важны. Руководители, которые будут вести и руководить церковью в правильном направлении. В настоящее время, когда численность Церкви АСД достигла 15000000, исследования показывают, что женщин по численности больше, чем мужчин. Принимая во внимание, что только женщины могут понять женщин, нам необходимо все больше женщин руководителей на всех уровнях церковной организации.</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241720" y="549360"/>
            <a:ext cx="2309760" cy="1731960"/>
          </a:xfrm>
          <a:prstGeom prst="rect">
            <a:avLst/>
          </a:prstGeom>
          <a:ln w="0">
            <a:noFill/>
          </a:ln>
        </p:spPr>
      </p:sp>
      <p:sp>
        <p:nvSpPr>
          <p:cNvPr id="276" name="PlaceHolder 2"/>
          <p:cNvSpPr>
            <a:spLocks noGrp="1"/>
          </p:cNvSpPr>
          <p:nvPr>
            <p:ph type="body"/>
          </p:nvPr>
        </p:nvSpPr>
        <p:spPr>
          <a:xfrm>
            <a:off x="701280" y="2379600"/>
            <a:ext cx="5607000" cy="570888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 Встаньте на место другого человека.</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иблия говорит: и остановился там, где они жили, и провел среди них семь дней в изумлении, Иезек. 3:15. Когда мы представляем себя на месте другого человека, мы поражаемся трудностям, бремени, крушению и тщеславию, которое встречает этот человек. Мы тогда может появиться больше симпатии и эмпатии.</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244600" y="841320"/>
            <a:ext cx="2502000" cy="1876320"/>
          </a:xfrm>
          <a:prstGeom prst="rect">
            <a:avLst/>
          </a:prstGeom>
          <a:ln w="0">
            <a:noFill/>
          </a:ln>
        </p:spPr>
      </p:sp>
      <p:sp>
        <p:nvSpPr>
          <p:cNvPr id="278" name="PlaceHolder 2"/>
          <p:cNvSpPr>
            <a:spLocks noGrp="1"/>
          </p:cNvSpPr>
          <p:nvPr>
            <p:ph type="body"/>
          </p:nvPr>
        </p:nvSpPr>
        <p:spPr>
          <a:xfrm>
            <a:off x="701280" y="2744280"/>
            <a:ext cx="5607000" cy="585468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говорит: Общаясь с людьми, ставьте себя на их место, вникайте в их чувства, затруднения, разочарования, радости и скорби, вставайте с ними на одну ступень и поступайте так, как бы вы желали, чтобы они поступали с вами</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2112840" y="328680"/>
            <a:ext cx="2603520" cy="1952640"/>
          </a:xfrm>
          <a:prstGeom prst="rect">
            <a:avLst/>
          </a:prstGeom>
          <a:ln w="0">
            <a:noFill/>
          </a:ln>
        </p:spPr>
      </p:sp>
      <p:sp>
        <p:nvSpPr>
          <p:cNvPr id="280" name="PlaceHolder 2"/>
          <p:cNvSpPr>
            <a:spLocks noGrp="1"/>
          </p:cNvSpPr>
          <p:nvPr>
            <p:ph type="body"/>
          </p:nvPr>
        </p:nvSpPr>
        <p:spPr>
          <a:xfrm>
            <a:off x="701280" y="2379240"/>
            <a:ext cx="5607000" cy="5853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иже мы предлагаем вам «Заповеди взаимоотноше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юбите друг друга Иоанн. 13: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щайте друг друга Кол. 3: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имайте друг друга Рим. 15: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литесь друг о друге Иак. 5: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держивайте друг друга 1 Фес. 4: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щайтесь друг с другом 1 Иоан. 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ьте добры друг ко другу Еф. 4: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казывайте сострадание друг ко другу 1 Пет. 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ьте гостеприимны друг ко другу 1 Пет. 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т.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едуя этим Библейским правилам, руководитель может быть уверен в том, что он выстроит хорошие взаимоотношения с подчиненными. Выше перечисленные принципы помогут сделать ваше руководством успешным и здоровым.</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2187720" y="401760"/>
            <a:ext cx="2503440" cy="1877760"/>
          </a:xfrm>
          <a:prstGeom prst="rect">
            <a:avLst/>
          </a:prstGeom>
          <a:ln w="0">
            <a:noFill/>
          </a:ln>
        </p:spPr>
      </p:sp>
      <p:sp>
        <p:nvSpPr>
          <p:cNvPr id="282" name="PlaceHolder 2"/>
          <p:cNvSpPr>
            <a:spLocks noGrp="1"/>
          </p:cNvSpPr>
          <p:nvPr>
            <p:ph type="body"/>
          </p:nvPr>
        </p:nvSpPr>
        <p:spPr>
          <a:xfrm>
            <a:off x="701280" y="2379600"/>
            <a:ext cx="5607000" cy="5708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ЗАИМООТНОШЕНИЯ И РАБОТА В КОМАНД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ы работаем в команде. Поэтому природа взаимоотношений в руководстве не может быть отделена от «командной работы». Какое существует определение «командной работы»? Кейт Дэвис говорит, что командная работа заключается в скоординированном действии с помощью малой группы, в постоянном партнерстве между членами команды, у которых распределены обязанности и они выполняют задачу с энтузиазмом (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дополнении к этому определению Франк Джонсон говорит: «построение команды основывается на методе, в котором группы на практике обучаются как развивать свои навыки для эффективной командной работы, с помощью изучения своей структуры,  общих целей и разработки процедуры и оценивания динамики. Это изучение осуществляется членами группы сотрудников в организации, обычно созданной из начальников и подчиненных… Благодаря участию в команде, а именно эффективному процессу передачи и разделения руководящих аспектов, навыкам принятия решения, совместному формулированию целей, которым все будут посвящены и возможностям квалифицированной работы и личной ответственности, значение и ценность организации снова возвращаются в жизнь человека (23).</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2463840" y="768240"/>
            <a:ext cx="2209680" cy="1657440"/>
          </a:xfrm>
          <a:prstGeom prst="rect">
            <a:avLst/>
          </a:prstGeom>
          <a:ln w="0">
            <a:noFill/>
          </a:ln>
        </p:spPr>
      </p:sp>
      <p:sp>
        <p:nvSpPr>
          <p:cNvPr id="284" name="PlaceHolder 2"/>
          <p:cNvSpPr>
            <a:spLocks noGrp="1"/>
          </p:cNvSpPr>
          <p:nvPr>
            <p:ph type="body"/>
          </p:nvPr>
        </p:nvSpPr>
        <p:spPr>
          <a:xfrm>
            <a:off x="701280" y="2674800"/>
            <a:ext cx="5607000" cy="622008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уководство воспитывает характерные черты команды через:</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етко определенные цели для каждого члена команд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воевременный и эффективный обмен информацией об идеях и чувствах</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спределение участия и руководств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оответствующую и эффективную дискуссию, способствующую продвижению процесс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нструктивное разрешение разногласи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сокий уровень доверия, принятия, поддержки и сплоченност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мпетентные процедуры разрешения трудных ситуаций</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2187720" y="841320"/>
            <a:ext cx="2406600" cy="1805040"/>
          </a:xfrm>
          <a:prstGeom prst="rect">
            <a:avLst/>
          </a:prstGeom>
          <a:ln w="0">
            <a:noFill/>
          </a:ln>
        </p:spPr>
      </p:sp>
      <p:sp>
        <p:nvSpPr>
          <p:cNvPr id="286" name="PlaceHolder 2"/>
          <p:cNvSpPr>
            <a:spLocks noGrp="1"/>
          </p:cNvSpPr>
          <p:nvPr>
            <p:ph type="body"/>
          </p:nvPr>
        </p:nvSpPr>
        <p:spPr>
          <a:xfrm>
            <a:off x="701280" y="2744280"/>
            <a:ext cx="5607000" cy="5489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НЦИПЫ МЕЖЛИЧНОСТНЫХ ОТНОШЕ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ля руководителей чрезвычайно важно развивать личные взаимоотношения с людьми. Не смотря на то,  что развитие личных отношений это процесс, который требует времени, он приносит результат. Ваши сотрудники узнают вас лучше, и их желание следовать за вами и учиться у вас будет возрастать. В противном случае, процесс подготовки других людей может снизиться или даже замедлиться в два раза.</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2184480" y="401760"/>
            <a:ext cx="2698560" cy="2023920"/>
          </a:xfrm>
          <a:prstGeom prst="rect">
            <a:avLst/>
          </a:prstGeom>
          <a:ln w="0">
            <a:noFill/>
          </a:ln>
        </p:spPr>
      </p:sp>
      <p:sp>
        <p:nvSpPr>
          <p:cNvPr id="288" name="PlaceHolder 2"/>
          <p:cNvSpPr>
            <a:spLocks noGrp="1"/>
          </p:cNvSpPr>
          <p:nvPr>
            <p:ph type="body"/>
          </p:nvPr>
        </p:nvSpPr>
        <p:spPr>
          <a:xfrm>
            <a:off x="701280" y="2451240"/>
            <a:ext cx="5607000" cy="6148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ратите внимание на несколько важных аспектов, когда вы будут развивать межличностных отношения с другими людь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чните с того, что выслушайте историю жизни челове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кажите неподдельный интерес к люд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знайте их достоинства и недостат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знайте какие у них есть цели и каковы мотив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ите, какой у них темперамен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аблюдайте за людьми, когда они находятся вне бизнесе, церкв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тарайтесь узнать как можно больше о людях и сделайте все возможное, чтобы завоевать их сердца. Если вы достигнете их сердец, они с удовольствием отдадут вам свои руки.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2128680" y="476280"/>
            <a:ext cx="2603520" cy="1952640"/>
          </a:xfrm>
          <a:prstGeom prst="rect">
            <a:avLst/>
          </a:prstGeom>
          <a:ln w="0">
            <a:noFill/>
          </a:ln>
        </p:spPr>
      </p:sp>
      <p:sp>
        <p:nvSpPr>
          <p:cNvPr id="290" name="PlaceHolder 2"/>
          <p:cNvSpPr>
            <a:spLocks noGrp="1"/>
          </p:cNvSpPr>
          <p:nvPr>
            <p:ph type="body"/>
          </p:nvPr>
        </p:nvSpPr>
        <p:spPr>
          <a:xfrm>
            <a:off x="701280" y="2525760"/>
            <a:ext cx="5607000" cy="5562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ЭФФЕКТИВНЫЕ КОММУНИКАЦИОННЫЕ НАВЫК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заимоотношения не могут существовать отдельно от коммуникации. В действительности, взаимоотношения состоят из нее. Большинство американцев проводят 70 процентов своих активных часов каждый день, общаясь вербально (24). Без способности передавать информацию, руководитель не сможет эффективно представить свое видение и призвать своих сотрудников действовать в соответствии с видением. Максвелл также цитирует президента Геральда Форда, который однажды сказал: «Ничто в жизни так не ценно, как способность эффективно общаться».</a:t>
            </a:r>
            <a:br>
              <a:rPr sz="1200"/>
            </a:b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2255760" y="476280"/>
            <a:ext cx="2309760" cy="1731960"/>
          </a:xfrm>
          <a:prstGeom prst="rect">
            <a:avLst/>
          </a:prstGeom>
          <a:ln w="0">
            <a:noFill/>
          </a:ln>
        </p:spPr>
      </p:sp>
      <p:sp>
        <p:nvSpPr>
          <p:cNvPr id="292" name="PlaceHolder 2"/>
          <p:cNvSpPr>
            <a:spLocks noGrp="1"/>
          </p:cNvSpPr>
          <p:nvPr>
            <p:ph type="body"/>
          </p:nvPr>
        </p:nvSpPr>
        <p:spPr>
          <a:xfrm>
            <a:off x="701280" y="2306520"/>
            <a:ext cx="5607000" cy="59277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ксвелл напомнил пять важных характеристик эффективной коммуникаци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креннее интересуйтесь тем, что человек говорит. Когда люди чувствуют, что вы как руководитель заинтересованы в своих последователях, они будут слушать все, что вы будете говорить им. Симпатия – начало коммуникаци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фокусироваться на отвечающем. Во многих случаях люди, которые плохо передают и воспринимают информацию, более сосредотачиваются на своих собственных точках зрения. Те, кто хорошо передают и воспринимают информацию, обращают внимание на ответ человека, с которым они говорят.</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общаться с разными людьми. Человек, который хорошо передает и воспринимает информацию, обладает способностью легко устанавливать контакт с человеком. Он или она могут найти способ взаимодействия с любым человеком, с любыми личным и профессиональным характеристикам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мотрите в глаза человеку, с которым вы говорите. Большинство людей, которые честны перед вами, смотрят вам в глаза. Личная чистота и верность делают коммуникацию надежно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плая улыбка. Самый быстрый способ выстроить отношения – улыбнуться. Улыбка ломает бесчисленное количество коммуникационных барьеров, преодолевая барьеры культуры, расы, возраста, класса, пола, образования и экономического статуса.</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2187720" y="695160"/>
            <a:ext cx="2603520" cy="1952640"/>
          </a:xfrm>
          <a:prstGeom prst="rect">
            <a:avLst/>
          </a:prstGeom>
          <a:ln w="0">
            <a:noFill/>
          </a:ln>
        </p:spPr>
      </p:sp>
      <p:sp>
        <p:nvSpPr>
          <p:cNvPr id="294" name="PlaceHolder 2"/>
          <p:cNvSpPr>
            <a:spLocks noGrp="1"/>
          </p:cNvSpPr>
          <p:nvPr>
            <p:ph type="body"/>
          </p:nvPr>
        </p:nvSpPr>
        <p:spPr>
          <a:xfrm>
            <a:off x="701280" y="2671560"/>
            <a:ext cx="5607000" cy="556092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ВЗАИМОДЕЙСТВИЯ В КОНФЛИКТ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различных аспектах деятельности руководителя может возникнуть конфликтная ситуация. Согласно доктору Даниэлу Аугсбургеру: «повсюду, касается ли вопрос самых незначительных ресурсов, разделения функций в обществе, различных уровней власти, борьбы за ограниченную поставку товаров, статус или власть как апогею всего можно встретить конфликты». Этот факт показывает, что конфликт - универсальная проблема, которую невозможно избежать. Что руководитель можно предпринимать в конфликтной ситуации? Удивительно, но Библия говорит о некоторых принципах как руководить конфликтом. Прочитайте нижеприведенные стих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илипийцам 2:5. Постарайтесь сохранять самообладани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атфея 18:15, 16. Разговаривайте с человеком один на один</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имлянм 12:17-19. Живите в мире со всем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алатам 6:1-10. Восстанавливайте отношения с мягкостью.</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атфея 5:38-48. Любите врагов ваших.</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2036880" y="768240"/>
            <a:ext cx="2990880" cy="2243160"/>
          </a:xfrm>
          <a:prstGeom prst="rect">
            <a:avLst/>
          </a:prstGeom>
          <a:ln w="0">
            <a:noFill/>
          </a:ln>
        </p:spPr>
      </p:sp>
      <p:sp>
        <p:nvSpPr>
          <p:cNvPr id="224" name="PlaceHolder 2"/>
          <p:cNvSpPr>
            <a:spLocks noGrp="1"/>
          </p:cNvSpPr>
          <p:nvPr>
            <p:ph type="body"/>
          </p:nvPr>
        </p:nvSpPr>
        <p:spPr>
          <a:xfrm>
            <a:off x="701280" y="3110040"/>
            <a:ext cx="5607000" cy="54892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АЖНАЯ РОЛЬ ОТНОШЕНИЙ В РУКОВОДСТВ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кольку нам нужно больше женщин руководителей, очень важно помнить, что нам нужны руководители, которые понимают роль взаимоотношений. Словарь Вебстера говорит, что взаимоотношения означают состояние или характер связи или взаимосвязи. Другими словами, взаимоотношения это связанность одного человека с другим. Бог создал мужчин и женщин социальными. Никто не может жить один, мы нужны друг другу. Фактически, Библия говорит: Ибо никто из нас не живет для себя, и никто не умирает для себя; Рим. 14:7. Мы нужны друг другу пока мы живы, и даже если мы умираем, нам нужен тот, кто нас похорон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заимоотношении чрезвычайно важны для людей, особенно для руководителей, по следующим причинам:</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2182680" y="401760"/>
            <a:ext cx="2308320" cy="1731960"/>
          </a:xfrm>
          <a:prstGeom prst="rect">
            <a:avLst/>
          </a:prstGeom>
          <a:ln w="0">
            <a:noFill/>
          </a:ln>
        </p:spPr>
      </p:sp>
      <p:sp>
        <p:nvSpPr>
          <p:cNvPr id="296" name="PlaceHolder 2"/>
          <p:cNvSpPr>
            <a:spLocks noGrp="1"/>
          </p:cNvSpPr>
          <p:nvPr>
            <p:ph type="body"/>
          </p:nvPr>
        </p:nvSpPr>
        <p:spPr>
          <a:xfrm>
            <a:off x="701280" y="2158920"/>
            <a:ext cx="5607000" cy="5708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АКТИЧЕСКОЕ РУКОВОДСТВО ПО ПОСТРОЕНИЮ ОТНОШЕНИЙ В ЦЕРКВ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еперь вы являетесь руководителем. Вы можете быть руководителем на уровне местной церкви, любом уровне церковной, государственной или общественной организации. Вам необходимо практическое руководство для хороших взаимоотношений с подчиненными или близкими людьми.</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2479680" y="328680"/>
            <a:ext cx="2211480" cy="1658880"/>
          </a:xfrm>
          <a:prstGeom prst="rect">
            <a:avLst/>
          </a:prstGeom>
          <a:ln w="0">
            <a:noFill/>
          </a:ln>
        </p:spPr>
      </p:sp>
      <p:sp>
        <p:nvSpPr>
          <p:cNvPr id="298" name="PlaceHolder 2"/>
          <p:cNvSpPr>
            <a:spLocks noGrp="1"/>
          </p:cNvSpPr>
          <p:nvPr>
            <p:ph type="body"/>
          </p:nvPr>
        </p:nvSpPr>
        <p:spPr>
          <a:xfrm>
            <a:off x="701280" y="2085480"/>
            <a:ext cx="5607000" cy="629316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Ниже предложены несколько аспектов, которые помогут вам построить хорошие отношени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Церковные бюллетен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 можете запланировать выпуск церковных бюллетеней и рассылать их еженедельно или ежемесячно. Бюллетень может улучшить отношения между членами и руководителями церкви. Церковные программы и планы могут включать в себя церковные бюллетени. Подобные информационные письма могут включать в себя такие аспекты, как запланированные мероприятия на месяц, сведения о днях рождения, сведения о смерти, объявления о миссионерской деятельности. Ценность такого письма заключается не только в обращении внимания на цели церкви, но они также очень ценны и для замкнутых членов церкв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Церковные газеты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азеты очень эффективны во многих церквях, и они улучшают информированность о церковных программах, освещая также и финансовые нужды. Некоторые руководители церкви используют газеты, чтобы распространять информацию о способах богослужения, христианском доме, семейном богослужении и о многих других вопросах. Чем более хорошо осведомлены члены церкви, тем лучше действует церковь, тем более хорошие взаимоотношения они могут построить и больше поддерживать друг друг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отоальбом о деятельности Церкв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некоторых церквях Альбом с фотографиями о деятельности Церкви находится в фойе. Особый альбом, в который время от времени вносятся изменения, распределен по темам, интересным для членов церкви. Примеры: фотографии недавнего миссионерского путешествия в Боливии; фотографии младенцев, рожденных в церкви; фотографии местных следопытов, участвующих в сборе пожертвований для отдела Следопытов. Любые новости церкви, которые вы будете оформлять, могут стать живой памятью.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грамма «Служба информации «Добро пожаловать»</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ысячи людей совершают переезды и существуют способы для того, чтобы приблизить их к Евангелию. Многие церкви проводят служение «Служба информации «Добро пожаловать», которое спонсируется бизнесменами и людьми, заинтересованными в новых членах церкви. Хозяйка службы звонит по телефону и предлагает новому человеку или семье список бизнесменов, информацию об общественных и социальных службах, местных церквях и школах. Если человек не имеет собственных религиозных предпочтений, ему предлагаются приглашения в церкви. По крайней мере, один из пасторов церкви АСД может предложить свои возможности. Он должен приготовить специальный буклет с предложением: «Если вы придете в церковь, получите бесплатный подарок». Этот способ заимствован из сферы бизнеса. В качестве подарка церковь может предложить книгу или репродукцию на духовную тему. Каждый год пастор готовит 250 подобных приглашений, которые необходимо распространить. Стоимость данного проекта не высока.</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body"/>
          </p:nvPr>
        </p:nvSpPr>
        <p:spPr>
          <a:xfrm>
            <a:off x="701280" y="476280"/>
            <a:ext cx="5746680" cy="8123040"/>
          </a:xfrm>
          <a:prstGeom prst="rect">
            <a:avLst/>
          </a:prstGeom>
          <a:noFill/>
          <a:ln w="0">
            <a:noFill/>
          </a:ln>
        </p:spPr>
        <p:txBody>
          <a:bodyPr lIns="93240" rIns="93240" tIns="46440" bIns="4644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ткрытки для особых случаев</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ногие пасторы рассылают открытки для особых случаев – купите хорошие открытки для больных, открытки-соболезнования скорбящим и открытки-поздравления молодоженам и родителям. Даже госпитализированные члены церкви могут участвовать в этом проекте. Как руководитель вы можете делегировать эту ответственность им; они могут изучать местные газеты в хронологическом порядке и отправлять открытки от имени церкви.</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6. Программа помощи молодым матерям</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руппа молодых девушек в церкви может постирать использованную одежду и отобрать книги в хорошем состоянии. Аккуратно завернуть их и положить особую открытку от имени церкви. Такие подарки можно распространить женщинам, которые только что родили детей в местном роддоме. Никто не знает, какие результаты и когда может принести такая забота.</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7. Добро пожаловать новоселам</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которые из наших церквей расположены на территориях, где растет очень много грибов, и покупатели постоянно переезжают в эти места. Пастор разрабатывает материалы, в которых перечисляются служения, предлагаемые церковью. Папка с материалами включает приглашение, которое говорит о том, что по воскресеньям вечером проводится «Час семейного церковного общения». Также в папки вложено личное приветствие каждому дому.</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ветствуйте новых членов</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некоторых церквях есть хорошая традиция – дарить подарки только что крещенным членам: будь-то Библия и сборник песен или другая духовная книга, которая поможет укреплению их духовной жизни. Такая практика помогает членам церкви чувствовать себя принятыми в церковь, и в то же время питает их духовную жизнь.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ещение членов церкви</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уществует очень хорошая традиция – посещать членов церкви. Посещение может быть коротким. Просто спросите и выслушайте как складывается жизнь. Затем помолитесь о людях, вручая их индивидуальные нужды Господу. Такое общение  поможет построить близкие отношения с членами церкви. Они будут чувствовать сильное единение церковного сообщества.</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ещение потерянных членов</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пользуя классы субботней школы, вы можете получить информацию о потерянных членах церкви. По мере того, как члены субботней школы будут посещать потерянных членов церкви, они могут предоставлять информацию руководителям церкви. Руководители затем смогут составить план посещения. Такого рода забота о потерянных членах церкви укрепит взаимоотношения между руководителями церкви и ее членами.</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2154240" y="401760"/>
            <a:ext cx="2408400" cy="1806480"/>
          </a:xfrm>
          <a:prstGeom prst="rect">
            <a:avLst/>
          </a:prstGeom>
          <a:ln w="0">
            <a:noFill/>
          </a:ln>
        </p:spPr>
      </p:sp>
      <p:sp>
        <p:nvSpPr>
          <p:cNvPr id="301" name="PlaceHolder 2"/>
          <p:cNvSpPr>
            <a:spLocks noGrp="1"/>
          </p:cNvSpPr>
          <p:nvPr>
            <p:ph type="body"/>
          </p:nvPr>
        </p:nvSpPr>
        <p:spPr>
          <a:xfrm>
            <a:off x="701280" y="2306520"/>
            <a:ext cx="5607000" cy="59277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КЛЮЧ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того, чтобы стать успешными руководителями, мы должны осознавать важность умения владеть собой, планирования действий и силы взаимоотношений, основанных на модели руководства Иисуса Христа. Если у вас будут хорошие взаимоотношения с другими людьми, а также с вашими подчиненными, вы будете успешным руководителем, который, в свою очередь, принесет целостное здоровье себе и своему коллективу.</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060640" y="476280"/>
            <a:ext cx="2798640" cy="2098800"/>
          </a:xfrm>
          <a:prstGeom prst="rect">
            <a:avLst/>
          </a:prstGeom>
          <a:ln w="0">
            <a:noFill/>
          </a:ln>
        </p:spPr>
      </p:sp>
      <p:sp>
        <p:nvSpPr>
          <p:cNvPr id="226" name="PlaceHolder 2"/>
          <p:cNvSpPr>
            <a:spLocks noGrp="1"/>
          </p:cNvSpPr>
          <p:nvPr>
            <p:ph type="body"/>
          </p:nvPr>
        </p:nvSpPr>
        <p:spPr>
          <a:xfrm>
            <a:off x="701280" y="2671560"/>
            <a:ext cx="5607000" cy="592740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Руководитель без взаимоотношений или человеко-ориентированных навыков скорее останется без последователе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ктор Барри Роснер, декан и профессор администрирования школы бизнеса Леавели университета Санта Клары в городе Санта Клара штата Калифорния задал очень практический вопрос: «Как вы узнаете руководителя?» Несмотря на то, что существует множество примеров руководителей в литературе, самый распространенный и простой ответ: «у руководителя есть последователи». Поэтому руководителей можно определить по наличию последователей. Руководство это взаимоотношения между теми, то избрал руководящую роль и теми, кто избрал роль последователя. Любые дискуссии о руководстве должны обращать внимание на динамику этих взаимоотношени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жон Максвелл напоминает нам об Андрю Карнеги, удивительном руководителе, который платил Чарльзу Швабу зарплату - 1 миллион долларов в год, просто за его удивительный человеческие качества. Карнеги нанял на работу также и других руководителей, которые лучше, чем Шваб понимали производственные задачи, были опытными и обученными. Однако, им недоставало очень важного человеческого качества – принимать помощь от других людей, а Шваб смог добиться от своих последователей самого лучшего, что от них зависело (2).</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2093760" y="549360"/>
            <a:ext cx="2602080" cy="1950840"/>
          </a:xfrm>
          <a:prstGeom prst="rect">
            <a:avLst/>
          </a:prstGeom>
          <a:ln w="0">
            <a:noFill/>
          </a:ln>
        </p:spPr>
      </p:sp>
      <p:sp>
        <p:nvSpPr>
          <p:cNvPr id="228" name="PlaceHolder 2"/>
          <p:cNvSpPr>
            <a:spLocks noGrp="1"/>
          </p:cNvSpPr>
          <p:nvPr>
            <p:ph type="body"/>
          </p:nvPr>
        </p:nvSpPr>
        <p:spPr>
          <a:xfrm>
            <a:off x="701280" y="2598480"/>
            <a:ext cx="5607000" cy="556092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юди могут восхищаться человеком, который имеет таланты и способности, но они не последуют за ним, ну, по крайней мере, не очень долго. Самые замечательные человеческие качества включают в себя заинтересованность в других людях, способность понимать людей и решение, прежде всего, настроится на позитивное взаимодействие. Наше поведение направлено на других людей, и это означает, что их поведение направленно на нас.</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2281320" y="841320"/>
            <a:ext cx="2501640" cy="1876320"/>
          </a:xfrm>
          <a:prstGeom prst="rect">
            <a:avLst/>
          </a:prstGeom>
          <a:ln w="0">
            <a:noFill/>
          </a:ln>
        </p:spPr>
      </p:sp>
      <p:sp>
        <p:nvSpPr>
          <p:cNvPr id="230"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Garamond"/>
              </a:rPr>
              <a:t>2. </a:t>
            </a:r>
            <a:r>
              <a:rPr b="1" lang="ru-RU" sz="1200" spc="-1" strike="noStrike">
                <a:solidFill>
                  <a:srgbClr val="000000"/>
                </a:solidFill>
                <a:latin typeface="Arial"/>
              </a:rPr>
              <a:t>Взаимоотношения – секрет успешных руководителей.</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0" lang="ru-RU" sz="1200" spc="-1" strike="noStrike">
                <a:solidFill>
                  <a:srgbClr val="000000"/>
                </a:solidFill>
                <a:latin typeface="Arial"/>
              </a:rPr>
              <a:t>Интересно уделить внимание важным переменным успеха, характерным особенно для самых высших трех руководящих должностей большой организации. Джоди Тэйлор и ее коллеги в Центре креативного руководства установили, что фактор успеха руководителя номер один это «взаимоотношения с подчиненными»</a:t>
            </a:r>
            <a:r>
              <a:rPr b="1" lang="ru-RU" sz="1200" spc="-1" strike="noStrike">
                <a:solidFill>
                  <a:srgbClr val="000000"/>
                </a:solidFill>
                <a:latin typeface="Arial"/>
              </a:rPr>
              <a:t> (3)</a:t>
            </a:r>
            <a:r>
              <a:rPr b="0" lang="ru-RU" sz="1200" spc="-1" strike="noStrike">
                <a:solidFill>
                  <a:srgbClr val="000000"/>
                </a:solidFill>
                <a:latin typeface="Arial"/>
              </a:rPr>
              <a:t>. Изучая руководящие техники Иисуса Христа, Джонс рассмотрел три аспекта Его руководящей сил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ла самодисциплин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ла действи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ла взаимоотношений </a:t>
            </a:r>
            <a:r>
              <a:rPr b="1" lang="ru-RU" sz="1200" spc="-1" strike="noStrike">
                <a:solidFill>
                  <a:srgbClr val="000000"/>
                </a:solidFill>
                <a:latin typeface="Arial"/>
              </a:rPr>
              <a:t>(4)</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пешное руководство требует присутствия всех трех аспектов, изложенных выше. Например, врач, который умеет владеть собой и обладает профессиональными навыками, но у него недостаток навыков взаимоотношений, будет ограничен в своей карьере. Интересно отметить, этот принцип относится к любой профессии в мире бизнеса, в церкви и даже если вы занимаетесь бизнесом по Интернету.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071800" y="695160"/>
            <a:ext cx="2698560" cy="2024280"/>
          </a:xfrm>
          <a:prstGeom prst="rect">
            <a:avLst/>
          </a:prstGeom>
          <a:ln w="0">
            <a:noFill/>
          </a:ln>
        </p:spPr>
      </p:sp>
      <p:sp>
        <p:nvSpPr>
          <p:cNvPr id="232"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он-лайн исследовании читателей журнала ‘</a:t>
            </a:r>
            <a:r>
              <a:rPr b="0" lang="en-US" sz="1200" spc="-1" strike="noStrike">
                <a:solidFill>
                  <a:srgbClr val="000000"/>
                </a:solidFill>
                <a:latin typeface="Arial"/>
              </a:rPr>
              <a:t>Fast Company</a:t>
            </a:r>
            <a:r>
              <a:rPr b="0" lang="ru-RU" sz="1200" spc="-1" strike="noStrike">
                <a:solidFill>
                  <a:srgbClr val="000000"/>
                </a:solidFill>
                <a:latin typeface="Arial"/>
              </a:rPr>
              <a:t>’ спросили «Что является более существенным для успешного бизнеса на протяжении последних пяти лет навыки по использованию Интернета или социальные навыки?» Семьдесят два процента выбрали социальные навыки в сравнении с двадцатью восемью процентами – навыки по работе в Интернете. Даже когда пользователи Интернета указывали на важность Интернета, они говори о том, что наибольшее значение имеют не сами сайты, а люди, работающие с сайтами.</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хожие результаты были обнаружены в исследовании организацией </a:t>
            </a:r>
            <a:r>
              <a:rPr b="0" lang="en-US" sz="1200" spc="-1" strike="noStrike">
                <a:solidFill>
                  <a:srgbClr val="000000"/>
                </a:solidFill>
                <a:latin typeface="Arial"/>
              </a:rPr>
              <a:t>Public Allies</a:t>
            </a:r>
            <a:r>
              <a:rPr b="0" lang="ru-RU" sz="1200" spc="-1" strike="noStrike">
                <a:solidFill>
                  <a:srgbClr val="000000"/>
                </a:solidFill>
                <a:latin typeface="Arial"/>
              </a:rPr>
              <a:t>. Она исследовала мнения о руководстве у людей в возрасте 18-30 лет. Среди вопросов были вопросы о качествах, важных для хорошего руководителя. Список качеств возглавила «способность увидеть ситуацию с точки зрения другого человека». На втором месте «хорошее взаимодействие с другими людьми». Молодые люди, а также люди постарше соглашаются с тем, что успех в руководстве, успех в бизнесе и успех в жизни зависит от того, как мы работаем и взаимодействуем друг с другом.</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2171880" y="1060560"/>
            <a:ext cx="2501640" cy="1876320"/>
          </a:xfrm>
          <a:prstGeom prst="rect">
            <a:avLst/>
          </a:prstGeom>
          <a:ln w="0">
            <a:noFill/>
          </a:ln>
        </p:spPr>
      </p:sp>
      <p:sp>
        <p:nvSpPr>
          <p:cNvPr id="234" name="PlaceHolder 2"/>
          <p:cNvSpPr>
            <a:spLocks noGrp="1"/>
          </p:cNvSpPr>
          <p:nvPr>
            <p:ph type="body"/>
          </p:nvPr>
        </p:nvSpPr>
        <p:spPr>
          <a:xfrm>
            <a:off x="701280" y="3036600"/>
            <a:ext cx="5607000" cy="556236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Garamond"/>
              </a:rPr>
              <a:t>3. </a:t>
            </a:r>
            <a:r>
              <a:rPr b="1" lang="ru-RU" sz="1200" spc="-1" strike="noStrike">
                <a:solidFill>
                  <a:srgbClr val="000000"/>
                </a:solidFill>
                <a:latin typeface="Arial"/>
              </a:rPr>
              <a:t>Взаимоотношения способствуют становлению здорового руководителя.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дивительно, какие научные открытия были сделаны в области того, как хорошие отношения с людьми влияют не только на радость от здоровой общественной жизни, но также на хорошее физическое состояни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ециальное исследование было представлено в журнале Новый английский журнал по медицине (</a:t>
            </a:r>
            <a:r>
              <a:rPr b="0" lang="en-US" sz="1200" spc="-1" strike="noStrike">
                <a:solidFill>
                  <a:srgbClr val="000000"/>
                </a:solidFill>
                <a:latin typeface="Arial"/>
              </a:rPr>
              <a:t>New England Journal of Medicine</a:t>
            </a:r>
            <a:r>
              <a:rPr b="0" lang="ru-RU" sz="1200" spc="-1" strike="noStrike">
                <a:solidFill>
                  <a:srgbClr val="000000"/>
                </a:solidFill>
                <a:latin typeface="Arial"/>
              </a:rPr>
              <a:t>), известное как «Исследование Бета-адреноблокираторов приступов сердца»</a:t>
            </a:r>
            <a:r>
              <a:rPr b="1" lang="ru-RU" sz="1200" spc="-1" strike="noStrike">
                <a:solidFill>
                  <a:srgbClr val="000000"/>
                </a:solidFill>
                <a:latin typeface="Arial"/>
              </a:rPr>
              <a:t> (5)</a:t>
            </a:r>
            <a:r>
              <a:rPr b="0" lang="ru-RU" sz="1200" spc="-1" strike="noStrike">
                <a:solidFill>
                  <a:srgbClr val="000000"/>
                </a:solidFill>
                <a:latin typeface="Arial"/>
              </a:rPr>
              <a:t>. Исследователи опросили 2300 мужчин, которые испытывают сердечные приступы и принимают бета-адреноблокираторы, чтобы снизить риск смертельного исхода. Исследователи предполагали, что бета-адреноблокираторы предотвратят сердечные приступы в будущем. Однако, результаты исследования говорят о том, что у тех мужчин, которые указали на свою социальную изоляцию (у них не было хороших отношений с другими людьми), диагностирована высокая степень жизненного стресса. Они более чем в четыре раза приближены к риску смерти, чем мужчины, у которых диагностированы и низкий уровень стресса, и низкий уровень изоляции. Эти открытия не зависят от других сопутствующих факторов, таких как генетика, курение, диета, употребление алкоголя, физические упражнения, вес и так далее. Возрастающий риск связан со стрессом и социальной изоляцией, которые могут привести как к приступам, угрожающим смертельным исходом, так и к внезапной остановке сердца.</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1E7200-5170-446B-874C-88E07F7D98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77CE5-CD19-4E64-9BE4-1774D3524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5CB731-BED8-46AD-B624-6557396671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E69C5B-F6A1-4BF8-9547-C1F10E9BB6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C83F3-141D-4878-AF3D-A9A457A1B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AD263-3A1E-4C52-9013-C35AB8420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3D9B7-DEF2-4A54-B37E-A1D36C92D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BD2D6-FC29-4927-A4EC-B91F45C0B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EECA3-1980-446E-8EFB-AF37AD362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7C17E-0BB9-4C59-816C-4A18DD737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52E21-06C4-4C67-AC0C-5C9F0D0DB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6ED76-008F-47A9-9A83-DD6CFC1D8A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E07DD-EAA4-4F6A-9349-DE2FB57020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0" y="0"/>
            <a:ext cx="9144000" cy="6858000"/>
          </a:xfrm>
          <a:prstGeom prst="rect">
            <a:avLst/>
          </a:prstGeom>
          <a:ln w="0">
            <a:noFill/>
          </a:ln>
        </p:spPr>
      </p:pic>
      <p:sp>
        <p:nvSpPr>
          <p:cNvPr id="51" name=""/>
          <p:cNvSpPr txBox="1"/>
          <p:nvPr/>
        </p:nvSpPr>
        <p:spPr>
          <a:xfrm>
            <a:off x="1619280" y="549360"/>
            <a:ext cx="5616720" cy="1377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80"/>
                </a:solidFill>
                <a:effectLst>
                  <a:outerShdw dist="17819" dir="2700000" blurRad="0" rotWithShape="0">
                    <a:srgbClr val="ffffff">
                      <a:alpha val="80000"/>
                    </a:srgbClr>
                  </a:outerShdw>
                </a:effectLst>
                <a:latin typeface="Arial"/>
              </a:rPr>
              <a:t>Природа отношений в руководстве</a:t>
            </a:r>
            <a:endParaRPr b="1" i="1" lang="en-US" sz="1800" spc="1" strike="noStrike">
              <a:ln w="9360">
                <a:solidFill>
                  <a:srgbClr val="000000"/>
                </a:solidFill>
                <a:miter/>
              </a:ln>
              <a:solidFill>
                <a:srgbClr val="000080"/>
              </a:solidFill>
              <a:effectLst>
                <a:outerShdw dist="17819" dir="2700000" blurRad="0" rotWithShape="0">
                  <a:srgbClr val="ffffff">
                    <a:alpha val="80000"/>
                  </a:srgbClr>
                </a:outerShdw>
              </a:effectLst>
              <a:latin typeface="Arial"/>
              <a:ea typeface="Arial"/>
            </a:endParaRPr>
          </a:p>
        </p:txBody>
      </p:sp>
      <p:pic>
        <p:nvPicPr>
          <p:cNvPr id="52" name="" descr=""/>
          <p:cNvPicPr/>
          <p:nvPr/>
        </p:nvPicPr>
        <p:blipFill>
          <a:blip r:embed="rId2"/>
          <a:stretch/>
        </p:blipFill>
        <p:spPr>
          <a:xfrm>
            <a:off x="6372360" y="4581360"/>
            <a:ext cx="1008000" cy="689040"/>
          </a:xfrm>
          <a:prstGeom prst="rect">
            <a:avLst/>
          </a:prstGeom>
          <a:ln w="0">
            <a:noFill/>
          </a:ln>
        </p:spPr>
      </p:pic>
      <p:sp>
        <p:nvSpPr>
          <p:cNvPr id="53" name=""/>
          <p:cNvSpPr/>
          <p:nvPr/>
        </p:nvSpPr>
        <p:spPr>
          <a:xfrm>
            <a:off x="5075280" y="5373720"/>
            <a:ext cx="37447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Papyrus"/>
              </a:rPr>
              <a:t>Генеральная конференция</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Papyrus"/>
              </a:rPr>
              <a:t>Отдел Женского служения</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Papyrus"/>
              </a:rPr>
              <a:t>Сертификационная программа</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Papyrus"/>
              </a:rPr>
              <a:t>Уровень 4</a:t>
            </a:r>
            <a:endParaRPr b="0" lang="en-US" sz="2000" spc="-1" strike="noStrike">
              <a:solidFill>
                <a:srgbClr val="000000"/>
              </a:solidFill>
              <a:latin typeface="Arial"/>
            </a:endParaRPr>
          </a:p>
        </p:txBody>
      </p:sp>
      <p:sp>
        <p:nvSpPr>
          <p:cNvPr id="54" name=""/>
          <p:cNvSpPr/>
          <p:nvPr/>
        </p:nvSpPr>
        <p:spPr>
          <a:xfrm>
            <a:off x="5424840" y="2982960"/>
            <a:ext cx="2506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Papyrus"/>
              </a:rPr>
              <a:t>Подготовлено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Papyrus"/>
              </a:rPr>
              <a:t>Кэтлин Кунтараф</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2"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93" name="PlaceHolder 2"/>
          <p:cNvSpPr>
            <a:spLocks noGrp="1"/>
          </p:cNvSpPr>
          <p:nvPr>
            <p:ph/>
          </p:nvPr>
        </p:nvSpPr>
        <p:spPr>
          <a:xfrm>
            <a:off x="457200" y="2216160"/>
            <a:ext cx="8229600" cy="452592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редставьте себе, что психологические последствия хороших взаимоотношений с другими людьми имеют больше силы в профилактике смертельных исходов, чем бета-адреноблокираторы. Чтобы быть здоровым, особенно для руководителей, необходимо иметь хорошие взаимоотношения с другими людьми, а не жить в изоляции.</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94" name=""/>
          <p:cNvSpPr/>
          <p:nvPr/>
        </p:nvSpPr>
        <p:spPr>
          <a:xfrm>
            <a:off x="0" y="1989000"/>
            <a:ext cx="9144000" cy="71640"/>
          </a:xfrm>
          <a:prstGeom prst="rect">
            <a:avLst/>
          </a:prstGeom>
          <a:solidFill>
            <a:srgbClr val="ff6699"/>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6"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97" name="PlaceHolder 2"/>
          <p:cNvSpPr>
            <a:spLocks noGrp="1"/>
          </p:cNvSpPr>
          <p:nvPr>
            <p:ph/>
          </p:nvPr>
        </p:nvSpPr>
        <p:spPr>
          <a:xfrm>
            <a:off x="324000" y="2205000"/>
            <a:ext cx="8229600" cy="4525920"/>
          </a:xfrm>
          <a:prstGeom prst="rect">
            <a:avLst/>
          </a:prstGeom>
          <a:noFill/>
          <a:ln w="0">
            <a:noFill/>
          </a:ln>
        </p:spPr>
        <p:txBody>
          <a:bodyPr lIns="90000" rIns="90000" tIns="46800" bIns="46800" anchor="t">
            <a:normAutofit/>
          </a:bodyPr>
          <a:p>
            <a:pPr marL="343080" indent="-343080" algn="ct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Хотите ли вы быть не только успешным, а также и здоровым руководителем? Вам необходимо иметь хорошие взаимоотношения со всеми, включая тех, кто, возможно, обладают отличающимися от ваших личностными и профессиональным характеристиками, а не только с парочкой ваших любимчиков.</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98" name=""/>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IBLICAL PRINCIPLES OF RELATIONSHIPS </a:t>
            </a:r>
            <a:endParaRPr b="0" lang="en-US" sz="3600" spc="-1" strike="noStrike">
              <a:solidFill>
                <a:srgbClr val="000000"/>
              </a:solidFill>
              <a:latin typeface="Arial"/>
            </a:endParaRPr>
          </a:p>
        </p:txBody>
      </p:sp>
      <p:pic>
        <p:nvPicPr>
          <p:cNvPr id="100" name="" descr=""/>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101"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Библия это книга взаимоотношений. От книги Бытие до книги Откровение Библия говорит о взаимоотношениях Бога с людьми. Следовательно, как для христиан-руководителей для нас очень важно искать библейские принципы взаимоотношений.</a:t>
            </a:r>
            <a:endParaRPr b="0" lang="en-US" sz="3200" spc="-1" strike="noStrike">
              <a:solidFill>
                <a:srgbClr val="000000"/>
              </a:solidFill>
              <a:latin typeface="Arial"/>
            </a:endParaRPr>
          </a:p>
        </p:txBody>
      </p:sp>
      <p:sp>
        <p:nvSpPr>
          <p:cNvPr id="102" name=""/>
          <p:cNvSpPr/>
          <p:nvPr/>
        </p:nvSpPr>
        <p:spPr>
          <a:xfrm>
            <a:off x="3059280" y="490680"/>
            <a:ext cx="5843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ИБЛЕЙСКИЕ ПРИНЦИПЫ ВЗАИМООТНОШЕНИЙ</a:t>
            </a:r>
            <a:br>
              <a:rPr sz="2400"/>
            </a:br>
            <a:endParaRPr b="0" lang="en-US" sz="2400" spc="-1" strike="noStrike">
              <a:solidFill>
                <a:srgbClr val="000000"/>
              </a:solidFill>
              <a:latin typeface="Arial"/>
            </a:endParaRPr>
          </a:p>
        </p:txBody>
      </p:sp>
      <p:sp>
        <p:nvSpPr>
          <p:cNvPr id="103"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105" name="PlaceHolder 1"/>
          <p:cNvSpPr>
            <a:spLocks noGrp="1"/>
          </p:cNvSpPr>
          <p:nvPr>
            <p:ph type="title"/>
          </p:nvPr>
        </p:nvSpPr>
        <p:spPr>
          <a:xfrm>
            <a:off x="2771280" y="701280"/>
            <a:ext cx="5915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Condensed Extra Bold"/>
              </a:rPr>
              <a:t>1. </a:t>
            </a:r>
            <a:r>
              <a:rPr b="0" lang="ru-RU" sz="4000" spc="-1" strike="noStrike">
                <a:solidFill>
                  <a:srgbClr val="000000"/>
                </a:solidFill>
                <a:latin typeface="Tw Cen MT Condensed Extra Bold"/>
              </a:rPr>
              <a:t>Следовать за Христом</a:t>
            </a:r>
            <a:endParaRPr b="0" lang="en-US" sz="4000" spc="-1" strike="noStrike">
              <a:solidFill>
                <a:srgbClr val="000000"/>
              </a:solidFill>
              <a:latin typeface="Arial"/>
            </a:endParaRPr>
          </a:p>
        </p:txBody>
      </p:sp>
      <p:sp>
        <p:nvSpPr>
          <p:cNvPr id="106" name="PlaceHolder 2"/>
          <p:cNvSpPr>
            <a:spLocks noGrp="1"/>
          </p:cNvSpPr>
          <p:nvPr>
            <p:ph/>
          </p:nvPr>
        </p:nvSpPr>
        <p:spPr>
          <a:xfrm>
            <a:off x="446040" y="2430000"/>
            <a:ext cx="8229600" cy="308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екрет успешных взаимоотношений можно найти в книге апостола Петра: Ибо вы к тому призваны, потому что и Христос пострадал за нас, оставив нам пример, дабы мы шли по следам Его... 1 Петра 2:21.</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
          <p:cNvSpPr/>
          <p:nvPr/>
        </p:nvSpPr>
        <p:spPr>
          <a:xfrm>
            <a:off x="0" y="1989000"/>
            <a:ext cx="9144000" cy="71640"/>
          </a:xfrm>
          <a:prstGeom prst="rect">
            <a:avLst/>
          </a:prstGeom>
          <a:solidFill>
            <a:srgbClr val="99cc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are the things we can learn from His example?</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109"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10" name="PlaceHolder 2"/>
          <p:cNvSpPr>
            <a:spLocks noGrp="1"/>
          </p:cNvSpPr>
          <p:nvPr>
            <p:ph/>
          </p:nvPr>
        </p:nvSpPr>
        <p:spPr>
          <a:xfrm>
            <a:off x="0" y="2143080"/>
            <a:ext cx="914400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 Иисус очень хорошо осознавал интересы и нужды людей.</a:t>
            </a:r>
            <a:endParaRPr b="0" lang="en-US" sz="2400" spc="-1" strike="noStrike">
              <a:solidFill>
                <a:srgbClr val="000000"/>
              </a:solidFill>
              <a:latin typeface="Arial"/>
            </a:endParaRPr>
          </a:p>
          <a:p>
            <a:pPr marL="6094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ru-RU" sz="2400" spc="-1" strike="noStrike">
                <a:solidFill>
                  <a:srgbClr val="000000"/>
                </a:solidFill>
                <a:latin typeface="Arial"/>
              </a:rPr>
              <a:t>Успешные руководители должны следовать примеру Иисуса Христа, проявляя интерес к нуждам людей. Елена Уайт отмечает: Всякий, кто проповедует Слово Божье и кто принял Евангелие Его благодати, должен следовать примеру Христа, Которому были близки нужды человечества (8)</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11" name=""/>
          <p:cNvSpPr/>
          <p:nvPr/>
        </p:nvSpPr>
        <p:spPr>
          <a:xfrm>
            <a:off x="2843280" y="490680"/>
            <a:ext cx="6059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w Cen MT Condensed Extra Bold"/>
              </a:rPr>
              <a:t>Чему мы можем научиться у Христа?</a:t>
            </a:r>
            <a:r>
              <a:rPr b="0" lang="en-US" sz="4000" spc="-1" strike="noStrike">
                <a:solidFill>
                  <a:srgbClr val="000000"/>
                </a:solidFill>
                <a:latin typeface="Tw Cen MT Condensed Extra Bold"/>
              </a:rPr>
              <a:t> </a:t>
            </a:r>
            <a:endParaRPr b="0" lang="en-US" sz="4000" spc="-1" strike="noStrike">
              <a:solidFill>
                <a:srgbClr val="000000"/>
              </a:solidFill>
              <a:latin typeface="Arial"/>
            </a:endParaRPr>
          </a:p>
        </p:txBody>
      </p:sp>
      <p:sp>
        <p:nvSpPr>
          <p:cNvPr id="112"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114" name="PlaceHolder 1"/>
          <p:cNvSpPr>
            <a:spLocks noGrp="1"/>
          </p:cNvSpPr>
          <p:nvPr>
            <p:ph type="title"/>
          </p:nvPr>
        </p:nvSpPr>
        <p:spPr>
          <a:xfrm>
            <a:off x="3733920" y="475920"/>
            <a:ext cx="5410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 Иисус Христос старался не обижать людей</a:t>
            </a:r>
            <a:r>
              <a:rPr b="1" lang="ru-RU" sz="4000" spc="-1" strike="noStrike">
                <a:solidFill>
                  <a:srgbClr val="000000"/>
                </a:solidFill>
                <a:latin typeface="Arial"/>
              </a:rPr>
              <a:t> </a:t>
            </a:r>
            <a:br>
              <a:rPr sz="3200"/>
            </a:br>
            <a:endParaRPr b="0" lang="en-US" sz="4000" spc="-1" strike="noStrike">
              <a:solidFill>
                <a:srgbClr val="000000"/>
              </a:solidFill>
              <a:latin typeface="Arial"/>
            </a:endParaRPr>
          </a:p>
        </p:txBody>
      </p:sp>
      <p:sp>
        <p:nvSpPr>
          <p:cNvPr id="115" name="PlaceHolder 2"/>
          <p:cNvSpPr>
            <a:spLocks noGrp="1"/>
          </p:cNvSpPr>
          <p:nvPr>
            <p:ph/>
          </p:nvPr>
        </p:nvSpPr>
        <p:spPr>
          <a:xfrm>
            <a:off x="457200" y="1926720"/>
            <a:ext cx="8229600" cy="452628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ледуя примеру Иисуса Христа, Елена Уайт также предлагает всем руководителям: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е платите за обиду той же монетой. Настолько, насколько это возможно с вашей стороны, устраните все  причины недоразумений. Опасайтесь проникновения зла в вашу жизнь. Делайте все возможное, чтобы жить в мире с ближними, не принося при этом в жертву принципы.</a:t>
            </a:r>
            <a:endParaRPr b="0" lang="en-US" sz="2400" spc="-1" strike="noStrike">
              <a:solidFill>
                <a:srgbClr val="000000"/>
              </a:solidFill>
              <a:latin typeface="Arial"/>
            </a:endParaRPr>
          </a:p>
        </p:txBody>
      </p:sp>
      <p:sp>
        <p:nvSpPr>
          <p:cNvPr id="116" name=""/>
          <p:cNvSpPr/>
          <p:nvPr/>
        </p:nvSpPr>
        <p:spPr>
          <a:xfrm>
            <a:off x="0" y="1989000"/>
            <a:ext cx="9144000" cy="71640"/>
          </a:xfrm>
          <a:prstGeom prst="rect">
            <a:avLst/>
          </a:prstGeom>
          <a:solidFill>
            <a:srgbClr val="ff6699"/>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18" name="PlaceHolder 1"/>
          <p:cNvSpPr>
            <a:spLocks noGrp="1"/>
          </p:cNvSpPr>
          <p:nvPr>
            <p:ph type="title"/>
          </p:nvPr>
        </p:nvSpPr>
        <p:spPr>
          <a:xfrm>
            <a:off x="3203280" y="1133280"/>
            <a:ext cx="5483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Иисус Христос притягивал людей своей дружелюбностью</a:t>
            </a:r>
            <a:br>
              <a:rPr sz="4000"/>
            </a:br>
            <a:endParaRPr b="0" lang="en-US" sz="2400" spc="-1" strike="noStrike">
              <a:solidFill>
                <a:srgbClr val="000000"/>
              </a:solidFill>
              <a:latin typeface="Arial"/>
            </a:endParaRPr>
          </a:p>
        </p:txBody>
      </p:sp>
      <p:sp>
        <p:nvSpPr>
          <p:cNvPr id="119" name="PlaceHolder 2"/>
          <p:cNvSpPr>
            <a:spLocks noGrp="1"/>
          </p:cNvSpPr>
          <p:nvPr>
            <p:ph/>
          </p:nvPr>
        </p:nvSpPr>
        <p:spPr>
          <a:xfrm>
            <a:off x="960120" y="2637000"/>
            <a:ext cx="7643880" cy="2620800"/>
          </a:xfrm>
          <a:prstGeom prst="rect">
            <a:avLst/>
          </a:prstGeom>
          <a:noFill/>
          <a:ln w="0">
            <a:noFill/>
          </a:ln>
        </p:spPr>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исус привлекал мужчин своей дружелюбностью. Поэтому для того, чтобы быть успешным руководителем как Иисус Христос необходимо быть очень дружелюбным к другим людям.</a:t>
            </a:r>
            <a:endParaRPr b="0" lang="en-US" sz="2400" spc="-1" strike="noStrike">
              <a:solidFill>
                <a:srgbClr val="000000"/>
              </a:solidFill>
              <a:latin typeface="Arial"/>
            </a:endParaRPr>
          </a:p>
        </p:txBody>
      </p:sp>
      <p:sp>
        <p:nvSpPr>
          <p:cNvPr id="120" name=""/>
          <p:cNvSpPr/>
          <p:nvPr/>
        </p:nvSpPr>
        <p:spPr>
          <a:xfrm>
            <a:off x="0" y="1989000"/>
            <a:ext cx="9144000" cy="71640"/>
          </a:xfrm>
          <a:prstGeom prst="rect">
            <a:avLst/>
          </a:prstGeom>
          <a:solidFill>
            <a:srgbClr val="9966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22" name="PlaceHolder 1"/>
          <p:cNvSpPr>
            <a:spLocks noGrp="1"/>
          </p:cNvSpPr>
          <p:nvPr>
            <p:ph type="title"/>
          </p:nvPr>
        </p:nvSpPr>
        <p:spPr>
          <a:xfrm>
            <a:off x="3132000" y="917280"/>
            <a:ext cx="55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 Иисус Христос принимал чувства других людей</a:t>
            </a:r>
            <a:endParaRPr b="0" lang="en-US" sz="2400" spc="-1" strike="noStrike">
              <a:solidFill>
                <a:srgbClr val="000000"/>
              </a:solidFill>
              <a:latin typeface="Arial"/>
            </a:endParaRPr>
          </a:p>
        </p:txBody>
      </p:sp>
      <p:sp>
        <p:nvSpPr>
          <p:cNvPr id="123" name="PlaceHolder 2"/>
          <p:cNvSpPr>
            <a:spLocks noGrp="1"/>
          </p:cNvSpPr>
          <p:nvPr>
            <p:ph/>
          </p:nvPr>
        </p:nvSpPr>
        <p:spPr>
          <a:xfrm>
            <a:off x="457200" y="2647800"/>
            <a:ext cx="8229600" cy="3013200"/>
          </a:xfrm>
          <a:prstGeom prst="rect">
            <a:avLst/>
          </a:prstGeom>
          <a:noFill/>
          <a:ln w="0">
            <a:noFill/>
          </a:ln>
        </p:spPr>
        <p:txBody>
          <a:bodyPr lIns="90000" rIns="90000" tIns="46800" bIns="46800"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Arial"/>
              </a:rPr>
              <a:t> </a:t>
            </a:r>
            <a:r>
              <a:rPr b="1" lang="ru-RU" sz="2800" spc="-1" strike="noStrike">
                <a:solidFill>
                  <a:srgbClr val="000000"/>
                </a:solidFill>
                <a:latin typeface="Arial"/>
              </a:rPr>
              <a:t>Он никогда не грубил, никогда не говорил ненужных слов, никогда не причинял ненужную боль чувствительным душам.</a:t>
            </a:r>
            <a:endParaRPr b="0" lang="en-US" sz="2800" spc="-1" strike="noStrike">
              <a:solidFill>
                <a:srgbClr val="000000"/>
              </a:solidFill>
              <a:latin typeface="Arial"/>
            </a:endParaRPr>
          </a:p>
        </p:txBody>
      </p:sp>
      <p:sp>
        <p:nvSpPr>
          <p:cNvPr id="124" name=""/>
          <p:cNvSpPr/>
          <p:nvPr/>
        </p:nvSpPr>
        <p:spPr>
          <a:xfrm>
            <a:off x="0" y="1989000"/>
            <a:ext cx="9144000" cy="71640"/>
          </a:xfrm>
          <a:prstGeom prst="rect">
            <a:avLst/>
          </a:prstGeom>
          <a:solidFill>
            <a:srgbClr val="ffcc66"/>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395280" y="2576160"/>
            <a:ext cx="8229600" cy="3157560"/>
          </a:xfrm>
          <a:prstGeom prst="rect">
            <a:avLst/>
          </a:prstGeom>
          <a:noFill/>
          <a:ln w="0">
            <a:noFill/>
          </a:ln>
        </p:spPr>
        <p:txBody>
          <a:bodyPr lIns="90000" rIns="90000" tIns="46800" bIns="46800" anchor="t">
            <a:normAutofit/>
          </a:bodyPr>
          <a:p>
            <a:pPr marL="343080" indent="-343080" algn="ctr">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оэтому руководителю полезно следовать примеру Иисуса Христа. Говорите одобряющие слова, вместо унижающих, которые негативно влияют на иммунную систему других людей, включая ваших подчиненных.</a:t>
            </a:r>
            <a:endParaRPr b="0" lang="en-US" sz="2400" spc="-1" strike="noStrike">
              <a:solidFill>
                <a:srgbClr val="000000"/>
              </a:solidFill>
              <a:latin typeface="Arial"/>
            </a:endParaRPr>
          </a:p>
        </p:txBody>
      </p:sp>
      <p:sp>
        <p:nvSpPr>
          <p:cNvPr id="128"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30" name="PlaceHolder 1"/>
          <p:cNvSpPr>
            <a:spLocks noGrp="1"/>
          </p:cNvSpPr>
          <p:nvPr>
            <p:ph type="title"/>
          </p:nvPr>
        </p:nvSpPr>
        <p:spPr>
          <a:xfrm>
            <a:off x="2700000" y="701280"/>
            <a:ext cx="6551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w Cen MT Condensed Extra Bold"/>
              </a:rPr>
              <a:t>2. Следуйте Слову Божьему </a:t>
            </a:r>
            <a:r>
              <a:rPr b="0" lang="en-US" sz="4000" spc="-1" strike="noStrike">
                <a:solidFill>
                  <a:srgbClr val="000000"/>
                </a:solidFill>
                <a:latin typeface="Tw Cen MT Condensed Extra Bold"/>
              </a:rPr>
              <a:t> </a:t>
            </a:r>
            <a:endParaRPr b="0" lang="en-US" sz="4000" spc="-1" strike="noStrike">
              <a:solidFill>
                <a:srgbClr val="000000"/>
              </a:solidFill>
              <a:latin typeface="Arial"/>
            </a:endParaRPr>
          </a:p>
        </p:txBody>
      </p:sp>
      <p:sp>
        <p:nvSpPr>
          <p:cNvPr id="131" name="PlaceHolder 2"/>
          <p:cNvSpPr>
            <a:spLocks noGrp="1"/>
          </p:cNvSpPr>
          <p:nvPr>
            <p:ph/>
          </p:nvPr>
        </p:nvSpPr>
        <p:spPr>
          <a:xfrm>
            <a:off x="457200" y="2143080"/>
            <a:ext cx="8229600" cy="4525920"/>
          </a:xfrm>
          <a:prstGeom prst="rect">
            <a:avLst/>
          </a:prstGeom>
          <a:noFill/>
          <a:ln w="0">
            <a:noFill/>
          </a:ln>
        </p:spPr>
        <p:txBody>
          <a:bodyPr lIns="90000" rIns="90000" tIns="46800" bIns="46800" anchor="t">
            <a:normAutofit/>
          </a:bodyPr>
          <a:p>
            <a:pPr lvl="1" marL="990720" indent="0">
              <a:lnSpc>
                <a:spcPct val="6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А. Следуйте Золотому правилу</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нцип Золотого правила хорошо известен всем нам. И как хотите, чтобы с вами поступали люди, так и вы поступайте с ними, Лк. 6:31. </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ля того, чтобы руководители были успешными, они должны проявлять конфиденциальность и поддержку людям.</a:t>
            </a:r>
            <a:endParaRPr b="0" lang="en-US" sz="2800" spc="-1" strike="noStrike">
              <a:solidFill>
                <a:srgbClr val="000000"/>
              </a:solidFill>
              <a:latin typeface="Arial"/>
            </a:endParaRPr>
          </a:p>
        </p:txBody>
      </p:sp>
      <p:sp>
        <p:nvSpPr>
          <p:cNvPr id="132" name=""/>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6"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57" name="PlaceHolder 2"/>
          <p:cNvSpPr>
            <a:spLocks noGrp="1"/>
          </p:cNvSpPr>
          <p:nvPr>
            <p:ph/>
          </p:nvPr>
        </p:nvSpPr>
        <p:spPr>
          <a:xfrm>
            <a:off x="519120" y="2215800"/>
            <a:ext cx="8229600" cy="3660840"/>
          </a:xfrm>
          <a:prstGeom prst="rect">
            <a:avLst/>
          </a:prstGeom>
          <a:noFill/>
          <a:ln w="0">
            <a:noFill/>
          </a:ln>
        </p:spPr>
        <p:txBody>
          <a:bodyPr lIns="90000" rIns="90000" tIns="46800" bIns="46800" anchor="t">
            <a:normAutofit/>
          </a:bodyPr>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оскольку мы наблюдаем рост Церкви АСД, очевидно, нам необходимо все большее количество женщин руководителей. Елена Уайт писала сравнительно давно о том, что «поскольку наша численность растет, значит, без определенной формы организации будет великое замешательство и работа не принесет ожидаемого успеха»</a:t>
            </a:r>
            <a:r>
              <a:rPr b="0" lang="ru-RU" sz="2400" spc="-1" strike="noStrike">
                <a:solidFill>
                  <a:srgbClr val="000000"/>
                </a:solidFill>
                <a:latin typeface="Arial"/>
              </a:rPr>
              <a:t>  (1).</a:t>
            </a:r>
            <a:endParaRPr b="0" lang="en-US" sz="2400" spc="-1" strike="noStrike">
              <a:solidFill>
                <a:srgbClr val="000000"/>
              </a:solidFill>
              <a:latin typeface="Arial"/>
            </a:endParaRPr>
          </a:p>
        </p:txBody>
      </p:sp>
      <p:sp>
        <p:nvSpPr>
          <p:cNvPr id="58"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324000" y="2143080"/>
            <a:ext cx="8229600" cy="4525920"/>
          </a:xfrm>
          <a:prstGeom prst="rect">
            <a:avLst/>
          </a:prstGeom>
          <a:noFill/>
          <a:ln w="0">
            <a:noFill/>
          </a:ln>
        </p:spPr>
        <p:txBody>
          <a:bodyPr lIns="90000" rIns="90000" tIns="46800" bIns="46800" anchor="t">
            <a:normAutofit/>
          </a:bodyPr>
          <a:p>
            <a:pPr marL="609480" indent="-60948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aramond"/>
              </a:rPr>
              <a:t>Б. </a:t>
            </a:r>
            <a:r>
              <a:rPr b="1" lang="ru-RU" sz="2800" spc="-1" strike="noStrike">
                <a:solidFill>
                  <a:srgbClr val="000000"/>
                </a:solidFill>
                <a:latin typeface="Arial"/>
              </a:rPr>
              <a:t>Любите своих людей. </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Христос ясно говорит, что Он желает, чтобы мы любили друг друга. Основываясь на великой заповеди (Мтф. 22:36-50) о необходимости любить Бога и близких, Он напоминает: По тому узнают все, что вы Мои ученики, если будете иметь любовь между собою.  Иоанн. 13:35.</a:t>
            </a:r>
            <a:endParaRPr b="0" lang="en-US" sz="2800" spc="-1" strike="noStrike">
              <a:solidFill>
                <a:srgbClr val="000000"/>
              </a:solidFill>
              <a:latin typeface="Arial"/>
            </a:endParaRPr>
          </a:p>
        </p:txBody>
      </p:sp>
      <p:sp>
        <p:nvSpPr>
          <p:cNvPr id="136"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2276640"/>
            <a:ext cx="8229600" cy="4525920"/>
          </a:xfrm>
          <a:prstGeom prst="rect">
            <a:avLst/>
          </a:prstGeom>
          <a:noFill/>
          <a:ln w="0">
            <a:noFill/>
          </a:ln>
        </p:spPr>
        <p:txBody>
          <a:bodyPr lIns="90000" rIns="90000" tIns="46800" bIns="46800" anchor="t">
            <a:normAutofit/>
          </a:bodyPr>
          <a:p>
            <a:pPr marL="343080" indent="-343080" algn="ctr">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Не удивительно, что Бог хочет, чтобы мы любили и заботились друг о друге, и особенно это касается тех, кто занимает руководящие должности. Любя других людей, мы не только показываем, что являемся апостолами Иисуса Христа, но мы также влияем на тех, кто получает нашу любовь – даже на детей, находящихся в утробе. Если однажды наши подчиненные почувствуют нашу любовь, мы сможем легко завоевать их доверие и согласие на взаимодействие для исполнения нашей миссии.</a:t>
            </a:r>
            <a:r>
              <a:rPr b="0" lang="ru-RU" sz="2000" spc="-1" strike="noStrike">
                <a:solidFill>
                  <a:srgbClr val="000000"/>
                </a:solidFill>
                <a:latin typeface="Arial"/>
              </a:rPr>
              <a:t> </a:t>
            </a:r>
            <a:endParaRPr b="0" lang="en-US" sz="2000" spc="-1" strike="noStrike">
              <a:solidFill>
                <a:srgbClr val="000000"/>
              </a:solidFill>
              <a:latin typeface="Arial"/>
            </a:endParaRPr>
          </a:p>
        </p:txBody>
      </p:sp>
      <p:sp>
        <p:nvSpPr>
          <p:cNvPr id="140" name=""/>
          <p:cNvSpPr/>
          <p:nvPr/>
        </p:nvSpPr>
        <p:spPr>
          <a:xfrm>
            <a:off x="0" y="1989000"/>
            <a:ext cx="9144000" cy="71640"/>
          </a:xfrm>
          <a:prstGeom prst="rect">
            <a:avLst/>
          </a:prstGeom>
          <a:solidFill>
            <a:srgbClr val="ff6699"/>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42" name="PlaceHolder 1"/>
          <p:cNvSpPr>
            <a:spLocks noGrp="1"/>
          </p:cNvSpPr>
          <p:nvPr>
            <p:ph/>
          </p:nvPr>
        </p:nvSpPr>
        <p:spPr>
          <a:xfrm>
            <a:off x="457200" y="2216160"/>
            <a:ext cx="8229600" cy="4525920"/>
          </a:xfrm>
          <a:prstGeom prst="rect">
            <a:avLst/>
          </a:prstGeom>
          <a:noFill/>
          <a:ln w="0">
            <a:noFill/>
          </a:ln>
        </p:spPr>
        <p:txBody>
          <a:bodyPr lIns="90000" rIns="90000" tIns="46800" bIns="46800" anchor="t">
            <a:normAutofit/>
          </a:bodyPr>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Используйте все возможности, чтобы помочь вашим коллегам.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е отказывай в благодеянии нуждающемуся, когда рука твоя в силе сделать его, Пр. 3:27. В данном стихе представлены несколько примеров того, как руководители могут подавлять права работников.</a:t>
            </a:r>
            <a:endParaRPr b="0" lang="en-US" sz="2400" spc="-1" strike="noStrike">
              <a:solidFill>
                <a:srgbClr val="000000"/>
              </a:solidFill>
              <a:latin typeface="Arial"/>
            </a:endParaRPr>
          </a:p>
        </p:txBody>
      </p:sp>
      <p:sp>
        <p:nvSpPr>
          <p:cNvPr id="143"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45" name="PlaceHolder 1"/>
          <p:cNvSpPr>
            <a:spLocks noGrp="1"/>
          </p:cNvSpPr>
          <p:nvPr>
            <p:ph/>
          </p:nvPr>
        </p:nvSpPr>
        <p:spPr>
          <a:xfrm>
            <a:off x="303120" y="2071800"/>
            <a:ext cx="8229600" cy="4525920"/>
          </a:xfrm>
          <a:prstGeom prst="rect">
            <a:avLst/>
          </a:prstGeom>
          <a:noFill/>
          <a:ln w="0">
            <a:noFill/>
          </a:ln>
        </p:spPr>
        <p:txBody>
          <a:bodyPr lIns="90000" rIns="90000" tIns="46800" bIns="46800" anchor="t">
            <a:normAutofit/>
          </a:bodyPr>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 Советуйтесь с вашими сотрудниками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удрейший человек, который когда-либо жил, записал очень важный принцип относительно этого вопроса: При недостатке попечения падает народ, а при многих советниках благоденствует, Пр. 11:14. Он также записал, что послушает мудрый - и умножит познания, и разумный найдет мудрые советы, Пр. 1:5. Как руководители-христиане мы должны спрашивать совет, особенно у посвященных и опытных сотрудников.</a:t>
            </a:r>
            <a:endParaRPr b="0" lang="en-US" sz="2400" spc="-1" strike="noStrike">
              <a:solidFill>
                <a:srgbClr val="000000"/>
              </a:solidFill>
              <a:latin typeface="Arial"/>
            </a:endParaRPr>
          </a:p>
        </p:txBody>
      </p:sp>
      <p:sp>
        <p:nvSpPr>
          <p:cNvPr id="146" name=""/>
          <p:cNvSpPr/>
          <p:nvPr/>
        </p:nvSpPr>
        <p:spPr>
          <a:xfrm>
            <a:off x="0" y="1989000"/>
            <a:ext cx="9144000" cy="71640"/>
          </a:xfrm>
          <a:prstGeom prst="rect">
            <a:avLst/>
          </a:prstGeom>
          <a:solidFill>
            <a:srgbClr val="66ff33"/>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48" name="PlaceHolder 1"/>
          <p:cNvSpPr>
            <a:spLocks noGrp="1"/>
          </p:cNvSpPr>
          <p:nvPr>
            <p:ph/>
          </p:nvPr>
        </p:nvSpPr>
        <p:spPr>
          <a:xfrm>
            <a:off x="457200" y="1926720"/>
            <a:ext cx="8229600" cy="4526280"/>
          </a:xfrm>
          <a:prstGeom prst="rect">
            <a:avLst/>
          </a:prstGeom>
          <a:noFill/>
          <a:ln w="0">
            <a:noFill/>
          </a:ln>
        </p:spPr>
        <p:txBody>
          <a:bodyPr lIns="90000" rIns="90000" tIns="46800" bIns="46800" anchor="t">
            <a:normAutofit/>
          </a:bodyPr>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 Не бойтесь признавать, что вы не правы.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икто не совершенен. Иаков пишет, что все мы много согрешаем. Кто не согрешает в слове, тот человек совершенный, могущий обуздать и все тело, Иак. 3:2. Как руководителям нам нужно обладать мужеством признавать свои ошибки. Нам необходимо быть хорошим примером для соработников, включая признание наших неверных решений и поступков.</a:t>
            </a:r>
            <a:endParaRPr b="0" lang="en-US" sz="2400" spc="-1" strike="noStrike">
              <a:solidFill>
                <a:srgbClr val="000000"/>
              </a:solidFill>
              <a:latin typeface="Arial"/>
            </a:endParaRPr>
          </a:p>
        </p:txBody>
      </p:sp>
      <p:sp>
        <p:nvSpPr>
          <p:cNvPr id="149" name=""/>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51" name="PlaceHolder 1"/>
          <p:cNvSpPr>
            <a:spLocks noGrp="1"/>
          </p:cNvSpPr>
          <p:nvPr>
            <p:ph/>
          </p:nvPr>
        </p:nvSpPr>
        <p:spPr>
          <a:xfrm>
            <a:off x="324000" y="1998720"/>
            <a:ext cx="8229600" cy="4525920"/>
          </a:xfrm>
          <a:prstGeom prst="rect">
            <a:avLst/>
          </a:prstGeom>
          <a:noFill/>
          <a:ln w="0">
            <a:noFill/>
          </a:ln>
        </p:spPr>
        <p:txBody>
          <a:bodyPr lIns="90000" rIns="90000" tIns="46800" bIns="46800" anchor="t">
            <a:normAutofit/>
          </a:bodyPr>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Е. Доверяйте людям </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ногие руководители хотят быть уверенными, что задача будет выполнена. Зная, что мы работаем в команде, нам необходимо помнить, что члены команды также содействуют выполнению задачи. Павел говорит о теле Христовом в 12 главе 1 послания Коринфянам и о том, что у каждого из нас особая роль.</a:t>
            </a:r>
            <a:endParaRPr b="0" lang="en-US" sz="2800" spc="-1" strike="noStrike">
              <a:solidFill>
                <a:srgbClr val="000000"/>
              </a:solidFill>
              <a:latin typeface="Arial"/>
            </a:endParaRPr>
          </a:p>
        </p:txBody>
      </p:sp>
      <p:sp>
        <p:nvSpPr>
          <p:cNvPr id="152" name=""/>
          <p:cNvSpPr/>
          <p:nvPr/>
        </p:nvSpPr>
        <p:spPr>
          <a:xfrm>
            <a:off x="0" y="1989000"/>
            <a:ext cx="9144000" cy="71640"/>
          </a:xfrm>
          <a:prstGeom prst="rect">
            <a:avLst/>
          </a:prstGeom>
          <a:solidFill>
            <a:srgbClr val="ffcc66"/>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54" name="PlaceHolder 1"/>
          <p:cNvSpPr>
            <a:spLocks noGrp="1"/>
          </p:cNvSpPr>
          <p:nvPr>
            <p:ph/>
          </p:nvPr>
        </p:nvSpPr>
        <p:spPr>
          <a:xfrm>
            <a:off x="108000" y="1998720"/>
            <a:ext cx="8229600" cy="4525920"/>
          </a:xfrm>
          <a:prstGeom prst="rect">
            <a:avLst/>
          </a:prstGeom>
          <a:noFill/>
          <a:ln w="0">
            <a:noFill/>
          </a:ln>
        </p:spPr>
        <p:txBody>
          <a:bodyPr lIns="90000" rIns="90000" tIns="46800" bIns="46800" anchor="t">
            <a:normAutofit/>
          </a:bodyPr>
          <a:p>
            <a:pPr lvl="1" marL="990720" indent="-53352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Ж. Предоставляйте людям второй шанс.</a:t>
            </a:r>
            <a:endParaRPr b="0" lang="en-US" sz="2800" spc="-1" strike="noStrike">
              <a:solidFill>
                <a:srgbClr val="000000"/>
              </a:solidFill>
              <a:latin typeface="Arial"/>
            </a:endParaRPr>
          </a:p>
          <a:p>
            <a:pPr lvl="1" marL="990720" indent="-53352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иблия говорит: ибо семь раз упадет праведник, и встанет; а нечестивые впадут в погибель, Пр. 24:16. Этот стих показывает, что даже праведный человек может ошибаться. Что нам необходимо делать как христианским руководителям, когда наши сотрудники или соработники совершают ошибки? И ответ будет следующим: «Предоставьте людям второй шанс».</a:t>
            </a:r>
            <a:endParaRPr b="0" lang="en-US" sz="2800" spc="-1" strike="noStrike">
              <a:solidFill>
                <a:srgbClr val="000000"/>
              </a:solidFill>
              <a:latin typeface="Arial"/>
            </a:endParaRPr>
          </a:p>
        </p:txBody>
      </p:sp>
      <p:sp>
        <p:nvSpPr>
          <p:cNvPr id="155" name=""/>
          <p:cNvSpPr/>
          <p:nvPr/>
        </p:nvSpPr>
        <p:spPr>
          <a:xfrm>
            <a:off x="0" y="1989000"/>
            <a:ext cx="9144000" cy="71640"/>
          </a:xfrm>
          <a:prstGeom prst="rect">
            <a:avLst/>
          </a:prstGeom>
          <a:solidFill>
            <a:srgbClr val="ff99cc"/>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57" name="PlaceHolder 1"/>
          <p:cNvSpPr>
            <a:spLocks noGrp="1"/>
          </p:cNvSpPr>
          <p:nvPr>
            <p:ph/>
          </p:nvPr>
        </p:nvSpPr>
        <p:spPr>
          <a:xfrm>
            <a:off x="457200" y="2276640"/>
            <a:ext cx="8229600" cy="4525920"/>
          </a:xfrm>
          <a:prstGeom prst="rect">
            <a:avLst/>
          </a:prstGeom>
          <a:noFill/>
          <a:ln w="0">
            <a:noFill/>
          </a:ln>
        </p:spPr>
        <p:txBody>
          <a:bodyPr lIns="90000" rIns="90000" tIns="46800" bIns="46800" anchor="t">
            <a:normAutofit fontScale="99000"/>
          </a:bodyPr>
          <a:p>
            <a:pPr marL="339480" indent="-339480" algn="ctr">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Елена Уайт говорит о следующем: работники могут допускать ошибки, но ты должен дать им шанс исправить их, а также дать им возможность проявлять больше осторожности, оставляя работу в их руках (19).</a:t>
            </a: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158" name=""/>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60" name="PlaceHolder 1"/>
          <p:cNvSpPr>
            <a:spLocks noGrp="1"/>
          </p:cNvSpPr>
          <p:nvPr>
            <p:ph/>
          </p:nvPr>
        </p:nvSpPr>
        <p:spPr>
          <a:xfrm>
            <a:off x="250920" y="1998720"/>
            <a:ext cx="8229600" cy="4525920"/>
          </a:xfrm>
          <a:prstGeom prst="rect">
            <a:avLst/>
          </a:prstGeom>
          <a:noFill/>
          <a:ln w="0">
            <a:noFill/>
          </a:ln>
        </p:spPr>
        <p:txBody>
          <a:bodyPr lIns="90000" rIns="90000" tIns="46800" bIns="46800" anchor="t">
            <a:normAutofit/>
          </a:bodyPr>
          <a:p>
            <a:pPr lvl="1" marL="990720" indent="-533520">
              <a:lnSpc>
                <a:spcPct val="9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aramond"/>
              </a:rPr>
              <a:t>З. </a:t>
            </a:r>
            <a:r>
              <a:rPr b="1" lang="ru-RU" sz="2400" spc="-1" strike="noStrike">
                <a:solidFill>
                  <a:srgbClr val="000000"/>
                </a:solidFill>
                <a:latin typeface="Arial"/>
              </a:rPr>
              <a:t>Не заставляйте других делать то, что вы можете сделать, но просто не хотите.</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ог дал нам разного рода духовные дары каждому христианину. Елена Уайт советует нам: «каждый последователь Христа должен что-то сделать для Божьего дела, и если мы не делаем то, что можем сделать, мы проявляем равнодушие к призыву Христа (20). Как руководители вы не можете ожидать от других людей использования духовных даров, пока мы сами неохотно используем собственные».</a:t>
            </a:r>
            <a:endParaRPr b="0" lang="en-US" sz="2400" spc="-1" strike="noStrike">
              <a:solidFill>
                <a:srgbClr val="000000"/>
              </a:solidFill>
              <a:latin typeface="Arial"/>
            </a:endParaRPr>
          </a:p>
        </p:txBody>
      </p:sp>
      <p:sp>
        <p:nvSpPr>
          <p:cNvPr id="161"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63" name="PlaceHolder 1"/>
          <p:cNvSpPr>
            <a:spLocks noGrp="1"/>
          </p:cNvSpPr>
          <p:nvPr>
            <p:ph/>
          </p:nvPr>
        </p:nvSpPr>
        <p:spPr>
          <a:xfrm>
            <a:off x="457200" y="1998720"/>
            <a:ext cx="8229600" cy="4525920"/>
          </a:xfrm>
          <a:prstGeom prst="rect">
            <a:avLst/>
          </a:prstGeom>
          <a:noFill/>
          <a:ln w="0">
            <a:noFill/>
          </a:ln>
        </p:spPr>
        <p:txBody>
          <a:bodyPr lIns="90000" rIns="90000" tIns="46800" bIns="46800" anchor="t">
            <a:normAutofit/>
          </a:bodyPr>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И. Поддерживайте ваших сотрудников.</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мните о том, что Иисус Христос говорил Петру после воскресенья: но Я молился о тебе, чтобы не оскудела вера твоя; и ты некогда, обратившись, утверди братьев твоих.  Лк. 22:32. </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Этого ожидал Христос от Петра. Но также Христос ожидает этого и от каждого из нас, особенно от руководителей. Нам необходимо подкреплять и поддерживать друг друга, включая наших подчиненных.</a:t>
            </a:r>
            <a:endParaRPr b="0" lang="en-US" sz="2800" spc="-1" strike="noStrike">
              <a:solidFill>
                <a:srgbClr val="000000"/>
              </a:solidFill>
              <a:latin typeface="Arial"/>
            </a:endParaRPr>
          </a:p>
        </p:txBody>
      </p:sp>
      <p:sp>
        <p:nvSpPr>
          <p:cNvPr id="164" name=""/>
          <p:cNvSpPr/>
          <p:nvPr/>
        </p:nvSpPr>
        <p:spPr>
          <a:xfrm>
            <a:off x="0" y="1989000"/>
            <a:ext cx="9144000" cy="71640"/>
          </a:xfrm>
          <a:prstGeom prst="rect">
            <a:avLst/>
          </a:prstGeom>
          <a:solidFill>
            <a:srgbClr val="99cc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0"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61" name="PlaceHolder 2"/>
          <p:cNvSpPr>
            <a:spLocks noGrp="1"/>
          </p:cNvSpPr>
          <p:nvPr>
            <p:ph/>
          </p:nvPr>
        </p:nvSpPr>
        <p:spPr>
          <a:xfrm>
            <a:off x="457200" y="2143080"/>
            <a:ext cx="8229600" cy="4525920"/>
          </a:xfrm>
          <a:prstGeom prst="rect">
            <a:avLst/>
          </a:prstGeom>
          <a:noFill/>
          <a:ln w="0">
            <a:noFill/>
          </a:ln>
        </p:spPr>
        <p:txBody>
          <a:bodyPr lIns="90000" rIns="90000" tIns="46800" bIns="46800" anchor="t">
            <a:normAutofit/>
          </a:bodyPr>
          <a:p>
            <a:pPr marL="343080" indent="-34308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уководители, которые будут вести и руководить церковью в правильном направлении. В настоящее время, когда численность Церкви АСД достигла 15000000, исследования показывают, что женщин по численности больше, чем мужчин. Принимая во внимание, что только женщины могут понять женщин, нам необходимо все больше женщин руководителей на всех уровнях церковной организации.</a:t>
            </a:r>
            <a:endParaRPr b="0" lang="en-US" sz="2400" spc="-1" strike="noStrike">
              <a:solidFill>
                <a:srgbClr val="000000"/>
              </a:solidFill>
              <a:latin typeface="Arial"/>
            </a:endParaRPr>
          </a:p>
        </p:txBody>
      </p:sp>
      <p:sp>
        <p:nvSpPr>
          <p:cNvPr id="62" name=""/>
          <p:cNvSpPr/>
          <p:nvPr/>
        </p:nvSpPr>
        <p:spPr>
          <a:xfrm>
            <a:off x="2627280" y="476280"/>
            <a:ext cx="63007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каждой организации руководители чрезвычайно важны</a:t>
            </a:r>
            <a:endParaRPr b="0" lang="en-US" sz="2800" spc="-1" strike="noStrike">
              <a:solidFill>
                <a:srgbClr val="000000"/>
              </a:solidFill>
              <a:latin typeface="Arial"/>
            </a:endParaRPr>
          </a:p>
        </p:txBody>
      </p:sp>
      <p:sp>
        <p:nvSpPr>
          <p:cNvPr id="63" name=""/>
          <p:cNvSpPr/>
          <p:nvPr/>
        </p:nvSpPr>
        <p:spPr>
          <a:xfrm>
            <a:off x="0" y="1989000"/>
            <a:ext cx="9144000" cy="71640"/>
          </a:xfrm>
          <a:prstGeom prst="rect">
            <a:avLst/>
          </a:prstGeom>
          <a:solidFill>
            <a:srgbClr val="99cc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66" name="PlaceHolder 1"/>
          <p:cNvSpPr>
            <a:spLocks noGrp="1"/>
          </p:cNvSpPr>
          <p:nvPr>
            <p:ph/>
          </p:nvPr>
        </p:nvSpPr>
        <p:spPr>
          <a:xfrm>
            <a:off x="250920" y="2216160"/>
            <a:ext cx="8229600" cy="4525920"/>
          </a:xfrm>
          <a:prstGeom prst="rect">
            <a:avLst/>
          </a:prstGeom>
          <a:noFill/>
          <a:ln w="0">
            <a:noFill/>
          </a:ln>
        </p:spPr>
        <p:txBody>
          <a:bodyPr lIns="90000" rIns="90000" tIns="46800" bIns="46800" anchor="t">
            <a:normAutofit/>
          </a:bodyPr>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 Встаньте на место другого человека.</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иблия говорит: и остановился там, где они жили, и провел среди них семь дней в изумлении, Иезек. 3:15. Когда мы представляем себя на месте другого человека, мы поражаемся трудностям, бремени, крушению и тщеславию, которое встречает этот человек. Мы тогда может появиться больше симпатии и эмпатии.</a:t>
            </a:r>
            <a:endParaRPr b="0" lang="en-US" sz="2800" spc="-1" strike="noStrike">
              <a:solidFill>
                <a:srgbClr val="000000"/>
              </a:solidFill>
              <a:latin typeface="Arial"/>
            </a:endParaRPr>
          </a:p>
        </p:txBody>
      </p:sp>
      <p:sp>
        <p:nvSpPr>
          <p:cNvPr id="167" name=""/>
          <p:cNvSpPr/>
          <p:nvPr/>
        </p:nvSpPr>
        <p:spPr>
          <a:xfrm>
            <a:off x="0" y="1989000"/>
            <a:ext cx="9144000" cy="71640"/>
          </a:xfrm>
          <a:prstGeom prst="rect">
            <a:avLst/>
          </a:prstGeom>
          <a:solidFill>
            <a:srgbClr val="ff33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2503440"/>
            <a:ext cx="8229600" cy="3446640"/>
          </a:xfrm>
          <a:prstGeom prst="rect">
            <a:avLst/>
          </a:prstGeom>
          <a:noFill/>
          <a:ln w="0">
            <a:noFill/>
          </a:ln>
        </p:spPr>
        <p:txBody>
          <a:bodyPr lIns="90000" rIns="90000" tIns="46800" bIns="46800" anchor="t">
            <a:normAutofit/>
          </a:bodyPr>
          <a:p>
            <a:pPr marL="343080" indent="-343080" algn="ctr">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Елена Уайт говорит: Общаясь с людьми, ставьте себя на их место, вникайте в их чувства, затруднения, разочарования, радости и скорби, вставайте с ними на одну ступень и поступайте так, как бы вы желали, чтобы они поступали с вами</a:t>
            </a:r>
            <a:r>
              <a:rPr b="0" lang="ru-RU" sz="2800" spc="-1" strike="noStrike">
                <a:solidFill>
                  <a:srgbClr val="000000"/>
                </a:solidFill>
                <a:latin typeface="Arial"/>
              </a:rPr>
              <a:t>.</a:t>
            </a:r>
            <a:endParaRPr b="0" lang="en-US" sz="2800" spc="-1" strike="noStrike">
              <a:solidFill>
                <a:srgbClr val="000000"/>
              </a:solidFill>
              <a:latin typeface="Arial"/>
            </a:endParaRPr>
          </a:p>
        </p:txBody>
      </p:sp>
      <p:sp>
        <p:nvSpPr>
          <p:cNvPr id="171"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73" name="PlaceHolder 1"/>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Любите друг друга Иоанн. 13:35</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ощайте друг друга Кол. 3:13</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нимайте друг друга Рим. 15:7</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олитесь друг о друге Иак. 5:16</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ддерживайте друг друга 1 Фес. 4:18</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щайтесь друг с другом 1 Иоан. 1:3</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удьте добры друг ко другу Еф. 4:32</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казывайте сострадание друг ко другу 1 Пет. 3:8</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удьте гостеприимны друг ко другу 1 Пет. 4:9</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76" name="PlaceHolder 1"/>
          <p:cNvSpPr>
            <a:spLocks noGrp="1"/>
          </p:cNvSpPr>
          <p:nvPr>
            <p:ph type="title"/>
          </p:nvPr>
        </p:nvSpPr>
        <p:spPr>
          <a:xfrm>
            <a:off x="2916000" y="701280"/>
            <a:ext cx="5770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w Cen MT Condensed Extra Bold"/>
              </a:rPr>
              <a:t>Взаимоотношения и работа в команде</a:t>
            </a:r>
            <a:r>
              <a:rPr b="0" lang="en-US" sz="4000" spc="-1" strike="noStrike">
                <a:solidFill>
                  <a:srgbClr val="000000"/>
                </a:solidFill>
                <a:latin typeface="Tw Cen MT Condensed Extra Bold"/>
              </a:rPr>
              <a:t> </a:t>
            </a:r>
            <a:endParaRPr b="0" lang="en-US" sz="4000" spc="-1" strike="noStrike">
              <a:solidFill>
                <a:srgbClr val="000000"/>
              </a:solidFill>
              <a:latin typeface="Arial"/>
            </a:endParaRPr>
          </a:p>
        </p:txBody>
      </p:sp>
      <p:sp>
        <p:nvSpPr>
          <p:cNvPr id="177"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Мы работаем в команде. Поэтому природа взаимоотношений в руководстве не может быть отделена от «командной работы». Какое существует определение «командной работы»? </a:t>
            </a:r>
            <a:endParaRPr b="0" lang="en-US" sz="28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ейт Дэвис говорит, что командная работа заключается в скоординированном действии с помощью малой группы, в постоянном партнерстве между членами команды, у которых распределены обязанности и они выполняют задачу с энтузиазмом.</a:t>
            </a:r>
            <a:endParaRPr b="0" lang="en-US" sz="2800" spc="-1" strike="noStrike">
              <a:solidFill>
                <a:srgbClr val="000000"/>
              </a:solidFill>
              <a:latin typeface="Arial"/>
            </a:endParaRPr>
          </a:p>
        </p:txBody>
      </p:sp>
      <p:sp>
        <p:nvSpPr>
          <p:cNvPr id="178"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80" name="PlaceHolder 1"/>
          <p:cNvSpPr>
            <a:spLocks noGrp="1"/>
          </p:cNvSpPr>
          <p:nvPr>
            <p:ph type="title"/>
          </p:nvPr>
        </p:nvSpPr>
        <p:spPr>
          <a:xfrm>
            <a:off x="2916000" y="485280"/>
            <a:ext cx="5770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w Cen MT Condensed Extra Bold"/>
              </a:rPr>
              <a:t>Руководство воспитывает характерные черты команды через</a:t>
            </a:r>
            <a:r>
              <a:rPr b="0" lang="en-US" sz="3200" spc="-1" strike="noStrike">
                <a:solidFill>
                  <a:srgbClr val="000000"/>
                </a:solidFill>
                <a:latin typeface="Tw Cen MT Condensed Extra Bold"/>
              </a:rPr>
              <a:t>:</a:t>
            </a:r>
            <a:endParaRPr b="0" lang="en-US" sz="3200" spc="-1" strike="noStrike">
              <a:solidFill>
                <a:srgbClr val="000000"/>
              </a:solidFill>
              <a:latin typeface="Arial"/>
            </a:endParaRPr>
          </a:p>
        </p:txBody>
      </p:sp>
      <p:sp>
        <p:nvSpPr>
          <p:cNvPr id="181" name="PlaceHolder 2"/>
          <p:cNvSpPr>
            <a:spLocks noGrp="1"/>
          </p:cNvSpPr>
          <p:nvPr>
            <p:ph/>
          </p:nvPr>
        </p:nvSpPr>
        <p:spPr>
          <a:xfrm>
            <a:off x="250560" y="2287080"/>
            <a:ext cx="8569080" cy="452628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Четко определенные цели для каждого члена команды</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Своевременный и эффективный обмен информацией об идеях и чувствах</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Распределение участия и руководства</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Соответствующую и эффективную дискуссию, способствующую продвижению процесса</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Конструктивное разрешение разногласий</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Высокий уровень доверия, принятия, поддержки и сплоченности</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Компетентные процедуры разрешения трудных ситуаций</a:t>
            </a:r>
            <a:endParaRPr b="0" lang="en-US" sz="2400" spc="-1" strike="noStrike">
              <a:solidFill>
                <a:srgbClr val="000000"/>
              </a:solidFill>
              <a:latin typeface="Arial"/>
            </a:endParaRPr>
          </a:p>
        </p:txBody>
      </p:sp>
      <p:sp>
        <p:nvSpPr>
          <p:cNvPr id="182" name=""/>
          <p:cNvSpPr/>
          <p:nvPr/>
        </p:nvSpPr>
        <p:spPr>
          <a:xfrm>
            <a:off x="0" y="1989000"/>
            <a:ext cx="9144000" cy="71640"/>
          </a:xfrm>
          <a:prstGeom prst="rect">
            <a:avLst/>
          </a:prstGeom>
          <a:solidFill>
            <a:srgbClr val="ff99cc"/>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84" name="PlaceHolder 1"/>
          <p:cNvSpPr>
            <a:spLocks noGrp="1"/>
          </p:cNvSpPr>
          <p:nvPr>
            <p:ph type="title"/>
          </p:nvPr>
        </p:nvSpPr>
        <p:spPr>
          <a:xfrm>
            <a:off x="2987280" y="630000"/>
            <a:ext cx="569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ПРИНЦИПЫ МЕЖЛИЧНОСТНЫХ ОТНОШЕНИЙ</a:t>
            </a:r>
            <a:endParaRPr b="0" lang="en-US" sz="4000" spc="-1" strike="noStrike">
              <a:solidFill>
                <a:srgbClr val="000000"/>
              </a:solidFill>
              <a:latin typeface="Arial"/>
            </a:endParaRPr>
          </a:p>
        </p:txBody>
      </p:sp>
      <p:sp>
        <p:nvSpPr>
          <p:cNvPr id="185"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Для руководителей чрезвычайно важно развивать личные взаимоотношения с людьми. Не смотря на то,  что развитие личных отношений это процесс, который требует времени, он приносит результат. Ваши сотрудники узнают вас лучше, и их желание следовать за вами и учиться у вас будет возрастать. В противном случае, процесс подготовки других людей может снизиться или даже замедлиться в два раза.</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186"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88" name="PlaceHolder 1"/>
          <p:cNvSpPr>
            <a:spLocks noGrp="1"/>
          </p:cNvSpPr>
          <p:nvPr>
            <p:ph type="title"/>
          </p:nvPr>
        </p:nvSpPr>
        <p:spPr>
          <a:xfrm>
            <a:off x="2410920" y="414000"/>
            <a:ext cx="6697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ратите внимание на несколько важных аспектов, когда вы будут развивать межличностных отношения с другими людьми:</a:t>
            </a:r>
            <a:br>
              <a:rPr sz="2800"/>
            </a:br>
            <a:endParaRPr b="0" lang="en-US" sz="2800" spc="-1" strike="noStrike">
              <a:solidFill>
                <a:srgbClr val="000000"/>
              </a:solidFill>
              <a:latin typeface="Arial"/>
            </a:endParaRPr>
          </a:p>
        </p:txBody>
      </p:sp>
      <p:sp>
        <p:nvSpPr>
          <p:cNvPr id="189" name="PlaceHolder 2"/>
          <p:cNvSpPr>
            <a:spLocks noGrp="1"/>
          </p:cNvSpPr>
          <p:nvPr>
            <p:ph/>
          </p:nvPr>
        </p:nvSpPr>
        <p:spPr>
          <a:xfrm>
            <a:off x="539640" y="213372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чните с того, что выслушайте историю жизни человека</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кажите неподдельный интерес к людям</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знайте их достоинства и недостатк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знайте какие у них есть цели и каковы мотив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пределите, какой у них темперамент</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наблюдайте за людьми, когда они находятся вне бизнесе, церкв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старайтесь узнать как можно больше о людях и сделайте все возможное, чтобы завоевать их сердца. Если вы достигнете их сердец, они с удовольствием отдадут вам свои руки.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
          <p:cNvSpPr/>
          <p:nvPr/>
        </p:nvSpPr>
        <p:spPr>
          <a:xfrm>
            <a:off x="0" y="1989000"/>
            <a:ext cx="9144000" cy="71640"/>
          </a:xfrm>
          <a:prstGeom prst="rect">
            <a:avLst/>
          </a:prstGeom>
          <a:solidFill>
            <a:srgbClr val="ff33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92" name="PlaceHolder 1"/>
          <p:cNvSpPr>
            <a:spLocks noGrp="1"/>
          </p:cNvSpPr>
          <p:nvPr>
            <p:ph type="title"/>
          </p:nvPr>
        </p:nvSpPr>
        <p:spPr>
          <a:xfrm>
            <a:off x="3203640" y="404280"/>
            <a:ext cx="5338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ЭФФЕКТИВНЫЕ КОММУНИКАЦИОННЫЕ НАВЫКИ </a:t>
            </a:r>
            <a:br>
              <a:rPr sz="2800"/>
            </a:br>
            <a:endParaRPr b="0" lang="en-US" sz="2800" spc="-1" strike="noStrike">
              <a:solidFill>
                <a:srgbClr val="000000"/>
              </a:solidFill>
              <a:latin typeface="Arial"/>
            </a:endParaRPr>
          </a:p>
        </p:txBody>
      </p:sp>
      <p:sp>
        <p:nvSpPr>
          <p:cNvPr id="193" name="PlaceHolder 2"/>
          <p:cNvSpPr>
            <a:spLocks noGrp="1"/>
          </p:cNvSpPr>
          <p:nvPr>
            <p:ph/>
          </p:nvPr>
        </p:nvSpPr>
        <p:spPr>
          <a:xfrm>
            <a:off x="457200" y="214308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заимоотношения не могут существовать отдельно от коммуникации. В действительности, взаимоотношения состоят из нее. Большинство американцев проводят 70 процентов своих активных часов каждый день, общаясь вербально (24). Без способности передавать информацию, руководитель не сможет эффективно представить свое видение и призвать своих сотрудников действовать в соответствии с видением. Максвелл также цитирует президента Геральда Форда, который однажды сказал: «Ничто в жизни так не ценно, как способность эффективно общаться».</a:t>
            </a:r>
            <a:br>
              <a:rPr sz="2400"/>
            </a:br>
            <a:r>
              <a:rPr b="1" lang="en-US" sz="2400" spc="-1" strike="noStrike">
                <a:solidFill>
                  <a:srgbClr val="000000"/>
                </a:solidFill>
                <a:latin typeface="Garamond"/>
              </a:rPr>
              <a:t> </a:t>
            </a:r>
            <a:endParaRPr b="0" lang="en-US" sz="2400" spc="-1" strike="noStrike">
              <a:solidFill>
                <a:srgbClr val="000000"/>
              </a:solidFill>
              <a:latin typeface="Arial"/>
            </a:endParaRPr>
          </a:p>
        </p:txBody>
      </p:sp>
      <p:sp>
        <p:nvSpPr>
          <p:cNvPr id="194"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96" name="PlaceHolder 1"/>
          <p:cNvSpPr>
            <a:spLocks noGrp="1"/>
          </p:cNvSpPr>
          <p:nvPr>
            <p:ph type="title"/>
          </p:nvPr>
        </p:nvSpPr>
        <p:spPr>
          <a:xfrm>
            <a:off x="2843280" y="556920"/>
            <a:ext cx="584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аксвелл напомнил пять важных характеристик эффективной коммуникации:</a:t>
            </a:r>
            <a:br>
              <a:rPr sz="2800"/>
            </a:br>
            <a:endParaRPr b="0" lang="en-US" sz="2800" spc="-1" strike="noStrike">
              <a:solidFill>
                <a:srgbClr val="000000"/>
              </a:solidFill>
              <a:latin typeface="Arial"/>
            </a:endParaRPr>
          </a:p>
        </p:txBody>
      </p:sp>
      <p:sp>
        <p:nvSpPr>
          <p:cNvPr id="197" name="PlaceHolder 2"/>
          <p:cNvSpPr>
            <a:spLocks noGrp="1"/>
          </p:cNvSpPr>
          <p:nvPr>
            <p:ph/>
          </p:nvPr>
        </p:nvSpPr>
        <p:spPr>
          <a:xfrm>
            <a:off x="395280" y="227664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скреннее интересуйтесь тем, что человек говорит.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пособность фокусироваться на отвечающем.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пособность общаться с разными людьми.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мотрите в глаза человеку, с которым вы говорите.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Теплая улыбка.</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198" name=""/>
          <p:cNvSpPr/>
          <p:nvPr/>
        </p:nvSpPr>
        <p:spPr>
          <a:xfrm>
            <a:off x="0" y="1989000"/>
            <a:ext cx="9144000" cy="71640"/>
          </a:xfrm>
          <a:prstGeom prst="rect">
            <a:avLst/>
          </a:prstGeom>
          <a:solidFill>
            <a:srgbClr val="ccff33"/>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00" name="PlaceHolder 1"/>
          <p:cNvSpPr>
            <a:spLocks noGrp="1"/>
          </p:cNvSpPr>
          <p:nvPr>
            <p:ph type="title"/>
          </p:nvPr>
        </p:nvSpPr>
        <p:spPr>
          <a:xfrm>
            <a:off x="3419280" y="845640"/>
            <a:ext cx="5267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w Cen MT Condensed Extra Bold"/>
              </a:rPr>
              <a:t>Взаимодействия в конфликте</a:t>
            </a:r>
            <a:r>
              <a:rPr b="0" lang="en-US" sz="4000" spc="-1" strike="noStrike">
                <a:solidFill>
                  <a:srgbClr val="000000"/>
                </a:solidFill>
                <a:latin typeface="Tw Cen MT Condensed Extra Bold"/>
              </a:rPr>
              <a:t> </a:t>
            </a:r>
            <a:endParaRPr b="0" lang="en-US" sz="4000" spc="-1" strike="noStrike">
              <a:solidFill>
                <a:srgbClr val="000000"/>
              </a:solidFill>
              <a:latin typeface="Arial"/>
            </a:endParaRPr>
          </a:p>
        </p:txBody>
      </p:sp>
      <p:sp>
        <p:nvSpPr>
          <p:cNvPr id="201" name="PlaceHolder 2"/>
          <p:cNvSpPr>
            <a:spLocks noGrp="1"/>
          </p:cNvSpPr>
          <p:nvPr>
            <p:ph/>
          </p:nvPr>
        </p:nvSpPr>
        <p:spPr>
          <a:xfrm>
            <a:off x="457200" y="214308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lang="ru-RU" sz="2400" spc="-1" strike="noStrike">
                <a:solidFill>
                  <a:srgbClr val="000000"/>
                </a:solidFill>
                <a:latin typeface="Arial"/>
              </a:rPr>
              <a:t>Удивительно, но Библия говорит о некоторых принципах как руководить конфликтом. Прочитайте нижеприведенные стих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илипийцам 2:5. Постарайтесь сохранять самообладание.</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атфея 18:15, 16. Разговаривайте с человеком один на один</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имлянм 12:17-19. Живите в мире со всем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алатам 6:1-10. Восстанавливайте отношения с мягкостью.</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атфея 5:38-48. Любите врагов ваших.</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65" name="PlaceHolder 1"/>
          <p:cNvSpPr>
            <a:spLocks noGrp="1"/>
          </p:cNvSpPr>
          <p:nvPr>
            <p:ph type="title"/>
          </p:nvPr>
        </p:nvSpPr>
        <p:spPr>
          <a:xfrm>
            <a:off x="2484000" y="414000"/>
            <a:ext cx="6202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w Cen MT Condensed Extra Bold"/>
              </a:rPr>
              <a:t> </a:t>
            </a:r>
            <a:r>
              <a:rPr b="1" lang="ru-RU" sz="4000" spc="-1" strike="noStrike">
                <a:solidFill>
                  <a:srgbClr val="000000"/>
                </a:solidFill>
                <a:latin typeface="Arial"/>
              </a:rPr>
              <a:t>ВАЖНАЯ РОЛЬ ОТНОШЕНИЙ В РУКОВОДСТВЕ</a:t>
            </a:r>
            <a:endParaRPr b="0" lang="en-US" sz="4000" spc="-1" strike="noStrike">
              <a:solidFill>
                <a:srgbClr val="000000"/>
              </a:solidFill>
              <a:latin typeface="Arial"/>
            </a:endParaRPr>
          </a:p>
        </p:txBody>
      </p:sp>
      <p:sp>
        <p:nvSpPr>
          <p:cNvPr id="66" name="PlaceHolder 2"/>
          <p:cNvSpPr>
            <a:spLocks noGrp="1"/>
          </p:cNvSpPr>
          <p:nvPr>
            <p:ph/>
          </p:nvPr>
        </p:nvSpPr>
        <p:spPr>
          <a:xfrm>
            <a:off x="0" y="2575080"/>
            <a:ext cx="8964720" cy="3301920"/>
          </a:xfrm>
          <a:prstGeom prst="rect">
            <a:avLst/>
          </a:prstGeom>
          <a:noFill/>
          <a:ln w="0">
            <a:noFill/>
          </a:ln>
        </p:spPr>
        <p:txBody>
          <a:bodyPr lIns="90000" rIns="90000" tIns="46800" bIns="46800" anchor="t">
            <a:normAutofit/>
          </a:bodyPr>
          <a:p>
            <a:pPr marL="343080" indent="-343080" algn="ct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скольку нам нужно больше женщин руководителей, очень важно помнить, что нам нужны руководители, которые понимают роль взаимоотношений. Словарь Вебстера говорит, что взаимоотношения означают состояние или характер связи или взаимосвязи. Другими словами, взаимоотношения это связанность одного человека с другим.</a:t>
            </a:r>
            <a:endParaRPr b="0" lang="en-US" sz="2400" spc="-1" strike="noStrike">
              <a:solidFill>
                <a:srgbClr val="000000"/>
              </a:solidFill>
              <a:latin typeface="Arial"/>
            </a:endParaRPr>
          </a:p>
        </p:txBody>
      </p:sp>
      <p:sp>
        <p:nvSpPr>
          <p:cNvPr id="67" name=""/>
          <p:cNvSpPr/>
          <p:nvPr/>
        </p:nvSpPr>
        <p:spPr>
          <a:xfrm>
            <a:off x="0" y="1989000"/>
            <a:ext cx="9144000" cy="71640"/>
          </a:xfrm>
          <a:prstGeom prst="rect">
            <a:avLst/>
          </a:prstGeom>
          <a:solidFill>
            <a:srgbClr val="66ff33"/>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04" name="PlaceHolder 1"/>
          <p:cNvSpPr>
            <a:spLocks noGrp="1"/>
          </p:cNvSpPr>
          <p:nvPr>
            <p:ph type="title"/>
          </p:nvPr>
        </p:nvSpPr>
        <p:spPr>
          <a:xfrm>
            <a:off x="2906280" y="630000"/>
            <a:ext cx="5986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w Cen MT Condensed Extra Bold"/>
              </a:rPr>
              <a:t>Практическое руководство по построению отношений в церкви</a:t>
            </a:r>
            <a:r>
              <a:rPr b="1" lang="en-US" sz="3600" spc="-1" strike="noStrike">
                <a:solidFill>
                  <a:srgbClr val="000000"/>
                </a:solidFill>
                <a:latin typeface="Tw Cen MT Condensed Extra Bold"/>
              </a:rPr>
              <a:t> </a:t>
            </a:r>
            <a:endParaRPr b="0" lang="en-US" sz="3600" spc="-1" strike="noStrike">
              <a:solidFill>
                <a:srgbClr val="000000"/>
              </a:solidFill>
              <a:latin typeface="Arial"/>
            </a:endParaRPr>
          </a:p>
        </p:txBody>
      </p:sp>
      <p:sp>
        <p:nvSpPr>
          <p:cNvPr id="205" name="PlaceHolder 2"/>
          <p:cNvSpPr>
            <a:spLocks noGrp="1"/>
          </p:cNvSpPr>
          <p:nvPr>
            <p:ph/>
          </p:nvPr>
        </p:nvSpPr>
        <p:spPr>
          <a:xfrm>
            <a:off x="457200" y="1998720"/>
            <a:ext cx="8229600" cy="4525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Теперь вы являетесь руководителем. Вы можете быть руководителем на уровне местной церкви, любом уровне церковной, государственной или общественной организации. Вам необходимо практическое руководство для хороших взаимоотношений с подчиненными или близкими людьми.</a:t>
            </a:r>
            <a:r>
              <a:rPr b="0" lang="ru-RU"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
          <p:cNvSpPr/>
          <p:nvPr/>
        </p:nvSpPr>
        <p:spPr>
          <a:xfrm>
            <a:off x="0" y="1989000"/>
            <a:ext cx="9144000" cy="71640"/>
          </a:xfrm>
          <a:prstGeom prst="rect">
            <a:avLst/>
          </a:prstGeom>
          <a:solidFill>
            <a:srgbClr val="333399"/>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08" name="PlaceHolder 1"/>
          <p:cNvSpPr>
            <a:spLocks noGrp="1"/>
          </p:cNvSpPr>
          <p:nvPr>
            <p:ph type="title"/>
          </p:nvPr>
        </p:nvSpPr>
        <p:spPr>
          <a:xfrm>
            <a:off x="2484000" y="772920"/>
            <a:ext cx="6202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w Cen MT Condensed Extra Bold"/>
              </a:rPr>
              <a:t>Ниже предложены несколько аспектов, которые помогут вам построить хорошие отношения в церкви</a:t>
            </a:r>
            <a:r>
              <a:rPr b="0" lang="ru-RU" sz="3600" spc="-1" strike="noStrike">
                <a:solidFill>
                  <a:srgbClr val="000000"/>
                </a:solidFill>
                <a:latin typeface="Tw Cen MT Condensed Extra Bold"/>
              </a:rPr>
              <a:t>:</a:t>
            </a:r>
            <a:endParaRPr b="0" lang="en-US" sz="3600" spc="-1" strike="noStrike">
              <a:solidFill>
                <a:srgbClr val="000000"/>
              </a:solidFill>
              <a:latin typeface="Arial"/>
            </a:endParaRPr>
          </a:p>
        </p:txBody>
      </p:sp>
      <p:sp>
        <p:nvSpPr>
          <p:cNvPr id="209" name="PlaceHolder 2"/>
          <p:cNvSpPr>
            <a:spLocks noGrp="1"/>
          </p:cNvSpPr>
          <p:nvPr>
            <p:ph/>
          </p:nvPr>
        </p:nvSpPr>
        <p:spPr>
          <a:xfrm>
            <a:off x="457200" y="2133720"/>
            <a:ext cx="8229600" cy="4525920"/>
          </a:xfrm>
          <a:prstGeom prst="rect">
            <a:avLst/>
          </a:prstGeom>
          <a:noFill/>
          <a:ln w="0">
            <a:noFill/>
          </a:ln>
        </p:spPr>
        <p:txBody>
          <a:bodyPr lIns="90000" rIns="90000" tIns="46800" bIns="46800" anchor="t">
            <a:normAutofit/>
          </a:bodyPr>
          <a:p>
            <a:pPr marL="609480" indent="-609480" algn="just">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Церковные бюллетени</a:t>
            </a:r>
            <a:endParaRPr b="0" lang="en-US" sz="2800" spc="-1" strike="noStrike">
              <a:solidFill>
                <a:srgbClr val="000000"/>
              </a:solidFill>
              <a:latin typeface="Arial"/>
            </a:endParaRPr>
          </a:p>
          <a:p>
            <a:pPr marL="609480" indent="-609480" algn="just">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Церковные газеты </a:t>
            </a:r>
            <a:endParaRPr b="0" lang="en-US" sz="2800" spc="-1" strike="noStrike">
              <a:solidFill>
                <a:srgbClr val="000000"/>
              </a:solidFill>
              <a:latin typeface="Arial"/>
            </a:endParaRPr>
          </a:p>
          <a:p>
            <a:pPr marL="609480" indent="-609480" algn="just">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Фотоальбом о деятельности Церкви</a:t>
            </a:r>
            <a:endParaRPr b="0" lang="en-US" sz="28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рограмма «Служба информации «Добро пожаловать»</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Открытки для особых случаев</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рограмма помощи молодым матерям</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Добро пожаловать новоселам</a:t>
            </a:r>
            <a:r>
              <a:rPr b="0" lang="ru-RU" sz="2400" spc="-1" strike="noStrike">
                <a:solidFill>
                  <a:srgbClr val="000000"/>
                </a:solidFill>
                <a:latin typeface="Arial"/>
              </a:rPr>
              <a:t> </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риветствуйте новых членов</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осещение членов церкви</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осещение потерянных членов</a:t>
            </a:r>
            <a:endParaRPr b="0" lang="en-US" sz="2400" spc="-1" strike="noStrike">
              <a:solidFill>
                <a:srgbClr val="000000"/>
              </a:solidFill>
              <a:latin typeface="Arial"/>
            </a:endParaRPr>
          </a:p>
        </p:txBody>
      </p:sp>
      <p:sp>
        <p:nvSpPr>
          <p:cNvPr id="210" name=""/>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250920" y="2216160"/>
            <a:ext cx="8686800" cy="4525920"/>
          </a:xfrm>
          <a:prstGeom prst="rect">
            <a:avLst/>
          </a:prstGeom>
          <a:noFill/>
          <a:ln w="0">
            <a:noFill/>
          </a:ln>
        </p:spPr>
        <p:txBody>
          <a:bodyPr lIns="90000" rIns="90000" tIns="46800" bIns="46800" anchor="t">
            <a:normAutofit/>
          </a:bodyPr>
          <a:p>
            <a:pPr marL="343080" indent="-343080" algn="ctr">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ля того, чтобы стать успешными руководителями, мы должны осознавать важность умения владеть собой, планирования действий и силы взаимоотношений, основанных на модели руководства Иисуса Христа. Если у вас будут хорошие взаимоотношения с другими людьми, а также с вашими подчиненными, вы будете успешным руководителем, который, в свою очередь, принесет целостное здоровье себе и своему коллективу.</a:t>
            </a:r>
            <a:endParaRPr b="0" lang="en-US" sz="2400" spc="-1" strike="noStrike">
              <a:solidFill>
                <a:srgbClr val="000000"/>
              </a:solidFill>
              <a:latin typeface="Arial"/>
            </a:endParaRPr>
          </a:p>
        </p:txBody>
      </p:sp>
      <p:sp>
        <p:nvSpPr>
          <p:cNvPr id="216" name=""/>
          <p:cNvSpPr/>
          <p:nvPr/>
        </p:nvSpPr>
        <p:spPr>
          <a:xfrm>
            <a:off x="0" y="1989000"/>
            <a:ext cx="9144000" cy="71640"/>
          </a:xfrm>
          <a:prstGeom prst="rect">
            <a:avLst/>
          </a:prstGeom>
          <a:solidFill>
            <a:srgbClr val="ccff33"/>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A leader without relationships or people skills soon has no followers</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69" name="" descr=""/>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70" name="PlaceHolder 2"/>
          <p:cNvSpPr>
            <a:spLocks noGrp="1"/>
          </p:cNvSpPr>
          <p:nvPr>
            <p:ph/>
          </p:nvPr>
        </p:nvSpPr>
        <p:spPr>
          <a:xfrm>
            <a:off x="457200" y="2503440"/>
            <a:ext cx="8229600" cy="45259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Руководство это взаимоотношения между теми, то избрал руководящую роль и теми, кто избрал роль последователя. Любые дискуссии о руководстве должны обращать внимание на динамику этих взаимоотношений.</a:t>
            </a:r>
            <a:endParaRPr b="0" lang="en-US" sz="3200" spc="-1" strike="noStrike">
              <a:solidFill>
                <a:srgbClr val="000000"/>
              </a:solidFill>
              <a:latin typeface="Arial"/>
            </a:endParaRPr>
          </a:p>
        </p:txBody>
      </p:sp>
      <p:sp>
        <p:nvSpPr>
          <p:cNvPr id="71" name=""/>
          <p:cNvSpPr/>
          <p:nvPr/>
        </p:nvSpPr>
        <p:spPr>
          <a:xfrm>
            <a:off x="2736720" y="549360"/>
            <a:ext cx="63723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 Руководитель без взаимоотношений или человеко-ориентированных навыков скорее останется без последователей</a:t>
            </a:r>
            <a:endParaRPr b="0" lang="en-US" sz="2400" spc="-1" strike="noStrike">
              <a:solidFill>
                <a:srgbClr val="000000"/>
              </a:solidFill>
              <a:latin typeface="Arial"/>
            </a:endParaRPr>
          </a:p>
        </p:txBody>
      </p:sp>
      <p:sp>
        <p:nvSpPr>
          <p:cNvPr id="72" name=""/>
          <p:cNvSpPr/>
          <p:nvPr/>
        </p:nvSpPr>
        <p:spPr>
          <a:xfrm>
            <a:off x="0" y="1989000"/>
            <a:ext cx="9144000" cy="71640"/>
          </a:xfrm>
          <a:prstGeom prst="rect">
            <a:avLst/>
          </a:prstGeom>
          <a:solidFill>
            <a:srgbClr val="ff66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4"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75" name="PlaceHolder 2"/>
          <p:cNvSpPr>
            <a:spLocks noGrp="1"/>
          </p:cNvSpPr>
          <p:nvPr>
            <p:ph/>
          </p:nvPr>
        </p:nvSpPr>
        <p:spPr>
          <a:xfrm>
            <a:off x="457200" y="2216160"/>
            <a:ext cx="8229600" cy="4525920"/>
          </a:xfrm>
          <a:prstGeom prst="rect">
            <a:avLst/>
          </a:prstGeom>
          <a:noFill/>
          <a:ln w="0">
            <a:noFill/>
          </a:ln>
        </p:spPr>
        <p:txBody>
          <a:bodyPr lIns="90000" rIns="90000" tIns="46800" bIns="46800" anchor="t">
            <a:normAutofit/>
          </a:bodyPr>
          <a:p>
            <a:pPr marL="343080" indent="-343080" algn="ctr">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Люди могут восхищаться человеком, который имеет таланты и способности, но они не последуют за ним, ну, по крайней мере, не очень долго. Самые замечательные человеческие качества включают в себя заинтересованность в других людях, способность понимать людей и решение, прежде всего, настроится на позитивное взаимодействие. Наше поведение направлено на других людей, и это означает, что их поведение направленно на нас.</a:t>
            </a:r>
            <a:endParaRPr b="0" lang="en-US" sz="2400" spc="-1" strike="noStrike">
              <a:solidFill>
                <a:srgbClr val="000000"/>
              </a:solidFill>
              <a:latin typeface="Arial"/>
            </a:endParaRPr>
          </a:p>
        </p:txBody>
      </p:sp>
      <p:sp>
        <p:nvSpPr>
          <p:cNvPr id="76"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 Relationship is the secret of successful leaders.</a:t>
            </a:r>
            <a:endParaRPr b="0" lang="en-US" sz="4000" spc="-1" strike="noStrike">
              <a:solidFill>
                <a:srgbClr val="000000"/>
              </a:solidFill>
              <a:latin typeface="Arial"/>
            </a:endParaRPr>
          </a:p>
        </p:txBody>
      </p:sp>
      <p:pic>
        <p:nvPicPr>
          <p:cNvPr id="78" name="" descr=""/>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79" name="PlaceHolder 2"/>
          <p:cNvSpPr>
            <a:spLocks noGrp="1"/>
          </p:cNvSpPr>
          <p:nvPr>
            <p:ph/>
          </p:nvPr>
        </p:nvSpPr>
        <p:spPr>
          <a:xfrm>
            <a:off x="457200" y="22161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Изучая руководящие техники Иисуса Христа, Джонс рассмотрел три аспекта Его руководящей сил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ила самодисциплин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ила действи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ила взаимоотношений</a:t>
            </a:r>
            <a:endParaRPr b="0" lang="en-US" sz="3200" spc="-1" strike="noStrike">
              <a:solidFill>
                <a:srgbClr val="000000"/>
              </a:solidFill>
              <a:latin typeface="Arial"/>
            </a:endParaRPr>
          </a:p>
        </p:txBody>
      </p:sp>
      <p:sp>
        <p:nvSpPr>
          <p:cNvPr id="80" name=""/>
          <p:cNvSpPr/>
          <p:nvPr/>
        </p:nvSpPr>
        <p:spPr>
          <a:xfrm>
            <a:off x="2987640" y="490680"/>
            <a:ext cx="5915160" cy="1143000"/>
          </a:xfrm>
          <a:prstGeom prst="rect">
            <a:avLst/>
          </a:prstGeom>
          <a:noFill/>
          <a:ln w="0">
            <a:noFill/>
          </a:ln>
        </p:spPr>
        <p:style>
          <a:lnRef idx="0"/>
          <a:fillRef idx="0"/>
          <a:effectRef idx="0"/>
          <a:fontRef idx="minor"/>
        </p:style>
        <p:txBody>
          <a:bodyPr lIns="90000" rIns="90000" tIns="46800" bIns="46800" anchor="ctr">
            <a:noAutofit/>
          </a:bodyPr>
          <a:p>
            <a:pPr marL="838080" indent="-838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2. Взаимоотношения – секрет успешных руководителей.</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81" name=""/>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3"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84" name="PlaceHolder 2"/>
          <p:cNvSpPr>
            <a:spLocks noGrp="1"/>
          </p:cNvSpPr>
          <p:nvPr>
            <p:ph/>
          </p:nvPr>
        </p:nvSpPr>
        <p:spPr>
          <a:xfrm>
            <a:off x="457200" y="2071800"/>
            <a:ext cx="822960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В он-лайн исследовании читателей журнала ‘</a:t>
            </a:r>
            <a:r>
              <a:rPr b="0" i="1" lang="en-US" sz="2400" spc="-1" strike="noStrike">
                <a:solidFill>
                  <a:srgbClr val="000000"/>
                </a:solidFill>
                <a:latin typeface="Arial"/>
              </a:rPr>
              <a:t>Fast Company</a:t>
            </a:r>
            <a:r>
              <a:rPr b="0" i="1" lang="ru-RU" sz="2400" spc="-1" strike="noStrike">
                <a:solidFill>
                  <a:srgbClr val="000000"/>
                </a:solidFill>
                <a:latin typeface="Arial"/>
              </a:rPr>
              <a:t>’ спросили «Что является более существенным для успешного бизнеса на протяжении последних пяти лет навыки по использованию Интернета или социальные навыки?» Семьдесят два процента выбрали социальные навыки в сравнении с двадцатью восемью процентами – навыки по работе в Интернете. Даже когда пользователи Интернета указывали на важность Интернета, они говори о том, что наибольшее значение имеют не сами сайты, а люди, работающие с сайтами.</a:t>
            </a:r>
            <a:endParaRPr b="0" lang="en-US" sz="2400" spc="-1" strike="noStrike">
              <a:solidFill>
                <a:srgbClr val="000000"/>
              </a:solidFill>
              <a:latin typeface="Arial"/>
            </a:endParaRPr>
          </a:p>
        </p:txBody>
      </p:sp>
      <p:sp>
        <p:nvSpPr>
          <p:cNvPr id="85" name=""/>
          <p:cNvSpPr/>
          <p:nvPr/>
        </p:nvSpPr>
        <p:spPr>
          <a:xfrm>
            <a:off x="0" y="1989000"/>
            <a:ext cx="9144000" cy="71640"/>
          </a:xfrm>
          <a:prstGeom prst="rect">
            <a:avLst/>
          </a:prstGeom>
          <a:solidFill>
            <a:srgbClr val="ff99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lationship Produces a Healthy Leader</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87"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88" name="PlaceHolder 2"/>
          <p:cNvSpPr>
            <a:spLocks noGrp="1"/>
          </p:cNvSpPr>
          <p:nvPr>
            <p:ph/>
          </p:nvPr>
        </p:nvSpPr>
        <p:spPr>
          <a:xfrm>
            <a:off x="519120" y="2503080"/>
            <a:ext cx="8229600" cy="2870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дивительно, какие научные открытия были сделаны в области того, как хорошие отношения с людьми влияют не только на радость от здоровой общественной жизни, но также на хорошее физическое состояние.</a:t>
            </a:r>
            <a:endParaRPr b="0" lang="en-US" sz="3200" spc="-1" strike="noStrike">
              <a:solidFill>
                <a:srgbClr val="000000"/>
              </a:solidFill>
              <a:latin typeface="Arial"/>
            </a:endParaRPr>
          </a:p>
        </p:txBody>
      </p:sp>
      <p:sp>
        <p:nvSpPr>
          <p:cNvPr id="89" name=""/>
          <p:cNvSpPr/>
          <p:nvPr/>
        </p:nvSpPr>
        <p:spPr>
          <a:xfrm>
            <a:off x="2987640" y="490680"/>
            <a:ext cx="5915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ru-RU" sz="2400" spc="-1" strike="noStrike">
                <a:solidFill>
                  <a:srgbClr val="000000"/>
                </a:solidFill>
                <a:latin typeface="Garamond"/>
              </a:rPr>
              <a:t>3. </a:t>
            </a:r>
            <a:r>
              <a:rPr b="1" lang="ru-RU" sz="2400" spc="-1" strike="noStrike">
                <a:solidFill>
                  <a:srgbClr val="000000"/>
                </a:solidFill>
                <a:latin typeface="Arial"/>
              </a:rPr>
              <a:t>Взаимоотношения способствуют становлению здорового руководителя.</a:t>
            </a:r>
            <a:r>
              <a:rPr b="1" lang="ru-RU" sz="4400" spc="-1" strike="noStrike">
                <a:solidFill>
                  <a:srgbClr val="000000"/>
                </a:solidFill>
                <a:latin typeface="Arial"/>
              </a:rPr>
              <a:t> </a:t>
            </a:r>
            <a:endParaRPr b="0" lang="en-US" sz="4400" spc="-1" strike="noStrike">
              <a:solidFill>
                <a:srgbClr val="000000"/>
              </a:solidFill>
              <a:latin typeface="Arial"/>
            </a:endParaRPr>
          </a:p>
        </p:txBody>
      </p:sp>
      <p:sp>
        <p:nvSpPr>
          <p:cNvPr id="90" name=""/>
          <p:cNvSpPr/>
          <p:nvPr/>
        </p:nvSpPr>
        <p:spPr>
          <a:xfrm>
            <a:off x="0" y="1989000"/>
            <a:ext cx="9144000" cy="71640"/>
          </a:xfrm>
          <a:prstGeom prst="rect">
            <a:avLst/>
          </a:prstGeom>
          <a:solidFill>
            <a:srgbClr val="ccff33"/>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8T15:46:05Z</dcterms:created>
  <dc:creator>ArraisR</dc:creator>
  <dc:description/>
  <dc:language>en-US</dc:language>
  <cp:lastModifiedBy>Irina Romashkina</cp:lastModifiedBy>
  <dcterms:modified xsi:type="dcterms:W3CDTF">2008-01-14T16:28:46Z</dcterms:modified>
  <cp:revision>61</cp:revision>
  <dc:subject/>
  <dc:title>Slide 1</dc:title>
</cp:coreProperties>
</file>