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520000-4894-4F2E-935A-53D2A3BC6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A4F280-7979-46A4-820A-4D762D4DC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3549600" y="476280"/>
            <a:ext cx="2406600" cy="1805040"/>
          </a:xfrm>
          <a:prstGeom prst="rect">
            <a:avLst/>
          </a:prstGeom>
          <a:ln w="0">
            <a:noFill/>
          </a:ln>
        </p:spPr>
      </p:sp>
      <p:sp>
        <p:nvSpPr>
          <p:cNvPr id="181" name="PlaceHolder 2"/>
          <p:cNvSpPr>
            <a:spLocks noGrp="1"/>
          </p:cNvSpPr>
          <p:nvPr>
            <p:ph type="body"/>
          </p:nvPr>
        </p:nvSpPr>
        <p:spPr>
          <a:xfrm>
            <a:off x="561600" y="2085480"/>
            <a:ext cx="603396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ПОТЕНЦИАЛЬНЫХ РУКОВОД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де вы находи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ат бейсбольной команды «Гиганты Сан-Франциско» Эндрю Морбитзер ожидал в очереди у буфетной стойки, как вдруг внезапно раздался рев болельщиков. Подняв голову, он увидел подскочивших вверх людей. Он не еще знал, что бейсбольный мяч взмыл вверх, и болельщики попытались поймать его. Это был не простой бейсбольный мяч. Это была подача Барри Бондса, игрока команды «Гиганты Сан-Франциско», который предпринял попытку своего 715 хоум-рана</a:t>
            </a:r>
            <a:r>
              <a:rPr b="0" lang="ru-RU" sz="1200" spc="-1" strike="noStrike" u="sng">
                <a:solidFill>
                  <a:srgbClr val="009999"/>
                </a:solidFill>
                <a:uFillTx/>
                <a:latin typeface="Arial"/>
                <a:hlinkClick r:id="rId1" action="ppaction://hlinksldjump"/>
              </a:rPr>
              <a:t>[1]</a:t>
            </a:r>
            <a:r>
              <a:rPr b="0" lang="ru-RU" sz="1200" spc="-1" strike="noStrike">
                <a:solidFill>
                  <a:srgbClr val="000000"/>
                </a:solidFill>
                <a:latin typeface="Arial"/>
              </a:rPr>
              <a:t> и хотел побить рекорд Бэба Руфа, который занимает второе место по бейсболу в мире. Болельщики бейсбола уже несколько недель с нетерпением ожидали, когда же Бонд побьет рекор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пролетел в воздухе, достигнул зрителей, а затем приземлился тот час же на центрированной платформе, прежде чем ловко упасть с крыши, и шмякнулся прямо в руки Морбитзеру, который стоял в очереди у барной стойки. На 38-летнем директоре по маркетингу из Сан-Франциско была надета майка «Бондс-715», в тот день, когда мяч упал прямо на н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это самое время печально известной ловли мяча жена Морбитзера переживала: почему его так долго нет. «Он ожидал в очереди арахис для меня» - объяснила она позже интервьюэрам. Морбитзер прокомментировал свои действия следующим образом: «Я поймал мяч, – но тут же быстро добавил, - хотя этот мяч не является уж такой великой добы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Морбитзера была уникальная возможность. Возможность приземлилась на него, а не на бейсбольный стадион. Многие репортеры рассказывали об этом удачном броске, а также о возможности заработать огромные деньги только лишь потому, что Морбитзер стоял в нужном месте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е всегда все дается нам в руки так легко, как в данной истории. Нам очень многое приходится планировать, структурировать и усердно работать, чтобы достичь результата. Но урок данной истории для нас заключается в том, что нам необходимо быть готовыми взять от жизни то, что она предлагает нам. Такая добыча может изменить вашу жизнь и жизнь других людей. Она может открыть двери для партнерства, нового сообщества среди членов церкви или даже новых дружески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ые возможности могут изменить направление вашей жизни, если вы находитесь в нужном месте и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u="sng">
                <a:solidFill>
                  <a:srgbClr val="009999"/>
                </a:solidFill>
                <a:uFillTx/>
                <a:latin typeface="Arial"/>
                <a:hlinkClick r:id="rId2" action="ppaction://hlinksldjump"/>
              </a:rPr>
              <a:t>[1]</a:t>
            </a:r>
            <a:r>
              <a:rPr b="0" lang="ru-RU" sz="1200" spc="-1" strike="noStrike">
                <a:solidFill>
                  <a:srgbClr val="000000"/>
                </a:solidFill>
                <a:latin typeface="Arial"/>
              </a:rPr>
              <a:t> Хоум-ран (HOME RUN) — удачно реализованное отбивание мяча бьющим, когда мяч покидает пределы игрового поля над фэйр-территорией, вследствие которого игрок (и его партнеры, находящиеся на базах) получает право осуществить полную перебежку по базам и вернуться в «дом». Прим. переводчик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4B3BF5-F509-4A19-8B63-375EF152E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05000" y="695160"/>
            <a:ext cx="2602080" cy="1951200"/>
          </a:xfrm>
          <a:prstGeom prst="rect">
            <a:avLst/>
          </a:prstGeom>
          <a:ln w="0">
            <a:noFill/>
          </a:ln>
        </p:spPr>
      </p:sp>
      <p:sp>
        <p:nvSpPr>
          <p:cNvPr id="208" name="PlaceHolder 2"/>
          <p:cNvSpPr>
            <a:spLocks noGrp="1"/>
          </p:cNvSpPr>
          <p:nvPr>
            <p:ph type="body"/>
          </p:nvPr>
        </p:nvSpPr>
        <p:spPr>
          <a:xfrm>
            <a:off x="701280" y="252540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б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кренняя забота это первый шаг на пути созидания потенциального руководителя, чуткого к тому, что Бог может сделать через нас и через других людей. Как последователей Христа наша цель должна быть в том, чтобы помочь возрастать другим людям. К сожалению, требующее времени понимание других людей и желание помочь им в достижении целей могут быть фрустрированы, особенно в современном мире бизнеса и перенапряжения. В наши дни принято, и даже поощряется прилагать все усилия, чтобы стать лучше и предоставить другим людям полную независимость. Но если мы так будем поступать, то никто из нас не исполнит цели Божь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Ян</a:t>
            </a:r>
            <a:r>
              <a:rPr b="1" lang="en-US" sz="1200" spc="-1" strike="noStrike">
                <a:solidFill>
                  <a:srgbClr val="000000"/>
                </a:solidFill>
                <a:latin typeface="Arial"/>
              </a:rPr>
              <a:t> </a:t>
            </a:r>
            <a:r>
              <a:rPr b="1" lang="ru-RU" sz="1200" spc="-1" strike="noStrike">
                <a:solidFill>
                  <a:srgbClr val="000000"/>
                </a:solidFill>
                <a:latin typeface="Arial"/>
              </a:rPr>
              <a:t>Джонсон</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Purpose-Ful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Наша задача заключается в том, что нам необходимо открыть глаза и осознать, что другие люди доступны. Существует множество мнений каким должен быть руководитель, но Бог в своей безграничной мудрости даем нам дары, которые нам необходимы, чтобы совершить труд для Него. Не приглашайте руководителем человека, который не отвечает этим требованиям. Люди учатся любить и уважать руководителя-христианина, который живет настоящей жизнью последователя Хри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дном замечательном занятии для детей «Вельветовый кролик», разработанном Маргери Вильямс есть одна сцена, которая отражает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Реальность это вовсе не то, из чего ты сделан, - сказала кожаная лошадка,  - а то, что случается с тобой…. Становление личности происходит не в одночасье. Оно требует времени. Вот почему становление часто не происходит с людьми, которые легко ломаются или у них острые границы, или они слишком осторожны.”</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436059-CFAE-405C-9ECC-8294039B7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403360" y="549360"/>
            <a:ext cx="2113200" cy="1584360"/>
          </a:xfrm>
          <a:prstGeom prst="rect">
            <a:avLst/>
          </a:prstGeom>
          <a:ln w="0">
            <a:noFill/>
          </a:ln>
        </p:spPr>
      </p:sp>
      <p:sp>
        <p:nvSpPr>
          <p:cNvPr id="21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то правда, что некоторым людям нужно больше помощи, чем другим – но никого не нужно обесценивать. Для некоторых людей очень легко быть руководителями, для других более сложно, и им необходим человек, который бы оказал помощь и раскрыл их потенциал. Нам не стоит эгоистично распоряжаться дарами, которые Бог дал нам, чтобы проявить себя перед другими людьми, но нам необходимо избрать служить Ему и позволить Его воле быть первоочередной, поскольку мы заботимся о служении другим людя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D2E0AB-D00D-48D9-90B0-DBAB0826F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060640" y="549360"/>
            <a:ext cx="2502000" cy="1876320"/>
          </a:xfrm>
          <a:prstGeom prst="rect">
            <a:avLst/>
          </a:prstGeom>
          <a:ln w="0">
            <a:noFill/>
          </a:ln>
        </p:spPr>
      </p:sp>
      <p:sp>
        <p:nvSpPr>
          <p:cNvPr id="21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 - </a:t>
            </a:r>
            <a:r>
              <a:rPr b="1" lang="ru-RU" sz="1200" spc="-1" strike="noStrike">
                <a:solidFill>
                  <a:srgbClr val="000000"/>
                </a:solidFill>
                <a:latin typeface="Arial"/>
              </a:rPr>
              <a:t>Осозн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ры различны, но Дух один и тот же; </a:t>
            </a:r>
            <a:br>
              <a:rPr sz="1200"/>
            </a:br>
            <a:r>
              <a:rPr b="1" lang="ru-RU" sz="1200" spc="-1" strike="noStrike">
                <a:solidFill>
                  <a:srgbClr val="000000"/>
                </a:solidFill>
                <a:latin typeface="Arial"/>
              </a:rPr>
              <a:t>и служения различны, а Господь один и тот же; </a:t>
            </a:r>
            <a:br>
              <a:rPr sz="1200"/>
            </a:br>
            <a:r>
              <a:rPr b="1" lang="ru-RU" sz="1200" spc="-1" strike="noStrike">
                <a:solidFill>
                  <a:srgbClr val="000000"/>
                </a:solidFill>
                <a:latin typeface="Arial"/>
              </a:rPr>
              <a:t>и действия различны, а Бог один и тот же, производящий все во всех. </a:t>
            </a:r>
            <a:br>
              <a:rPr sz="1200"/>
            </a:br>
            <a:r>
              <a:rPr b="1" lang="ru-RU" sz="1200" spc="-1" strike="noStrike">
                <a:solidFill>
                  <a:srgbClr val="000000"/>
                </a:solidFill>
                <a:latin typeface="Arial"/>
              </a:rPr>
              <a:t>Но каждому дается проявление Духа на пользу. </a:t>
            </a:r>
            <a:br>
              <a:rPr sz="1200"/>
            </a:br>
            <a:r>
              <a:rPr b="1" lang="ru-RU" sz="1200" spc="-1" strike="noStrike">
                <a:solidFill>
                  <a:srgbClr val="000000"/>
                </a:solidFill>
                <a:latin typeface="Arial"/>
              </a:rPr>
              <a:t>(1 Коринфянам 12: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ый благословлен Богом и каждому дан хотя бы один дар, который можно использовать для Его труда. Многие люди благословлены множеством даров! Ваше наблюдение и осознавание потенциала других людей может быть движущей силой на пути к руководству.  Сделайте своей целью раскрытие потенциала других людей. Внимательно наблюдайте за проявлениями потенциала, направленного на руководство, в людях, с которыми вы сотруднича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ы «осознаете», что для другие люди одарены талантами, если будете не только наблюдать, но также позволите им использовать свои дары и таланты. Вам необходимо узнать о ситуациях, когда ваш наставляемый может усилить свой лидерский опыт и предоставить большие возможности для его науч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C77782-24C4-4A1F-8AD3-3EED1ABCF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81320" y="914400"/>
            <a:ext cx="2211480" cy="1658880"/>
          </a:xfrm>
          <a:prstGeom prst="rect">
            <a:avLst/>
          </a:prstGeom>
          <a:ln w="0">
            <a:noFill/>
          </a:ln>
        </p:spPr>
      </p:sp>
      <p:sp>
        <p:nvSpPr>
          <p:cNvPr id="217" name="PlaceHolder 2"/>
          <p:cNvSpPr>
            <a:spLocks noGrp="1"/>
          </p:cNvSpPr>
          <p:nvPr>
            <p:ph type="body"/>
          </p:nvPr>
        </p:nvSpPr>
        <p:spPr>
          <a:xfrm>
            <a:off x="701640" y="2598840"/>
            <a:ext cx="57564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1200" spc="-1" strike="noStrike">
                <a:solidFill>
                  <a:srgbClr val="000000"/>
                </a:solidFill>
                <a:latin typeface="Arial"/>
              </a:rPr>
              <a:t> </a:t>
            </a:r>
            <a:r>
              <a:rPr b="1" i="1" lang="en-US" sz="1200" spc="-1" strike="noStrike">
                <a:solidFill>
                  <a:srgbClr val="000000"/>
                </a:solidFill>
                <a:latin typeface="Arial"/>
              </a:rPr>
              <a:t>Review and Herald</a:t>
            </a:r>
            <a:r>
              <a:rPr b="1" lang="ru-RU" sz="1200" spc="-1" strike="noStrike">
                <a:solidFill>
                  <a:srgbClr val="000000"/>
                </a:solidFill>
                <a:latin typeface="Arial"/>
              </a:rPr>
              <a:t>, 27 июня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опыт и успех как руководителя являются трамплином, с которого ваш ученик может стартовать. Ваше доброе инструктирование, руководство, решения являются моделью того, что возможно сделать в будущем. Во всех аспектах ищите пути как использовать дары Божии, данные вам для благословения других людей и помогайте им осознавать свои уникальные да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бо дал нам Бог духа не боязни, но силы и любви и целомудрия», 2 Тим. 1:7.</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566F42-6E47-46B5-91A8-A6C4CF5F6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259000" y="695160"/>
            <a:ext cx="2503440" cy="1878120"/>
          </a:xfrm>
          <a:prstGeom prst="rect">
            <a:avLst/>
          </a:prstGeom>
          <a:ln w="0">
            <a:noFill/>
          </a:ln>
        </p:spPr>
      </p:sp>
      <p:sp>
        <p:nvSpPr>
          <p:cNvPr id="220" name="PlaceHolder 2"/>
          <p:cNvSpPr>
            <a:spLocks noGrp="1"/>
          </p:cNvSpPr>
          <p:nvPr>
            <p:ph type="body"/>
          </p:nvPr>
        </p:nvSpPr>
        <p:spPr>
          <a:xfrm>
            <a:off x="707760" y="2598480"/>
            <a:ext cx="5607000" cy="5560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a:t>
            </a:r>
            <a:r>
              <a:rPr b="1" lang="ru-RU" sz="1200" spc="-1" strike="noStrike">
                <a:solidFill>
                  <a:srgbClr val="000000"/>
                </a:solidFill>
                <a:latin typeface="Arial"/>
              </a:rPr>
              <a:t> - Поддерж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делали первые шаги в своей карьере. Неопытность, страх провала, сомнения, непонимание, недостаточное образование и прочие беспокойства могли вызвать замедление развития у потенциальных руковод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быть лишены шанса на руководство, или же оно может быть отсроче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начинали руководить. Вы были осторожны? Нерешительны? Боязливы? Поддерживал ли вас кто-нибудь? Искренне поддерживайте тех, кто находится под вашим попечением и помогайте им становиться эффективными руководи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слеживайте возможно незначительные характерные черты, которые можно развивать. Они не обязательно должны быть глав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искренние, поддерживающие слова. Возможно, пройдут года, прежде чем вы увидите результат, но ваше посвящение имеет очень большое значение для того, кто сегодня чувствует неуверенно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322E38-BF4B-486E-9BB3-ED2EEA674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333520" y="695160"/>
            <a:ext cx="2343240" cy="1757520"/>
          </a:xfrm>
          <a:prstGeom prst="rect">
            <a:avLst/>
          </a:prstGeom>
          <a:ln w="0">
            <a:noFill/>
          </a:ln>
        </p:spPr>
      </p:sp>
      <p:sp>
        <p:nvSpPr>
          <p:cNvPr id="223" name="PlaceHolder 2"/>
          <p:cNvSpPr>
            <a:spLocks noGrp="1"/>
          </p:cNvSpPr>
          <p:nvPr>
            <p:ph type="body"/>
          </p:nvPr>
        </p:nvSpPr>
        <p:spPr>
          <a:xfrm>
            <a:off x="701280" y="259848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делитесь с вашими потенциальными руководителями словами из книги Джойс Мейер «Быть человеком по замыслу Божьему» (</a:t>
            </a:r>
            <a:r>
              <a:rPr b="1" i="1" lang="en-US" sz="1200" spc="-1" strike="noStrike">
                <a:solidFill>
                  <a:srgbClr val="000000"/>
                </a:solidFill>
                <a:latin typeface="Arial"/>
              </a:rPr>
              <a:t>Being the Person God Made You to Be</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а это важнейший компонент в вашей работе по руководству другими людьми, инструктируя их в области лидерства, а также молитва это форма поддержки. Расскажите вашим новоиспеченным руководителям, что вы молитесь о них. Также, отведите время для совместных молитв о Божьем руководстве и исполнении Его во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ходите обетования в Библии, которые напомнят вам о том, что Бог совершенствует каждого из нас. Отдайте ваши беспокойства Иисусу Христу. К руководству идут постепенно, небольшими шагами. Возложите свои надежды на Божье руководство и Он будет помогать ва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4E0E4E-B0AA-4506-81A4-BB916C4FF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03560" y="620640"/>
            <a:ext cx="2603520" cy="1952640"/>
          </a:xfrm>
          <a:prstGeom prst="rect">
            <a:avLst/>
          </a:prstGeom>
          <a:ln w="0">
            <a:noFill/>
          </a:ln>
        </p:spPr>
      </p:sp>
      <p:sp>
        <p:nvSpPr>
          <p:cNvPr id="226" name="PlaceHolder 2"/>
          <p:cNvSpPr>
            <a:spLocks noGrp="1"/>
          </p:cNvSpPr>
          <p:nvPr>
            <p:ph type="body"/>
          </p:nvPr>
        </p:nvSpPr>
        <p:spPr>
          <a:xfrm>
            <a:off x="701280" y="2598840"/>
            <a:ext cx="56070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зн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полезно на каждом этапе выражать одобрение новоиспеченным руководителям. Говорите о том, что было сделано хорошо. Как только вы это замечаете, то сразу же и говорите об этом. Тот час же говорите о хорошем качестве работы, которую сделал челове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людям о своих чувствах, когда они хорошо работают. Говорите о том, что их труд приносит пользу другим людям и помогает им. Небольшие фразы одобрения помогут вашим руководителям не сдаваться, а также помогут укреплять чувство собственного достоинства и доверия себе. Помните, о том, что вы не должны помнить обо всех  мелочах без исключения, но признательность – это очень важный аспект в поддержании дух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частую вам приходится узнавать о том, что некоторые проекты сделаны не надлежащим образом. Будьте вежливы и терпеливы. Не критикуйте, но фокусируйтесь на наиболее важных аспектах. И никогда не мешайте все вместе: в одном монологе не говорите о благодарности и о том, что есть аспекты, в которых все не так уж и хорош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A03179-3399-4721-98D4-197F01F67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039760" y="549360"/>
            <a:ext cx="2698920" cy="2023920"/>
          </a:xfrm>
          <a:prstGeom prst="rect">
            <a:avLst/>
          </a:prstGeom>
          <a:ln w="0">
            <a:noFill/>
          </a:ln>
        </p:spPr>
      </p:sp>
      <p:sp>
        <p:nvSpPr>
          <p:cNvPr id="229" name="PlaceHolder 2"/>
          <p:cNvSpPr>
            <a:spLocks noGrp="1"/>
          </p:cNvSpPr>
          <p:nvPr>
            <p:ph type="body"/>
          </p:nvPr>
        </p:nvSpPr>
        <p:spPr>
          <a:xfrm>
            <a:off x="701280" y="2671920"/>
            <a:ext cx="5607000" cy="534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м из нас очень сложно выражать признательность, когда это необходимо. Ознакомьтесь с </a:t>
            </a:r>
            <a:r>
              <a:rPr b="1" lang="ru-RU" sz="1200" spc="-1" strike="noStrike" u="sng">
                <a:solidFill>
                  <a:srgbClr val="000000"/>
                </a:solidFill>
                <a:uFillTx/>
                <a:latin typeface="Arial"/>
              </a:rPr>
              <a:t>Раздаточным материалом #4: “Возможности признательности</a:t>
            </a:r>
            <a:r>
              <a:rPr b="1" lang="ru-RU" sz="1200" spc="-1" strike="noStrike">
                <a:solidFill>
                  <a:srgbClr val="000000"/>
                </a:solidFill>
                <a:latin typeface="Arial"/>
              </a:rPr>
              <a:t>”, чтобы лучше научиться признавать, что другие делают правильно. Вы можете прочитать этот материал, когда поедете домой и перефразировать предложения на ваш стил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2279BC-60E9-4EC2-BBE6-DC108B7CF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189160" y="549360"/>
            <a:ext cx="2405160" cy="1803240"/>
          </a:xfrm>
          <a:prstGeom prst="rect">
            <a:avLst/>
          </a:prstGeom>
          <a:ln w="0">
            <a:noFill/>
          </a:ln>
        </p:spPr>
      </p:sp>
      <p:sp>
        <p:nvSpPr>
          <p:cNvPr id="232" name="PlaceHolder 2"/>
          <p:cNvSpPr>
            <a:spLocks noGrp="1"/>
          </p:cNvSpPr>
          <p:nvPr>
            <p:ph type="body"/>
          </p:nvPr>
        </p:nvSpPr>
        <p:spPr>
          <a:xfrm>
            <a:off x="701280" y="2379240"/>
            <a:ext cx="5607000" cy="54882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1" lang="en-US" sz="1200" spc="-1" strike="noStrike">
                <a:solidFill>
                  <a:srgbClr val="000000"/>
                </a:solidFill>
                <a:latin typeface="Arial"/>
              </a:rPr>
              <a:t>Review and Herald</a:t>
            </a:r>
            <a:r>
              <a:rPr b="1" lang="ru-RU" sz="1200" spc="-1" strike="noStrike">
                <a:solidFill>
                  <a:srgbClr val="000000"/>
                </a:solidFill>
                <a:latin typeface="Arial"/>
              </a:rPr>
              <a:t>, 1 декабря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71444D-2867-417A-A557-A01F0E949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60440" y="255600"/>
            <a:ext cx="2502000" cy="1876320"/>
          </a:xfrm>
          <a:prstGeom prst="rect">
            <a:avLst/>
          </a:prstGeom>
          <a:ln w="0">
            <a:noFill/>
          </a:ln>
        </p:spPr>
      </p:sp>
      <p:sp>
        <p:nvSpPr>
          <p:cNvPr id="235" name="PlaceHolder 2"/>
          <p:cNvSpPr>
            <a:spLocks noGrp="1"/>
          </p:cNvSpPr>
          <p:nvPr>
            <p:ph type="body"/>
          </p:nvPr>
        </p:nvSpPr>
        <p:spPr>
          <a:xfrm>
            <a:off x="701280" y="2013120"/>
            <a:ext cx="5894280" cy="563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ругих семинарах вам более конкретно расскажут, как осуществлять надлежащую подготовку, поэтому мы не будем погружаться очень глубоко в эту область. Мы предлагаем вашему вниманию несколько важных аспектов, которыми поделились с нами различные руководители: (Выберите некоторые из них для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лыбай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конгруэнтны, работайте один на од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авливайте контакт глаза в гл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терпел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вайте взаимоотношения с наставляем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лабляйте контро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вниматель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овите безопасную атмосферу – теплую, поддерживающ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ддерживайте вовлечение наставляемого в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доступ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пределите несколько подходящ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мейте общее видение и придерживайтесь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делите время, чтобы познакомиться с человеком, с которым вы собираетесь работать. Такое общение может изменить ми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сверхпротекцио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окращайте «инстр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родительских» жестов и взгля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едоставляйте пространство для творчества и различных м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пытайтесь узнать все (или не заставляйтесь людей поступать подобно 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обивайтесь маст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манипулиру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ожидайте, что человек станет вашим «кло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йте Хрис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53663B-0593-493C-982B-92961C5D4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265480" y="549360"/>
            <a:ext cx="2406600" cy="1805040"/>
          </a:xfrm>
          <a:prstGeom prst="rect">
            <a:avLst/>
          </a:prstGeom>
          <a:ln w="0">
            <a:noFill/>
          </a:ln>
        </p:spPr>
      </p:sp>
      <p:sp>
        <p:nvSpPr>
          <p:cNvPr id="184" name="PlaceHolder 2"/>
          <p:cNvSpPr>
            <a:spLocks noGrp="1"/>
          </p:cNvSpPr>
          <p:nvPr>
            <p:ph type="body"/>
          </p:nvPr>
        </p:nvSpPr>
        <p:spPr>
          <a:xfrm>
            <a:off x="701280" y="2381400"/>
            <a:ext cx="5894280" cy="60004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1" lang="ru-RU" sz="1200" spc="-1" strike="noStrike">
                <a:solidFill>
                  <a:srgbClr val="000000"/>
                </a:solidFill>
                <a:latin typeface="Arial"/>
              </a:rPr>
              <a:t>Руководство, наставничество и 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r>
              <a:rPr b="0"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рассмотрим синонимы, описывающие руководство. Один из самых больших словарей Греди Ворда </a:t>
            </a:r>
            <a:r>
              <a:rPr b="0" i="1" lang="en-US" sz="1200" spc="-1" strike="noStrike">
                <a:solidFill>
                  <a:srgbClr val="000000"/>
                </a:solidFill>
                <a:latin typeface="Arial"/>
              </a:rPr>
              <a:t>Moby Thesaurus II</a:t>
            </a:r>
            <a:r>
              <a:rPr b="0" lang="ru-RU" sz="1200" spc="-1" strike="noStrike">
                <a:solidFill>
                  <a:srgbClr val="000000"/>
                </a:solidFill>
                <a:latin typeface="Arial"/>
              </a:rPr>
              <a:t> предлагает следующие терм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Администр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дседательство</a:t>
            </a:r>
            <a:r>
              <a:rPr b="0" lang="en-US" sz="1200" spc="-1" strike="noStrike">
                <a:solidFill>
                  <a:srgbClr val="000000"/>
                </a:solidFill>
                <a:latin typeface="Arial"/>
              </a:rPr>
              <a:t>	</a:t>
            </a:r>
            <a:r>
              <a:rPr b="0" lang="ru-RU" sz="1200" spc="-1" strike="noStrike">
                <a:solidFill>
                  <a:srgbClr val="000000"/>
                </a:solidFill>
                <a:latin typeface="Arial"/>
              </a:rPr>
              <a:t>Дикт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мин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уководство коллективом</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ия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осп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енеджмент</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Зна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восх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Регент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Царств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дыче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аспоряди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упервизия</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Шериф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ерхо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ысший сост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лжно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ла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Наездник</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 ли вас какие-либо из этих терминов? [Предоставьте время для ответов.]</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938EB7-A8CC-4676-8C2E-D517681FF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332080" y="328680"/>
            <a:ext cx="2503440" cy="1878120"/>
          </a:xfrm>
          <a:prstGeom prst="rect">
            <a:avLst/>
          </a:prstGeom>
          <a:ln w="0">
            <a:noFill/>
          </a:ln>
        </p:spPr>
      </p:sp>
      <p:sp>
        <p:nvSpPr>
          <p:cNvPr id="238" name="PlaceHolder 2"/>
          <p:cNvSpPr>
            <a:spLocks noGrp="1"/>
          </p:cNvSpPr>
          <p:nvPr>
            <p:ph type="body"/>
          </p:nvPr>
        </p:nvSpPr>
        <p:spPr>
          <a:xfrm>
            <a:off x="701280" y="223164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рдж Патон говорил о совместимости в обучении других людей: Никогда не говорите как все устроено. Скажите людям, что нужно сделать, и они удивят вас своей изобрета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мысль может помочь руководителям не увязнуть в рутине. Когда мы находимся в гармонии с волей Божьей, все становится на свои ме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актиканта важной частью работы является взаимодействие с другими людьми. На месте руководителя вас предостерегает одно из разочарование это стресс от взаимодействия с людьми, у которых изменчивые желания и м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создал нас дополняющими друг друга, и несмотря на то, что требуются усилия, чтобы сделать какое-то дело, оно все равно может быть сделано. Очень мудро будет иногда обращаться к этой мысли и осуществлять доброжелательное руководство, когда это необходим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комплекте материалов вы можете найти юмористический рассказ, который является правдивой историей. </a:t>
            </a:r>
            <a:r>
              <a:rPr b="1" lang="ru-RU" sz="1200" spc="-1" strike="noStrike" u="sng">
                <a:solidFill>
                  <a:srgbClr val="000000"/>
                </a:solidFill>
                <a:uFillTx/>
                <a:latin typeface="Arial"/>
              </a:rPr>
              <a:t>Прочитайте </a:t>
            </a:r>
            <a:r>
              <a:rPr b="1" lang="en-US" sz="1200" spc="-1" strike="noStrike" u="sng">
                <a:solidFill>
                  <a:srgbClr val="000000"/>
                </a:solidFill>
                <a:uFillTx/>
                <a:latin typeface="Arial"/>
              </a:rPr>
              <a:t>Раздаточный материал</a:t>
            </a:r>
            <a:r>
              <a:rPr b="1" lang="ru-RU" sz="1200" spc="-1" strike="noStrike" u="sng">
                <a:solidFill>
                  <a:srgbClr val="000000"/>
                </a:solidFill>
                <a:uFillTx/>
                <a:latin typeface="Arial"/>
              </a:rPr>
              <a:t> #5: “Необузданный народ”.</a:t>
            </a:r>
            <a:r>
              <a:rPr b="1" lang="ru-RU" sz="1200" spc="-1" strike="noStrike">
                <a:solidFill>
                  <a:srgbClr val="000000"/>
                </a:solidFill>
                <a:latin typeface="Arial"/>
              </a:rPr>
              <a:t> [Фасилитатор, прочитайте вслух этот рассказ для участников вашего семинара или позвольте участникам прочитать его по абзац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заключении этого практического раздела «Подготовка» помните о том, что необходимо доверять Богу вести и руководить вами лучшим способом, чтобы Его имя было прославлено. Близиться время, когда вы полностью станете доверять вашим потенциальным руководителям при выполнении каждого задания. Будьте готовы идти по этому пути, также будьте готовы отойти в сторону, потому что придет новый руководитель!</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5E06E0-9C69-460D-B3CF-B6643593D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60440" y="476280"/>
            <a:ext cx="2540160" cy="1905120"/>
          </a:xfrm>
          <a:prstGeom prst="rect">
            <a:avLst/>
          </a:prstGeom>
          <a:ln w="0">
            <a:noFill/>
          </a:ln>
        </p:spPr>
      </p:sp>
      <p:sp>
        <p:nvSpPr>
          <p:cNvPr id="241" name="PlaceHolder 2"/>
          <p:cNvSpPr>
            <a:spLocks noGrp="1"/>
          </p:cNvSpPr>
          <p:nvPr>
            <p:ph type="body"/>
          </p:nvPr>
        </p:nvSpPr>
        <p:spPr>
          <a:xfrm>
            <a:off x="701280" y="2231640"/>
            <a:ext cx="5894280" cy="6000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вер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езд уже было отправлялся и кондуктор проверял билеты. Посмотрев на билет первого пассажира, он сказал: Я полагаю вы уедете в неправильном направлении. Но – ответил мужчина – билетный кассир сказал, что это именно тот поезд, который мне нужен.  После некоторой дискуссии, кондуктор решил проверить билет у билетного кассира. И оказалось, что это кондуктор сел не в тот поезд! Если руководитель потерялся, то как последователи могут не сбиться с курса? Автор неизвест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добросовестно помогли потенциальному руководителю раскрыться и вырасти, будьте готовы теперь уполномочить его выполнять свою рабо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фесянам 4:1-3: Итак я, узник в Господе, умоляю вас поступать достойно звания, в которое вы призваны, со всяким смиренномудрием и кротостью и долготерпением, снисходя друг ко другу любовью, стараясь сохранять единство духа в союзе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ощряйте людей продвигаться вперед и использовать свои таланты, знания и новые навыки, пошагово, с необходимым интервалом, и поддерживайте их на пути. Пришло время. И, в любом случае, это время не касается вас, оно относится к ним – их достижениям, их успеху и намерениям, которые Бог имеет о них. Как напоминание о том, что Бог призвал нас совершать по отношению друг к другу вы можете просмотреть по окончании данного семинара</a:t>
            </a:r>
            <a:r>
              <a:rPr b="1" lang="ru-RU" sz="1200" spc="-1" strike="noStrike" u="sng">
                <a:solidFill>
                  <a:srgbClr val="000000"/>
                </a:solidFill>
                <a:uFillTx/>
                <a:latin typeface="Arial"/>
              </a:rPr>
              <a:t> Раздаточный материал #6, Духовные цитаты</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когда-нибудь видели птенца, начинающего летать? Это довольно интересно. Когда мать или отец решают, что пришло время птенцу научиться летать, они выкидывают его из гнезда. И если все складывается удачно, то птенец раскрывает крылья и летит. Если неудачно, он падает на землю. Но это не бесповоротно, потому что мать или отец бросаются на землю, чирикают и пищат над своим птенцом. Очень поддерживающее?! - вы можете сказать. Но родитель находится рядом и отражает нападки хищников. Возможно, потребуется время, но птенец начнет летать. Мы можем научиться у птиц доверять способностям наставляемого, давая ему легкие толчки, находясь рядом, поддерживая, будучи готовыми ассистировать, если потребуется (и если нас попросят), отражая критику и негативиз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887AA2-5D28-43A3-B8BA-BA4D3AA8A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60440" y="328680"/>
            <a:ext cx="2698920" cy="2023920"/>
          </a:xfrm>
          <a:prstGeom prst="rect">
            <a:avLst/>
          </a:prstGeom>
          <a:ln w="0">
            <a:noFill/>
          </a:ln>
        </p:spPr>
      </p:sp>
      <p:sp>
        <p:nvSpPr>
          <p:cNvPr id="24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B14F88-195C-4325-8375-45B4CB6ED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60440" y="476280"/>
            <a:ext cx="2406960" cy="1805040"/>
          </a:xfrm>
          <a:prstGeom prst="rect">
            <a:avLst/>
          </a:prstGeom>
          <a:ln w="0">
            <a:noFill/>
          </a:ln>
        </p:spPr>
      </p:sp>
      <p:sp>
        <p:nvSpPr>
          <p:cNvPr id="247" name="PlaceHolder 2"/>
          <p:cNvSpPr>
            <a:spLocks noGrp="1"/>
          </p:cNvSpPr>
          <p:nvPr>
            <p:ph type="body"/>
          </p:nvPr>
        </p:nvSpPr>
        <p:spPr>
          <a:xfrm>
            <a:off x="701280" y="2451240"/>
            <a:ext cx="582156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усердно потрудились, теперь отдыхаем, размышляем и осознаем какого роста достигли, и продолжаем снова трудиться. Настало время доверить работу другим людям и разделить радость нового опыта вмес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айте р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Дискуссия:  Ознакомьтесь с Раздаточным материалом # 7 «Я снова расту»</a:t>
            </a:r>
            <a:r>
              <a:rPr b="1" lang="ru-RU" sz="1200" spc="-1" strike="noStrike">
                <a:solidFill>
                  <a:srgbClr val="000000"/>
                </a:solidFill>
                <a:latin typeface="Arial"/>
              </a:rPr>
              <a:t>. [Фасилитатор, прочитайте эту историю или попросите кого-либо из участников прочита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результат в чьей-нибудь душе возникнет новое дыхание жизни, день за днем вы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 (творите). Помогайте человеку расти и открывать новый потенциал руководител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620C47-C99E-4E60-A2A0-E2ABAB78D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59000" y="401760"/>
            <a:ext cx="2503440" cy="1877760"/>
          </a:xfrm>
          <a:prstGeom prst="rect">
            <a:avLst/>
          </a:prstGeom>
          <a:ln w="0">
            <a:noFill/>
          </a:ln>
        </p:spPr>
      </p:sp>
      <p:sp>
        <p:nvSpPr>
          <p:cNvPr id="250" name="PlaceHolder 2"/>
          <p:cNvSpPr>
            <a:spLocks noGrp="1"/>
          </p:cNvSpPr>
          <p:nvPr>
            <p:ph type="body"/>
          </p:nvPr>
        </p:nvSpPr>
        <p:spPr>
          <a:xfrm>
            <a:off x="701280" y="2451240"/>
            <a:ext cx="589428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итель, в известном смысле, всегда должен быть на работе, принимая решения, направляя и развивая то дело, которое доверено ему и в то же время, ободряя тех, кто трудится рядом с ним. Руководитель это тот, кто знает путь, идет по нему и показывает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а работа завершена! Но иногда оглядывайтесь назад, наблюдайте за прогрессом и продолжайте поддерживать труд, доверенный новому руководите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вы будете заниматься дальше? Жизнь не закончилась (или не должна), потому что вы раньше были руководителем или наставником! Наметьте другие цели. Прилагайте усилия – двигайтесь вперед и вверх. Но уделяйте время для оценки того, как вы изменились и чему вы научились, прежде чем займетесь новым служением. Оцените то дело, которым вы занимались, прежде приступите к сотрудничеству с другими потенциальными руководителями. В комплекте материалов вы найдете </a:t>
            </a:r>
            <a:r>
              <a:rPr b="1" lang="ru-RU" sz="1200" spc="-1" strike="noStrike" u="sng">
                <a:solidFill>
                  <a:srgbClr val="000000"/>
                </a:solidFill>
                <a:uFillTx/>
                <a:latin typeface="Arial"/>
              </a:rPr>
              <a:t>Раздаточный материал#8, “Цитаты для вашей поддержки,”</a:t>
            </a:r>
            <a:r>
              <a:rPr b="1" lang="ru-RU" sz="1200" spc="-1" strike="noStrike">
                <a:solidFill>
                  <a:srgbClr val="000000"/>
                </a:solidFill>
                <a:latin typeface="Arial"/>
              </a:rPr>
              <a:t> прочитайте их во время лекции. Данные цитаты могут поднять ваш дух и вдохновить вас продолжать помогать другим людям использовать Богом данный потенциал в служении дома, в обществе и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ы сегодня завершаем наш семинар, я хочу, чтобы 10 добровольцев прочитали «блаженства» из Раздаточного материала</a:t>
            </a:r>
            <a:r>
              <a:rPr b="1" lang="ru-RU" sz="1200" spc="-1" strike="noStrike" u="sng">
                <a:solidFill>
                  <a:srgbClr val="000000"/>
                </a:solidFill>
                <a:uFillTx/>
                <a:latin typeface="Arial"/>
              </a:rPr>
              <a:t> #9: “ Блаженства руководителя”</a:t>
            </a:r>
            <a:r>
              <a:rPr b="1" lang="ru-RU" sz="1200" spc="-1" strike="noStrike">
                <a:solidFill>
                  <a:srgbClr val="000000"/>
                </a:solidFill>
                <a:latin typeface="Arial"/>
              </a:rPr>
              <a:t>. Пожалуйста, прочтите громко и четко. [Фасилитатор, вы можете предпочесть прочитать блаженства сами. Если позволяет время, предоставьте участникам время поделиться мыслями по поводу прочит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благословил вас быть в правильном месте и в правильное время и совершать изменения в жизни других людей. Я надеюсь, что этот семинар предоставил вам идеи о том, как обнаружить и взрасти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18148C-906B-4A49-9BA9-A9E5784D7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body"/>
          </p:nvPr>
        </p:nvSpPr>
        <p:spPr>
          <a:xfrm>
            <a:off x="701640" y="695160"/>
            <a:ext cx="5673600" cy="7539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чале нашего семинара я рассказала вам истории о бейсбольной команде Сан-Франциско и о фанате, который поймал мяч. Когда он выходил из дома, он не собирался ловить мяч. Поэтому я говорю вам сегодня: будьте бдительны! Вы никогда не знаете, когда удивительная возможность встанет на вашем пути или когда вы сможете «поймать» шанс, который может изменить вашу жизнь или жизнь ваших близк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ой урок, который мы можем извлечь — мяч Морбитзера в конце концов был продан только за $210000, это очень маленькая сумма в сравнении с другими проданными мячами за последние годы. Такая сумма была выплачена из-за разногласий вокруг Барри Бондса, игрока, который ударил мя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ндс обвинялся в использовании стероидов, препаратов, повышающий спортивную работоспособность. Спор по этому поводу привел к тому, что многие фанаты потеряли уважение к спортсмену, точно также как ранее рекорд Бэба Руфа был уличен в нечестности. Глядя на эти правдивые истории вы можете увидеть, что ваша ценность как наставника влияет на людей, которые хотят уважать вас, доверять вам, смотреть на вас и следовать за вами. Будьте всегда честными пред Господом, Иисусом Христом, в вашем труде.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561CB6-3DC7-42DE-ABF5-56F9DAB23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187720" y="620640"/>
            <a:ext cx="2503440" cy="1878120"/>
          </a:xfrm>
          <a:prstGeom prst="rect">
            <a:avLst/>
          </a:prstGeom>
          <a:ln w="0">
            <a:noFill/>
          </a:ln>
        </p:spPr>
      </p:sp>
      <p:sp>
        <p:nvSpPr>
          <p:cNvPr id="255"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1200"/>
            </a:br>
            <a:r>
              <a:rPr b="0" i="1" lang="ru-RU" sz="12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1200"/>
            </a:br>
            <a:r>
              <a:rPr b="0" i="1" lang="ru-RU" sz="12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2 Фессалоникийцам, 1:10-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найдите человека, который прочитает стихотворение из </a:t>
            </a:r>
            <a:r>
              <a:rPr b="1" i="1" lang="ru-RU" sz="1200" spc="-1" strike="noStrike" u="sng">
                <a:solidFill>
                  <a:srgbClr val="000000"/>
                </a:solidFill>
                <a:uFillTx/>
                <a:latin typeface="Arial"/>
              </a:rPr>
              <a:t>Раздаточного материала  #10: “Сад Творца,”</a:t>
            </a:r>
            <a:r>
              <a:rPr b="1" i="1" lang="ru-RU" sz="1200" spc="-1" strike="noStrike">
                <a:solidFill>
                  <a:srgbClr val="000000"/>
                </a:solidFill>
                <a:latin typeface="Arial"/>
              </a:rPr>
              <a:t>  </a:t>
            </a:r>
            <a:r>
              <a:rPr b="0" i="1" lang="ru-RU" sz="1200" spc="-1" strike="noStrike">
                <a:solidFill>
                  <a:srgbClr val="000000"/>
                </a:solidFill>
                <a:latin typeface="Arial"/>
              </a:rPr>
              <a:t>затем предложите помолиться для посвящения</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усть каждый из нас старается трудиться в Божьем саду. Удачи и благословений в вашем поиске работы с опытным или новым руководителем. </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EFBE42-76F3-45E5-BF08-BECB6048C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59000" y="401760"/>
            <a:ext cx="2309760" cy="1731960"/>
          </a:xfrm>
          <a:prstGeom prst="rect">
            <a:avLst/>
          </a:prstGeom>
          <a:ln w="0">
            <a:noFill/>
          </a:ln>
        </p:spPr>
      </p:sp>
      <p:sp>
        <p:nvSpPr>
          <p:cNvPr id="187" name="PlaceHolder 2"/>
          <p:cNvSpPr>
            <a:spLocks noGrp="1"/>
          </p:cNvSpPr>
          <p:nvPr>
            <p:ph type="body"/>
          </p:nvPr>
        </p:nvSpPr>
        <p:spPr>
          <a:xfrm>
            <a:off x="701280" y="2158920"/>
            <a:ext cx="5607000" cy="6221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 по мнению Питера Дрюкера расширяет поле зрения человека, возвышает личностные характерные черты на очень высокий стандарт и помогает человеку превозмочь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лияние времени: Индивидуальное влияние – упражнения (3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знакомьтесь с </a:t>
            </a:r>
            <a:r>
              <a:rPr b="1" lang="ru-RU" sz="1200" spc="-1" strike="noStrike" u="sng">
                <a:solidFill>
                  <a:srgbClr val="000000"/>
                </a:solidFill>
                <a:uFillTx/>
                <a:latin typeface="Arial"/>
              </a:rPr>
              <a:t>Раздаточным материалом #1, “Индивидуальное влияние</a:t>
            </a:r>
            <a:r>
              <a:rPr b="0" lang="ru-RU" sz="1200" spc="-1" strike="noStrike">
                <a:solidFill>
                  <a:srgbClr val="000000"/>
                </a:solidFill>
                <a:latin typeface="Arial"/>
              </a:rPr>
              <a:t>.” Прочитайте и ответьте на соответствующие вопросы. [Предоставьте пять мин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никогда прежде не думали об этом, но на тип руководителя и на стиль руководства, который вам нравится или не нравится возможно окажет повлияли в большой степени люди, которые произвели на вас впечатление. Возможно, влияние подобных руководителей побудило в вас желание стать лидером. Какие характеристики вы увидели в этих руководителях? Какими вы хотели бы обладать или не хотели бы? [Предоставьте время для одного или двух ответов.] Учитывая такое влияние, мы можем видеть, что руководители могут оказывать как положительное, так и отрицательное влия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руководство очень тесно связано с наставничеством, поэтому мы лишь кратко коснемся темы влияния. Кто такой наставник? Один из словарей </a:t>
            </a:r>
            <a:r>
              <a:rPr b="0" i="1" lang="en-US" sz="1200" spc="-1" strike="noStrike">
                <a:solidFill>
                  <a:srgbClr val="000000"/>
                </a:solidFill>
                <a:latin typeface="Arial"/>
              </a:rPr>
              <a:t>Brainy Dictionary </a:t>
            </a:r>
            <a:r>
              <a:rPr b="0" lang="ru-RU" sz="1200" spc="-1" strike="noStrike">
                <a:solidFill>
                  <a:srgbClr val="000000"/>
                </a:solidFill>
                <a:latin typeface="Arial"/>
              </a:rPr>
              <a:t>говорит о наставнике как о</a:t>
            </a:r>
            <a:r>
              <a:rPr b="0" i="1" lang="ru-RU" sz="1200" spc="-1" strike="noStrike">
                <a:solidFill>
                  <a:srgbClr val="000000"/>
                </a:solidFill>
                <a:latin typeface="Arial"/>
              </a:rPr>
              <a:t> </a:t>
            </a:r>
            <a:r>
              <a:rPr b="0" lang="ru-RU" sz="1200" spc="-1" strike="noStrike">
                <a:solidFill>
                  <a:srgbClr val="000000"/>
                </a:solidFill>
                <a:latin typeface="Arial"/>
              </a:rPr>
              <a:t>мудром и добросовестном консультанте или инструкторе.  Такое определение проливает свет на очень важный компонент того, что люди оказывают влияние на других, когда принимают на себя наставнические роли. Будучи руководителями, мы зачастую можем быть призваны не только руководить группой, но быть наставниками для одного или нескольких людей. Чип Р. Белл говорит, что наставник является фасилитатором или катализатором в процессе поиска и открытий. Наставничество может осуществляться формально или не формально, но в любом случае, наставник является образцом для подражания, работающим в системе «один-один»: один опытный – наставник, а с другой стороны - готовый развиваться, но еще не опытный наставляемый (</a:t>
            </a:r>
            <a:r>
              <a:rPr b="0" lang="en-US" sz="1200" spc="-1" strike="noStrike">
                <a:solidFill>
                  <a:srgbClr val="000000"/>
                </a:solidFill>
                <a:latin typeface="Arial"/>
              </a:rPr>
              <a:t>prot</a:t>
            </a:r>
            <a:r>
              <a:rPr b="0" lang="ru-RU" sz="1200" spc="-1" strike="noStrike">
                <a:solidFill>
                  <a:srgbClr val="000000"/>
                </a:solidFill>
                <a:latin typeface="Arial"/>
              </a:rPr>
              <a:t>é</a:t>
            </a:r>
            <a:r>
              <a:rPr b="0" lang="en-US" sz="1200" spc="-1" strike="noStrike">
                <a:solidFill>
                  <a:srgbClr val="000000"/>
                </a:solidFill>
                <a:latin typeface="Arial"/>
              </a:rPr>
              <a:t>g</a:t>
            </a:r>
            <a:r>
              <a:rPr b="0" lang="ru-RU" sz="1200" spc="-1" strike="noStrike">
                <a:solidFill>
                  <a:srgbClr val="000000"/>
                </a:solidFill>
                <a:latin typeface="Arial"/>
              </a:rPr>
              <a:t>é </a:t>
            </a:r>
            <a:r>
              <a:rPr b="0" lang="en-US" sz="1200" spc="-1" strike="noStrike">
                <a:solidFill>
                  <a:srgbClr val="000000"/>
                </a:solidFill>
                <a:latin typeface="Arial"/>
              </a:rPr>
              <a:t>or mentee</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8E212F-1AA5-49A6-ACB1-E0A51DC8A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55760" y="476280"/>
            <a:ext cx="2406600" cy="1805040"/>
          </a:xfrm>
          <a:prstGeom prst="rect">
            <a:avLst/>
          </a:prstGeom>
          <a:ln w="0">
            <a:noFill/>
          </a:ln>
        </p:spPr>
      </p:sp>
      <p:sp>
        <p:nvSpPr>
          <p:cNvPr id="19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38B25B-6FC9-4703-936E-B90CA4A95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406600" y="328680"/>
            <a:ext cx="2211480" cy="1658880"/>
          </a:xfrm>
          <a:prstGeom prst="rect">
            <a:avLst/>
          </a:prstGeom>
          <a:ln w="0">
            <a:noFill/>
          </a:ln>
        </p:spPr>
      </p:sp>
      <p:sp>
        <p:nvSpPr>
          <p:cNvPr id="193" name="PlaceHolder 2"/>
          <p:cNvSpPr>
            <a:spLocks noGrp="1"/>
          </p:cNvSpPr>
          <p:nvPr>
            <p:ph type="body"/>
          </p:nvPr>
        </p:nvSpPr>
        <p:spPr>
          <a:xfrm>
            <a:off x="701280" y="2012760"/>
            <a:ext cx="5821560" cy="6367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ru-RU" sz="1200" spc="-1" strike="noStrike">
                <a:solidFill>
                  <a:srgbClr val="000000"/>
                </a:solidFill>
                <a:latin typeface="Arial"/>
              </a:rPr>
              <a:t>- Забота</a:t>
            </a:r>
            <a:r>
              <a:rPr b="0" lang="ru-RU" sz="1200" spc="-1" strike="noStrike">
                <a:solidFill>
                  <a:srgbClr val="000000"/>
                </a:solidFill>
                <a:latin typeface="Arial"/>
              </a:rPr>
              <a:t>     </a:t>
            </a:r>
            <a:r>
              <a:rPr b="0" lang="en-US" sz="1200" spc="-1" strike="noStrike">
                <a:solidFill>
                  <a:srgbClr val="000000"/>
                </a:solidFill>
                <a:latin typeface="Arial"/>
              </a:rPr>
              <a:t>R</a:t>
            </a:r>
            <a:r>
              <a:rPr b="0" lang="ru-RU" sz="1200" spc="-1" strike="noStrike">
                <a:solidFill>
                  <a:srgbClr val="000000"/>
                </a:solidFill>
                <a:latin typeface="Arial"/>
              </a:rPr>
              <a:t> - </a:t>
            </a:r>
            <a:r>
              <a:rPr b="1" lang="ru-RU" sz="1200" spc="-1" strike="noStrike">
                <a:solidFill>
                  <a:srgbClr val="000000"/>
                </a:solidFill>
                <a:latin typeface="Arial"/>
              </a:rPr>
              <a:t>Осознава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Поддержка</a:t>
            </a:r>
            <a:r>
              <a:rPr b="0" lang="ru-RU" sz="1200" spc="-1" strike="noStrike">
                <a:solidFill>
                  <a:srgbClr val="000000"/>
                </a:solidFill>
                <a:latin typeface="Arial"/>
              </a:rPr>
              <a:t>    </a:t>
            </a:r>
            <a:r>
              <a:rPr b="0" lang="en-US" sz="1200" spc="-1" strike="noStrike">
                <a:solidFill>
                  <a:srgbClr val="000000"/>
                </a:solidFill>
                <a:latin typeface="Arial"/>
              </a:rPr>
              <a:t>A</a:t>
            </a:r>
            <a:r>
              <a:rPr b="0" lang="ru-RU" sz="1200" spc="-1" strike="noStrike">
                <a:solidFill>
                  <a:srgbClr val="000000"/>
                </a:solidFill>
                <a:latin typeface="Arial"/>
              </a:rPr>
              <a:t> -  </a:t>
            </a:r>
            <a:r>
              <a:rPr b="1" lang="ru-RU" sz="1200" spc="-1" strike="noStrike">
                <a:solidFill>
                  <a:srgbClr val="000000"/>
                </a:solidFill>
                <a:latin typeface="Arial"/>
              </a:rPr>
              <a:t>Признание</a:t>
            </a:r>
            <a:r>
              <a:rPr b="0" lang="ru-RU" sz="1200" spc="-1" strike="noStrike">
                <a:solidFill>
                  <a:srgbClr val="000000"/>
                </a:solidFill>
                <a:latin typeface="Arial"/>
              </a:rPr>
              <a:t>   </a:t>
            </a:r>
            <a:r>
              <a:rPr b="0" lang="en-US" sz="1200" spc="-1" strike="noStrike">
                <a:solidFill>
                  <a:srgbClr val="000000"/>
                </a:solidFill>
                <a:latin typeface="Arial"/>
              </a:rPr>
              <a:t>T</a:t>
            </a:r>
            <a:r>
              <a:rPr b="0" lang="ru-RU" sz="1200" spc="-1" strike="noStrike">
                <a:solidFill>
                  <a:srgbClr val="000000"/>
                </a:solidFill>
                <a:latin typeface="Arial"/>
              </a:rPr>
              <a:t> - </a:t>
            </a:r>
            <a:r>
              <a:rPr b="1" lang="ru-RU" sz="1200" spc="-1" strike="noStrike">
                <a:solidFill>
                  <a:srgbClr val="000000"/>
                </a:solidFill>
                <a:latin typeface="Arial"/>
              </a:rPr>
              <a:t>Обуче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аточный материал #1,</a:t>
            </a:r>
            <a:r>
              <a:rPr b="0" lang="ru-RU" sz="1200" spc="-1" strike="noStrike">
                <a:solidFill>
                  <a:srgbClr val="000000"/>
                </a:solidFill>
                <a:latin typeface="Arial"/>
              </a:rPr>
              <a:t> “</a:t>
            </a:r>
            <a:r>
              <a:rPr b="1" lang="ru-RU" sz="1200" spc="-1" strike="noStrike" u="sng">
                <a:solidFill>
                  <a:srgbClr val="000000"/>
                </a:solidFill>
                <a:uFillTx/>
                <a:latin typeface="Arial"/>
              </a:rPr>
              <a:t>Индивидуальное влияние”</a:t>
            </a:r>
            <a:r>
              <a:rPr b="0" lang="ru-RU" sz="1200" spc="-1" strike="noStrike">
                <a:solidFill>
                  <a:srgbClr val="000000"/>
                </a:solidFill>
                <a:latin typeface="Arial"/>
              </a:rPr>
              <a:t>. Используйте тему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0" lang="ru-RU" sz="1200" spc="-1" strike="noStrike">
                <a:solidFill>
                  <a:srgbClr val="000000"/>
                </a:solidFill>
                <a:latin typeface="Arial"/>
              </a:rPr>
              <a:t>  в качестве ориентира и напишите определение, используя 75 слов или меньше. [Предоставьте пять минут и затем созовите участников обратно в 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было время подумать о том, что вы можете привнести в работу с потенциальным лидером. Ваше суждение может послужить руководством, когда вы будете наставлять других людей. Но прежде чем вы начнете, сфокусируйте свое внимание на одном пункте – не форсируйте никого стать руководителем. Это должен быть личный выбор – люди заинтересованы в поиске, потому что чувствуют, что Бог может их использовать. Не говорите, что вы не можете убеждать или поддерживать и не становитесь стартовой площадкой для потенциального руководителя, но предоставьте человеку право выбора учиться и р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тчи 9:9 , “Дай наставление мудрому, и он будет еще мудрее, научи правдивого, и он приумножит зна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Расскажите историю о лидерстве</a:t>
            </a:r>
            <a:r>
              <a:rPr b="1" lang="ru-RU" sz="1200" spc="-1" strike="noStrike" u="sng">
                <a:solidFill>
                  <a:srgbClr val="000000"/>
                </a:solidFill>
                <a:uFillTx/>
                <a:latin typeface="Arial"/>
              </a:rPr>
              <a:t>.</a:t>
            </a:r>
            <a:r>
              <a:rPr b="0" lang="ru-RU" sz="1200" spc="-1" strike="noStrike" u="sng">
                <a:solidFill>
                  <a:srgbClr val="000000"/>
                </a:solidFill>
                <a:uFillTx/>
                <a:latin typeface="Arial"/>
              </a:rPr>
              <a:t> </a:t>
            </a:r>
            <a:r>
              <a:rPr b="0" lang="ru-RU" sz="1200" spc="-1" strike="noStrike">
                <a:solidFill>
                  <a:srgbClr val="000000"/>
                </a:solidFill>
                <a:latin typeface="Arial"/>
              </a:rPr>
              <a:t>[Фасилитатор, до начала семинара выберите одного из участников семинара и расспросите его о том, что его привело к руководству. Определитесь: какие вопросы вы хотели бы задать этому человеку и сообщите о них заранее, чтобы вам быть уверенным, что он на них ответ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_________________________ поделится с нами как она стала руководителем. [Предоставьте три минут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670148-062D-4ED5-8842-B2251C900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328840" y="476280"/>
            <a:ext cx="2406600" cy="1805040"/>
          </a:xfrm>
          <a:prstGeom prst="rect">
            <a:avLst/>
          </a:prstGeom>
          <a:ln w="0">
            <a:noFill/>
          </a:ln>
        </p:spPr>
      </p:sp>
      <p:sp>
        <p:nvSpPr>
          <p:cNvPr id="196" name="PlaceHolder 2"/>
          <p:cNvSpPr>
            <a:spLocks noGrp="1"/>
          </p:cNvSpPr>
          <p:nvPr>
            <p:ph type="body"/>
          </p:nvPr>
        </p:nvSpPr>
        <p:spPr>
          <a:xfrm>
            <a:off x="701640" y="2379240"/>
            <a:ext cx="5827680" cy="6219720"/>
          </a:xfrm>
          <a:prstGeom prst="rect">
            <a:avLst/>
          </a:prstGeom>
          <a:noFill/>
          <a:ln w="0">
            <a:noFill/>
          </a:ln>
        </p:spPr>
        <p:txBody>
          <a:bodyPr lIns="93240" rIns="93240" tIns="46440" bIns="46440" anchor="t">
            <a:noAutofit/>
          </a:bodyPr>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400"/>
            </a:br>
            <a:r>
              <a:rPr b="0" i="1" lang="ru-RU" sz="1400" spc="-1" strike="noStrike">
                <a:solidFill>
                  <a:srgbClr val="000000"/>
                </a:solidFill>
                <a:latin typeface="Arial"/>
              </a:rPr>
              <a:t>дабы послужить к похвале славы Его нам, которые ранее уповали на Христа.</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200"/>
            </a:br>
            <a:r>
              <a:rPr b="0" lang="ru-RU" sz="1200" spc="-1" strike="noStrike">
                <a:solidFill>
                  <a:srgbClr val="000000"/>
                </a:solidFill>
                <a:latin typeface="Arial"/>
              </a:rPr>
              <a:t>дабы послужить к похвале славы Его нам, которые ранее уповали н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 1:11-12. </a:t>
            </a:r>
            <a:br>
              <a:rPr sz="1200"/>
            </a:br>
            <a:r>
              <a:rPr b="0" lang="ru-RU" sz="1200" spc="-1" strike="noStrike">
                <a:solidFill>
                  <a:srgbClr val="000000"/>
                </a:solidFill>
                <a:latin typeface="Arial"/>
              </a:rPr>
              <a:t>Если бы мы спросили самих себя, что созидает хороших руководителей, мы все дали бы разные ответы. Сейчас настало время уделить несколько минут обсуждению положительных качеств, которые мы хотели бы видеть в руководителе 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силитатор, побудите каждого участника принять участие в обсуждении, добавьте несколько слов, если пожелаете. Запишите их на доске, если хотит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BA9E40-47A8-464B-A222-5E8A5D250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260440" y="401760"/>
            <a:ext cx="2637000" cy="1977840"/>
          </a:xfrm>
          <a:prstGeom prst="rect">
            <a:avLst/>
          </a:prstGeom>
          <a:ln w="0">
            <a:noFill/>
          </a:ln>
        </p:spPr>
      </p:sp>
      <p:sp>
        <p:nvSpPr>
          <p:cNvPr id="199" name="PlaceHolder 2"/>
          <p:cNvSpPr>
            <a:spLocks noGrp="1"/>
          </p:cNvSpPr>
          <p:nvPr>
            <p:ph type="body"/>
          </p:nvPr>
        </p:nvSpPr>
        <p:spPr>
          <a:xfrm>
            <a:off x="701280" y="2450880"/>
            <a:ext cx="5607000" cy="5414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rt and Scienced Leadership,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 можете быть успешными в обучении, прежде всего, если вы раскроете способности и таланты других людей. Будьте готовы аккуратно руководить и позволять людям расти. Этот опыт может стать увлекательным опытом представления лидеров миру, о котором он еще и не знает. Помогайте потенциальным руководителям понимать кто они, и где они находятся. Вам необходимо быть готовыми находить для них время и поддерживать их в будущем: их планы, цели и видение; чтобы они могли стать теми, кем задумал их Бог. Такова обязанность лидера и последователя Христа, и она может принести полную награду только в вечност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B43ADC-37D2-418C-A0E0-DCBC327EA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130480" y="476280"/>
            <a:ext cx="2601720" cy="1950840"/>
          </a:xfrm>
          <a:prstGeom prst="rect">
            <a:avLst/>
          </a:prstGeom>
          <a:ln w="0">
            <a:noFill/>
          </a:ln>
        </p:spPr>
      </p:sp>
      <p:sp>
        <p:nvSpPr>
          <p:cNvPr id="202" name="PlaceHolder 2"/>
          <p:cNvSpPr>
            <a:spLocks noGrp="1"/>
          </p:cNvSpPr>
          <p:nvPr>
            <p:ph type="body"/>
          </p:nvPr>
        </p:nvSpPr>
        <p:spPr>
          <a:xfrm>
            <a:off x="701280" y="252576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лагодатью Божией многие из нас, используя свои дары окажут доброе влияние на наш мир. Но это возможно, если мы будем работать совместно. Возможно, мы все слышали историю о гусе и его удивительной команде. Прочитайте историю о гусе</a:t>
            </a:r>
            <a:r>
              <a:rPr b="1" i="1" lang="ru-RU" sz="1200" spc="-1" strike="noStrike" u="sng">
                <a:solidFill>
                  <a:srgbClr val="000000"/>
                </a:solidFill>
                <a:uFillTx/>
                <a:latin typeface="Arial"/>
              </a:rPr>
              <a:t>, </a:t>
            </a:r>
            <a:r>
              <a:rPr b="1" i="1" lang="en-US" sz="1200" spc="-1" strike="noStrike" u="sng">
                <a:solidFill>
                  <a:srgbClr val="000000"/>
                </a:solidFill>
                <a:uFillTx/>
                <a:latin typeface="Arial"/>
              </a:rPr>
              <a:t>Раздаточный материал </a:t>
            </a:r>
            <a:r>
              <a:rPr b="1" i="1" lang="ru-RU" sz="1200" spc="-1" strike="noStrike" u="sng">
                <a:solidFill>
                  <a:srgbClr val="000000"/>
                </a:solidFill>
                <a:uFillTx/>
                <a:latin typeface="Arial"/>
              </a:rPr>
              <a:t>#2</a:t>
            </a:r>
            <a:r>
              <a:rPr b="0" i="1" lang="ru-RU" sz="1200" spc="-1" strike="noStrike">
                <a:solidFill>
                  <a:srgbClr val="000000"/>
                </a:solidFill>
                <a:latin typeface="Arial"/>
              </a:rPr>
              <a:t>. Будьте готовы обсудить эту историю в вашей группе и дать ответы. Каждая группа может рассказать какой она вынесла урок из этой истории, для этого попросите каждую группы выбрать представителя, который может поделиться идеями, озвученными в групп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после дискуссии обсудите с участниками несколько способов применения истории о гусе: </a:t>
            </a:r>
            <a:r>
              <a:rPr b="1" i="1" lang="ru-RU" sz="1200" spc="-1" strike="noStrike" u="sng">
                <a:solidFill>
                  <a:srgbClr val="000000"/>
                </a:solidFill>
                <a:uFillTx/>
                <a:latin typeface="Arial"/>
              </a:rPr>
              <a:t>Раздаточный материал  #3, “Применение истории о гусе”</a:t>
            </a:r>
            <a:r>
              <a:rPr b="0" i="1" lang="ru-RU" sz="1200" spc="-1" strike="noStrike">
                <a:solidFill>
                  <a:srgbClr val="000000"/>
                </a:solidFill>
                <a:latin typeface="Arial"/>
              </a:rPr>
              <a:t>. Предложите этот материал участника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91022A-EDB3-41AE-BC7B-9573EA6BC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171880" y="549360"/>
            <a:ext cx="2501640" cy="1876320"/>
          </a:xfrm>
          <a:prstGeom prst="rect">
            <a:avLst/>
          </a:prstGeom>
          <a:ln w="0">
            <a:noFill/>
          </a:ln>
        </p:spPr>
      </p:sp>
      <p:sp>
        <p:nvSpPr>
          <p:cNvPr id="205"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ейчас мы приступаем к работе над специфическими особенностями созидания потенциального руководителя используя акрони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a:t>
            </a:r>
            <a:r>
              <a:rPr b="0" i="1" lang="ru-RU" sz="1200" spc="-1" strike="noStrike">
                <a:solidFill>
                  <a:srgbClr val="000000"/>
                </a:solidFill>
                <a:latin typeface="Arial"/>
              </a:rPr>
              <a:t>Это фундамент для подготовки вашего наставника или протеже, а также основная часть нашего сегодняшнего семина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  </a:t>
            </a:r>
            <a:r>
              <a:rPr b="1" i="1" lang="en-US" sz="1200" spc="-1" strike="noStrike">
                <a:solidFill>
                  <a:srgbClr val="000000"/>
                </a:solidFill>
                <a:latin typeface="Arial"/>
              </a:rPr>
              <a:t>C</a:t>
            </a:r>
            <a:r>
              <a:rPr b="0" i="1" lang="en-US" sz="1200" spc="-1" strike="noStrike">
                <a:solidFill>
                  <a:srgbClr val="000000"/>
                </a:solidFill>
                <a:latin typeface="Arial"/>
              </a:rPr>
              <a:t>are</a:t>
            </a:r>
            <a:r>
              <a:rPr b="0" i="1" lang="ru-RU" sz="1200" spc="-1" strike="noStrike">
                <a:solidFill>
                  <a:srgbClr val="000000"/>
                </a:solidFill>
                <a:latin typeface="Arial"/>
              </a:rPr>
              <a:t>-Забота    </a:t>
            </a:r>
            <a:r>
              <a:rPr b="1" i="1" lang="en-US" sz="1200" spc="-1" strike="noStrike">
                <a:solidFill>
                  <a:srgbClr val="000000"/>
                </a:solidFill>
                <a:latin typeface="Arial"/>
              </a:rPr>
              <a:t>R</a:t>
            </a:r>
            <a:r>
              <a:rPr b="0" i="1" lang="en-US" sz="1200" spc="-1" strike="noStrike">
                <a:solidFill>
                  <a:srgbClr val="000000"/>
                </a:solidFill>
                <a:latin typeface="Arial"/>
              </a:rPr>
              <a:t>ecognize</a:t>
            </a:r>
            <a:r>
              <a:rPr b="0" i="1" lang="ru-RU" sz="1200" spc="-1" strike="noStrike">
                <a:solidFill>
                  <a:srgbClr val="000000"/>
                </a:solidFill>
                <a:latin typeface="Arial"/>
              </a:rPr>
              <a:t>-Осознавание   </a:t>
            </a:r>
            <a:r>
              <a:rPr b="1" i="1" lang="en-US" sz="1200" spc="-1" strike="noStrike">
                <a:solidFill>
                  <a:srgbClr val="000000"/>
                </a:solidFill>
                <a:latin typeface="Arial"/>
              </a:rPr>
              <a:t>E</a:t>
            </a:r>
            <a:r>
              <a:rPr b="0" i="1" lang="en-US" sz="1200" spc="-1" strike="noStrike">
                <a:solidFill>
                  <a:srgbClr val="000000"/>
                </a:solidFill>
                <a:latin typeface="Arial"/>
              </a:rPr>
              <a:t>ncourage</a:t>
            </a:r>
            <a:r>
              <a:rPr b="0" i="1" lang="ru-RU" sz="1200" spc="-1" strike="noStrike">
                <a:solidFill>
                  <a:srgbClr val="000000"/>
                </a:solidFill>
                <a:latin typeface="Arial"/>
              </a:rPr>
              <a:t>-Поддержка    </a:t>
            </a:r>
            <a:r>
              <a:rPr b="1" i="1" lang="en-US" sz="1200" spc="-1" strike="noStrike">
                <a:solidFill>
                  <a:srgbClr val="000000"/>
                </a:solidFill>
                <a:latin typeface="Arial"/>
              </a:rPr>
              <a:t>A</a:t>
            </a:r>
            <a:r>
              <a:rPr b="0" i="1" lang="en-US" sz="1200" spc="-1" strike="noStrike">
                <a:solidFill>
                  <a:srgbClr val="000000"/>
                </a:solidFill>
                <a:latin typeface="Arial"/>
              </a:rPr>
              <a:t>ppreciate</a:t>
            </a:r>
            <a:r>
              <a:rPr b="0" i="1" lang="ru-RU" sz="1200" spc="-1" strike="noStrike">
                <a:solidFill>
                  <a:srgbClr val="000000"/>
                </a:solidFill>
                <a:latin typeface="Arial"/>
              </a:rPr>
              <a:t>-Признание    </a:t>
            </a:r>
            <a:r>
              <a:rPr b="1" i="1" lang="en-US" sz="1200" spc="-1" strike="noStrike">
                <a:solidFill>
                  <a:srgbClr val="000000"/>
                </a:solidFill>
                <a:latin typeface="Arial"/>
              </a:rPr>
              <a:t>T</a:t>
            </a:r>
            <a:r>
              <a:rPr b="0" i="1" lang="en-US" sz="1200" spc="-1" strike="noStrike">
                <a:solidFill>
                  <a:srgbClr val="000000"/>
                </a:solidFill>
                <a:latin typeface="Arial"/>
              </a:rPr>
              <a:t>rain</a:t>
            </a:r>
            <a:r>
              <a:rPr b="0" i="1" lang="ru-RU" sz="1200" spc="-1" strike="noStrike">
                <a:solidFill>
                  <a:srgbClr val="000000"/>
                </a:solidFill>
                <a:latin typeface="Arial"/>
              </a:rPr>
              <a:t>-Обучение    </a:t>
            </a:r>
            <a:r>
              <a:rPr b="1" i="1" lang="en-US" sz="1200" spc="-1" strike="noStrike">
                <a:solidFill>
                  <a:srgbClr val="000000"/>
                </a:solidFill>
                <a:latin typeface="Arial"/>
              </a:rPr>
              <a:t>E</a:t>
            </a:r>
            <a:r>
              <a:rPr b="0" i="1" lang="en-US" sz="1200" spc="-1" strike="noStrike">
                <a:solidFill>
                  <a:srgbClr val="000000"/>
                </a:solidFill>
                <a:latin typeface="Arial"/>
              </a:rPr>
              <a:t>ntrust</a:t>
            </a:r>
            <a:r>
              <a:rPr b="0" i="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авайте рассмотрим, как мы можем быть эффективными в руководстве другими людьми, используя слова данного акроним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A2C19-F379-4BE2-BD7A-F0732EB8F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9829D-4981-4FB0-B322-E0C2E6068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DD52C-0843-4F70-9B88-7D3F0EB0E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93D30-F116-477D-B6F8-A132D542C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957CC-4654-4A43-A436-1DDF1959F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87288-F1F2-4DDE-A345-EE11ACE4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74981-09BD-48BA-89AF-E33452371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E8F5-2D6C-4E9F-95FE-46251BFDF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94AB2-B8AB-48F6-918F-B95E8A165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57BF-B873-4EF8-9826-E72269A01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34E8-D54A-4E9F-A955-BB3CC2561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82BA-1731-463A-8367-6EE0D5A5D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8458-98A2-4B42-93DC-7454F9F4F5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06A4-CAF0-41CC-B0B3-BE4511A1D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34920" y="-27000"/>
            <a:ext cx="9178920" cy="6885000"/>
          </a:xfrm>
          <a:prstGeom prst="rect">
            <a:avLst/>
          </a:prstGeom>
          <a:ln w="0">
            <a:noFill/>
          </a:ln>
        </p:spPr>
      </p:pic>
      <p:sp>
        <p:nvSpPr>
          <p:cNvPr id="51" name="Text Box 6"/>
          <p:cNvSpPr/>
          <p:nvPr/>
        </p:nvSpPr>
        <p:spPr>
          <a:xfrm>
            <a:off x="1258920" y="5546880"/>
            <a:ext cx="289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Сертификационная программа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4 уровень</a:t>
            </a:r>
            <a:endParaRPr b="0" lang="en-US" sz="2000" spc="-1" strike="noStrike">
              <a:solidFill>
                <a:srgbClr val="000000"/>
              </a:solidFill>
              <a:latin typeface="Arial"/>
            </a:endParaRPr>
          </a:p>
        </p:txBody>
      </p:sp>
      <p:pic>
        <p:nvPicPr>
          <p:cNvPr id="52" name="Picture 9" descr="Logo300"/>
          <p:cNvPicPr/>
          <p:nvPr/>
        </p:nvPicPr>
        <p:blipFill>
          <a:blip r:embed="rId2"/>
          <a:stretch/>
        </p:blipFill>
        <p:spPr>
          <a:xfrm>
            <a:off x="2195640" y="4724280"/>
            <a:ext cx="1008000" cy="689040"/>
          </a:xfrm>
          <a:prstGeom prst="rect">
            <a:avLst/>
          </a:prstGeom>
          <a:ln w="0">
            <a:noFill/>
          </a:ln>
        </p:spPr>
      </p:pic>
      <p:sp>
        <p:nvSpPr>
          <p:cNvPr id="53" name="WordArt 11"/>
          <p:cNvSpPr txBox="1"/>
          <p:nvPr/>
        </p:nvSpPr>
        <p:spPr>
          <a:xfrm>
            <a:off x="539640" y="1268280"/>
            <a:ext cx="8209080" cy="2881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тановление потенциальных</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r>
              <a:rPr b="0" lang="en-US" sz="1800" spc="1" strike="noStrike">
                <a:ln w="9360">
                  <a:solidFill>
                    <a:srgbClr val="000000"/>
                  </a:solidFill>
                  <a:miter/>
                </a:ln>
                <a:solidFill>
                  <a:srgbClr val="000000"/>
                </a:solidFill>
                <a:latin typeface="Arial"/>
              </a:rPr>
              <a:t>руководителей</a:t>
            </a:r>
            <a:endParaRPr b="0" lang="en-US" sz="1800" spc="1" strike="noStrike">
              <a:ln w="9360">
                <a:solidFill>
                  <a:srgbClr val="000000"/>
                </a:solidFill>
                <a:miter/>
              </a:ln>
              <a:solidFill>
                <a:srgbClr val="000000"/>
              </a:solidFill>
              <a:latin typeface="Arial"/>
              <a:ea typeface="Arial"/>
            </a:endParaRPr>
          </a:p>
        </p:txBody>
      </p:sp>
      <p:sp>
        <p:nvSpPr>
          <p:cNvPr id="54" name="Text Box 12"/>
          <p:cNvSpPr/>
          <p:nvPr/>
        </p:nvSpPr>
        <p:spPr>
          <a:xfrm>
            <a:off x="899640" y="400536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Papyrus"/>
              </a:rPr>
              <a:t>Ирис Китчи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010B-B4FB-4758-9BAF-F90073314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н</a:t>
            </a:r>
            <a:r>
              <a:rPr b="0" i="1" lang="en-US" sz="2400" spc="-1" strike="noStrike">
                <a:solidFill>
                  <a:srgbClr val="000000"/>
                </a:solidFill>
                <a:latin typeface="Arial"/>
              </a:rPr>
              <a:t> </a:t>
            </a:r>
            <a:r>
              <a:rPr b="0" i="1" lang="ru-RU" sz="2400" spc="-1" strike="noStrike">
                <a:solidFill>
                  <a:srgbClr val="000000"/>
                </a:solidFill>
                <a:latin typeface="Arial"/>
              </a:rPr>
              <a:t>Джонсон</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a Purpose-Full Lif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Забот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200C-D5F0-48B6-BE68-8C225AEB8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684360" y="1268280"/>
            <a:ext cx="619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4846-0956-4F27-9697-C7D22802BA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ары различны, но Дух один и тот же; </a:t>
            </a:r>
            <a:br>
              <a:rPr sz="2400"/>
            </a:br>
            <a:r>
              <a:rPr b="0" i="1" lang="ru-RU" sz="2400" spc="-1" strike="noStrike">
                <a:solidFill>
                  <a:srgbClr val="000000"/>
                </a:solidFill>
                <a:latin typeface="Arial"/>
              </a:rPr>
              <a:t>и служения различны, а Господь один и тот же; </a:t>
            </a:r>
            <a:br>
              <a:rPr sz="2400"/>
            </a:br>
            <a:r>
              <a:rPr b="0" i="1" lang="ru-RU" sz="2400" spc="-1" strike="noStrike">
                <a:solidFill>
                  <a:srgbClr val="000000"/>
                </a:solidFill>
                <a:latin typeface="Arial"/>
              </a:rPr>
              <a:t>и действия различны, а Бог один и тот же, производящий все во всех. </a:t>
            </a:r>
            <a:br>
              <a:rPr sz="2400"/>
            </a:br>
            <a:r>
              <a:rPr b="0" i="1" lang="ru-RU" sz="2400" spc="-1" strike="noStrike">
                <a:solidFill>
                  <a:srgbClr val="000000"/>
                </a:solidFill>
                <a:latin typeface="Arial"/>
              </a:rPr>
              <a:t>Но каждому дается проявление Духа на пользу. </a:t>
            </a:r>
            <a:br>
              <a:rPr sz="2400"/>
            </a:br>
            <a:r>
              <a:rPr b="0" i="1" lang="en-US" sz="2000" spc="-1" strike="noStrike">
                <a:solidFill>
                  <a:srgbClr val="000000"/>
                </a:solidFill>
                <a:latin typeface="Arial"/>
              </a:rPr>
              <a:t>(1 </a:t>
            </a:r>
            <a:r>
              <a:rPr b="0" i="1" lang="ru-RU" sz="2000" spc="-1" strike="noStrike">
                <a:solidFill>
                  <a:srgbClr val="000000"/>
                </a:solidFill>
                <a:latin typeface="Arial"/>
              </a:rPr>
              <a:t>Коринфянам</a:t>
            </a:r>
            <a:r>
              <a:rPr b="0" i="1" lang="en-US" sz="2000" spc="-1" strike="noStrike">
                <a:solidFill>
                  <a:srgbClr val="000000"/>
                </a:solidFill>
                <a:latin typeface="Arial"/>
              </a:rPr>
              <a:t> 12:</a:t>
            </a:r>
            <a:r>
              <a:rPr b="0" i="1" lang="ru-RU" sz="2000" spc="-1" strike="noStrike">
                <a:solidFill>
                  <a:srgbClr val="000000"/>
                </a:solidFill>
                <a:latin typeface="Arial"/>
              </a:rPr>
              <a:t>4-</a:t>
            </a:r>
            <a:r>
              <a:rPr b="0" i="1" lang="en-US" sz="2000" spc="-1" strike="noStrike">
                <a:solidFill>
                  <a:srgbClr val="000000"/>
                </a:solidFill>
                <a:latin typeface="Arial"/>
              </a:rPr>
              <a:t>7, )</a:t>
            </a:r>
            <a:endParaRPr b="0" lang="en-US" sz="20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Осознав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AB7C-50DA-4C84-AE5D-7E35DED52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0" y="404640"/>
            <a:ext cx="6480000" cy="532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2400" spc="-1" strike="noStrike">
                <a:solidFill>
                  <a:srgbClr val="000000"/>
                </a:solidFill>
                <a:latin typeface="Arial"/>
              </a:rPr>
              <a:t> </a:t>
            </a:r>
            <a:r>
              <a:rPr b="1" i="1" lang="en-US" sz="2400" spc="-1" strike="noStrike">
                <a:solidFill>
                  <a:srgbClr val="000000"/>
                </a:solidFill>
                <a:latin typeface="Arial"/>
              </a:rPr>
              <a:t>Review and Herald</a:t>
            </a:r>
            <a:r>
              <a:rPr b="1" lang="ru-RU" sz="2400" spc="-1" strike="noStrike">
                <a:solidFill>
                  <a:srgbClr val="000000"/>
                </a:solidFill>
                <a:latin typeface="Arial"/>
              </a:rPr>
              <a:t>, 27 июня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D4B1-AED5-4FA1-8AC9-09F2D0926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32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держ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89E0-1F3E-45A2-9C0E-994DFB218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жойс Мейер «Быть человеком по замыслу Божьему» (</a:t>
            </a:r>
            <a:r>
              <a:rPr b="1" i="1" lang="en-US" sz="2000" spc="-1" strike="noStrike">
                <a:solidFill>
                  <a:srgbClr val="000000"/>
                </a:solidFill>
                <a:latin typeface="Arial"/>
              </a:rPr>
              <a:t>Being the Person God Made You to Be</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4317-2E5C-415D-AF77-590F21BAB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Benguiat Bk BT"/>
              </a:rPr>
              <a:t>При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421C-0690-43F9-BAB7-8A88C7A89C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539280" y="333360"/>
            <a:ext cx="6131160" cy="4525920"/>
          </a:xfrm>
          <a:prstGeom prst="rect">
            <a:avLst/>
          </a:prstGeom>
          <a:noFill/>
          <a:ln w="0">
            <a:noFill/>
          </a:ln>
        </p:spPr>
        <p:txBody>
          <a:bodyPr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9D71-11EC-46E0-8545-DC2A46391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0" y="476280"/>
            <a:ext cx="6696000" cy="4525920"/>
          </a:xfrm>
          <a:prstGeom prst="rect">
            <a:avLst/>
          </a:prstGeom>
          <a:noFill/>
          <a:ln w="0">
            <a:noFill/>
          </a:ln>
        </p:spPr>
        <p:txBody>
          <a:bodyPr anchor="t">
            <a:normAutofit fontScale="86000"/>
          </a:bodyPr>
          <a:p>
            <a:pPr marL="29484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0" i="1" lang="en-US" sz="3200" spc="-1" strike="noStrike">
                <a:solidFill>
                  <a:srgbClr val="000000"/>
                </a:solidFill>
                <a:latin typeface="Arial"/>
              </a:rPr>
              <a:t>Review and Herald</a:t>
            </a:r>
            <a:r>
              <a:rPr b="0" i="1" lang="ru-RU" sz="3200" spc="-1" strike="noStrike">
                <a:solidFill>
                  <a:srgbClr val="000000"/>
                </a:solidFill>
                <a:latin typeface="Arial"/>
              </a:rPr>
              <a:t>, 1 декабря 19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40D0-15FC-4F1C-87E1-499799889F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лыбайтес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конгруэнтны, работайте один на оди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авливайте контакт глаза в гл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терпелив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азвивайте взаимоотношения с наставляемы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лабляйте контро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вниматель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овите безопасную атмосферу – теплую, поддерживающую</a:t>
            </a:r>
            <a:endParaRPr b="0" lang="en-US" sz="20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готов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A38D-1A34-4D57-A787-6DDE5BEB9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6778800" cy="4526280"/>
          </a:xfrm>
          <a:prstGeom prst="rect">
            <a:avLst/>
          </a:prstGeom>
          <a:noFill/>
          <a:ln w="0">
            <a:noFill/>
          </a:ln>
        </p:spPr>
        <p:txBody>
          <a:bodyPr anchor="t">
            <a:normAutofit/>
          </a:bodyPr>
          <a:p>
            <a:pPr marL="343080" indent="-343080" algn="ctr">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62B6-AF32-4E32-8E75-C1EC285D5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360" y="620640"/>
            <a:ext cx="5940360" cy="583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2FA2-40B1-4799-A1F1-C103A726A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24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Довер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FCEB-06CE-4D0A-B321-DD3210133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7540-F715-4CBA-8B1C-B12FD80C39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D77E-EACC-4F66-A048-C623B3208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EE58-E0C2-4F74-B9DD-826329A95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73A2-9AAE-4C2F-BD60-11EC762BA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7" name="Picture 4" descr="Leadership02"/>
          <p:cNvPicPr/>
          <p:nvPr/>
        </p:nvPicPr>
        <p:blipFill>
          <a:blip r:embed="rId1"/>
          <a:stretch/>
        </p:blipFill>
        <p:spPr>
          <a:xfrm>
            <a:off x="0" y="0"/>
            <a:ext cx="9144000" cy="6858000"/>
          </a:xfrm>
          <a:prstGeom prst="rect">
            <a:avLst/>
          </a:prstGeom>
          <a:ln w="0">
            <a:noFill/>
          </a:ln>
        </p:spPr>
      </p:pic>
      <p:sp>
        <p:nvSpPr>
          <p:cNvPr id="178" name="PlaceHolder 2"/>
          <p:cNvSpPr>
            <a:spLocks noGrp="1"/>
          </p:cNvSpPr>
          <p:nvPr>
            <p:ph/>
          </p:nvPr>
        </p:nvSpPr>
        <p:spPr>
          <a:xfrm>
            <a:off x="323640" y="981000"/>
            <a:ext cx="6707160" cy="4813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ru-RU" sz="24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2400"/>
            </a:br>
            <a:r>
              <a:rPr b="0" i="1" lang="ru-RU" sz="24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2400"/>
            </a:br>
            <a:r>
              <a:rPr b="0" i="1" lang="ru-RU" sz="24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a:t>
            </a:r>
            <a:r>
              <a:rPr b="0" lang="ru-RU"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a:t>
            </a:r>
            <a:r>
              <a:rPr b="0" i="1" lang="ru-RU" sz="2400" spc="-1" strike="noStrike">
                <a:solidFill>
                  <a:srgbClr val="000000"/>
                </a:solidFill>
                <a:latin typeface="Arial"/>
              </a:rPr>
              <a:t>Фессалоникийцам</a:t>
            </a:r>
            <a:r>
              <a:rPr b="0" i="1" lang="en-US" sz="2400" spc="-1" strike="noStrike">
                <a:solidFill>
                  <a:srgbClr val="000000"/>
                </a:solidFill>
                <a:latin typeface="Arial"/>
              </a:rPr>
              <a:t>, 1:1</a:t>
            </a:r>
            <a:r>
              <a:rPr b="0" i="1" lang="ru-RU" sz="2400" spc="-1" strike="noStrike">
                <a:solidFill>
                  <a:srgbClr val="000000"/>
                </a:solidFill>
                <a:latin typeface="Arial"/>
              </a:rPr>
              <a:t>0-12</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76C0-F6E3-45E9-A6BF-D4400C3E3A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360" y="0"/>
            <a:ext cx="5987880" cy="3733920"/>
          </a:xfrm>
          <a:prstGeom prst="rect">
            <a:avLst/>
          </a:prstGeom>
          <a:noFill/>
          <a:ln w="0">
            <a:noFill/>
          </a:ln>
        </p:spPr>
        <p:txBody>
          <a:bodyPr anchor="t">
            <a:normAutofit fontScale="76000"/>
          </a:bodyPr>
          <a:p>
            <a:pPr marL="260640" indent="-26064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BB1C-2DF4-4D21-ABDD-38ED9A088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360" y="0"/>
            <a:ext cx="6418440" cy="4929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a:t>
            </a:r>
            <a:r>
              <a:rPr b="0" i="1" lang="ru-RU" sz="2800" spc="-1" strike="noStrike">
                <a:solidFill>
                  <a:srgbClr val="000000"/>
                </a:solidFill>
                <a:latin typeface="Arial"/>
              </a:rPr>
              <a:t> 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05F3-429F-4B2F-9E8D-43EF82D92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6769080" cy="3375000"/>
          </a:xfrm>
          <a:prstGeom prst="rect">
            <a:avLst/>
          </a:prstGeom>
          <a:noFill/>
          <a:ln w="0">
            <a:noFill/>
          </a:ln>
        </p:spPr>
        <p:txBody>
          <a:bodyPr anchor="t">
            <a:normAutofit fontScale="67000"/>
          </a:bodyPr>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t>
            </a:r>
            <a:r>
              <a:rPr b="0" lang="en-US" sz="3600" spc="-1" strike="noStrike">
                <a:solidFill>
                  <a:srgbClr val="000000"/>
                </a:solidFill>
                <a:latin typeface="Arial"/>
              </a:rPr>
              <a:t>	</a:t>
            </a:r>
            <a:r>
              <a:rPr b="0" i="1" lang="en-US" sz="3600" spc="-1" strike="noStrike">
                <a:solidFill>
                  <a:srgbClr val="000000"/>
                </a:solidFill>
                <a:latin typeface="Arial"/>
              </a:rPr>
              <a:t>are</a:t>
            </a:r>
            <a:r>
              <a:rPr b="0" i="1" lang="ru-RU" sz="3600" spc="-1" strike="noStrike">
                <a:solidFill>
                  <a:srgbClr val="000000"/>
                </a:solidFill>
                <a:latin typeface="Arial"/>
              </a:rPr>
              <a:t> - забот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a:t>
            </a:r>
            <a:r>
              <a:rPr b="0" lang="en-US" sz="4000" spc="-1" strike="noStrike">
                <a:solidFill>
                  <a:srgbClr val="0033cc"/>
                </a:solidFill>
                <a:latin typeface="Arial"/>
              </a:rPr>
              <a:t>	</a:t>
            </a:r>
            <a:r>
              <a:rPr b="0" i="1" lang="en-US" sz="3600" spc="-1" strike="noStrike">
                <a:solidFill>
                  <a:srgbClr val="000000"/>
                </a:solidFill>
                <a:latin typeface="Arial"/>
              </a:rPr>
              <a:t>ecognize</a:t>
            </a:r>
            <a:r>
              <a:rPr b="0" i="1" lang="ru-RU" sz="3600" spc="-1" strike="noStrike">
                <a:solidFill>
                  <a:srgbClr val="000000"/>
                </a:solidFill>
                <a:latin typeface="Arial"/>
              </a:rPr>
              <a:t> - осознав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courage</a:t>
            </a:r>
            <a:r>
              <a:rPr b="0" i="1" lang="ru-RU" sz="3600" spc="-1" strike="noStrike">
                <a:solidFill>
                  <a:srgbClr val="000000"/>
                </a:solidFill>
                <a:latin typeface="Arial"/>
              </a:rPr>
              <a:t> - поддержк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a:t>
            </a:r>
            <a:r>
              <a:rPr b="0" lang="en-US" sz="3600" spc="-1" strike="noStrike">
                <a:solidFill>
                  <a:srgbClr val="000000"/>
                </a:solidFill>
                <a:latin typeface="Arial"/>
              </a:rPr>
              <a:t>	</a:t>
            </a:r>
            <a:r>
              <a:rPr b="0" i="1" lang="en-US" sz="3600" spc="-1" strike="noStrike">
                <a:solidFill>
                  <a:srgbClr val="000000"/>
                </a:solidFill>
                <a:latin typeface="Arial"/>
              </a:rPr>
              <a:t>ppreciate</a:t>
            </a:r>
            <a:r>
              <a:rPr b="0" i="1" lang="ru-RU" sz="3600" spc="-1" strike="noStrike">
                <a:solidFill>
                  <a:srgbClr val="000000"/>
                </a:solidFill>
                <a:latin typeface="Arial"/>
              </a:rPr>
              <a:t> - призн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a:t>
            </a:r>
            <a:r>
              <a:rPr b="0" lang="en-US" sz="3600" spc="-1" strike="noStrike">
                <a:solidFill>
                  <a:srgbClr val="000000"/>
                </a:solidFill>
                <a:latin typeface="Arial"/>
              </a:rPr>
              <a:t>	</a:t>
            </a:r>
            <a:r>
              <a:rPr b="0" i="1" lang="en-US" sz="3600" spc="-1" strike="noStrike">
                <a:solidFill>
                  <a:srgbClr val="000000"/>
                </a:solidFill>
                <a:latin typeface="Arial"/>
              </a:rPr>
              <a:t>rain</a:t>
            </a:r>
            <a:r>
              <a:rPr b="0" i="1" lang="ru-RU" sz="3600" spc="-1" strike="noStrike">
                <a:solidFill>
                  <a:srgbClr val="000000"/>
                </a:solidFill>
                <a:latin typeface="Arial"/>
              </a:rPr>
              <a:t> - обуче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trust</a:t>
            </a:r>
            <a:r>
              <a:rPr b="0" i="1" lang="ru-RU" sz="3600" spc="-1" strike="noStrike">
                <a:solidFill>
                  <a:srgbClr val="000000"/>
                </a:solidFill>
                <a:latin typeface="Arial"/>
              </a:rPr>
              <a:t> - доверие</a:t>
            </a:r>
            <a:endParaRPr b="0" lang="en-US" sz="3600" spc="-1" strike="noStrike">
              <a:solidFill>
                <a:srgbClr val="000000"/>
              </a:solidFill>
              <a:latin typeface="Arial"/>
            </a:endParaRPr>
          </a:p>
          <a:p>
            <a:pPr marL="229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4" name="Rectangle 6"/>
          <p:cNvSpPr/>
          <p:nvPr/>
        </p:nvSpPr>
        <p:spPr>
          <a:xfrm>
            <a:off x="468360" y="506520"/>
            <a:ext cx="5761080" cy="17697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C5A1-F369-4DA6-8FA5-A76CF9063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323640" y="1557360"/>
            <a:ext cx="6337080" cy="4248000"/>
          </a:xfrm>
          <a:prstGeom prst="rect">
            <a:avLst/>
          </a:prstGeom>
          <a:noFill/>
          <a:ln w="0">
            <a:noFill/>
          </a:ln>
        </p:spPr>
        <p:txBody>
          <a:bodyPr anchor="t">
            <a:normAutofit fontScale="81000"/>
          </a:bodyPr>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3200"/>
            </a:br>
            <a:r>
              <a:rPr b="0" i="1" lang="ru-RU" sz="3200" spc="-1" strike="noStrike">
                <a:solidFill>
                  <a:srgbClr val="000000"/>
                </a:solidFill>
                <a:latin typeface="Arial"/>
              </a:rPr>
              <a:t>дабы послужить к похвале славы Его нам, которые ранее уповали на Христа.</a:t>
            </a:r>
            <a:endParaRPr b="0" lang="en-US" sz="3200" spc="-1" strike="noStrike">
              <a:solidFill>
                <a:srgbClr val="000000"/>
              </a:solidFill>
              <a:latin typeface="Arial"/>
            </a:endParaRPr>
          </a:p>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ф. 1:11-12.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17AA-A39C-4DDE-9F5A-BC8784F48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360" y="0"/>
            <a:ext cx="6551640" cy="49672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rt and Scienced Leadership,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03B1-EC6B-43A8-9014-C52DBCE94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0" y="692280"/>
            <a:ext cx="6121440" cy="4525920"/>
          </a:xfrm>
          <a:prstGeom prst="rect">
            <a:avLst/>
          </a:prstGeom>
          <a:noFill/>
          <a:ln w="0">
            <a:noFill/>
          </a:ln>
        </p:spPr>
        <p:txBody>
          <a:bodyPr anchor="t">
            <a:normAutofit fontScale="86000"/>
          </a:bodyPr>
          <a:p>
            <a:pPr marL="2948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6493-E70A-4972-9E88-62B4DA851E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raostrovskaya</cp:lastModifiedBy>
  <dcterms:modified xsi:type="dcterms:W3CDTF">2011-06-01T10:09:23Z</dcterms:modified>
  <cp:revision>70</cp:revision>
  <dc:subject/>
  <dc:title>Slide 1</dc:title>
</cp:coreProperties>
</file>